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720360" y="900000"/>
            <a:ext cx="6118200" cy="34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770707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6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770707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770707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770707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770707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770707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31FE7-8E4A-446B-AACC-51385AF243DD}" type="slidenum">
              <a:rPr b="0" lang="ru-RU" sz="1400" spc="-1" strike="noStrike">
                <a:solidFill>
                  <a:srgbClr val="770707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71529-E1F8-41EE-873F-E78A6F45EA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EE598-245E-441A-A91F-ECA618D589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6FCFA-A26C-40E5-84D1-E1ADFBAEAB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CDF01-C568-4BBE-8EF2-4EB905EC81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34B42-2EB3-42F6-BA65-35D76DC464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59F5A-D10E-42B2-B4EF-FD2DB8D3D6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8B6A0-0B8B-445A-B9CA-D9996C3618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34880" y="411480"/>
            <a:ext cx="28717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8560" y="1653840"/>
            <a:ext cx="734688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8560" y="3927600"/>
            <a:ext cx="734688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97C41-C630-4429-96D1-3CB4E410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4880" y="411480"/>
            <a:ext cx="28717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8560" y="1653840"/>
            <a:ext cx="358524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440" y="1653840"/>
            <a:ext cx="358524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8560" y="3927600"/>
            <a:ext cx="358524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440" y="3927600"/>
            <a:ext cx="358524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F44B0-B7C5-4871-91A0-FA223074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34880" y="411480"/>
            <a:ext cx="28717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8560" y="1653840"/>
            <a:ext cx="236556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2920" y="1653840"/>
            <a:ext cx="236556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6920" y="1653840"/>
            <a:ext cx="236556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8560" y="3927600"/>
            <a:ext cx="236556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2920" y="3927600"/>
            <a:ext cx="236556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6920" y="3927600"/>
            <a:ext cx="236556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FFC7E-C1E0-4F65-8F06-5A3439F1E4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5A727-9DB7-4DC7-B4C0-927B82F9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34880" y="411480"/>
            <a:ext cx="28717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98560" y="1653840"/>
            <a:ext cx="734688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47B90-84D8-4151-BB45-0414A508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34880" y="411480"/>
            <a:ext cx="28717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8560" y="1653840"/>
            <a:ext cx="734688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B0E92-7ACC-485F-84A0-EE2424B5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34880" y="411480"/>
            <a:ext cx="28717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98560" y="1653840"/>
            <a:ext cx="358524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3440" y="1653840"/>
            <a:ext cx="358524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DAB4D-C2D1-480F-9481-F94AE5B1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34880" y="411480"/>
            <a:ext cx="28717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5D4B3-D3F2-4485-8BF2-D5D991C8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134880" y="434520"/>
            <a:ext cx="287172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3529D-98E4-49F4-86D9-DDB51018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34880" y="411480"/>
            <a:ext cx="28717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98560" y="1653840"/>
            <a:ext cx="358524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653840"/>
            <a:ext cx="358524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98560" y="3927600"/>
            <a:ext cx="358524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4A1F1-B5BB-4B7F-99EA-D7A9A021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34880" y="411480"/>
            <a:ext cx="28717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8560" y="1653840"/>
            <a:ext cx="734688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2578B-8BEE-472E-8576-722F067E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34880" y="411480"/>
            <a:ext cx="28717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8560" y="1653840"/>
            <a:ext cx="358524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653840"/>
            <a:ext cx="358524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3440" y="3927600"/>
            <a:ext cx="358524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2D0BA-9606-4338-9423-E7022F78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34880" y="411480"/>
            <a:ext cx="28717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98560" y="1653840"/>
            <a:ext cx="358524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3440" y="1653840"/>
            <a:ext cx="358524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98560" y="3927600"/>
            <a:ext cx="734688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50528-1487-45D3-81F3-A13D252E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34880" y="411480"/>
            <a:ext cx="28717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98560" y="1653840"/>
            <a:ext cx="734688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98560" y="3927600"/>
            <a:ext cx="734688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42795-E5E7-4116-ADFD-53F0E488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34880" y="411480"/>
            <a:ext cx="28717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98560" y="1653840"/>
            <a:ext cx="358524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3440" y="1653840"/>
            <a:ext cx="358524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98560" y="3927600"/>
            <a:ext cx="358524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3440" y="3927600"/>
            <a:ext cx="358524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F50C6-0127-42AC-815F-10FBABC7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34880" y="411480"/>
            <a:ext cx="28717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98560" y="1653840"/>
            <a:ext cx="236556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82920" y="1653840"/>
            <a:ext cx="236556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66920" y="1653840"/>
            <a:ext cx="236556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98560" y="3927600"/>
            <a:ext cx="236556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82920" y="3927600"/>
            <a:ext cx="236556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66920" y="3927600"/>
            <a:ext cx="236556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B2006-4E9B-401E-A77D-AB6B6B67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34880" y="411480"/>
            <a:ext cx="28717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8560" y="1653840"/>
            <a:ext cx="734688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B1320-A97F-4F18-901E-D01E6030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34880" y="411480"/>
            <a:ext cx="28717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8560" y="1653840"/>
            <a:ext cx="358524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440" y="1653840"/>
            <a:ext cx="358524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3393C-BC54-4A13-953F-4D0045E0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4880" y="411480"/>
            <a:ext cx="28717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8BFF4-C24D-486D-B329-5AA1EEBE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34880" y="434520"/>
            <a:ext cx="287172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653DF-B917-4554-9CFA-AC9493D5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34880" y="411480"/>
            <a:ext cx="28717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8560" y="1653840"/>
            <a:ext cx="358524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440" y="1653840"/>
            <a:ext cx="358524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8560" y="3927600"/>
            <a:ext cx="358524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8EF9C-2470-40EA-BA6A-0B65754E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34880" y="411480"/>
            <a:ext cx="28717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8560" y="1653840"/>
            <a:ext cx="358524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440" y="1653840"/>
            <a:ext cx="358524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440" y="3927600"/>
            <a:ext cx="358524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CC291-2294-4F18-B147-259C1F28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34880" y="411480"/>
            <a:ext cx="28717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8560" y="1653840"/>
            <a:ext cx="358524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440" y="1653840"/>
            <a:ext cx="358524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8560" y="3927600"/>
            <a:ext cx="734688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57E02-87CA-4560-A344-4ACEC241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24000" cy="39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770707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770707"/>
                </a:solidFill>
                <a:latin typeface="Times New Roman"/>
                <a:ea typeface="DejaVu Sans"/>
              </a:rPr>
              <a:t>7.12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4360" cy="39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770707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4C677-603D-451D-BE35-BFBA8BF93377}" type="slidenum">
              <a:rPr b="0" lang="ru-RU" sz="1400" spc="-1" strike="noStrike">
                <a:solidFill>
                  <a:srgbClr val="770707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02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1720" cy="10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98560" y="1653840"/>
            <a:ext cx="7346880" cy="43527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783720" y="6248160"/>
            <a:ext cx="1932120" cy="4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770707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770707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770707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770707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426000" y="6248160"/>
            <a:ext cx="1996920" cy="4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770707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9616D-65FC-4A2B-923D-1CB27EE1C5E4}" type="slidenum">
              <a:rPr b="0" lang="ru-RU" sz="1400" spc="-1" strike="noStrike">
                <a:solidFill>
                  <a:srgbClr val="770707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17240" y="1714680"/>
            <a:ext cx="6211080" cy="11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Виды раскладок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72080" y="3500280"/>
            <a:ext cx="28242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60360" y="-11160"/>
            <a:ext cx="726588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Times New Roman"/>
              </a:rPr>
              <a:t>Раскладка деталей кро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Times New Roman"/>
              </a:rPr>
              <a:t>зависит от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60480" y="2857680"/>
            <a:ext cx="3207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03440" y="3071880"/>
            <a:ext cx="27180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00080" y="2571840"/>
            <a:ext cx="565164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240" bIns="45000" anchor="t">
            <a:noAutofit/>
          </a:bodyPr>
          <a:p>
            <a:pPr marL="914400" indent="-911160">
              <a:lnSpc>
                <a:spcPct val="95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-911160">
              <a:lnSpc>
                <a:spcPct val="95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68640" y="2997360"/>
            <a:ext cx="5467320" cy="33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. от модели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. от ширины ткани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. от рисунка ткан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92120" y="142920"/>
            <a:ext cx="83250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Times New Roman"/>
              </a:rPr>
              <a:t>Виды раскладо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уществует 3-и основных вид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раскладок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60480" y="2857680"/>
            <a:ext cx="3207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03440" y="3071880"/>
            <a:ext cx="27180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28880" y="2857680"/>
            <a:ext cx="565128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24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. В разворот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. В сгиб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. Комбинированная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52640" y="1260360"/>
            <a:ext cx="578628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11400" y="214200"/>
            <a:ext cx="338112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Times New Roman"/>
              </a:rPr>
              <a:t>В разворо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21440" y="1800360"/>
            <a:ext cx="48564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21080" y="3630600"/>
            <a:ext cx="48564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59200" y="5040360"/>
            <a:ext cx="31129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24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. Ширин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. Длин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1820880"/>
            <a:ext cx="575928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0000" y="1260360"/>
            <a:ext cx="1440" cy="324036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510000" y="357120"/>
            <a:ext cx="211320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Times New Roman"/>
              </a:rPr>
              <a:t>В сгиб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00120" y="1643040"/>
            <a:ext cx="2500560" cy="400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00120" y="1928880"/>
            <a:ext cx="2500560" cy="857160"/>
          </a:xfrm>
          <a:custGeom>
            <a:avLst/>
            <a:gdLst>
              <a:gd name="textAreaLeft" fmla="*/ 334800 w 2500560"/>
              <a:gd name="textAreaRight" fmla="*/ 2165760 w 2500560"/>
              <a:gd name="textAreaTop" fmla="*/ 149760 h 857160"/>
              <a:gd name="textAreaBottom" fmla="*/ 621360 h 85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520000">
            <a:off x="599400" y="2844000"/>
            <a:ext cx="124308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ги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29160" y="19288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3502080" y="2784960"/>
            <a:ext cx="188604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ром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89200" y="4214880"/>
            <a:ext cx="48564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75200" y="4857840"/>
            <a:ext cx="48564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42520" y="2076480"/>
            <a:ext cx="54594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 marL="914400" indent="-905040"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. Длин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-905040"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½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ширин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-905040"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ткан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39720" y="5219640"/>
            <a:ext cx="251964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00360" y="1619280"/>
            <a:ext cx="1440" cy="395928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84160" y="214200"/>
            <a:ext cx="553464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Times New Roman"/>
              </a:rPr>
              <a:t>Комбинированна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71720" y="1500120"/>
            <a:ext cx="421452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490480" y="1500120"/>
            <a:ext cx="20520" cy="314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5580000">
            <a:off x="244080" y="2357640"/>
            <a:ext cx="10494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ги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2059560" y="2283480"/>
            <a:ext cx="15753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ром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520000">
            <a:off x="4767840" y="2283480"/>
            <a:ext cx="15753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ром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71720" y="1785960"/>
            <a:ext cx="1428480" cy="500040"/>
          </a:xfrm>
          <a:custGeom>
            <a:avLst/>
            <a:gdLst>
              <a:gd name="textAreaLeft" fmla="*/ 191160 w 1428480"/>
              <a:gd name="textAreaRight" fmla="*/ 1237320 w 1428480"/>
              <a:gd name="textAreaTop" fmla="*/ 87480 h 500040"/>
              <a:gd name="textAreaBottom" fmla="*/ 36252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4880" y="1714680"/>
            <a:ext cx="4611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61800" y="3511440"/>
            <a:ext cx="4611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86160" y="4857840"/>
            <a:ext cx="26924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79640" y="5040360"/>
            <a:ext cx="31132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24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. Длин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. Ширин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0360" y="1619280"/>
            <a:ext cx="1440" cy="306072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071720" y="4319640"/>
            <a:ext cx="415584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20-07-31T09:37:09Z</dcterms:modified>
  <cp:revision>2</cp:revision>
  <dc:subject/>
  <dc:title>Слайд 1</dc:title>
</cp:coreProperties>
</file>