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D9F-BD4B-4990-BC81-25B5D313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FE3-2725-478D-8CB7-A5F091EA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5FC-744E-4D7C-8CB4-A59A706F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CDF-3F16-4585-AA1B-4E1F7743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390-E093-4672-9BB2-9FCCD110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4B4-B59A-4958-9B8F-77223C25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5D3-27AF-4869-942F-CD21F55E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93B-EA09-410F-9036-0CD7F5EF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7CD-561C-4C0E-B639-A9827262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006-D8AC-4ED6-A81C-C7E0087D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64E-D2A4-4235-8C8C-4A6079F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BD3-BDCB-49D7-B64B-CD1E7AB7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E685-9AE2-4E80-BD35-62D7B07264E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в Николаевич  Толст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Л"/>
          <p:cNvPicPr/>
          <p:nvPr/>
        </p:nvPicPr>
        <p:blipFill>
          <a:blip r:embed="rId1"/>
          <a:stretch/>
        </p:blipFill>
        <p:spPr>
          <a:xfrm>
            <a:off x="2843280" y="1197000"/>
            <a:ext cx="35161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Аку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ollelukoe.ru/images/stories/tolstoyL/sbor_2/tols_010.jpg"/>
          <p:cNvPicPr/>
          <p:nvPr/>
        </p:nvPicPr>
        <p:blipFill>
          <a:blip r:embed="rId1"/>
          <a:stretch/>
        </p:blipFill>
        <p:spPr>
          <a:xfrm>
            <a:off x="4572000" y="233280"/>
            <a:ext cx="3887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ев и мыш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s://arhivurokov.ru/kopilka/uploads/user_file_5801b74c8ef9d/img_user_file_5801b74c8ef9d_7.jpg"/>
          <p:cNvPicPr/>
          <p:nvPr/>
        </p:nvPicPr>
        <p:blipFill>
          <a:blip r:embed="rId1"/>
          <a:stretch/>
        </p:blipFill>
        <p:spPr>
          <a:xfrm>
            <a:off x="270036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Муравей и голуб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ruslib.net/img/880/i_189.jpg"/>
          <p:cNvPicPr/>
          <p:nvPr/>
        </p:nvPicPr>
        <p:blipFill>
          <a:blip r:embed="rId1"/>
          <a:stretch/>
        </p:blipFill>
        <p:spPr>
          <a:xfrm>
            <a:off x="2340000" y="1916280"/>
            <a:ext cx="61912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е произведен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.Н. Толстого учит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ть добр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рожить  дружб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ходить вовремя на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ть чест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иться о род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26028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й были Л.Н.Толстого главная мысль может быть выражена пословицей «Старый друг лучше новых двух»?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отенок», , «Косточка»,                                      «Филиппок», , «Акула», «Прыжок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5219640" y="2349360"/>
            <a:ext cx="35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Лев и собачк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6851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звание расск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692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… -Помнишь, ты смеялся, не думал, чтобы я могла тебе добро сделать, а теперь видишь, - бывает и от мыши добро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… волна захлестнула его и чуть не потопила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… Все засмеялись, а мальчик остался без шляпы и сам не знал, смеяться ли ему или плакать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… Матросы спустили лодку, бросились в неё, и сгибая вёсла, понеслись что было силы к мальчикам;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5435640" y="1628640"/>
            <a:ext cx="288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Лев и мыш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5111640" y="2637000"/>
            <a:ext cx="403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Муравей и голуб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5724360" y="400536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рыж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5435640" y="5373720"/>
            <a:ext cx="32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Аку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каких произведений эти персонажи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зья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а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ец-капи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шное морское живот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енькая подружка ль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115920"/>
            <a:ext cx="5256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лов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11280" y="3789360"/>
            <a:ext cx="648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Друзья познаются в беде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684360" y="9810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то родителей почитает, тот вовек не погиб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84360" y="21337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амоте учиться –всегда пригод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84360" y="2997360"/>
            <a:ext cx="74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бра желаешь- добро и дела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755640" y="4797360"/>
            <a:ext cx="64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 в ответе за тех, кого приручи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кторина для знатоков творчеств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Н. Толст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9810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де Катя и Вася нашли свою пропавшую кошк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0" y="1413000"/>
            <a:ext cx="8697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звали брата Филип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0" y="1844640"/>
            <a:ext cx="8697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чего умер ле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0" y="270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звали большую собаку в рассказе «Филипок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0" y="3141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ыдало мальчика , который сказал неправду своим родител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0" y="2276640"/>
            <a:ext cx="89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мальчика, который очень хотел уч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4076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 кем смеялся ле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0" y="458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тят было у кошки в рассказе «Котята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0" y="501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складывал мальчик из дощечек для своих родите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что отец поблагодарил сы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857160" y="542916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сная Поля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прошло все детство Толстого, его трех братьев и младшей сестры, здесь писатель прожил большую часть сво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38964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55640" y="333000"/>
            <a:ext cx="76960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Лев Николаевич Толстой прожил 82 года и всю свою жизнь посвятил литературе. Его книги переведены на многие языки, их читают во всем мире. Полное собрание сочинений насчитывает 90 томов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Области от 11 сентября 2009 года писатель Толстой Лев Николаев. - 4 May 2013 - Blog - Chronicles"/>
          <p:cNvPicPr/>
          <p:nvPr/>
        </p:nvPicPr>
        <p:blipFill>
          <a:blip r:embed="rId1"/>
          <a:stretch/>
        </p:blipFill>
        <p:spPr>
          <a:xfrm>
            <a:off x="2843280" y="1700280"/>
            <a:ext cx="4114800" cy="4937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Назовите произведения Л.Н.Толстой 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562680" y="1052640"/>
            <a:ext cx="49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тарый дед и внуче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thelib.ru/books/00/17/14/00171423/i_008.jpg"/>
          <p:cNvPicPr/>
          <p:nvPr/>
        </p:nvPicPr>
        <p:blipFill>
          <a:blip r:embed="rId1"/>
          <a:stretch/>
        </p:blipFill>
        <p:spPr>
          <a:xfrm>
            <a:off x="2050920" y="1773360"/>
            <a:ext cx="6410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2808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Котёно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http://detky.in.ua/uploads/posts/2016-02/1455190509_0_91fb9_1224111f_orig.jpg"/>
          <p:cNvPicPr/>
          <p:nvPr/>
        </p:nvPicPr>
        <p:blipFill>
          <a:blip r:embed="rId1"/>
          <a:stretch/>
        </p:blipFill>
        <p:spPr>
          <a:xfrm>
            <a:off x="1692360" y="1341360"/>
            <a:ext cx="5925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Филип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ttp://www.club366.ru/books/images/225395_2.jpg"/>
          <p:cNvPicPr/>
          <p:nvPr/>
        </p:nvPicPr>
        <p:blipFill>
          <a:blip r:embed="rId1"/>
          <a:stretch/>
        </p:blipFill>
        <p:spPr>
          <a:xfrm>
            <a:off x="1258920" y="1197000"/>
            <a:ext cx="76201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http://www.playcast.ru/uploads/2015/01/26/11800327.jpg"/>
          <p:cNvPicPr/>
          <p:nvPr/>
        </p:nvPicPr>
        <p:blipFill>
          <a:blip r:embed="rId1"/>
          <a:stretch/>
        </p:blipFill>
        <p:spPr>
          <a:xfrm>
            <a:off x="3132000" y="333360"/>
            <a:ext cx="5524560" cy="5800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Кост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https://jili-bili.ru/files/products/39/big/143461289457.jpg"/>
          <p:cNvPicPr/>
          <p:nvPr/>
        </p:nvPicPr>
        <p:blipFill>
          <a:blip r:embed="rId1"/>
          <a:stretch/>
        </p:blipFill>
        <p:spPr>
          <a:xfrm>
            <a:off x="1116000" y="907920"/>
            <a:ext cx="7620120" cy="4829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ев и соба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s://jili-bili.ru/files/labirint/big/278530scrn_big_3.jpg"/>
          <p:cNvPicPr/>
          <p:nvPr/>
        </p:nvPicPr>
        <p:blipFill>
          <a:blip r:embed="rId1"/>
          <a:srcRect l="45358" t="0" r="0" b="0"/>
          <a:stretch/>
        </p:blipFill>
        <p:spPr>
          <a:xfrm>
            <a:off x="4067280" y="692280"/>
            <a:ext cx="4608360" cy="5092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Прыж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6:51:04Z</dcterms:created>
  <dc:creator>VIENNA XP</dc:creator>
  <dc:description/>
  <dc:language>en-US</dc:language>
  <cp:lastModifiedBy>User</cp:lastModifiedBy>
  <dcterms:modified xsi:type="dcterms:W3CDTF">2017-11-16T01:27:08Z</dcterms:modified>
  <cp:revision>11</cp:revision>
  <dc:subject/>
  <dc:title>Народная мораль в характере главных героев   Л.Н.Толстого «Старый дед и внуче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