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5.png" ContentType="image/png"/>
  <Override PartName="/ppt/media/image28.png" ContentType="image/png"/>
  <Override PartName="/ppt/media/image30.png" ContentType="image/png"/>
  <Override PartName="/ppt/media/image37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4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810-DEB8-4B2C-BC71-51F37852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229-763C-4647-82B3-D11C2243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922C-002E-40A2-A3FD-5DCA0014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8FE-050C-45FA-A064-4A953A4B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9DED-749A-40CE-8B7E-CD248120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56BF-5752-44FE-871F-709054FC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8CF8-575D-40E2-94F0-28CC218E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510F-B0F2-4C30-BBB7-28158A44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40CD-3BB6-4A84-8719-23231C13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7BB4-1130-4406-B937-00EEE6FC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B9A7-74F8-498C-A506-C19B85B5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3F5-364A-430D-9CC3-D1770FA5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7B90-B6E6-42EB-94B4-C3D24378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66C9-C88C-42BD-A4EE-B3946390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0740-8527-48E1-BB2B-6823D180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7075-B368-4617-B8C8-B1AAC3E2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8649-1657-4DAE-8C80-C1A8B3FA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E01F3-485D-460F-9F9C-47E3FD04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9FE7B-F5CA-43EE-B485-6EB1E89F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D0981-7748-4B38-B50D-2CC4316B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0DA34-46CC-4DBA-876B-81D27FE2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7862-4E30-49C3-9FC2-68036553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1E8-4891-4B0E-A37E-BA6B7D20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2659C-6BEA-4E01-8BBA-C4EC3E8B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1DF1C-50C6-4502-85EA-95F5590E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B5711-F1DB-483A-AFB9-FB022C39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FDFD-8DB9-4EE8-B393-523BC718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BD26E-F712-4F03-B924-BC10CDE5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7E52D-2118-47C6-BF49-5442A9F6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1D3F4-6DED-4449-A273-EF9D339D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84A39-CFD4-4206-8835-0A935A0F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4F673-0452-4E53-9AFD-6D9BBF5E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24721-8420-47A4-B3F8-177F5A89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F8C-D9CF-457A-A316-7DD1CBD2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FC823-4C27-4CD6-A810-CF3CC4E5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B26D5-2CF1-4A6B-989F-CE4534A2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FFC01-7A00-4310-A5C6-5DFF92F9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92705-1EB1-4C42-BEEF-7614D57A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5F242-A711-42BB-B723-8C367BBB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B4D42-34E2-4746-9061-57B0D2C3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11405-A125-4844-AABF-E346C1A0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A9D81-8C25-4834-8F77-49B77F08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098B6-ACE6-4164-BDD9-D48FBFA1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42B-83BD-4DBB-9AD2-2DD8BA44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BE5-D24C-4354-9FD2-E1B2D668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CB1-5DDF-46D5-B884-64BADEBD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C1B-01E0-4698-B220-4A4A2486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CB7-314E-4E60-BBB0-0D63D3CA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C085-CA73-4065-94BF-50C856A45A8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CE54-DB10-4D25-B7F8-7B1178A6F43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A2A3-CFD0-4573-A31E-2A3E3748E14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D110-FC79-4F26-BF62-2A95BBCDB37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00000"/>
                </a:solidFill>
                <a:latin typeface="Trebuchet MS"/>
              </a:rPr>
              <a:t>БЕЗОПАСНОСТЬ ДЕТЕЙ  В ИНТЕРНЕТЕ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1489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291960" y="407880"/>
            <a:ext cx="8534520" cy="16160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3" descr=""/>
          <p:cNvPicPr/>
          <p:nvPr/>
        </p:nvPicPr>
        <p:blipFill>
          <a:blip r:embed="rId2"/>
          <a:stretch/>
        </p:blipFill>
        <p:spPr>
          <a:xfrm>
            <a:off x="250920" y="2487600"/>
            <a:ext cx="2736720" cy="4127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25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25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00cc"/>
                </a:solidFill>
                <a:uFillTx/>
                <a:latin typeface="Trebuchet MS"/>
              </a:rPr>
              <a:t>Сайты знакомств, социальные сети, блоги и ча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rebuchet MS"/>
              </a:rPr>
              <a:t>К сожалению уже было много случаев, когда педофилы выдавали себя за одного из детей или выдуманных персонажей, чтобы войти к ним в доверие и завести пошлые или открыто сексуальные беседы с ними или даже договориться о личной встреч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" descr=""/>
          <p:cNvPicPr/>
          <p:nvPr/>
        </p:nvPicPr>
        <p:blipFill>
          <a:blip r:embed="rId2"/>
          <a:stretch/>
        </p:blipFill>
        <p:spPr>
          <a:xfrm>
            <a:off x="271440" y="3284640"/>
            <a:ext cx="2630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916000" y="2276640"/>
            <a:ext cx="6119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Сект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Виртуальный собеседник не схватит за руку, но ему вполне по силам “проникнуть в мысли” и повлиять на взгляды на мир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2630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Экстремизм, национализм, фашиз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Все широкие возможности Интернета используются представителями экстремистских течений для того, чтобы заманить в свои ряды новичков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" descr=""/>
          <p:cNvPicPr/>
          <p:nvPr/>
        </p:nvPicPr>
        <p:blipFill>
          <a:blip r:embed="rId2"/>
          <a:stretch/>
        </p:blipFill>
        <p:spPr>
          <a:xfrm>
            <a:off x="177840" y="3357720"/>
            <a:ext cx="2703600" cy="199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749160" y="291960"/>
            <a:ext cx="7894800" cy="1341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0" y="134136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0000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Навязчивые бесконечные путешествия по </a:t>
            </a:r>
            <a:r>
              <a:rPr b="1" i="1" lang="ru-RU" sz="2200" spc="-1" strike="noStrike">
                <a:solidFill>
                  <a:srgbClr val="00b050"/>
                </a:solidFill>
                <a:latin typeface="Arial"/>
              </a:rPr>
              <a:t>Всемирной паутине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0000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Пристрастие к виртуальному общению и виртуальным знакомствам — </a:t>
            </a:r>
            <a:r>
              <a:rPr b="1" i="1" lang="ru-RU" sz="2200" spc="-1" strike="noStrike">
                <a:solidFill>
                  <a:srgbClr val="00b050"/>
                </a:solidFill>
                <a:latin typeface="Arial"/>
              </a:rPr>
              <a:t>большие объёмы переписки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0000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Избыточность </a:t>
            </a:r>
            <a:r>
              <a:rPr b="1" i="1" lang="ru-RU" sz="2200" spc="-1" strike="noStrike">
                <a:solidFill>
                  <a:srgbClr val="00b050"/>
                </a:solidFill>
                <a:latin typeface="Arial"/>
              </a:rPr>
              <a:t>знакомых и друзей в Сети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00b05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Игровая зависимость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 — навязчивое увлечение компьютерными игра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00b05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b050"/>
                </a:solidFill>
                <a:latin typeface="Arial"/>
              </a:rPr>
              <a:t>Пристрастие к просмотру фильмов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через интернет, когда «больной» может провести перед экраном весь день не отрываясь из-за того, что в сети можно посмотреть практически любой фильм или передачу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23640" y="260280"/>
            <a:ext cx="5327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2767"/>
                </a:solidFill>
                <a:latin typeface="Arial"/>
              </a:rPr>
              <a:t>Любопытная детская природа может завести их на сайты расистского, дискриминационного, сексуального, насильственного содержания или на сайты, содержащие материалы, побуждающие ребенка к действиям, которые могут поставить под угрозу его психологическое или физическое здоровь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Рисунок 3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72276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6840" y="1557360"/>
            <a:ext cx="8543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бенку не следует давать частной информации о себе (фамилию, номер телефона, адрес, номер школы) без разрешения родител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2500200"/>
            <a:ext cx="2465280" cy="16430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2627280" y="2637000"/>
            <a:ext cx="6373800" cy="1373760"/>
          </a:xfrm>
          <a:prstGeom prst="rect">
            <a:avLst/>
          </a:prstGeom>
          <a:gradFill rotWithShape="0">
            <a:gsLst>
              <a:gs pos="0">
                <a:srgbClr val="c0c5e8"/>
              </a:gs>
              <a:gs pos="100000">
                <a:srgbClr val="8c94ce"/>
              </a:gs>
            </a:gsLst>
            <a:lin ang="5400000"/>
          </a:gradFill>
          <a:ln w="9360">
            <a:solidFill>
              <a:srgbClr val="4e67c8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Не разрешайте ребенку предоставлять личную информацию через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395280" y="4357800"/>
            <a:ext cx="8385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бенку нужно знать, что нельзя через Интернет давать сведения о своем имени, возрасте, номере телефона, номере школы или домашнем адресе, и т.д. Убедитесь, что у него нет доступа к номеру кредитной карты или банковским данным. Научите ребенка использовать прозвища (ники) при общении через Интернет: анонимность - отличный способ защиты. Не выкладывайте фотографии ребенка на веб-страницах или публичных фору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Заголовок 1" descr=""/>
          <p:cNvPicPr/>
          <p:nvPr/>
        </p:nvPicPr>
        <p:blipFill>
          <a:blip r:embed="rId2"/>
          <a:stretch/>
        </p:blipFill>
        <p:spPr>
          <a:xfrm>
            <a:off x="165240" y="176040"/>
            <a:ext cx="8839080" cy="15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 следует открывать письма электронной почты, файлы или Web-страницы, полученные от людей, которые не знакомы или не внушают довер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214200" y="2786040"/>
            <a:ext cx="2357640" cy="15717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2700360" y="2863800"/>
            <a:ext cx="6335640" cy="1373760"/>
          </a:xfrm>
          <a:prstGeom prst="rect">
            <a:avLst/>
          </a:prstGeom>
          <a:gradFill rotWithShape="0">
            <a:gsLst>
              <a:gs pos="0">
                <a:srgbClr val="c0c5e8"/>
              </a:gs>
              <a:gs pos="100000">
                <a:srgbClr val="8c94ce"/>
              </a:gs>
            </a:gsLst>
            <a:lin ang="5400000"/>
          </a:gradFill>
          <a:ln w="9360">
            <a:solidFill>
              <a:srgbClr val="4e67c8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Оградите ребенка от ненадлежащего веб-содержи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285840" y="4508640"/>
            <a:ext cx="8494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учите его, как следует поступать при столкновении с подозрительным материалом, расскажите, что не нужно нажимать на ссылки в электронных сообщениях от неизвестных источников, открывать различные вложения. Такие ссылки могут вести на нежелательные сайты, или содержать вирусы, которые заразят Ваш компьютер. Удаляйте с Вашего компьютера следы информации, которую нежелательно обнаружить Вашему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165240" y="176040"/>
            <a:ext cx="8839080" cy="15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40328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стреча в реальной жизни со знакомыми по Интернет-общению не является очень хорошей идеей, поскольку люди могут быть разными в электронном общении и при реальной встрече, и, если ребенок желает встретиться с ними, родителям следует пойти на первую встречу вмест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42920" y="3071880"/>
            <a:ext cx="1928880" cy="12859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/>
          <p:cNvSpPr/>
          <p:nvPr/>
        </p:nvSpPr>
        <p:spPr>
          <a:xfrm>
            <a:off x="2428920" y="3143160"/>
            <a:ext cx="6143760" cy="1800360"/>
          </a:xfrm>
          <a:prstGeom prst="rect">
            <a:avLst/>
          </a:prstGeom>
          <a:gradFill rotWithShape="0">
            <a:gsLst>
              <a:gs pos="0">
                <a:srgbClr val="c0c5e8"/>
              </a:gs>
              <a:gs pos="100000">
                <a:srgbClr val="8c94ce"/>
              </a:gs>
            </a:gsLst>
            <a:lin ang="5400000"/>
          </a:gradFill>
          <a:ln w="9360">
            <a:solidFill>
              <a:srgbClr val="4e67c8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Ребенок должен понять, что его виртуальный собеседник может выдавать себя за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95280" y="4653000"/>
            <a:ext cx="817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тсутствием возможности видеть и слышать других пользователей легко воспользоваться. И 10-летний друг Вашего ребенка по чату в реальности может оказаться злоумышленником. Поэтому запретите ребенку назначать встречи с виртуальными знаком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Заголовок 1" descr=""/>
          <p:cNvPicPr/>
          <p:nvPr/>
        </p:nvPicPr>
        <p:blipFill>
          <a:blip r:embed="rId2"/>
          <a:stretch/>
        </p:blipFill>
        <p:spPr>
          <a:xfrm>
            <a:off x="165240" y="176040"/>
            <a:ext cx="8839080" cy="15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282600" y="1052640"/>
            <a:ext cx="8424720" cy="62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йте Интернет вместе с детьми. Поощряйте ваших детей делиться   с вами их успехами и неудачами в деле освоения Интерн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Объясните детям, что если в Интернете что-либо беспокоит их, то 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не скрывать этого, а поделиться с вами своим беспокойств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Составьте список правил работы детей в Интернет и помните, чт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твердое «нет», чем неуверенное «да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ограничения буду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, но зато действовать всегда и без огово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ъясните ребенку, что при общении в чатах, использовани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новенного обмена сообщениями (типа ICQ, Microsoft Messenger и т.д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и он-лайн игр и других ситуациях, требующ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и, нельзя использовать реальное имя, помогите ваш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выбрать регистрационное имя, не содержащее никакой лич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ъясните ребенку, что нельзя выдавать свои личные данные, такие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адрес, номер телефона и любую другую лич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, например, номер школы, класс, любимое место прогул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возвращения домой, место работы отца или матери и т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274680" y="171360"/>
            <a:ext cx="8508960" cy="123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309600" y="981000"/>
            <a:ext cx="8655120" cy="50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своему ребенку, что  как и в реальной жизни и в Интернете нет разницы между неправильными и правильными  поступ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е ваших детей уважать собеседников в Интернете. Убедитесь, что они понимают, что правила хорошего тона действуют одинаково в Интернете и в реальной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 им, что никогда не стоит встречаться с друзьями из Интернета. Ведь люди могут оказаться совсем не теми, за кого себя выда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что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ко не все, что можно увидеть в Интернете –      прав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сомнениях, пусть лучше уточнит у в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Компьютер с подключением к Интернету должен находиться в  общ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н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риучите себя знакомиться с сайтами, которые посещают ваши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Используйте современные программы, которые предоставляют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фильтрации содержимого сайтов, контролировать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посещения и деятельность 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274680" y="171360"/>
            <a:ext cx="8508960" cy="123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570880" cy="1528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68000" y="1341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•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бщаться с друзьями, семьей, коллегам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•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лучать доступ к информации и развлечениям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•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учиться, встречаться с людьми и узнавать новое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2"/>
          <a:stretch/>
        </p:blipFill>
        <p:spPr>
          <a:xfrm>
            <a:off x="3059280" y="3833640"/>
            <a:ext cx="4216320" cy="245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75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375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75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5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75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875"/>
                            </p:stCondLst>
                            <p:childTnLst>
                              <p:par>
                                <p:cTn id="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944640" y="55440"/>
            <a:ext cx="7377120" cy="1528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250920" y="1218960"/>
            <a:ext cx="8642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rebuchet MS"/>
              </a:rPr>
              <a:t>Power Spy 2008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(http://www.securitylab.ru/software/301944.php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4" name="Picture 2" descr="SNAG-0015"/>
          <p:cNvPicPr/>
          <p:nvPr/>
        </p:nvPicPr>
        <p:blipFill>
          <a:blip r:embed="rId2"/>
          <a:stretch/>
        </p:blipFill>
        <p:spPr>
          <a:xfrm>
            <a:off x="324000" y="2739960"/>
            <a:ext cx="4574880" cy="37846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5214960" y="2928960"/>
            <a:ext cx="367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грамму удобно использовать, чтобы узнать, чем заняты дети в отсутствие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12840" y="1125360"/>
            <a:ext cx="8548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rebuchet MS"/>
              </a:rPr>
              <a:t>iProtectYou Pro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(http://soft.mail.ru/program_page.php?grp=5382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7" name="Picture 2" descr="51021c813e17e48872b639aa8a055600"/>
          <p:cNvPicPr/>
          <p:nvPr/>
        </p:nvPicPr>
        <p:blipFill>
          <a:blip r:embed="rId1"/>
          <a:stretch/>
        </p:blipFill>
        <p:spPr>
          <a:xfrm>
            <a:off x="179280" y="2492280"/>
            <a:ext cx="4546800" cy="3600720"/>
          </a:xfrm>
          <a:prstGeom prst="rect">
            <a:avLst/>
          </a:prstGeom>
          <a:ln w="0">
            <a:noFill/>
          </a:ln>
        </p:spPr>
      </p:pic>
      <p:sp>
        <p:nvSpPr>
          <p:cNvPr id="278" name="TextBox 7"/>
          <p:cNvSpPr/>
          <p:nvPr/>
        </p:nvSpPr>
        <p:spPr>
          <a:xfrm>
            <a:off x="4932360" y="3000240"/>
            <a:ext cx="3929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грамма-фильтр интерне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зволяет родителям ограничивать  по разным параметрам сай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сматриваемые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Заголовок 1" descr=""/>
          <p:cNvPicPr/>
          <p:nvPr/>
        </p:nvPicPr>
        <p:blipFill>
          <a:blip r:embed="rId2"/>
          <a:stretch/>
        </p:blipFill>
        <p:spPr>
          <a:xfrm>
            <a:off x="944640" y="55440"/>
            <a:ext cx="7377120" cy="15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85840" y="1214280"/>
            <a:ext cx="8750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rebuchet MS"/>
              </a:rPr>
              <a:t>KidsControl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(http://soft.mail.ru/program_page.php?grp=47967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1" name="Picture 2" descr="SNAG-0014"/>
          <p:cNvPicPr/>
          <p:nvPr/>
        </p:nvPicPr>
        <p:blipFill>
          <a:blip r:embed="rId1"/>
          <a:stretch/>
        </p:blipFill>
        <p:spPr>
          <a:xfrm>
            <a:off x="108000" y="2565360"/>
            <a:ext cx="5200560" cy="3743280"/>
          </a:xfrm>
          <a:prstGeom prst="rect">
            <a:avLst/>
          </a:prstGeom>
          <a:ln w="0">
            <a:noFill/>
          </a:ln>
        </p:spPr>
      </p:pic>
      <p:sp>
        <p:nvSpPr>
          <p:cNvPr id="282" name="TextBox 6"/>
          <p:cNvSpPr/>
          <p:nvPr/>
        </p:nvSpPr>
        <p:spPr>
          <a:xfrm>
            <a:off x="5786280" y="3143160"/>
            <a:ext cx="27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едназначение KidsControl – контроль времени, которое ребенок проводит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Заголовок 1" descr=""/>
          <p:cNvPicPr/>
          <p:nvPr/>
        </p:nvPicPr>
        <p:blipFill>
          <a:blip r:embed="rId2"/>
          <a:stretch/>
        </p:blipFill>
        <p:spPr>
          <a:xfrm>
            <a:off x="944640" y="55440"/>
            <a:ext cx="7377120" cy="15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5" descr=""/>
          <p:cNvPicPr/>
          <p:nvPr/>
        </p:nvPicPr>
        <p:blipFill>
          <a:blip r:embed="rId1"/>
          <a:stretch/>
        </p:blipFill>
        <p:spPr>
          <a:xfrm>
            <a:off x="822240" y="158760"/>
            <a:ext cx="7284960" cy="1816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539280" y="1341000"/>
            <a:ext cx="799308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1489f"/>
                </a:solidFill>
                <a:latin typeface="Trebuchet MS"/>
              </a:rPr>
              <a:t>Надеюсь, что предоставленная информация, помогающая узнать об опасностях в Интернете и о том, как им противостоять будет в дальнейшем полезна вам и вашим детям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Объект 6"/>
          <p:cNvSpPr/>
          <p:nvPr/>
        </p:nvSpPr>
        <p:spPr>
          <a:xfrm>
            <a:off x="-14400" y="1484280"/>
            <a:ext cx="8964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1b3ed"/>
                </a:solidFill>
                <a:latin typeface="Trebuchet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Рисунок 3" descr=""/>
          <p:cNvPicPr/>
          <p:nvPr/>
        </p:nvPicPr>
        <p:blipFill>
          <a:blip r:embed="rId2"/>
          <a:stretch/>
        </p:blipFill>
        <p:spPr>
          <a:xfrm>
            <a:off x="1695600" y="2565360"/>
            <a:ext cx="55432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4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4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72.540006637573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38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" autoRev="1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2583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7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7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5" descr=""/>
          <p:cNvPicPr/>
          <p:nvPr/>
        </p:nvPicPr>
        <p:blipFill>
          <a:blip r:embed="rId1"/>
          <a:stretch/>
        </p:blipFill>
        <p:spPr>
          <a:xfrm>
            <a:off x="3059280" y="3220920"/>
            <a:ext cx="5257800" cy="3606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394920" y="40464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является прекрасным источником для новых знаний, помогает в учебе, занимает досуг. Но в то же время,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ит в себе много опасностей.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нужно поговорить с деть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яснить, что могут возникать различные неприятные ситуации и то, как из них лучшим образом выходить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те, что безопасность ваших детей в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нете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на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%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зависит от  вас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cover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52280" y="208080"/>
            <a:ext cx="8759880" cy="1412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0" y="1413000"/>
            <a:ext cx="651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2d05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92d050"/>
                </a:solidFill>
                <a:latin typeface="Arial"/>
              </a:rPr>
              <a:t>«О защите детей от информации, причиняющей вред их здоровью и развитию»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станавливает правила медиабезопасности детей при обороте на территории России продукции средств массовой информации, печатной, аудиовизуальной продукции на любых видах носителей, программ для ЭВМ и баз данных, а также информации, размещаемой в информационно-телекоммуникационных сетях и сетях подвижной радиотелефонной связ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Рисунок 3" descr=""/>
          <p:cNvPicPr/>
          <p:nvPr/>
        </p:nvPicPr>
        <p:blipFill>
          <a:blip r:embed="rId2"/>
          <a:stretch/>
        </p:blipFill>
        <p:spPr>
          <a:xfrm>
            <a:off x="6588000" y="1839960"/>
            <a:ext cx="24051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-42840" y="463680"/>
            <a:ext cx="9339120" cy="12366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250920" y="1557000"/>
            <a:ext cx="568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то состояние защищенност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етей, при котором отсутствуе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иск, связанный с причинение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нформацией, в том числе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спространяемой в сет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нтернет, вреда их здоровью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изическому, психическому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уховному и нравственному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звитию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260c"/>
                </a:solidFill>
                <a:latin typeface="Arial"/>
              </a:rPr>
              <a:t>(Федеральный закон от 29.12.2010 №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260c"/>
                </a:solidFill>
                <a:latin typeface="Arial"/>
              </a:rPr>
              <a:t>436-ФЗ "О защите детей о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260c"/>
                </a:solidFill>
                <a:latin typeface="Arial"/>
              </a:rPr>
              <a:t>информации, причиняющей вред их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260c"/>
                </a:solidFill>
                <a:latin typeface="Arial"/>
              </a:rPr>
              <a:t>здоровью и развитию")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Рисунок 3" descr=""/>
          <p:cNvPicPr/>
          <p:nvPr/>
        </p:nvPicPr>
        <p:blipFill>
          <a:blip r:embed="rId2"/>
          <a:stretch/>
        </p:blipFill>
        <p:spPr>
          <a:xfrm>
            <a:off x="5724360" y="1495440"/>
            <a:ext cx="30956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124000" y="1916280"/>
            <a:ext cx="6840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Даже случайный клик по всплывшему баннеру или переход по ссылке может привести на сайт с опасным содержимым!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"/>
          <p:cNvPicPr/>
          <p:nvPr/>
        </p:nvPicPr>
        <p:blipFill>
          <a:blip r:embed="rId2"/>
          <a:stretch/>
        </p:blipFill>
        <p:spPr>
          <a:xfrm>
            <a:off x="900000" y="2462040"/>
            <a:ext cx="1352520" cy="123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cc"/>
                </a:solidFill>
                <a:latin typeface="Trebuchet MS"/>
              </a:rPr>
              <a:t>       </a:t>
            </a: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Порнограф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Опасна избыточной информацией и грубым, часто извращенным, натурализмом. Мешает развитию естественных эмоциональных привязанносте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4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256392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Депрессивные молодежные тече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Ребенок может поверить, что 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шрамы</a:t>
            </a: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 – лучшее украшение, а 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суицид</a:t>
            </a: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 – всего лишь способ избавления от пробле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63016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Наркотик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Интернет пестрит новостями о “пользе” употребления марихуаны, рецептами и советами изготовления “зелья”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5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2799000" cy="2068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7:12:02Z</dcterms:created>
  <dc:creator>User</dc:creator>
  <dc:description/>
  <dc:language>en-US</dc:language>
  <cp:lastModifiedBy>User</cp:lastModifiedBy>
  <dcterms:modified xsi:type="dcterms:W3CDTF">2020-08-13T12:58:23Z</dcterms:modified>
  <cp:revision>36</cp:revision>
  <dc:subject/>
  <dc:title>Родительское собрание</dc:title>
</cp:coreProperties>
</file>