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4C23-679A-403A-80EA-D2EEE7A31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3F78-391D-422B-A36E-C449E5727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35B3-8A7A-4DC1-BEC2-D941D6BE7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8228-BEEF-4344-9B1E-17ACF213B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CCE40-9B1C-4474-919A-C41A281D4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CB16A-5159-4650-A182-AE2DB0699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6D0C9-4000-4CB7-90E8-814F7D913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6210E-1600-4752-A602-D7939679A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B2E8C-9119-4670-A866-E70A9F46A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F31E1-4FC6-4A67-A0D5-4C7ED24C1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D73AF-D96C-4A10-AB1F-17C90ABE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BE56-3BFB-4BCC-AF11-FA350F5C5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70C71-BC36-4000-AEF7-2C811903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C1356-33A3-4649-9826-A0FF8EB0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A199D-423B-4276-89C3-14016324A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6E19D-8C4A-4ABA-95A5-E22F450B7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64F36-1454-47CC-8961-8DD718047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5CA2-DB1B-4C14-AE09-A2BA4022E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E004-0460-4D91-9FBE-7E7E492C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DFC3-44FB-4B31-AA2B-F1554F4F6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BEC4-51B5-4710-A562-E001FF60F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6CA7-D1BB-4F2C-8AA5-E853B349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39E7-C082-4D6C-855E-302208F4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E940-603E-4023-89FE-CE36DCAF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2D3C5-57E1-4D29-9F08-BC80915E513A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29769-E331-4A86-9229-09F91F9EDF9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6225C-D7FA-4AD4-9985-F61A2575CA7F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13D84-CE76-4EFE-AC8C-CF9B911C293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8487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br>
              <a:rPr sz="3800"/>
            </a:br>
            <a:r>
              <a:rPr b="0" lang="ru-RU" sz="4000" spc="-1" strike="noStrike">
                <a:solidFill>
                  <a:srgbClr val="990033"/>
                </a:solidFill>
                <a:latin typeface="Times New Roman"/>
              </a:rPr>
              <a:t>Древнерусская литература .</a:t>
            </a:r>
            <a:br>
              <a:rPr sz="4000"/>
            </a:br>
            <a:r>
              <a:rPr b="0" lang="ru-RU" sz="4000" spc="-1" strike="noStrike">
                <a:solidFill>
                  <a:srgbClr val="990033"/>
                </a:solidFill>
                <a:latin typeface="Times New Roman"/>
              </a:rPr>
              <a:t>Русская летопись «Повесть временных лет».</a:t>
            </a:r>
            <a:br>
              <a:rPr sz="4000"/>
            </a:br>
            <a:r>
              <a:rPr b="0" lang="ru-RU" sz="4000" spc="-1" strike="noStrike">
                <a:solidFill>
                  <a:srgbClr val="990033"/>
                </a:solidFill>
                <a:latin typeface="Times New Roman"/>
              </a:rPr>
              <a:t>«Сказание о Кожемяке»</a:t>
            </a:r>
            <a:br>
              <a:rPr sz="40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r>
              <a:rPr b="0" lang="ru-RU" sz="3800" spc="-1" strike="noStrike">
                <a:solidFill>
                  <a:srgbClr val="ff0000"/>
                </a:solidFill>
                <a:latin typeface="Times New Roman"/>
              </a:rPr>
              <a:t>                                  </a:t>
            </a:r>
            <a:br>
              <a:rPr sz="3800"/>
            </a:br>
            <a:r>
              <a:rPr b="0" lang="ru-RU" sz="3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3800" spc="-1" strike="noStrike">
                <a:solidFill>
                  <a:srgbClr val="990033"/>
                </a:solidFill>
                <a:latin typeface="Times New Roman"/>
              </a:rPr>
              <a:t>6 класс</a:t>
            </a:r>
            <a:r>
              <a:rPr b="0" lang="ru-RU" sz="3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50C8-30B3-4BAB-BD15-27AC2AA3176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715D6A-092E-4DF5-8229-3852E91EEC6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«Сказание о Кожемяке»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ченеги-объединение тюрских и других племен в заволжских степях в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8-9 веках. Кочевники- скотоводы совершали набеги на Русь. В 1036 году были разбиты великим киевским  князем Ярославом Мудр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трок- (устар.) мальчик-подросток в возрасте между ребенком и юнош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608B-3FE2-49AE-99E2-A4F95C9A253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826774-BB4E-470E-9929-53F90C54EEA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5440" y="457200"/>
            <a:ext cx="8001000" cy="56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гда произошли события сказания и кто тогда правил на Рус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ем был «старый муж» и его сы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качества характера проявил «старый муж» , пришедший к князю Владимир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ведет себя юноша перед битв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чем проявляется патриотизм героев сказа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особенности языка летописи вы заметил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н повеств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чь герое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дача настро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ему летописцу важно было рассказать об этом эпизод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85A9-8A52-41FE-B4C8-16A7DD19344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7DE569-823D-4235-AEAD-30DDC242D84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лан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иев – столица Древней Рус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первых летописей при Ярославе Мудр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чем пишет первый летописец? Кого прославляет , кого осуждает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выглядели первые книги, как они создавались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6F4E-07F9-44F8-A1F5-DA035D0F6BE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1AFE73-B4C1-40ED-BCA3-01DC55471C0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8305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Как строили многие поколения здание русской     культуры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7580-B9E0-4702-B098-E37168D65501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62062A-1674-47FC-81FC-750043BA825F}" type="datetime1">
              <a:rPr lang="en-US"/>
              <a:t>07/31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Д.С.Лихачев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Древняя русская литература наполняет нас гордостью за наших далеких предшественников, учит нас с уважением относиться к их </a:t>
            </a:r>
            <a:r>
              <a:rPr b="1" lang="ru-RU" sz="4000" spc="-1" strike="noStrike">
                <a:solidFill>
                  <a:srgbClr val="003399"/>
                </a:solidFill>
                <a:latin typeface="Arial"/>
              </a:rPr>
              <a:t>труду, борьб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, к их </a:t>
            </a:r>
            <a:r>
              <a:rPr b="1" lang="ru-RU" sz="4000" spc="-1" strike="noStrike">
                <a:solidFill>
                  <a:srgbClr val="003399"/>
                </a:solidFill>
                <a:latin typeface="Arial"/>
              </a:rPr>
              <a:t>заботам</a:t>
            </a:r>
            <a:r>
              <a:rPr b="0" lang="ru-RU" sz="4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3399"/>
                </a:solidFill>
                <a:latin typeface="Arial"/>
              </a:rPr>
              <a:t>о благ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родин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6146-B964-44E8-A665-5B953739F7A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20C681-89BB-4FCD-B8AB-3D7242E662B0}" type="datetime1">
              <a:rPr lang="en-US"/>
              <a:t>07/31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990033"/>
                </a:solidFill>
                <a:latin typeface="Times New Roman"/>
              </a:rPr>
              <a:t>Домашнее задание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сказать «Сказание о Кожемяке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каз по плану о «Повести временных ле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5785-4465-434A-B408-5FA88AFFAA7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59839E-A3C3-4919-B19D-3FC6501DF03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Цель урока 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1932120" indent="-103320">
              <a:spcBef>
                <a:spcPts val="7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накомство с письменной литературой Древней Руси  и древнерусскими летописями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2120" indent="-103320">
              <a:spcBef>
                <a:spcPts val="7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крытие самобытности и патриотизма древнерусской литерату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D929-3A7E-44A4-97D5-22ABA336A6B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F49085-1B4F-4CE9-8D64-6BF3F15C8D7D}" type="datetime1">
              <a:rPr lang="en-US"/>
              <a:t>07/31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Д.С.Лихачев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777240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Древняя русская литература наполняет нас гордостью за наших далеких предшественников, учит нас с уважением относиться к их труду, борьбе, к их заботам о благе родин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CF2F-3F8C-4E60-BB52-1D844854003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029F56-EC59-4AAF-8AF2-2AF76BD915FB}" type="datetime1">
              <a:rPr lang="en-US"/>
              <a:t>07/31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80520" y="198072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Как строили многие поколения здание русской    культур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52480" y="0"/>
            <a:ext cx="5105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БЛЕМА УРО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C142-F7F6-4A7D-A8D5-49D33E0F19BD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6709C6-6C4A-4FA9-B94A-164402A4D099}" type="datetime1">
              <a:rPr lang="en-US"/>
              <a:t>07/31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сновные термины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77724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33"/>
                </a:solidFill>
                <a:latin typeface="Arial"/>
              </a:rPr>
              <a:t>Летописец</a:t>
            </a:r>
            <a:r>
              <a:rPr b="0" lang="ru-RU" sz="4000" spc="-1" strike="noStrike">
                <a:solidFill>
                  <a:srgbClr val="990033"/>
                </a:solidFill>
                <a:latin typeface="Arial"/>
              </a:rPr>
              <a:t> – составитель летопис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33"/>
                </a:solidFill>
                <a:latin typeface="Arial"/>
              </a:rPr>
              <a:t>Летописание</a:t>
            </a:r>
            <a:r>
              <a:rPr b="0" lang="ru-RU" sz="4000" spc="-1" strike="noStrike">
                <a:solidFill>
                  <a:srgbClr val="990033"/>
                </a:solidFill>
                <a:latin typeface="Arial"/>
              </a:rPr>
              <a:t> – составление            летопис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33"/>
                </a:solidFill>
                <a:latin typeface="Arial"/>
              </a:rPr>
              <a:t>Летопись </a:t>
            </a:r>
            <a:r>
              <a:rPr b="0" lang="ru-RU" sz="4000" spc="-1" strike="noStrike">
                <a:solidFill>
                  <a:srgbClr val="990033"/>
                </a:solidFill>
                <a:latin typeface="Arial"/>
              </a:rPr>
              <a:t>- погодная запись  исторических событий , производимая современник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BE6C-6AFE-4EE9-9030-B7C64A7218B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5D0569-EFC4-4F65-ADBC-D8B23A697786}" type="datetime1">
              <a:rPr lang="en-US"/>
              <a:t>07/31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100" spc="-1" strike="noStrike">
                <a:solidFill>
                  <a:srgbClr val="990033"/>
                </a:solidFill>
                <a:latin typeface="Times New Roman"/>
              </a:rPr>
              <a:t>Летописец- монах </a:t>
            </a:r>
            <a:r>
              <a:rPr b="1" lang="ru-RU" sz="4600" spc="-1" strike="noStrike">
                <a:solidFill>
                  <a:srgbClr val="330033"/>
                </a:solidFill>
                <a:latin typeface="Times New Roman"/>
              </a:rPr>
              <a:t> Пимен</a:t>
            </a:r>
            <a:r>
              <a:rPr b="0" lang="ru-RU" sz="4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610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Исполнен долг, завещанный от Бог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419720" y="2362320"/>
          <a:ext cx="4419360" cy="412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362320"/>
                    <a:ext cx="4419360" cy="41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838080" y="2438280"/>
            <a:ext cx="3459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0033"/>
                </a:solidFill>
                <a:latin typeface="Arial"/>
              </a:rPr>
              <a:t>Пушкин А.С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330033"/>
                </a:solidFill>
                <a:latin typeface="Arial"/>
              </a:rPr>
              <a:t>«Борис Годунов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6AD0-B305-47ED-A987-8ED67911617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56FF75-9DF9-48FF-974F-986AF971DD0A}" type="datetime1">
              <a:rPr lang="en-US"/>
              <a:t>07/31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0033"/>
                </a:solidFill>
                <a:latin typeface="Times New Roman"/>
              </a:rPr>
              <a:t>Летописание 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началось на Руси в 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XI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 веке.                                                                   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572000" y="1828800"/>
            <a:ext cx="3886200" cy="45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1DBD-02A5-425B-BF2A-32FC0FFDDBF5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8F0F5C-F0E6-4876-9096-17EC604955DB}" type="datetime1">
              <a:rPr lang="en-US"/>
              <a:t>07/31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3200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е повести времянь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ет, откуда пошла Рус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емля, кто в Киеве нача перв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няжити, и откуда Русск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емля стала е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есто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267080" y="1447920"/>
            <a:ext cx="4595760" cy="5257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371600" y="60948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ЛЕТОПИС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E591-1A5A-4432-B074-88FA690ADA9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E6EB1D-A1E4-4064-8391-08BD6CFF0712}" type="datetime1">
              <a:rPr lang="en-US"/>
              <a:t>07/31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380880"/>
            <a:ext cx="77724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«Повесть временных лет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3581640" cy="43434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648320" y="1828800"/>
            <a:ext cx="3733560" cy="434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AEB8-6BEC-45DD-B2DD-1AB212471A9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21097D-5796-4660-9573-F849533D9E96}" type="datetime1">
              <a:rPr lang="en-US"/>
              <a:t>07/31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иректор</cp:lastModifiedBy>
  <dcterms:modified xsi:type="dcterms:W3CDTF">2007-11-02T06:40:54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