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3E8-FE90-4BCB-B136-3D452ED3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AD2-16B1-498C-9B5D-27365DFF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320-1F22-4E59-86CE-0646ABC1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A86-A39B-42EC-9F5A-C9AB290D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C2F-02C1-4294-A1F3-111CFBA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BFC-49F4-4589-A34A-FAE08CE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F5A-770A-461C-B13F-8EE62DDB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37B-732C-4D34-B340-1878E280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A91-3210-42D7-9C2F-E6545931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F7D-1360-47EC-B288-F6068E1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53F-6F47-4DE0-96E1-B05F194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2C5-420D-42FF-A740-D10EDD3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4C38-2D9C-42A5-A288-F58ADAAB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299" r="0" b="2100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Раздели текст на предложения. Поставь точку там, где это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ПОДУЛА ЗИМА ХОЛОДОМ СВЕРКАЕТ ПЕРВЫЙ ЧИСТЕНЬКИЙ СНЕЖОК  РУМЯНИТ ЩЕКИ ЛЕГКИЙ МОРОЗ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ff"/>
                </a:solidFill>
                <a:latin typeface="Times New Roman"/>
              </a:rPr>
              <a:t>П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ОДУЛА ЗИМА ХОЛОДОМ. </a:t>
            </a:r>
            <a:r>
              <a:rPr b="1" i="1" lang="en-US" sz="6000" spc="-1" strike="noStrike">
                <a:solidFill>
                  <a:srgbClr val="ff00ff"/>
                </a:solidFill>
                <a:latin typeface="Times New Roman"/>
              </a:rPr>
              <a:t>С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ВЕРКАЕТ ПЕРВЫЙ ЧИСТЕНЬКИЙ СНЕЖОК.  </a:t>
            </a:r>
            <a:r>
              <a:rPr b="1" i="1" lang="en-US" sz="6000" spc="-1" strike="noStrike">
                <a:solidFill>
                  <a:srgbClr val="ff00ff"/>
                </a:solidFill>
                <a:latin typeface="Times New Roman"/>
              </a:rPr>
              <a:t>Р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УМЯНИТ ЩЕКИ ЛЕГКИЙ МОРОЗ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Окраской – серова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Повадкой – ворова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Крикунья хрипловата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Известная персона. Кто он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Пишет он, когда дикт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Он и чертит и рис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А сегодня вечер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Он раскрасит мне аль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Невидимкой, остор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Он является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рисует, как худож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Он узоры на ок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Уродилась я на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Голова бела, кудря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Кто любит щ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Меня в них ищ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Рыжий молокоза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День жуёт и ночь жу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Ведь траву не так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Переделать в молоко.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Я не будильник, но бу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Я с бородой и в шпо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С большою важностью 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вспыльчив, словно поро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Подчеркни твёрдые согласные в скороговор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         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ЛЕТЕЛИ ЛЕБЕДИ С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               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ЛЕБЕДЯ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4572000"/>
            <a:ext cx="4248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84582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            </a:t>
            </a:r>
            <a:r>
              <a:rPr b="1" i="1" lang="en-US" sz="4800" spc="-1" strike="noStrike">
                <a:solidFill>
                  <a:srgbClr val="ff00ff"/>
                </a:solidFill>
                <a:latin typeface="Times New Roman"/>
              </a:rPr>
              <a:t>ЛЕТЕЛИ ЛЕБЕДИ С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ff"/>
                </a:solidFill>
                <a:latin typeface="Times New Roman"/>
              </a:rPr>
              <a:t>                </a:t>
            </a:r>
            <a:r>
              <a:rPr b="1" i="1" lang="en-US" sz="4800" spc="-1" strike="noStrike">
                <a:solidFill>
                  <a:srgbClr val="ff00ff"/>
                </a:solidFill>
                <a:latin typeface="Times New Roman"/>
              </a:rPr>
              <a:t>ЛЕБЕДЯТ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2. Расшифруй слова, подчеркни «лишнее» сло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           </a:t>
            </a:r>
            <a:r>
              <a:rPr b="1" i="1" lang="en-US" sz="4800" spc="-1" strike="noStrike">
                <a:solidFill>
                  <a:srgbClr val="ff00ff"/>
                </a:solidFill>
                <a:latin typeface="Times New Roman"/>
              </a:rPr>
              <a:t>ЫТКАВ,   МИДОПОР, 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i="1" lang="en-US" sz="4800" spc="-1" strike="noStrike">
                <a:solidFill>
                  <a:srgbClr val="ff00ff"/>
                </a:solidFill>
                <a:latin typeface="Times New Roman"/>
              </a:rPr>
              <a:t>РОТПО, КОРОМВЬ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Тыква, помидор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Arial"/>
              </a:rPr>
              <a:t>топор,</a:t>
            </a: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 морков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Выполни математические действия и запиши получившееся сло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СПОР + А – РОСА + АР + ТА = 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ЗИМА + ВОТ - ТОМА + ОН - И + ОК = 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СОМ + ТИ - СИМ + МЕТЛА – ЛА + КА = _______________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СПОР + А – РОСА + АР + ТА = _____________парта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ЗИМА + ВОТ - ТОМА + ОН - И + ОК = __________звонок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СОМ + ТИ - СИМ + МЕТЛА – ЛА + КА = ___отметка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Добавь одну букву в начале слова, чтобы получились новые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ДАЧА - ______________,  ПОРТ - _____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РИС - ________________,  КЛАД - 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ДАЧА – 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удача, сдача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,  ПОРТ – спорт, апор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РИС - ирис,  КЛАД – склад, оклад, укла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4284720"/>
            <a:ext cx="2838600" cy="225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8-13T15:34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