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2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327D-2612-485B-B55E-7E71AB96B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4DBC-7F22-404D-B0B0-53CD18354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23B8-EC32-4E1B-8451-32CED0D20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D36D-B893-4108-98C6-F9959F62A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CB13-1914-4B6C-A14F-2FD39001B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0150-237B-4720-9C42-FCD2A943B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9C3F-BA7D-4A05-B991-213A1390C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F092-EB9A-4244-B621-6875E99C00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2518-E5BA-43A8-BF3B-C01C0920F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CCEF-F96A-426F-8F9F-111721952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A396-8B1D-4DEA-A0B9-154D4F3A2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6537-CA12-43BF-B225-73397FEFD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E2D2-46A1-4B63-9070-DED0BE5BCD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746C-A7E8-4AA6-B434-AA66DF1A3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340F-47FC-4D20-A603-C8F36DC3E4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4911-A117-4CF7-8B8A-2649AD70E6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661C-312D-4460-BBE4-A27E8B256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AC90-1836-4872-A64D-2FAE65779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9684-B68C-4CDD-9A65-6B7CD00A4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E296-5AF3-44BB-AA62-4C8CFB03A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E28E-E9C9-429D-9530-B6E8687A3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2827-941B-40F1-B486-425D6C540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F48D-5A8F-4C43-A5F2-4D1C4197B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DF49-A993-4295-8E8E-BCE5F3345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D491D-BD5C-46AF-BC8B-42372343715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4000" y="-143640"/>
            <a:ext cx="2980080" cy="2843280"/>
            <a:chOff x="6894000" y="-143640"/>
            <a:chExt cx="2980080" cy="2843280"/>
          </a:xfrm>
        </p:grpSpPr>
        <p:grpSp>
          <p:nvGrpSpPr>
            <p:cNvPr id="39" name=""/>
            <p:cNvGrpSpPr/>
            <p:nvPr/>
          </p:nvGrpSpPr>
          <p:grpSpPr>
            <a:xfrm>
              <a:off x="6894000" y="-143640"/>
              <a:ext cx="2980080" cy="2843280"/>
              <a:chOff x="6894000" y="-143640"/>
              <a:chExt cx="2980080" cy="284328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4000" y="-143640"/>
                <a:ext cx="2980080" cy="2843280"/>
                <a:chOff x="6894000" y="-143640"/>
                <a:chExt cx="2980080" cy="284328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4920" y="-23040"/>
                  <a:ext cx="349200" cy="2239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903440" y="640800"/>
                  <a:ext cx="613440" cy="7894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2040" y="409680"/>
                  <a:ext cx="1152000" cy="1620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18240" y="64440"/>
                  <a:ext cx="1731600" cy="24267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5760" y="1859400"/>
                  <a:ext cx="385200" cy="2185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89000" y="1658160"/>
                  <a:ext cx="410760" cy="2581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3720" y="302400"/>
                  <a:ext cx="410760" cy="2638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42520" y="133200"/>
                  <a:ext cx="408600" cy="247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70120" cy="161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60760" cy="1596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60520" cy="145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5160" cy="338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6480" cy="171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4800" cy="973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8560" cy="649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5120" cy="5760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01120" y="4236480"/>
            <a:ext cx="1161000" cy="1323720"/>
            <a:chOff x="7701120" y="4236480"/>
            <a:chExt cx="1161000" cy="1323720"/>
          </a:xfrm>
        </p:grpSpPr>
        <p:sp>
          <p:nvSpPr>
            <p:cNvPr id="99" name=""/>
            <p:cNvSpPr/>
            <p:nvPr/>
          </p:nvSpPr>
          <p:spPr>
            <a:xfrm rot="7320000">
              <a:off x="7794360" y="4659120"/>
              <a:ext cx="9968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69520" y="4637160"/>
              <a:ext cx="993600" cy="459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8000" y="4626360"/>
              <a:ext cx="65880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01120" y="4236480"/>
              <a:ext cx="1161000" cy="1323720"/>
              <a:chOff x="7701120" y="4236480"/>
              <a:chExt cx="1161000" cy="132372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808400" y="5069520"/>
                <a:ext cx="100800" cy="125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702920" y="4575240"/>
                <a:ext cx="1157040" cy="645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35920" y="4715280"/>
                <a:ext cx="818640" cy="363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596440" y="4510800"/>
                <a:ext cx="107280" cy="242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43560" y="4729320"/>
                <a:ext cx="333720" cy="2149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1A6F2C-5DC7-433C-8A87-A748D6F052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907920"/>
            <a:ext cx="77058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549440" y="5589720"/>
            <a:ext cx="6032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полнила: Миндеева Альмина/3 класс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уководитель: Петькиева Б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016г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989000"/>
            <a:ext cx="7128000" cy="22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“ </a:t>
            </a: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е питание”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8760"/>
            <a:ext cx="7875720" cy="822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60377" t="31690" r="14926" b="42704"/>
          <a:stretch/>
        </p:blipFill>
        <p:spPr>
          <a:xfrm>
            <a:off x="685800" y="4834080"/>
            <a:ext cx="19414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9040" y="268200"/>
            <a:ext cx="7626240" cy="128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5800" y="1268280"/>
            <a:ext cx="7696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spcBef>
                <a:spcPts val="601"/>
              </a:spcBef>
              <a:buClr>
                <a:srgbClr val="ffef66"/>
              </a:buClr>
              <a:buSzPct val="80000"/>
              <a:buFont typeface="Wingdings 2" charset="2"/>
              <a:buChar char="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6666"/>
                </a:solidFill>
                <a:latin typeface="Comic Sans MS"/>
              </a:rPr>
              <a:t>Соблюдай режим питания!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тание в определенные часы улучшает работу органов пищева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282600">
              <a:spcBef>
                <a:spcPts val="601"/>
              </a:spcBef>
              <a:buClr>
                <a:srgbClr val="ffef66"/>
              </a:buClr>
              <a:buSzPct val="80000"/>
              <a:buFont typeface="Wingdings 2" charset="2"/>
              <a:buChar char="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6666"/>
                </a:solidFill>
                <a:latin typeface="Comic Sans MS"/>
              </a:rPr>
              <a:t>Питайся разнообразно!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нообразие питательных веществ и витаминов обеспечивает сбалансированное поступление в твой организм необходимых вещест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282600">
              <a:spcBef>
                <a:spcPts val="601"/>
              </a:spcBef>
              <a:buClr>
                <a:srgbClr val="ffef66"/>
              </a:buClr>
              <a:buSzPct val="80000"/>
              <a:buFont typeface="Wingdings 2" charset="2"/>
              <a:buChar char="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6666"/>
                </a:solidFill>
                <a:latin typeface="Comic Sans MS"/>
              </a:rPr>
              <a:t>Тщательно пережевывай пищу!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жевывание подготавливает пищу для прохождения по желудочно-кишечному тракту. Измельчённая пища легче переваривает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282600">
              <a:spcBef>
                <a:spcPts val="601"/>
              </a:spcBef>
              <a:buClr>
                <a:srgbClr val="ffef66"/>
              </a:buClr>
              <a:buSzPct val="80000"/>
              <a:buFont typeface="Wingdings 2" charset="2"/>
              <a:buChar char="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6666"/>
                </a:solidFill>
                <a:latin typeface="Comic Sans MS"/>
              </a:rPr>
              <a:t>Не переедай!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избытком пищи не справляется пищеварительная система; пища подвергается брожению и гниению, организм отравляет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282600">
              <a:spcBef>
                <a:spcPts val="601"/>
              </a:spcBef>
              <a:buClr>
                <a:srgbClr val="ffef66"/>
              </a:buClr>
              <a:buSzPct val="80000"/>
              <a:buFont typeface="Wingdings 2" charset="2"/>
              <a:buChar char="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6666"/>
                </a:solidFill>
                <a:latin typeface="Comic Sans MS"/>
              </a:rPr>
              <a:t>Не спеши во время еды!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должительность трапезы должна составлять не менее 20 минут при одном блюде и 30–40 – при двух. Так достигается насыщение без переед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282600"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-352440"/>
            <a:ext cx="687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7082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920" y="189000"/>
            <a:ext cx="75614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правильное питание!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603720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-352440"/>
            <a:ext cx="687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33360"/>
            <a:ext cx="7696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199"/>
              </a:spcBef>
              <a:buClr>
                <a:srgbClr val="0000ff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Comic Sans MS"/>
              </a:rPr>
              <a:t>Мы едим для того, чтобы жить, а не живем для того,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0000ff"/>
                </a:solidFill>
                <a:latin typeface="Comic Sans MS"/>
              </a:rPr>
              <a:t>чтобы ест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i="1" lang="ru-RU" sz="4800" spc="-1" strike="noStrike">
                <a:solidFill>
                  <a:srgbClr val="0000ff"/>
                </a:solidFill>
                <a:latin typeface="Comic Sans MS"/>
              </a:rPr>
              <a:t>/Сократ/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32100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учиться правильному выбору продуктов пит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облюдать правило здорового пит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: продукты, содержащие основные необходимые витамины и минеральные вещества обязательно должны присутствовать в рационе школьник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-584280"/>
            <a:ext cx="6870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1628640"/>
            <a:ext cx="7696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Белки играют в питании человека чрезвычайно важную роль, так как они являются главной составной частью клеток всех органов и тканей организм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76360" y="476280"/>
            <a:ext cx="54007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9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ки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1930680" cy="144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2374920" cy="1771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59280" y="4869000"/>
            <a:ext cx="2710080" cy="180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04000" y="3213000"/>
            <a:ext cx="1994040" cy="14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-692280"/>
            <a:ext cx="6870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341360"/>
            <a:ext cx="7696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b800"/>
                </a:solidFill>
                <a:latin typeface="Comic Sans MS"/>
              </a:rPr>
              <a:t>Источник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b800"/>
                </a:solidFill>
                <a:latin typeface="Comic Sans MS"/>
              </a:rPr>
              <a:t>Важный поставщик питательных вещест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b800"/>
                </a:solidFill>
                <a:latin typeface="Comic Sans MS"/>
              </a:rPr>
              <a:t>Защищают от холода и трав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6360" y="404640"/>
            <a:ext cx="525636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ры  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9280" y="5013360"/>
            <a:ext cx="180504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08720" y="2637000"/>
            <a:ext cx="123048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050920" y="5261040"/>
            <a:ext cx="2087640" cy="1596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948360" y="4508640"/>
            <a:ext cx="14241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-352440"/>
            <a:ext cx="687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1773360"/>
            <a:ext cx="769608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Быстрый источник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84360" y="620640"/>
            <a:ext cx="4896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еводы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232000" cy="160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2303280" cy="1546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26920" y="479736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348000" y="4653000"/>
            <a:ext cx="266400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020000" y="2349360"/>
            <a:ext cx="161748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-352440"/>
            <a:ext cx="687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413000"/>
            <a:ext cx="7696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Участвуют во всех процессах организма. Оказывают влияние на рост, развитие, обмен вещест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189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63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735280" cy="1536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639880" cy="1582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0240" cy="1514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547640" y="5084640"/>
            <a:ext cx="3097440" cy="1473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003640" y="5084640"/>
            <a:ext cx="273708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-352440"/>
            <a:ext cx="687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7280" y="549360"/>
            <a:ext cx="640908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вредно для здоровья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1928880" cy="1443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741400" cy="164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047680" cy="2143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0" t="-61117" r="0" b="15916"/>
          <a:stretch/>
        </p:blipFill>
        <p:spPr>
          <a:xfrm>
            <a:off x="6732720" y="1413000"/>
            <a:ext cx="2050920" cy="2222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284720" y="18446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1973520" cy="1788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2627280" y="2708280"/>
            <a:ext cx="166068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уточная потребность человека в белках, жирах, углевод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97000"/>
            <a:ext cx="7696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бята, мера нужна и в еде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б не случиться нежданной беде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ужно питаться в назначенный час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день понемногу, но несколько раз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от закон соблюдайте всегда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станет полезною ваша ед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до еще про калории знать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бы за день их не перебрать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питании тоже важен режи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огда от болезней мы убежим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юшки, конфеты, печенье, торты –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малых количествах детям нуж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омни, ребенок, простой наш совет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0800">
              <a:spcBef>
                <a:spcPts val="601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доровье одно, а второго – то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92360" y="47628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065480" y="1359000"/>
            <a:ext cx="4322880" cy="47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2:38:20Z</dcterms:created>
  <dc:creator>ученик</dc:creator>
  <dc:description/>
  <dc:language>en-US</dc:language>
  <cp:lastModifiedBy>User</cp:lastModifiedBy>
  <dcterms:modified xsi:type="dcterms:W3CDTF">2016-03-15T13:17:58Z</dcterms:modified>
  <cp:revision>23</cp:revision>
  <dc:subject/>
  <dc:title>Слайд 1</dc:title>
</cp:coreProperties>
</file>