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90C-5964-4A23-ABA9-100A37F32FEB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773-6F66-437A-BBDB-A0FF5DD3C981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84F-DB07-4355-87AC-8851CA39E22E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099B-99A0-4B20-90DD-4100512A739C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777-6753-4719-AC0C-17C1CF9F674C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9A29-D177-4010-9587-BEA6706066FB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FCE-4072-4A4F-B56D-BA1555B90F8B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E54-68DA-4075-A736-4F0D016B42E5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886-0FF3-4B9B-9641-BA9CF6286B12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5FE-1F9E-4A10-8FD4-BFDFF9F66F08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2471-55B2-40AF-97B7-57198B668FE5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4CF3-A887-4241-9596-491D4E8A2A3F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300-08E6-4431-AC99-30E8BAA6AABA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02E3-E241-4B2A-BF19-1A0E26F9C436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1E9-8678-423B-8973-C08EBB3C6558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1D8-E98B-48DF-B73A-FA1CE3F54EE7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7F8-5836-407B-81C5-718548230ADC}" type="slidenum">
              <a:rPr b="1" lang="ru-RU" sz="1200" spc="-1" strike="noStrike">
                <a:solidFill>
                  <a:srgbClr val="1f497d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FD78-DDDD-438F-AD5E-8595C401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D4F6-BA17-4E73-9A98-2996CB77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4A75-BF7A-45EE-882E-2B1416B0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018C-A5E5-40C5-949C-03EF6958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D94-A679-4C59-9133-BF5E115A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FEF-84AF-4C43-87DC-F0D6D3D4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68AF-5FC6-43AF-89F2-6A8D4EF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28A4-0712-449F-9F5C-5B7A90C9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E30-3ADA-4FDD-AE69-C08C752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7BA1-680C-411B-9F90-9135E5B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495E-38A1-4AEE-96F0-CE5C51E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F733-D1B7-429E-AAA2-2BEA8A3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4E94-342B-473B-A28F-52A291D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DF0-21E4-4EB9-9F9A-19E5C88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199-D8CC-4823-B629-60F237A9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381-EFC3-4212-9FCE-9E20C71D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503-0A7C-464E-BDD9-EA325CF4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E65D-25F4-4976-B5FD-337F2DA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95B2-FBE0-46D2-A2DF-74DB362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BA98-60B1-4D40-9C5E-F7805E3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F4AE-4963-46F8-AA45-CE3C347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3165-988A-4762-B7E9-411B2C2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0E65-F441-4A9F-BD32-124BF48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326C-3C9E-4B00-B3ED-16DA115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9C8-E542-49A2-9DFB-0E9E44EAE9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3E5-0620-4294-B6B1-15A796D3A8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80880" y="158112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к физ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ffcc"/>
                </a:solidFill>
                <a:latin typeface="Arial"/>
              </a:rPr>
              <a:t>Решение задач по тем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ffcc"/>
                </a:solidFill>
                <a:latin typeface="Arial"/>
              </a:rPr>
              <a:t>«Плавление 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cc"/>
                </a:solidFill>
                <a:latin typeface="Arial"/>
              </a:rPr>
              <a:t>кристаллизация тел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71680" y="65167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 3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70600" y="436896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Урок в 8 а класс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105520" y="480060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дготовила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читель физики и математики первой квалификационной категории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ветлана Генриховна Агалец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00400" y="6248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ургут. 2010г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10" descr="СНЕЖИНКИ"/>
          <p:cNvPicPr/>
          <p:nvPr/>
        </p:nvPicPr>
        <p:blipFill>
          <a:blip r:embed="rId1"/>
          <a:stretch/>
        </p:blipFill>
        <p:spPr>
          <a:xfrm>
            <a:off x="411480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СНЕЖИНКИ"/>
          <p:cNvPicPr/>
          <p:nvPr/>
        </p:nvPicPr>
        <p:blipFill>
          <a:blip r:embed="rId2"/>
          <a:stretch/>
        </p:blipFill>
        <p:spPr>
          <a:xfrm>
            <a:off x="38088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СНЕЖИНКИ"/>
          <p:cNvPicPr/>
          <p:nvPr/>
        </p:nvPicPr>
        <p:blipFill>
          <a:blip r:embed="rId3"/>
          <a:stretch/>
        </p:blipFill>
        <p:spPr>
          <a:xfrm>
            <a:off x="243828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СНЕЖИНКИ"/>
          <p:cNvPicPr/>
          <p:nvPr/>
        </p:nvPicPr>
        <p:blipFill>
          <a:blip r:embed="rId4"/>
          <a:stretch/>
        </p:blipFill>
        <p:spPr>
          <a:xfrm>
            <a:off x="731520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СНЕЖИНКИ"/>
          <p:cNvPicPr/>
          <p:nvPr/>
        </p:nvPicPr>
        <p:blipFill>
          <a:blip r:embed="rId5"/>
          <a:stretch/>
        </p:blipFill>
        <p:spPr>
          <a:xfrm>
            <a:off x="5715000" y="152280"/>
            <a:ext cx="1571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ини- 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ли в алюминиевом сосуде расплавить мед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состоянии находится золото при температуре 1000 °С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ется ли свинцовая проволока в твёрдом состоянии, если её опустить в расплавленный цинк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изменится температура воздуха вблизи реки во время ледоход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изменится температура воздуха во время снегоп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5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Мини- 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ли в алюминиевом сосуде расплавить мед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состоянии находится золото при температуре 1000 °С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ется ли свинцовая проволока в твёрдом состоянии, если её опустить в расплавленный цинк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изменится температура воздуха вблизи реки во время ледоход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изменится температура воздуха во время снегопад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924680" y="1523880"/>
            <a:ext cx="9907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т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48240" y="2590920"/>
            <a:ext cx="129564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вёрдо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477120" y="3567240"/>
            <a:ext cx="11430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т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286000" y="4681440"/>
            <a:ext cx="32767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холодает, понизитс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715000" y="5791320"/>
            <a:ext cx="320040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теплеет, повыситс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ставь пропущенные слова в тексте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Молекулы в кристаллах расположены …, они находятся …., удерживаясь в определенных местах силами молекулярного притяжения. При нагревании тел средняя скорость движения молекул …, а колебания молекул …, силы, их удерживающие, …, вещество переходит из твердого состояния в жидкое, этот процесс называется… 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33520" y="6172200"/>
            <a:ext cx="16002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влением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90920" y="5334120"/>
            <a:ext cx="37335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тепловом движении (колеблются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85800" y="5334120"/>
            <a:ext cx="160020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лабевают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505320" y="6172200"/>
            <a:ext cx="16002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растает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6705720" y="5867280"/>
            <a:ext cx="22096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овится сильне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7086600" y="4800600"/>
            <a:ext cx="20574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трогом порядк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 графике отражены наблюдения за изменением температуры двух кристаллических веществ. Ответьте на вопросы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какие моменты времени началось наблюдение за каждым веществом? Сколько времени оно длилос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ажи температуру плавления каждого вещества. Назови вещества, графики нагревания и плавления которых изображен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пиши, что происходило на каждом из этапов графика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 каждой из ниже перечисленных ситуаций подберите график, который наиболее верно отражает происходящие с веществом процессы: а) медь нагревают и плавят; б) плавящийся стеарин нагревают до 100 °С; в) олово нагревают от 100 до 232 °С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0" t="0" r="20557" b="0"/>
          <a:stretch/>
        </p:blipFill>
        <p:spPr>
          <a:xfrm>
            <a:off x="1447920" y="4343400"/>
            <a:ext cx="6172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§§12-15- основные определения, формулы, подобрать четверостишия в которых упоминаются вещества в твердом или жидком состоянии, природные явления, связанные с ни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685800" y="1447920"/>
            <a:ext cx="8001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1436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разовательная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пособствовать закреплению  понятия явления плавления и отвердевания тел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вивающая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одействовать умению представлять графически процессы плавления и отвердевания твердых тел, анализировать и делать вы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спитательная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оспитывать любознательность, внимательность, усидчив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ориентировать учащихся на использование теоретических знаний в жизни и практической деятель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9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 урок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СНЕЖИНКИ"/>
          <p:cNvPicPr/>
          <p:nvPr/>
        </p:nvPicPr>
        <p:blipFill>
          <a:blip r:embed="rId1"/>
          <a:stretch/>
        </p:blipFill>
        <p:spPr>
          <a:xfrm>
            <a:off x="3962520" y="228600"/>
            <a:ext cx="1571400" cy="192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СНЕЖИНКИ"/>
          <p:cNvPicPr/>
          <p:nvPr/>
        </p:nvPicPr>
        <p:blipFill>
          <a:blip r:embed="rId2"/>
          <a:stretch/>
        </p:blipFill>
        <p:spPr>
          <a:xfrm>
            <a:off x="7238880" y="22860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СНЕЖИНКИ"/>
          <p:cNvPicPr/>
          <p:nvPr/>
        </p:nvPicPr>
        <p:blipFill>
          <a:blip r:embed="rId3"/>
          <a:stretch/>
        </p:blipFill>
        <p:spPr>
          <a:xfrm>
            <a:off x="2209680" y="22860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СНЕЖИНКИ"/>
          <p:cNvPicPr/>
          <p:nvPr/>
        </p:nvPicPr>
        <p:blipFill>
          <a:blip r:embed="rId4"/>
          <a:stretch/>
        </p:blipFill>
        <p:spPr>
          <a:xfrm>
            <a:off x="441360" y="12852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СНЕЖИНКИ"/>
          <p:cNvPicPr/>
          <p:nvPr/>
        </p:nvPicPr>
        <p:blipFill>
          <a:blip r:embed="rId5"/>
          <a:stretch/>
        </p:blipFill>
        <p:spPr>
          <a:xfrm>
            <a:off x="5486400" y="380880"/>
            <a:ext cx="1571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мы на уроке должн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епить понятие плавления, кристаллиз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ся читать и строить графики данных физических  проце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олжать процесс решения зада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12640" y="19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отивация урока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СНЕЖИНКИ"/>
          <p:cNvPicPr/>
          <p:nvPr/>
        </p:nvPicPr>
        <p:blipFill>
          <a:blip r:embed="rId1"/>
          <a:stretch/>
        </p:blipFill>
        <p:spPr>
          <a:xfrm>
            <a:off x="3944880" y="33480"/>
            <a:ext cx="1571760" cy="1923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СНЕЖИНКИ"/>
          <p:cNvPicPr/>
          <p:nvPr/>
        </p:nvPicPr>
        <p:blipFill>
          <a:blip r:embed="rId2"/>
          <a:stretch/>
        </p:blipFill>
        <p:spPr>
          <a:xfrm>
            <a:off x="2300400" y="33480"/>
            <a:ext cx="1571400" cy="192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СНЕЖИНКИ"/>
          <p:cNvPicPr/>
          <p:nvPr/>
        </p:nvPicPr>
        <p:blipFill>
          <a:blip r:embed="rId3"/>
          <a:stretch/>
        </p:blipFill>
        <p:spPr>
          <a:xfrm>
            <a:off x="5410080" y="3636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СНЕЖИНКИ"/>
          <p:cNvPicPr/>
          <p:nvPr/>
        </p:nvPicPr>
        <p:blipFill>
          <a:blip r:embed="rId4"/>
          <a:stretch/>
        </p:blipFill>
        <p:spPr>
          <a:xfrm>
            <a:off x="7170840" y="33480"/>
            <a:ext cx="157140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СНЕЖИНКИ"/>
          <p:cNvPicPr/>
          <p:nvPr/>
        </p:nvPicPr>
        <p:blipFill>
          <a:blip r:embed="rId5"/>
          <a:stretch/>
        </p:blipFill>
        <p:spPr>
          <a:xfrm>
            <a:off x="304920" y="33480"/>
            <a:ext cx="15714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из потребления топливно-энергетических ресурсов показал, что за последние 5 лет произошло существенное изменение структуры тепловых и электрических нагрузок. Наиболее значительный прирост потребления электроэнергии произошел в бытовом секторе – 18 % (в сравнении: в промышленности -11%,в нежилом фонде – 10,5%). Это привело к росту пиковых нагрузок и необходимости ограничения потребителей в электроэнергии при сильных похолоданиях. И тогда понятно, почему президент нашей страны выдвинул обращение к правительству и населению о том, что надо беречь тепло, а значит вырабатываемую электроэнергию. На отопление жилых домов тратится 25% годовых энергоресурсов. Ясно, что надо повышать эксплуатационные характеристики здан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смотрим домашнее задание-презентацию «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Дом 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моей мечт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иц-опрос  (с взаимопроверкой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 каких агрегатных состояниях может находиться одно и тоже вещество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только в твердом  б)  только в жидком   в)  только в газообразном    г) только в жидком и газообразном    д) в жидком, твердом и газообразн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В процессе плавления энергия расходуется на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 увеличение температуры;  б)  разрушение кристаллической решетки;  в)  выделение количества теплоты нагреваемым телом;  г) увеличение кинетической энергии те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 Удельная теплота плавления обозначается буквой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 Q;    б)  c;     в)  q;     г)  m ;  д)  </a:t>
            </a:r>
            <a:r>
              <a:rPr b="1" lang="el-GR" sz="1800" spc="-1" strike="noStrike">
                <a:solidFill>
                  <a:srgbClr val="ffffff"/>
                </a:solidFill>
                <a:latin typeface="Garamond"/>
              </a:rPr>
              <a:t>λ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В алюминиевом стакане (tпл= 660 °С) можно расплавить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цинк (tпл= 420 °С);   б)  медь (tпл= 1085 °С);   в)  олово (tпл= 232 °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)  золото (tпл= 1064 °С);  д)  чугун (tпл= 1200 °С);  е)  железо (tпл= 1535 °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43040" y="83772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акому процессу соответствует участок ВС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 нагреванию твердого тел;   б)  нагреванию жидкости;  в)  плавлению твердого тела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)  кристаллизации;   д)  охлаждению твердого тел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Зимой озеро замерзает. При замерзании воды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 внутренняя энергия повышается;   б)  образуется кристаллическая решетка льда 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)  температура замерзающей воды понижается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. В теплое помещение внесли льдинк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)  при таянии льдинка отдает тепло;    б) при таянии нарушается порядок в расположении молекул;  в)  при таянии молекулы изменяются, превращаясь в молекулы во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1621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вер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а,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цени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0 ошибок - «5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- 2 ошибки – «4 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 ошибки – «3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ее 3 ошибок – «2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Работа у дос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Какое количество теплоты необходимо для превращения кусочка льда массой 100 г, взятого при температуре  - 2 °С, в воду при температуре 0 °С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Найдите массу парафиновой свечи, если при ее отвердевании выделяется 30 кДж энерг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Для плавления медного слитка массой 2 кг потребовалось 420 кДж энергии. Определите по этим данным удельную теплоту плавления мед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Работа у дос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Какое количество теплоты необходимо для превращения кусочка льда массой 100 г, взятого при температуре  - 2 °С, в воду при температуре 0 °С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Найдите массу парафиновой свечи, если при ее отвердевании выделяется 30 кДж энерг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Для плавления медного слитка массой 2 кг потребовалось 420 кДж энергии. Определите по этим данным удельную теплоту плавления мед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752480" y="2743200"/>
            <a:ext cx="14479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34420 Дж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543800" y="4191120"/>
            <a:ext cx="12193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aramond"/>
              </a:rPr>
              <a:t>200 г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781680" y="5791320"/>
            <a:ext cx="175284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aramond"/>
              </a:rPr>
              <a:t>210000 Дж/кг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</cp:lastModifiedBy>
  <dcterms:modified xsi:type="dcterms:W3CDTF">2020-08-13T19:42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