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55AE-3C44-4827-B1A6-2B4EF065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F90F-79C2-4BE9-A4E0-FD9EABF3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9D58-7D19-4F33-A3D3-F74C3309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D4CC-B397-42A4-BE2E-1FE5A99D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D6EC-C37F-42DD-A36B-1EFC0D68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7939-08BA-43BF-B4F1-D1AB96FD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EA9C-B18E-40F8-89C5-F83A2712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9FD8-2E9C-45CC-AF6B-062A5EAA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9340-43AE-4AA8-AFCD-47E38B6B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0D0C-82DD-43E0-BD3C-B8D4A79B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8FCA-F367-47A8-9874-B870C025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D90-69FA-483F-91FA-00E6BA6F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3C3D-05E2-4463-9429-763A109C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9EF9-158E-4700-9D6E-BCB417C6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1E08-2E6C-4EA4-99EC-D3281F4C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9246-AC5A-4875-A05A-20DABD55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040E-6990-4DE4-BB86-7F2E973B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BBAF24-6D6B-4989-9532-32F7BB3B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1F811-EAA2-47BE-A116-2BDBC29B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64BD16-C12C-40D9-A37C-87C92109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7DA6A-BCF9-4FA2-AC8E-0D750DD8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DD0FD-6842-4677-A39B-2B5F22B8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8DCA-36A5-491C-9AE3-7AA52B6E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5F6329-BFDA-496E-85A0-E1F1E305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00C03-CAE5-4B59-939F-33A3872F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2554E-FB89-48C3-9DD3-FBBF4B0F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6C2A3-AF1C-4EEC-A180-CF2E12FF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B44DA-C1A6-4046-AA59-D87C94A4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5FA9D-2234-4F28-8CBE-2C72CCFD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F60C4-0D8B-4A84-8482-87AE68FE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5A3A7-985B-4BE9-AC54-A97DC610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DB116-45FD-4087-8AF8-077D2CA4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D9C0C-2F7A-4CE5-914C-E07D9093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0874-23A0-4653-980F-E61B92AB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82441-6325-4655-9983-96AA4E6B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72F05-FE96-43E7-ADD6-0926D512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5B4B2-41EE-4317-AE96-673AE694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0EAA6-4C15-4810-A3EC-D9C09EAE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9F41B-DF89-4208-BF03-6595B73D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1DC2B-F449-4C0F-835D-29905A4E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F1247-18E9-4961-AC4E-232F0759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87CA0-BA21-41BB-BC43-B0591C74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C97C6-0A89-486C-8876-A58C8E3C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11E-CA1D-469A-A321-75ECF08F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F0A5-CB9D-403E-A641-DDA0CB34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C68-BEFF-48EB-B1BE-D0F5E927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CBB-2DBD-4D59-B6CB-6B0665A1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796-9357-4340-898D-100CA439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7087-9975-494F-A9FC-DACCE5FEE08A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C63F-E976-4F43-A922-540B32B76BDF}" type="slidenum">
              <a:rPr b="0" lang="ru-RU" sz="1200" spc="-1" strike="noStrike">
                <a:solidFill>
                  <a:srgbClr val="94c6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76ED-6048-4848-89D9-E5F365C76AB5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348C-85FE-478C-ADF8-79C78744ACA7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0" y="2356920"/>
            <a:ext cx="3857760" cy="335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4c600"/>
                </a:solidFill>
                <a:latin typeface="Century Gothic"/>
              </a:rPr>
              <a:t>А.Н.Плещеев</a:t>
            </a:r>
            <a:br>
              <a:rPr sz="3200"/>
            </a:br>
            <a:r>
              <a:rPr b="1" lang="ru-RU" sz="3200" spc="-1" strike="noStrike">
                <a:solidFill>
                  <a:srgbClr val="94c600"/>
                </a:solidFill>
                <a:latin typeface="Century Gothic"/>
              </a:rPr>
              <a:t>«Весна»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1800" spc="-1" strike="noStrike">
                <a:solidFill>
                  <a:srgbClr val="94c600"/>
                </a:solidFill>
                <a:latin typeface="Arial Black"/>
              </a:rPr>
              <a:t>Выполнила:</a:t>
            </a:r>
            <a:r>
              <a:rPr b="1" lang="ru-RU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br>
              <a:rPr sz="3200"/>
            </a:br>
            <a:r>
              <a:rPr b="1" lang="ru-RU" sz="1800" spc="-1" strike="noStrike">
                <a:solidFill>
                  <a:srgbClr val="94c600"/>
                </a:solidFill>
                <a:latin typeface="Arial Black"/>
              </a:rPr>
              <a:t>Иванькова О. Ю.</a:t>
            </a:r>
            <a:endParaRPr b="0" lang="en-US" sz="18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Рисунок 1" descr="Засвищут скоро соловьи 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Рисунок 1" descr="И лес оденется листвою 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Рисунок 1" descr="Чиста небесная лазурь 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Рисунок 1" descr="Теплей и ярче солнце стало 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Рисунок 1" descr="Пора метелей злых и бурь 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1" descr="Опять надолго миновала… 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1" descr="Вставьте пропущенные олицетворения «Уж тает снег, …… ручьи». плывут бегут ст..."/>
          <p:cNvPicPr/>
          <p:nvPr/>
        </p:nvPicPr>
        <p:blipFill>
          <a:blip r:embed="rId1"/>
          <a:stretch/>
        </p:blipFill>
        <p:spPr>
          <a:xfrm>
            <a:off x="395280" y="281160"/>
            <a:ext cx="830412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Рисунок 1" descr="«Засвищут скоро соловьи И лес ……. листвою». покроется укутается оденется нар..."/>
          <p:cNvPicPr/>
          <p:nvPr/>
        </p:nvPicPr>
        <p:blipFill>
          <a:blip r:embed="rId1"/>
          <a:stretch/>
        </p:blipFill>
        <p:spPr>
          <a:xfrm>
            <a:off x="406440" y="333360"/>
            <a:ext cx="834228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Рисунок 1" descr=" «Чиста небесная лазурь, Теплей и ярче солнце…… »? сошло светит вышло стало 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1" descr="Словарь настроения Радость Восторг Восхищение Интерес Нежность Волнение Удивл...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Рисунок 2" descr="http://uslide.ru/images/12/18213/960/img5.jpg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1" descr="http://ds02.infourok.ru/uploads/ex/12dd/0001d414-6ea2c8ee/2/img21.jpg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Рисунок 1" descr="Отгадайте загадку Рыхлый снег На солнце тает, Ветерок в ветвях играет, Звонче...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Рисунок 1" descr="http://s.picture-russia.ru/wpic/l/d/1/d1871ab2cd3bd8f9f9330c8475068467.jpg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6191280"/>
          </a:xfrm>
          <a:prstGeom prst="rect">
            <a:avLst/>
          </a:prstGeom>
          <a:ln w="0">
            <a:noFill/>
          </a:ln>
        </p:spPr>
      </p:pic>
      <p:sp>
        <p:nvSpPr>
          <p:cNvPr id="339" name="TextBox 2"/>
          <p:cNvSpPr/>
          <p:nvPr/>
        </p:nvSpPr>
        <p:spPr>
          <a:xfrm>
            <a:off x="5879160" y="587700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И. Левитан «Мар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Рисунок 1" descr="Прочитай по слогам, а затем целым словом По – ве – я - ло – повеяло за – сви ...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Рисунок 1" descr="Словарная работа лазурь миновала засвищут прощебечь повеяло сени светло-синий...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Рисунок 1" descr="Уж тает снег 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Рисунок 1" descr="Бегут ручьи 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Рисунок 1" descr="В окно повеяло весною 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9T15:17:25Z</dcterms:created>
  <dc:creator>ФГОС</dc:creator>
  <dc:description/>
  <dc:language>en-US</dc:language>
  <cp:lastModifiedBy>1</cp:lastModifiedBy>
  <dcterms:modified xsi:type="dcterms:W3CDTF">2020-07-29T10:42:46Z</dcterms:modified>
  <cp:revision>6</cp:revision>
  <dc:subject/>
  <dc:title>А.Н.Плещеев «Весна».</dc:title>
</cp:coreProperties>
</file>