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930-9E61-42EE-B129-E49089BB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3BD-C547-43EB-BD1D-4EA0FF08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488-187E-47D9-8333-93E60C85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042-79B3-455A-BAA1-BBEAAD67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93D4-08E6-45BF-82A8-1540762C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A34B-C49B-47D8-95BE-0E8584B6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0F6D-30E4-4621-9218-4A0B9D3C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6B9D-C24D-4643-AB32-3F859A70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96ED-9000-459D-9E28-828814F6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8168-8666-43D4-98BF-FADA4D4A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624E-35F4-420C-8BE6-A679C074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8E7-8C84-4B1D-8A66-977C4134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06E1-C1F1-494D-9C7D-47EC64D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03E9-B774-4CE9-A62E-05F0FDAB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687A-4579-465C-952C-6C2ECAD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C996-8D4E-44D5-A6E5-81D62D0E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7509-BB6A-4E6E-B666-9AFA1810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596DE-33DB-4651-B7C6-B8003E91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0950-1015-4E50-B255-93778E7F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EFA4-1B0A-4011-8856-BA7D9441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AD2D-D77E-4005-A2CD-2BF3D236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95DC-C73A-434B-B0C8-943794FE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00C-2533-41AE-8D46-298D97D4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3955D-F524-4719-B837-A513640E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49AF-AF83-4485-A00A-8DF59491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4407-1E68-456C-8DAE-17AB70FC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9635-64D0-47EB-B638-9F454A9D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DA60-8049-4B7A-A3F6-4472AD95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15434-81AF-4320-ACC1-7A501FF4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3D8A-1FAE-482C-AFCA-2F0D712A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20CF-1D9A-46C3-925D-7B52DAC4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0FD5-01C2-4532-818A-D530C602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E84C-C9CF-4AC9-A4A5-B3269DCE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4F8-55D4-415D-8007-369DB39C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3406B-D554-4AC0-8066-54626DFE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8292-23E8-4343-8E2B-1B38962B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A80D-D48D-4B82-A773-4AE9B454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31D4-B535-432B-9333-3FE0EC64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9484-93E9-4DAA-87E6-D6EDF27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FF33-5473-46DD-AA58-20C67AB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1CD62-F760-48CE-99AB-9CEC541F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A554D-23A2-4320-9086-E93D814F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41EA-0620-466C-A60A-CBBC29EA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DD334-AE73-4593-BE8E-07CA458B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024-0CAB-4EED-BAFF-9AEB9B30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626F2-C8D0-48CF-9645-5D5FE400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8E81B-109B-4E9C-9232-0E7BFFB2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1093D-C779-40C0-BABD-609A064E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0A3CF-3F43-42A0-8C71-626F3DF9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73175-77F5-4E4A-977F-99A4D42A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F779F-AA40-4981-B29A-B32AA6FA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4AB8-92B0-40A4-A588-DE7760E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8EE3-9EF0-4494-BF7E-83CF93C1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3B2C8-B866-4787-8F41-E234C3AB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1A9F9-BB1C-4647-844A-B98B57A0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C97-E643-434E-BB9B-04FD99B3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0A4B2-CD0D-46AE-821C-95D7F7EE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569AE-3987-499B-B010-A35D5E0C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83974-BA42-470E-9FB3-E14114F9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A28B-278A-48BC-86C8-C65BD60E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34360-EA6C-4B65-9639-00D77573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572DE-3246-47C6-8835-A83D7871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AE44C-1776-448D-A342-83C9D4C8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19848-FE29-4B58-8B4F-DC99ECE3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9BFA-D884-483B-AF45-0E354ADF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E3411-13B5-4B45-8CE7-EE652905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B9A-5631-4104-90C9-94ADF546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EC086-80C2-4ED9-B803-50EA5587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3B148-1BD8-47F7-BACD-85B41477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89E83-753F-464E-9C4F-0E49729A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EA1FB-6BED-47B6-9256-89A4F21A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16FA1-7B43-4357-80FC-2F7C0AD1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C6E90-CE67-447F-8D5F-BEDA90F4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D7961-E88D-46A9-B309-1C376AD8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9D1E3-6FC2-4BC6-A556-A2D2B6E5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03CDE-A266-4881-AB9B-1FE77EE7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67B0F-95D7-4DE4-A5F5-2683008F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E71-0808-4C36-8476-A0BA0118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D465C-B4BD-4412-9301-4B50DE63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82511-24D1-4420-B815-BCC91E86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40490-7143-4BF1-AB8F-7E8734B0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B7FDB-8BB9-47AE-919F-708C8CF7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CAC92-FADF-4C48-9FBF-1596C02A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96D-CB88-4597-8B47-E8CAC706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49.xml"/><Relationship Id="rId20" Type="http://schemas.openxmlformats.org/officeDocument/2006/relationships/slideLayout" Target="../slideLayouts/slideLayout50.xml"/><Relationship Id="rId21" Type="http://schemas.openxmlformats.org/officeDocument/2006/relationships/slideLayout" Target="../slideLayouts/slideLayout51.xml"/><Relationship Id="rId22" Type="http://schemas.openxmlformats.org/officeDocument/2006/relationships/slideLayout" Target="../slideLayouts/slideLayout52.xml"/><Relationship Id="rId23" Type="http://schemas.openxmlformats.org/officeDocument/2006/relationships/slideLayout" Target="../slideLayouts/slideLayout53.xml"/><Relationship Id="rId24" Type="http://schemas.openxmlformats.org/officeDocument/2006/relationships/slideLayout" Target="../slideLayouts/slideLayout54.xml"/><Relationship Id="rId25" Type="http://schemas.openxmlformats.org/officeDocument/2006/relationships/slideLayout" Target="../slideLayouts/slideLayout55.xml"/><Relationship Id="rId26" Type="http://schemas.openxmlformats.org/officeDocument/2006/relationships/slideLayout" Target="../slideLayouts/slideLayout56.xml"/><Relationship Id="rId27" Type="http://schemas.openxmlformats.org/officeDocument/2006/relationships/slideLayout" Target="../slideLayouts/slideLayout57.xml"/><Relationship Id="rId28" Type="http://schemas.openxmlformats.org/officeDocument/2006/relationships/slideLayout" Target="../slideLayouts/slideLayout58.xml"/><Relationship Id="rId29" Type="http://schemas.openxmlformats.org/officeDocument/2006/relationships/slideLayout" Target="../slideLayouts/slideLayout59.xml"/><Relationship Id="rId3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61.xml"/><Relationship Id="rId20" Type="http://schemas.openxmlformats.org/officeDocument/2006/relationships/slideLayout" Target="../slideLayouts/slideLayout62.xml"/><Relationship Id="rId21" Type="http://schemas.openxmlformats.org/officeDocument/2006/relationships/slideLayout" Target="../slideLayouts/slideLayout63.xml"/><Relationship Id="rId22" Type="http://schemas.openxmlformats.org/officeDocument/2006/relationships/slideLayout" Target="../slideLayouts/slideLayout64.xml"/><Relationship Id="rId23" Type="http://schemas.openxmlformats.org/officeDocument/2006/relationships/slideLayout" Target="../slideLayouts/slideLayout65.xml"/><Relationship Id="rId24" Type="http://schemas.openxmlformats.org/officeDocument/2006/relationships/slideLayout" Target="../slideLayouts/slideLayout66.xml"/><Relationship Id="rId25" Type="http://schemas.openxmlformats.org/officeDocument/2006/relationships/slideLayout" Target="../slideLayouts/slideLayout67.xml"/><Relationship Id="rId26" Type="http://schemas.openxmlformats.org/officeDocument/2006/relationships/slideLayout" Target="../slideLayouts/slideLayout68.xml"/><Relationship Id="rId27" Type="http://schemas.openxmlformats.org/officeDocument/2006/relationships/slideLayout" Target="../slideLayouts/slideLayout69.xml"/><Relationship Id="rId28" Type="http://schemas.openxmlformats.org/officeDocument/2006/relationships/slideLayout" Target="../slideLayouts/slideLayout70.xml"/><Relationship Id="rId29" Type="http://schemas.openxmlformats.org/officeDocument/2006/relationships/slideLayout" Target="../slideLayouts/slideLayout71.xml"/><Relationship Id="rId3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73.xml"/><Relationship Id="rId20" Type="http://schemas.openxmlformats.org/officeDocument/2006/relationships/slideLayout" Target="../slideLayouts/slideLayout74.xml"/><Relationship Id="rId21" Type="http://schemas.openxmlformats.org/officeDocument/2006/relationships/slideLayout" Target="../slideLayouts/slideLayout75.xml"/><Relationship Id="rId22" Type="http://schemas.openxmlformats.org/officeDocument/2006/relationships/slideLayout" Target="../slideLayouts/slideLayout76.xml"/><Relationship Id="rId23" Type="http://schemas.openxmlformats.org/officeDocument/2006/relationships/slideLayout" Target="../slideLayouts/slideLayout77.xml"/><Relationship Id="rId24" Type="http://schemas.openxmlformats.org/officeDocument/2006/relationships/slideLayout" Target="../slideLayouts/slideLayout78.xml"/><Relationship Id="rId25" Type="http://schemas.openxmlformats.org/officeDocument/2006/relationships/slideLayout" Target="../slideLayouts/slideLayout79.xml"/><Relationship Id="rId26" Type="http://schemas.openxmlformats.org/officeDocument/2006/relationships/slideLayout" Target="../slideLayouts/slideLayout80.xml"/><Relationship Id="rId27" Type="http://schemas.openxmlformats.org/officeDocument/2006/relationships/slideLayout" Target="../slideLayouts/slideLayout81.xml"/><Relationship Id="rId28" Type="http://schemas.openxmlformats.org/officeDocument/2006/relationships/slideLayout" Target="../slideLayouts/slideLayout82.xml"/><Relationship Id="rId29" Type="http://schemas.openxmlformats.org/officeDocument/2006/relationships/slideLayout" Target="../slideLayouts/slideLayout83.xml"/><Relationship Id="rId30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090C-59CB-4D11-B976-7879CBB70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4AAE-2261-43BF-8B51-24F0591ED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6F7A-65FE-4073-A9EE-66DB822F1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2C5E-DCFB-48B2-8334-C02403000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87EE-CD95-4C37-ADA3-99E357718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9"/>
    <p:sldLayoutId id="2147483702" r:id="rId20"/>
    <p:sldLayoutId id="2147483703" r:id="rId21"/>
    <p:sldLayoutId id="2147483704" r:id="rId22"/>
    <p:sldLayoutId id="2147483705" r:id="rId23"/>
    <p:sldLayoutId id="2147483706" r:id="rId24"/>
    <p:sldLayoutId id="2147483707" r:id="rId25"/>
    <p:sldLayoutId id="2147483708" r:id="rId26"/>
    <p:sldLayoutId id="2147483709" r:id="rId27"/>
    <p:sldLayoutId id="2147483710" r:id="rId28"/>
    <p:sldLayoutId id="2147483711" r:id="rId29"/>
    <p:sldLayoutId id="2147483712" r:id="rId3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82DC-CD0B-4D05-AD8B-64871FD705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9"/>
    <p:sldLayoutId id="2147483715" r:id="rId20"/>
    <p:sldLayoutId id="2147483716" r:id="rId21"/>
    <p:sldLayoutId id="2147483717" r:id="rId22"/>
    <p:sldLayoutId id="2147483718" r:id="rId23"/>
    <p:sldLayoutId id="2147483719" r:id="rId24"/>
    <p:sldLayoutId id="2147483720" r:id="rId25"/>
    <p:sldLayoutId id="2147483721" r:id="rId26"/>
    <p:sldLayoutId id="2147483722" r:id="rId27"/>
    <p:sldLayoutId id="2147483723" r:id="rId28"/>
    <p:sldLayoutId id="2147483724" r:id="rId29"/>
    <p:sldLayoutId id="2147483725" r:id="rId3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A4BD-74B7-47B3-96D7-E9EB256660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9"/>
    <p:sldLayoutId id="2147483728" r:id="rId20"/>
    <p:sldLayoutId id="2147483729" r:id="rId21"/>
    <p:sldLayoutId id="2147483730" r:id="rId22"/>
    <p:sldLayoutId id="2147483731" r:id="rId23"/>
    <p:sldLayoutId id="2147483732" r:id="rId24"/>
    <p:sldLayoutId id="2147483733" r:id="rId25"/>
    <p:sldLayoutId id="2147483734" r:id="rId26"/>
    <p:sldLayoutId id="2147483735" r:id="rId27"/>
    <p:sldLayoutId id="2147483736" r:id="rId28"/>
    <p:sldLayoutId id="2147483737" r:id="rId29"/>
    <p:sldLayoutId id="2147483738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1600200" y="533520"/>
            <a:ext cx="57913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ff"/>
                </a:solidFill>
                <a:latin typeface="Calibri"/>
              </a:rPr>
              <a:t>Приёмы       письменных вычислен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1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350" name="WordArt 4" descr=""/>
          <p:cNvPicPr/>
          <p:nvPr/>
        </p:nvPicPr>
        <p:blipFill>
          <a:blip r:embed="rId3"/>
          <a:stretch/>
        </p:blipFill>
        <p:spPr>
          <a:xfrm>
            <a:off x="689040" y="225360"/>
            <a:ext cx="7845480" cy="719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6"/>
          <p:cNvSpPr/>
          <p:nvPr/>
        </p:nvSpPr>
        <p:spPr>
          <a:xfrm>
            <a:off x="3581280" y="18288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457200" y="1523880"/>
            <a:ext cx="73915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930-30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340+50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340+6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980-8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270-5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720-4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360-7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180-9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750+50=   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640-8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505320" y="2819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2" descr="6236068"/>
          <p:cNvPicPr/>
          <p:nvPr/>
        </p:nvPicPr>
        <p:blipFill>
          <a:blip r:embed="rId4"/>
          <a:stretch/>
        </p:blipFill>
        <p:spPr>
          <a:xfrm>
            <a:off x="7620120" y="2286000"/>
            <a:ext cx="1143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ff"/>
                </a:solidFill>
                <a:latin typeface="Calibri"/>
              </a:rPr>
              <a:t>Тема урока</a:t>
            </a:r>
            <a:br>
              <a:rPr sz="4800"/>
            </a:b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Приёмы письменных вычислений 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Calibri"/>
              </a:rPr>
              <a:t>Алгоритм  сложения  трёхзначных чис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Пишу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Складываю  единицы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Складываю десятки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Складываю сотни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Читаю отв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крепление знаний</a:t>
            </a:r>
            <a:br>
              <a:rPr sz="3600"/>
            </a:b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№2 на стр.70,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№2 на стр.7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ра решать задач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alibri"/>
              </a:rPr>
              <a:t>№ </a:t>
            </a:r>
            <a:r>
              <a:rPr b="1" lang="ru-RU" sz="5400" spc="-1" strike="noStrike">
                <a:solidFill>
                  <a:srgbClr val="990000"/>
                </a:solidFill>
                <a:latin typeface="Calibri"/>
              </a:rPr>
              <a:t>3,4 на стр. 7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Calibri"/>
              </a:rPr>
              <a:t>Подведём итог уро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alibri"/>
              </a:rPr>
              <a:t>Что было сложным на урок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Что  у тебя получилось лучше все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Какое задание было самым интересны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Не забудь записать 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№</a:t>
            </a: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4 на стр. 7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№</a:t>
            </a: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5 на стр. 7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Calibri"/>
              </a:rPr>
              <a:t>Всё ли тебе понятно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Calibri"/>
              </a:rPr>
              <a:t>Если  нет, задай вопрос учителю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15880" y="1143000"/>
            <a:ext cx="3446640" cy="495288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8"/>
          <p:cNvSpPr/>
          <p:nvPr/>
        </p:nvSpPr>
        <p:spPr>
          <a:xfrm>
            <a:off x="3429000" y="1523880"/>
            <a:ext cx="5686560" cy="3438720"/>
          </a:xfrm>
          <a:prstGeom prst="cloudCallout">
            <a:avLst>
              <a:gd name="adj1" fmla="val -54296"/>
              <a:gd name="adj2" fmla="val 24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alibri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НС</dc:creator>
  <dc:description/>
  <dc:language>en-US</dc:language>
  <cp:lastModifiedBy>ДНС</cp:lastModifiedBy>
  <dcterms:modified xsi:type="dcterms:W3CDTF">2020-04-12T13:02:0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