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9E4-D6ED-42B2-B191-599CBBD5C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чтения во 2 классе Н. Носов «Заплатка» учитель Хлестунова Е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2112-B7F0-4122-9D47-FBA157BE1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FA8-DF5C-449F-BBC6-BEEB9450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923-0AA2-4AE4-9B3A-E5596C28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5A4-1EC8-41F2-98F9-6D2C7428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741-9AC2-4A81-9CD4-84460104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DC9-F58E-49E7-BB67-B1A92674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445-36BF-46FE-88C7-C7B732B4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E80-A7B1-4A48-84CE-57A0066D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F06-7BA2-4229-AD75-FB7CA94A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36A-3F0E-4C39-96E9-03CE084A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6F4-C6E6-45AD-9125-0D78D68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AD3-4D16-4747-B2C7-BDACC84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153-4C3D-4D0E-8013-F4835A66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78AC-E7DD-4179-8F17-FC1942BAF1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Не скучай в школ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еликая радость - работ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213840"/>
            <a:ext cx="8229600" cy="5851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Н.Н. НОСОВ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ЗАПЛАТКА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2928960" y="2571840"/>
            <a:ext cx="3986280" cy="1342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настраиваемая 3"/>
          <p:cNvSpPr/>
          <p:nvPr/>
        </p:nvSpPr>
        <p:spPr>
          <a:xfrm>
            <a:off x="2857680" y="1285920"/>
            <a:ext cx="4071600" cy="3357360"/>
          </a:xfrm>
          <a:custGeom>
            <a:avLst/>
            <a:gdLst>
              <a:gd name="textAreaLeft" fmla="*/ 217440 w 4071600"/>
              <a:gd name="textAreaRight" fmla="*/ 3854160 w 4071600"/>
              <a:gd name="textAreaTop" fmla="*/ 217440 h 3357360"/>
              <a:gd name="textAreaBottom" fmla="*/ 3139920 h 3357360"/>
            </a:gdLst>
            <a:ahLst/>
            <a:rect l="textAreaLeft" t="textAreaTop" r="textAreaRight" b="textAreaBottom"/>
            <a:pathLst>
              <a:path w="26195" h="21600">
                <a:moveTo>
                  <a:pt x="0" y="0"/>
                </a:moveTo>
                <a:lnTo>
                  <a:pt x="26195" y="0"/>
                </a:lnTo>
                <a:lnTo>
                  <a:pt x="26195" y="21600"/>
                </a:lnTo>
                <a:lnTo>
                  <a:pt x="0" y="21600"/>
                </a:lnTo>
                <a:close/>
              </a:path>
              <a:path fill="lightenLess" w="26195" h="21600">
                <a:moveTo>
                  <a:pt x="0" y="0"/>
                </a:moveTo>
                <a:lnTo>
                  <a:pt x="26195" y="0"/>
                </a:lnTo>
                <a:lnTo>
                  <a:pt x="24795" y="1400"/>
                </a:lnTo>
                <a:lnTo>
                  <a:pt x="1400" y="1400"/>
                </a:lnTo>
                <a:close/>
              </a:path>
              <a:path fill="darken" w="26195" h="21600">
                <a:moveTo>
                  <a:pt x="26195" y="0"/>
                </a:moveTo>
                <a:lnTo>
                  <a:pt x="26195" y="21600"/>
                </a:lnTo>
                <a:lnTo>
                  <a:pt x="24795" y="20200"/>
                </a:lnTo>
                <a:lnTo>
                  <a:pt x="24795" y="1400"/>
                </a:lnTo>
                <a:close/>
              </a:path>
              <a:path fill="darkenLess" w="26195" h="21600">
                <a:moveTo>
                  <a:pt x="26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95" y="20200"/>
                </a:lnTo>
                <a:close/>
              </a:path>
              <a:path fill="lighten" w="26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штаны защитного цвета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лоскуток материи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любо взглянуть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чуть не заплакал от досады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alibri"/>
              </a:rPr>
              <a:t>План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8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ambria"/>
              </a:rPr>
              <a:t>Как Бобка порвал свои солдатские штаны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alibri"/>
              </a:rPr>
              <a:t>План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8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ambria"/>
              </a:rPr>
              <a:t>Как Бобка порвал свои солдатские штаны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1199"/>
              </a:spcBef>
              <a:buClr>
                <a:srgbClr val="8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1199"/>
              </a:spcBef>
              <a:buClr>
                <a:srgbClr val="8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ambria"/>
              </a:rPr>
              <a:t>Неаккуратная работа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alibri"/>
              </a:rPr>
              <a:t>План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8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ambria"/>
              </a:rPr>
              <a:t>Как Бобка порвал свои солдатские штаны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1199"/>
              </a:spcBef>
              <a:buClr>
                <a:srgbClr val="8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1199"/>
              </a:spcBef>
              <a:buClr>
                <a:srgbClr val="8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ambria"/>
              </a:rPr>
              <a:t>Неаккуратная работа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ambria"/>
              </a:rPr>
              <a:t>3. Где труд, там и радость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429840" cy="6858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Упорный          Находчивый               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Веселый             Трудолюбивый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РУД УКРАШАЕТ ЧЕЛОВЕКА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ТОБЫ РЫБКУ СЪЕСТЬ, НАДО В ВОДУ ЛЕЗТЬ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2920" y="500040"/>
          <a:ext cx="8715240" cy="5786640"/>
        </p:xfrm>
        <a:graphic>
          <a:graphicData uri="http://schemas.openxmlformats.org/drawingml/2006/table">
            <a:tbl>
              <a:tblPr/>
              <a:tblGrid>
                <a:gridCol w="414360"/>
                <a:gridCol w="903240"/>
                <a:gridCol w="944640"/>
                <a:gridCol w="985680"/>
                <a:gridCol w="1036800"/>
                <a:gridCol w="1027080"/>
                <a:gridCol w="885600"/>
                <a:gridCol w="941400"/>
                <a:gridCol w="912960"/>
                <a:gridCol w="663480"/>
              </a:tblGrid>
              <a:tr h="241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1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334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205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20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35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Calibri"/>
              </a:rPr>
              <a:t>«Все герои Н.Н. Носова «как живые», а их фантазия, их поступки и даже проделки учат читателей добру…»</a:t>
            </a:r>
            <a:br>
              <a:rPr sz="6000"/>
            </a:br>
            <a:r>
              <a:rPr b="0" lang="ru-RU" sz="6000" spc="-1" strike="noStrike">
                <a:solidFill>
                  <a:srgbClr val="663300"/>
                </a:solidFill>
                <a:latin typeface="Calibri"/>
              </a:rPr>
              <a:t>         С.В. Михалков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760" y="28584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Привет, сосед!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Улыбнись мне в ответ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Я хочу, чтоб ты не грустил,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Всем улыбки сегодня дарил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. Мишкина каш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. Леденец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. Автомобиль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. Фантазе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6092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.Н.Н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портрет"/>
          <p:cNvPicPr/>
          <p:nvPr/>
        </p:nvPicPr>
        <p:blipFill>
          <a:blip r:embed="rId2"/>
          <a:stretch/>
        </p:blipFill>
        <p:spPr>
          <a:xfrm>
            <a:off x="2244600" y="189000"/>
            <a:ext cx="426420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живая шляпа"/>
          <p:cNvPicPr/>
          <p:nvPr/>
        </p:nvPicPr>
        <p:blipFill>
          <a:blip r:embed="rId2"/>
          <a:stretch/>
        </p:blipFill>
        <p:spPr>
          <a:xfrm>
            <a:off x="2011320" y="1143000"/>
            <a:ext cx="512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на горке"/>
          <p:cNvPicPr/>
          <p:nvPr/>
        </p:nvPicPr>
        <p:blipFill>
          <a:blip r:embed="rId2"/>
          <a:stretch/>
        </p:blipFill>
        <p:spPr>
          <a:xfrm>
            <a:off x="2251080" y="295200"/>
            <a:ext cx="46418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огуречник"/>
          <p:cNvPicPr/>
          <p:nvPr/>
        </p:nvPicPr>
        <p:blipFill>
          <a:blip r:embed="rId1"/>
          <a:stretch/>
        </p:blipFill>
        <p:spPr>
          <a:xfrm>
            <a:off x="2684520" y="701640"/>
            <a:ext cx="37749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под столом"/>
          <p:cNvPicPr/>
          <p:nvPr/>
        </p:nvPicPr>
        <p:blipFill>
          <a:blip r:embed="rId1"/>
          <a:stretch/>
        </p:blipFill>
        <p:spPr>
          <a:xfrm>
            <a:off x="457200" y="433440"/>
            <a:ext cx="82296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Eras Bold ITC"/>
              </a:rPr>
              <a:t>Тема: Н. Носов «Заплатк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Цели: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- формировать умение определять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отношение автора к героям на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основе анализа построения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ассказа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учить анализировать прочитанное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работать над развитием речи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учащихся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прививать любовь к труду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06:14Z</dcterms:created>
  <dc:creator>Гришина Лилия Васильевна</dc:creator>
  <dc:description/>
  <dc:language>en-US</dc:language>
  <cp:lastModifiedBy>Я</cp:lastModifiedBy>
  <dcterms:modified xsi:type="dcterms:W3CDTF">2020-02-03T21:21:00Z</dcterms:modified>
  <cp:revision>51</cp:revision>
  <dc:subject/>
  <dc:title>Слайд 1</dc:title>
</cp:coreProperties>
</file>