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9A7-BD3A-49DA-AE1B-C2C3485A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B36-80B7-49C5-AF5E-6FC7668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58A-F45D-46F2-A35B-D85D2EA8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963-2918-4998-BFA0-CEDD81FE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83-AC3D-4557-B52B-3A16CBC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E19-B3C9-4D56-A01C-CAEA44D2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515-C00F-4E33-B3E3-B52986A1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D14-E533-49E6-B5DB-DB8C174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B5E-B6E6-42DD-86F3-436AB8EF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876-D535-42FD-8C1A-E98AB3F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442-60A4-4089-AC3B-35F1894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DB5-54CE-475B-84DF-E4C38EE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DAB9-8CC2-4AE2-B044-E68E36BB2A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tvc.ru/showImage.ashx?faid=c74e2798-8d77-40c5-8a79-6cb20ed8cca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tvc.ru/showImage.ashx?faid=c74e2798-8d77-40c5-8a79-6cb20ed8cca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tvc.ru/showImage.ashx?faid=c74e2798-8d77-40c5-8a79-6cb20ed8cca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tvc.ru/showImage.ashx?faid=c74e2798-8d77-40c5-8a79-6cb20ed8cca8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Новый рисунок (2)"/>
          <p:cNvPicPr/>
          <p:nvPr/>
        </p:nvPicPr>
        <p:blipFill>
          <a:blip r:embed="rId2"/>
          <a:stretch/>
        </p:blipFill>
        <p:spPr>
          <a:xfrm>
            <a:off x="250920" y="260280"/>
            <a:ext cx="3673440" cy="327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62400" y="2500200"/>
            <a:ext cx="769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Путешествие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к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Робинзону Круз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8000" y="1557360"/>
            <a:ext cx="702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етью ночь подряд вижу тот же со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нится остров мне, снится Робинзо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ьет о скалы прибой и чайка вдаль лети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Робинзон груст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возь ночную тьму снова я кричу 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бинзон, бедный Робинзо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оро жизнь изменится тво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нет вновь светлым горизон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ы увидишь мачту корабля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«Робинзон», Л. Дербенёв, В. Добры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RKZ"/>
          <p:cNvPicPr/>
          <p:nvPr/>
        </p:nvPicPr>
        <p:blipFill>
          <a:blip r:embed="rId2"/>
          <a:stretch/>
        </p:blipFill>
        <p:spPr>
          <a:xfrm>
            <a:off x="179280" y="189000"/>
            <a:ext cx="2244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6280" cy="4365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91240" y="0"/>
            <a:ext cx="2552760" cy="407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7280" y="2567160"/>
            <a:ext cx="2692440" cy="4290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084720" y="3327480"/>
            <a:ext cx="2732400" cy="3530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987640" y="0"/>
            <a:ext cx="3189240" cy="524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2064960"/>
            <a:ext cx="7993080" cy="4115880"/>
          </a:xfrm>
          <a:prstGeom prst="rect">
            <a:avLst/>
          </a:prstGeom>
          <a:solidFill>
            <a:srgbClr val="b2b2b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Monotype Corsiva"/>
              </a:rPr>
              <a:t>Волшебная </a:t>
            </a:r>
            <a:r>
              <a:rPr b="1" lang="ru-RU" sz="8800" spc="-1" strike="noStrike">
                <a:solidFill>
                  <a:srgbClr val="800000"/>
                </a:solidFill>
                <a:latin typeface="Monotype Corsiva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Monotype Corsiva"/>
              </a:rPr>
              <a:t>	</a:t>
            </a:r>
            <a:r>
              <a:rPr b="1" lang="ru-RU" sz="8800" spc="-1" strike="noStrike">
                <a:solidFill>
                  <a:srgbClr val="800000"/>
                </a:solidFill>
                <a:latin typeface="Monotype Corsiva"/>
              </a:rPr>
              <a:t>	</a:t>
            </a:r>
            <a:r>
              <a:rPr b="1" lang="ru-RU" sz="8800" spc="-1" strike="noStrike">
                <a:solidFill>
                  <a:srgbClr val="800000"/>
                </a:solidFill>
                <a:latin typeface="Monotype Corsiva"/>
              </a:rPr>
              <a:t>	</a:t>
            </a:r>
            <a:r>
              <a:rPr b="1" lang="en-US" sz="8800" spc="-1" strike="noStrike">
                <a:solidFill>
                  <a:srgbClr val="800000"/>
                </a:solidFill>
                <a:latin typeface="Monotype Corsiva"/>
              </a:rPr>
              <a:t>феерия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Грин называл свое произведение феери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2276280"/>
            <a:ext cx="5113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еéр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от французского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féerie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едставление со сказочным сюжетом, роскошными декорациями, костюмами, постановочными трюками, рассчитанными на внешний эффек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112"/>
          <p:cNvPicPr/>
          <p:nvPr/>
        </p:nvPicPr>
        <p:blipFill>
          <a:blip r:embed="rId2"/>
          <a:stretch/>
        </p:blipFill>
        <p:spPr>
          <a:xfrm>
            <a:off x="539640" y="1557360"/>
            <a:ext cx="2718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96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есть «Алые паруса» была задумана Александром Грином в 1916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нажды в витрине магаз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ушек Грин увидел лодоч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острым парусом из белого шёлк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та игрушка мне что-то сказала, но я не знал, что. Тогда я подумал, не скажет ли больше парус красного, а лучше того – алого цвета, потому что в алом есть яркое ликование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AlexanderGrin"/>
          <p:cNvPicPr/>
          <p:nvPr/>
        </p:nvPicPr>
        <p:blipFill>
          <a:blip r:embed="rId2"/>
          <a:stretch/>
        </p:blipFill>
        <p:spPr>
          <a:xfrm>
            <a:off x="6291360" y="0"/>
            <a:ext cx="2852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корость фрегата под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арусами приблизительно равн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8 узлам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ычислить скорость фрегата в м/ 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Узел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— единица измерения скорости, равная одной морской миле в час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Морская мил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— это единица измерения расстояния, применяемая в мореплавании и авиации. По современному определению, международная морская миля равна 1852 метра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4360" y="5877000"/>
            <a:ext cx="2184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3 336 м/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08000" y="259920"/>
            <a:ext cx="5256360" cy="568980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 пошив одного прямого паруса уходит 140 м</a:t>
            </a:r>
            <a:r>
              <a:rPr b="1" lang="ru-RU" sz="3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, на один косой тратят на 172 м</a:t>
            </a:r>
            <a:r>
              <a:rPr b="1" lang="ru-RU" sz="3400" spc="-1" strike="noStrike" baseline="2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больше, чем на прямой. Сшить необходимо 5 прямых и 2 косых. Сколько кусков материи необходимо для пошива этих парусов, если в одном куске 50 м</a:t>
            </a:r>
            <a:r>
              <a:rPr b="1" lang="ru-RU" sz="3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6021360"/>
            <a:ext cx="2344680" cy="64260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кус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43280" y="5300640"/>
            <a:ext cx="45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ст на набереж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и Грина в г. Киро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973680" cy="403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стена музея грина"/>
          <p:cNvPicPr/>
          <p:nvPr/>
        </p:nvPicPr>
        <p:blipFill>
          <a:blip r:embed="rId3"/>
          <a:stretch/>
        </p:blipFill>
        <p:spPr>
          <a:xfrm>
            <a:off x="61128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1557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но-мемориальный музей А.Грина в г. Феодо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Человек в порыве к счасть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особен сам совершать чудес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.Пауст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9144000" cy="3959280"/>
          </a:xfrm>
          <a:prstGeom prst="rect">
            <a:avLst/>
          </a:prstGeom>
          <a:solidFill>
            <a:srgbClr val="99cc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усть Грэй, Ассоль, корабль с алыми парусами - всё это плод фантазии автор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рин уверял, что корабль с алыми парусами рано или поздно приходит к каждому, кто умеет мечтать, кто всем сердцем верит, что мечты, желания обязательно сбудутся!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284640"/>
            <a:ext cx="6084720" cy="302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33360"/>
            <a:ext cx="5076720" cy="1989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661000"/>
            <a:ext cx="1296720" cy="981000"/>
          </a:xfrm>
          <a:prstGeom prst="rightArrow">
            <a:avLst>
              <a:gd name="adj1" fmla="val 50000"/>
              <a:gd name="adj2" fmla="val 330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60280"/>
            <a:ext cx="49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менитое произведение Даниэля Дефо называется вовсе не «Робинзон Крузо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го названии не два слова.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колько в нем сл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2565360"/>
            <a:ext cx="6264360" cy="4103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9080" y="2708280"/>
            <a:ext cx="651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Жизнь и удивительные приключения Робинзона Крузо, моряка из Йорка, прожившего двадцать восемь лет в полном одиночестве на необитаемом острове у берегов Америки близ устья реки Ориноко, куда он был выброшен кораблекрушением, во время которого весь экипаж корабля, кроме него, погиб, с изложением его неожиданного освобождения пиратами, написанные им сам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-main-pic" descr="Картинка 39 из 1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92280"/>
            <a:ext cx="28432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-main-pic" descr="Картинка 39 из 1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92280"/>
            <a:ext cx="2890800" cy="2717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189000"/>
            <a:ext cx="5508720" cy="4176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481640"/>
            <a:ext cx="7561440" cy="2187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5805360"/>
            <a:ext cx="900000" cy="792360"/>
          </a:xfrm>
          <a:prstGeom prst="rightArrow">
            <a:avLst>
              <a:gd name="adj1" fmla="val 50000"/>
              <a:gd name="adj2" fmla="val 283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60280"/>
            <a:ext cx="54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Я срубил великолепный кедр, который им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футов десять дюйм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поперечнике внизу, у начала ствола, а вверху, на высо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адцати двух фу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тыре фута одиннадцать дюйм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затем ствол постепенно становился тоньше и наконец разветвлял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себе представить, какого труда мне стоило свалить это громадное дерево!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8200" y="4724280"/>
            <a:ext cx="7705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разите размеры дерева в метрах,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если 1 фут ≈ 0,3 м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1 дюйм ≈ 3 с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-main-pic" descr="Картинка 39 из 1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907920"/>
            <a:ext cx="2843280" cy="273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360" y="476280"/>
            <a:ext cx="5400720" cy="604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5589720"/>
            <a:ext cx="936720" cy="691920"/>
          </a:xfrm>
          <a:prstGeom prst="rightArrow">
            <a:avLst>
              <a:gd name="adj1" fmla="val 50000"/>
              <a:gd name="adj2" fmla="val 338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549360"/>
            <a:ext cx="5472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обинзон разводит к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ачала Робинзон Крузо поймал трех козл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з полтора года у него было уже 12 коз в стаде. Это составило 2/7 того количества, которое развёл Робинзон ещё через два года и плюс еще одна ко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колько коз стало в его стаде?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-main-pic" descr="Картинка 39 из 1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692280"/>
            <a:ext cx="2771640" cy="2544480"/>
          </a:xfrm>
          <a:prstGeom prst="rect">
            <a:avLst/>
          </a:prstGeom>
          <a:ln w="0">
            <a:noFill/>
          </a:ln>
        </p:spPr>
      </p:pic>
      <p:pic>
        <p:nvPicPr>
          <p:cNvPr id="67" name="i-main-pic" descr="Картинка 124 из 175"/>
          <p:cNvPicPr/>
          <p:nvPr/>
        </p:nvPicPr>
        <p:blipFill>
          <a:blip r:embed="rId4"/>
          <a:stretch/>
        </p:blipFill>
        <p:spPr>
          <a:xfrm>
            <a:off x="6227640" y="3860640"/>
            <a:ext cx="2519640" cy="278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08360" y="404640"/>
            <a:ext cx="4608720" cy="28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645000"/>
            <a:ext cx="5545080" cy="24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093000"/>
            <a:ext cx="976320" cy="647640"/>
          </a:xfrm>
          <a:prstGeom prst="rightArrow">
            <a:avLst>
              <a:gd name="adj1" fmla="val 50000"/>
              <a:gd name="adj2" fmla="val 376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549360"/>
            <a:ext cx="439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нас есть сундук золот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ндук серебра, да ещ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нановое дере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2760" y="4149720"/>
            <a:ext cx="56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кажи, друг м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то есть наше богатст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 на вопрос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5445000"/>
            <a:ext cx="7189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5640" y="2565360"/>
            <a:ext cx="221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49 сл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 на вопрос 2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790560" cy="701640"/>
          </a:xfrm>
          <a:prstGeom prst="rightArrow">
            <a:avLst>
              <a:gd name="adj1" fmla="val 50000"/>
              <a:gd name="adj2" fmla="val 2816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1052640"/>
            <a:ext cx="62643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  5 ф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0,3 м ≈ 1,5 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 * 3 см ≈ 30 см = 0,3 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м + 0,3 м ≈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,8 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22 ф * 0,3 м ≈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,6 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4 ф * 0,3 м ≈ 1,2 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д * 3 см ≈ 33 см ≈ 0,33 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м + 0,33 м ≈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,53 м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 на вопрос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516640"/>
            <a:ext cx="647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2060640"/>
            <a:ext cx="6769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Года через полтора у меня было уже не меньше двенадцати коз, считая с козлятами, а ещё через два года моё стадо выросло до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орока трёх гол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 на вопрос 4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661000"/>
            <a:ext cx="718920" cy="703440"/>
          </a:xfrm>
          <a:prstGeom prst="rightArrow">
            <a:avLst>
              <a:gd name="adj1" fmla="val 50000"/>
              <a:gd name="adj2" fmla="val 255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700280"/>
            <a:ext cx="76723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гатство это то, что удовлетворяет потребности человека. Золото и серебро на необитаемом острове никому не нужно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Бананы  -  вот богатство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odwin</cp:lastModifiedBy>
  <dcterms:modified xsi:type="dcterms:W3CDTF">2015-09-21T11:29:00Z</dcterms:modified>
  <cp:revision>20</cp:revision>
  <dc:subject/>
  <dc:title>PowerPoint Presentation</dc:title>
</cp:coreProperties>
</file>