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027-90F1-44F3-8116-3049A5D7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3F4-C562-47E4-9221-97F5C1C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E32-4AB0-4AD4-92AA-FB5E71D9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E73-E61A-4231-92BC-CE56C929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42880"/>
            <a:ext cx="860580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E4B-01EA-47CD-ABC0-0E033F0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433-5B48-45B4-B391-135107C2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B74-F0F4-49DA-BD44-CDED3D7F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D7F-A509-4AE0-A33E-788C9C7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42880"/>
            <a:ext cx="860580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CC1-7D62-4189-A4C9-FB69E4F3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656-C488-4B69-9724-8F120F5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F09-D185-4838-9D69-EFCE4C0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B10-C569-4ECD-8AE5-DA5ECC2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3C5E-985C-4576-841B-5EAB21B523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42880"/>
            <a:ext cx="8605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6659640" cy="719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99280" y="1619280"/>
            <a:ext cx="30607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Мальчишки» 197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0360" y="484200"/>
            <a:ext cx="3851280" cy="329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40360" y="720720"/>
            <a:ext cx="431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етников Федор Павлович (1906 г. - 1988 г.) - советский худ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41240" y="393840"/>
            <a:ext cx="8607600" cy="68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. П. Решетников родился 15 (28) июля 1906 года в селе Сурско-Литовском Екатеринославской губернии Российской империи в семье иконописца. Работал в клубе железнодорожников станции Гришино Днепропетровской области. Учился на рабфаке искусств в Москве, поступил в Высшие художественно-технические мастерские, где занимался в 1929—1934 годах, в частности у Д. С. Моора. Участвовал в арктической экспедиции на пароходе «Челюскин». Действительный член АХ СССР с 1953 года, вице-президент (с 1974 го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ртина Ф.П.Решетникова "Прибыл на каникулы" (1948) является своеобразным рекордсменом. Совокупный тираж открыток с репродукцией этой картины составил свыше 13 миллионов экземпляров - больше, чем какой-либо другой открытки, выпущенной в Советском Союзе[1]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. П. Решетников умер 13 декабря 1988 года. Похоронен в Москве на Ваганьковском кладб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7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Награды и медал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Сталинская премия второй степени (1949) — за картины «Генералиссимус Советского Союза И. В. Сталин» и «Прибыл на канику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Сталинская премия третьей степени (1951) — за картину «За мир !» (19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народный художник СССР (197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два ордена и мед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7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Детские образы в творчестве Ф.П.Решетников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319640" cy="558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19640" y="3067200"/>
            <a:ext cx="46800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Прибыл на каникулы» 194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1400" y="468360"/>
            <a:ext cx="5629320" cy="619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83400" y="1440000"/>
            <a:ext cx="30369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Опять двой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95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666756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99280" y="1440000"/>
            <a:ext cx="2879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Достали язы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94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3:04:07Z</dcterms:created>
  <dc:creator/>
  <dc:description/>
  <dc:language>en-US</dc:language>
  <cp:lastModifiedBy/>
  <cp:revision>1</cp:revision>
  <dc:subject/>
  <dc:title/>
</cp:coreProperties>
</file>