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58E0-94A9-445E-888E-B18C05712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20B9-8F36-4214-8784-1B6856809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FB58-4DFA-4FD5-9D0C-7BF419BA0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2CA6-6E13-4534-A798-AA59EB876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A630F-AE3C-40DE-B9B4-D8FB8747B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FA856-7A95-4DF6-8B62-D41CB22BE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1C424-33BD-4A9A-9911-3FAA5E783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B5A29-E138-4E35-AAD9-75808970E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E27B9-86C0-4839-A1E3-3528A4C32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08B68-66E3-402C-9EA8-F3B692BD3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F1A8B-9B0A-441E-830A-8947DE9E5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C9C9-3D94-4FAC-B3E4-4242EB94C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EDD23-538B-49B3-9A92-174BA9F2E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AB79D-8F47-4360-8434-2ABC77602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E610C-94CE-42B4-BB75-8A5710325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64B00-248F-4BD6-A9DC-2A8125699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A909A-6888-45A6-9E1C-45FEC4A30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922BAE-0C8C-40BF-88D4-331AA3AF6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E48662-DB96-484B-A6D5-C103B5567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BED1E6-7145-40AD-A30E-B2F52142D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CDF0AE-BE65-4D0A-BA23-D1CE27D7F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440EC4-0480-4B3C-B3EE-C14A05EE3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BAFE-62FA-4AB5-8B51-FEE8DAAAA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648114-44ED-4A3D-83B9-E5306A497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B7F89E-D08A-4AC2-B40C-7575A7093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6EA71E-813E-416E-99AA-7B1E70E60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8E73E8-BA66-4A0E-8AD5-7FC94F6D6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1A22FE-F2F2-4E6F-894F-84C4D623B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CA04BE-7BEA-4BA3-91B4-1A631D82C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D5CA66-797A-44A5-9AF5-3277A06BD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0815-1420-4601-B2E8-33E772617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7897-3905-4A15-B4EC-EEB329E7C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9A4A-DA3E-453D-BBA1-839979879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9BBF-80CE-4246-8582-395D8A66C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96CD-ED88-4612-8BFB-11D2327D0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A673-3743-4CD9-8DD5-C764B289D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2C2D0-5CAF-48D5-AB2F-19C1DEF446E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77A4C-7D15-4927-98D5-41A9B759E92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Рисунок 6" descr="пр42.png"/>
          <p:cNvPicPr/>
          <p:nvPr/>
        </p:nvPicPr>
        <p:blipFill>
          <a:blip r:embed="rId3"/>
          <a:stretch/>
        </p:blipFill>
        <p:spPr>
          <a:xfrm>
            <a:off x="-324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291AE-BEB3-48B0-9B66-754D93DA175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УПРАВЛЕНИЕ ОБРАЗОВАНИЯ АДМИНИСТРАЦИИ ГОРОДСКОГО ОКРУГА КЛИН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УНИЦИПАЛЬНОЕ ДОШКОЛЬНОЕ ОБРАЗОВАТЕЛЬНОЕ УЧРЕЖДЕНИЕ – ДЕТСКИЙ САД КОМБИНИРОВАННОГО ВИДА №2 «КАЛИНКА»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141612, Московская область, г. Клин, ул. К.Маркса, д.96 «А», тел.8(49624) 2-02-1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403280" y="2276280"/>
            <a:ext cx="640080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нтеллектуальная игра по Правилам Дорожного Движ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Что? Где? Когда?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ля детей дошкольного возраста 6-7 ле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одготовили: Виноградова А.А.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Голихина Л.В.;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Земскова И.В;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узьмина Н.В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018г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5280" y="1916280"/>
            <a:ext cx="8353440" cy="463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                                                            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ВОПРОС: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акие виды транспорта вы знаете?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Перечислите воздушный, наземный и водный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виды транспорта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оспитатель группы №3 МДОУ ДС №2 «КАЛИНКА»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Кузьмина Наталья Васильевн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6" descr="20160121_131134"/>
          <p:cNvPicPr/>
          <p:nvPr/>
        </p:nvPicPr>
        <p:blipFill>
          <a:blip r:embed="rId1"/>
          <a:srcRect l="0" t="31545" r="0" b="0"/>
          <a:stretch/>
        </p:blipFill>
        <p:spPr>
          <a:xfrm>
            <a:off x="179280" y="1484280"/>
            <a:ext cx="31957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324000" y="1557360"/>
            <a:ext cx="856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                                                             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ВОПРОС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лена Анатольевна приготовила для вас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сюжетные картинки, а вы должны сказать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правильно ли поступают дети, на эти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артинках?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сихолог МДОУ ДС №2 «КАЛИНКА»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Чижевская Елена Анатольевн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3" descr="chizhevskaia"/>
          <p:cNvPicPr/>
          <p:nvPr/>
        </p:nvPicPr>
        <p:blipFill>
          <a:blip r:embed="rId1"/>
          <a:srcRect l="0" t="5453" r="0" b="0"/>
          <a:stretch/>
        </p:blipFill>
        <p:spPr>
          <a:xfrm>
            <a:off x="324000" y="1557360"/>
            <a:ext cx="297000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4" descr="7d1e39b794e69ba1ff8cc1d330ff77f3"/>
          <p:cNvPicPr/>
          <p:nvPr/>
        </p:nvPicPr>
        <p:blipFill>
          <a:blip r:embed="rId1"/>
          <a:srcRect l="5774" t="0" r="6463" b="0"/>
          <a:stretch/>
        </p:blipFill>
        <p:spPr>
          <a:xfrm>
            <a:off x="539640" y="1341360"/>
            <a:ext cx="756144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4" descr="208-7-pravila-dorozhnogo-dvizheniya-detyam-kartinki"/>
          <p:cNvPicPr/>
          <p:nvPr/>
        </p:nvPicPr>
        <p:blipFill>
          <a:blip r:embed="rId1"/>
          <a:stretch/>
        </p:blipFill>
        <p:spPr>
          <a:xfrm>
            <a:off x="539640" y="1341360"/>
            <a:ext cx="792000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4" descr="kartinki-pro-pdd"/>
          <p:cNvPicPr/>
          <p:nvPr/>
        </p:nvPicPr>
        <p:blipFill>
          <a:blip r:embed="rId1"/>
          <a:stretch/>
        </p:blipFill>
        <p:spPr>
          <a:xfrm>
            <a:off x="1332000" y="1341360"/>
            <a:ext cx="604836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4" descr="kartinki-pro-pdd-14"/>
          <p:cNvPicPr/>
          <p:nvPr/>
        </p:nvPicPr>
        <p:blipFill>
          <a:blip r:embed="rId1"/>
          <a:stretch/>
        </p:blipFill>
        <p:spPr>
          <a:xfrm>
            <a:off x="1835280" y="1268280"/>
            <a:ext cx="583236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57360"/>
            <a:ext cx="8229600" cy="32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0000"/>
                </a:solidFill>
                <a:latin typeface="Times New Roman"/>
              </a:rPr>
              <a:t>ФИЗМИНУТКА</a:t>
            </a:r>
            <a:br>
              <a:rPr sz="6000"/>
            </a:br>
            <a:r>
              <a:rPr b="1" i="1" lang="ru-RU" sz="4800" spc="-1" strike="noStrike">
                <a:solidFill>
                  <a:srgbClr val="000000"/>
                </a:solidFill>
                <a:latin typeface="Times New Roman"/>
              </a:rPr>
              <a:t>«Пешеходы»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557360"/>
            <a:ext cx="8229600" cy="32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0000"/>
                </a:solidFill>
                <a:latin typeface="Calibri"/>
              </a:rPr>
              <a:t>СЮРПРИЗНЫЙ МОМЕНТ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1042560" y="5300640"/>
            <a:ext cx="374508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Инспектор ГИБДД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Каминский Владимир Александрович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Picture 4" descr="IMG-20180830-WA0000"/>
          <p:cNvPicPr/>
          <p:nvPr/>
        </p:nvPicPr>
        <p:blipFill>
          <a:blip r:embed="rId1">
            <a:lum bright="18000"/>
          </a:blip>
          <a:srcRect l="0" t="7715" r="0" b="0"/>
          <a:stretch/>
        </p:blipFill>
        <p:spPr>
          <a:xfrm>
            <a:off x="1258920" y="981000"/>
            <a:ext cx="3079800" cy="410544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6"/>
          <p:cNvSpPr/>
          <p:nvPr/>
        </p:nvSpPr>
        <p:spPr>
          <a:xfrm>
            <a:off x="4643280" y="2197800"/>
            <a:ext cx="3097440" cy="15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ВОПРОС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н приготовил для вас загадки, отгадав их вы, узнаете, что находится в чёрном ящике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 полоскам черно – белы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ешеход шагает смело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то из вас ребята знает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нак, о чем предупреждает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Я хочу спросить про зна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рисован он вот так: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треугольнике ребя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 всех ног бегут куда-то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920" y="1341000"/>
            <a:ext cx="7129440" cy="38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Цель: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закрепление знаний детей о правилах дорожного движения, культурного и безопасного поведения на улице, дороге и транспорте.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Методы и приемы: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гровой, наглядный, практический, словесны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смотрите, знак опасный –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еловечек в круге красно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еречеркнут попола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ут машины быстро мчатс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ожет даже быть несчастье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тот знак ну очень строгий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ль стоит он на дорог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оворит он нам: «Друзья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здить здесь совсем нельзя!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тот знак ужасно прост –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н через дорогу мос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 нему идут пешком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 под ним мчат с ветерко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этом месте пешеход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Терпеливо транспорт ждет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Он пешком устал шагать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Хочет пассажиром стат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тот знак тревогу бьет –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от опасный поворот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хать здесь, конечно, можно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олько очень осторожно –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икого не обгонять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ассажиров не менят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сли нужно вам лечиться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      Знак подскажет, где больница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      Сто серьезных доктор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ам вам скажут: «Будь здоров!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Если Правила движ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Выполняют все вокруг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Ну, к чему тогда сомненья 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Помни это, юный друг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Всем спасибо за вниманье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За задор и звонкий смех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За огонь соревнованья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Обеспечивший успе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Вот настал момент прощанья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Будет краткой моя реч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Говорю всем: «До свиданья! До счастливых новых встреч!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WordArt 4"/>
          <p:cNvSpPr txBox="1"/>
          <p:nvPr/>
        </p:nvSpPr>
        <p:spPr>
          <a:xfrm>
            <a:off x="539640" y="1773360"/>
            <a:ext cx="7777440" cy="38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85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8000"/>
                </a:solidFill>
                <a:latin typeface="Times New Roman"/>
              </a:rPr>
              <a:t>Спасибо </a:t>
            </a:r>
            <a:endParaRPr b="1" lang="en-US" sz="4400" spc="1" strike="noStrike">
              <a:ln w="9360">
                <a:solidFill>
                  <a:srgbClr val="ff0000"/>
                </a:solidFill>
                <a:miter/>
              </a:ln>
              <a:solidFill>
                <a:srgbClr val="008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8000"/>
                </a:solidFill>
                <a:latin typeface="Times New Roman"/>
              </a:rPr>
              <a:t>за внимание!</a:t>
            </a:r>
            <a:endParaRPr b="1" lang="en-US" sz="4400" spc="1" strike="noStrike">
              <a:ln w="9360">
                <a:solidFill>
                  <a:srgbClr val="ff0000"/>
                </a:solidFill>
                <a:miter/>
              </a:ln>
              <a:solidFill>
                <a:srgbClr val="008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6000" y="764640"/>
            <a:ext cx="7067520" cy="525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дач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2400"/>
            </a:b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Образовательная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креплять у детей знания о правилах дорожного движения, о значении дорожных знаков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дводить детей к осознанию необходимости соблюдать правила дорожного движения.</a:t>
            </a:r>
            <a:br>
              <a:rPr sz="2000"/>
            </a:b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Развивающа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: способствовать развитию  осторожности, ответственности и осмотрительности на дороге, стимулируя познавательную активность; развивать связную речь, способствуя  развитию коммуникативных навыков; продолжать развивать внимание, зрительное и слуховое восприятие, словесно-логическое мышление, память;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звивать наблюдательность, умение предвидеть и разрешать опасную ситуацию.</a:t>
            </a:r>
            <a:br>
              <a:rPr sz="2000"/>
            </a:b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Воспитательная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воспитывать навыки личной безопасности, самосохранения, а также уважительное отношение к партнерам по игре, учить соблюдать правила игр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31640" y="1557000"/>
            <a:ext cx="6264360" cy="431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едварительная работ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вторение с детьми правил дорожного движения: правила поведения на улице, в машине, в общественном транспорте, правила перехода через улицу; наблюдение за машинами и пешеходами на улицах города; чтение соответствующей художественной литературы по данной теме; беседы с детьми о правилах дорожного движения, рассматривание  и обсуждение сложных ситуаций по теме, игры в сюжетно-ролевые и настольные игры по правилам дорожного движ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31640" y="1557360"/>
            <a:ext cx="6335640" cy="42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атериалы и оборудование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br>
              <a:rPr sz="28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руглый стол, стулья, волчок, конверты с заданиями, чёрный ящик, мультимедийное оборудование, экран, музыкальный центр, разрезные пазлы «Дорожный знак», сюжетные картинки «ситуации на дорогах»,  комплект дорожных знаков, светофор (для муз. паузы), красные и зелёные круги (на каждого игрока), значки-медальки для участников, магнитная доска, цифр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8424720" cy="41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ВОПРОС: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Что такое светофор?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Для чего служит красный сигнал светофора?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На какой сигнал светофора можно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переходить улицу?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</a:t>
            </a:r>
            <a:br>
              <a:rPr sz="1600"/>
            </a:b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Заведующий МДОУ ДС №2 «КАЛИНКА»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Ляшук Светлана Николаевна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8" descr="DSC_0657"/>
          <p:cNvPicPr/>
          <p:nvPr/>
        </p:nvPicPr>
        <p:blipFill>
          <a:blip r:embed="rId1"/>
          <a:stretch/>
        </p:blipFill>
        <p:spPr>
          <a:xfrm>
            <a:off x="395280" y="1413000"/>
            <a:ext cx="298116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23640" y="1557360"/>
            <a:ext cx="8280360" cy="489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«ВОПРОС – ОТВЕТ»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грать на проезжей части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Переходить улицу по пешеходному переходу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Переходить улицу при красном сигнале светофора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                                               Цепляться за проезжающие машины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Помогать старушкам перейти дорогу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Уступать место в транспорте пожилым людям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Играть во дворе на специальных отведённых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площадках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Кататься на велосипеде, не держась за руль</a:t>
            </a:r>
            <a:br>
              <a:rPr sz="1800"/>
            </a:br>
            <a:br>
              <a:rPr sz="1400"/>
            </a:br>
            <a:br>
              <a:rPr sz="14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оспитатель группы №7  МДОУ ДС №2 «КАЛИНКА»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авлович Ольга Николаевна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5" descr="pavlovich"/>
          <p:cNvPicPr/>
          <p:nvPr/>
        </p:nvPicPr>
        <p:blipFill>
          <a:blip r:embed="rId1"/>
          <a:srcRect l="0" t="5360" r="0" b="0"/>
          <a:stretch/>
        </p:blipFill>
        <p:spPr>
          <a:xfrm>
            <a:off x="179280" y="1413000"/>
            <a:ext cx="277992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23640" y="1557360"/>
            <a:ext cx="8280360" cy="489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ВОПРОС: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ак называется та часть улицы, по которой идут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пешеходы?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По какой части улицы движется транспорт?  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14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тарший воспитатель  МДОУ ДС №2 «КАЛИНКА»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мирнова Юлия Владимировна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5" descr="smirnova"/>
          <p:cNvPicPr/>
          <p:nvPr/>
        </p:nvPicPr>
        <p:blipFill>
          <a:blip r:embed="rId1"/>
          <a:stretch/>
        </p:blipFill>
        <p:spPr>
          <a:xfrm>
            <a:off x="179280" y="1484280"/>
            <a:ext cx="2808360" cy="38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57360"/>
            <a:ext cx="8229600" cy="32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0000"/>
                </a:solidFill>
                <a:latin typeface="Times New Roman"/>
              </a:rPr>
              <a:t>МУЗЫКАЛЬНАЯ ПАУЗ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5T18:31:26Z</dcterms:created>
  <dc:creator>Федотова Виктория Александровна</dc:creator>
  <dc:description/>
  <dc:language>en-US</dc:language>
  <cp:lastModifiedBy>1</cp:lastModifiedBy>
  <dcterms:modified xsi:type="dcterms:W3CDTF">2020-08-15T21:20:40Z</dcterms:modified>
  <cp:revision>10</cp:revision>
  <dc:subject/>
  <dc:title>Слайд 1</dc:title>
</cp:coreProperties>
</file>