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EF5-638F-4014-A930-38B0E66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366-8D81-4F8B-9DD6-F3AE832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9B9-ADC5-472A-AE0B-D531F18F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7D-2963-4757-A9A4-B9D9896D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BB8-8DF6-41CE-94FA-1042225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EBB-2F07-4BAA-A175-CB3F222A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260-69FD-4403-AC65-D5FABCF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36C-8AE3-43AD-90FA-4282488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428-005E-4D14-A36D-57B3D60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C00-0355-400A-B01A-8E9A6E4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952-0262-4AC0-AC24-3A7DCCDE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8D5-6FE9-4EBF-8D90-8280695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09C-7546-4DFE-8B34-A9E905099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09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ормирование представлений о социальной значимости труда взрослых в процессе ознакомления дошкольников с професс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When-I-grow-up-1"/>
          <p:cNvPicPr/>
          <p:nvPr/>
        </p:nvPicPr>
        <p:blipFill>
          <a:blip r:embed="rId2"/>
          <a:srcRect l="0" t="0" r="0" b="8971"/>
          <a:stretch/>
        </p:blipFill>
        <p:spPr>
          <a:xfrm>
            <a:off x="0" y="1290600"/>
            <a:ext cx="9177480" cy="55674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5550840" y="2637000"/>
            <a:ext cx="35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ставитель: Тихонова Е.Л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34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Мир профессий – сложная, динамичная, постоянно развивающаяся система.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ак же знакомить детей с профессиями взросл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i?id=81011df07806d7de5e75b6cceb4df781&amp;n=13"/>
          <p:cNvPicPr/>
          <p:nvPr/>
        </p:nvPicPr>
        <p:blipFill>
          <a:blip r:embed="rId2"/>
          <a:srcRect l="0" t="24960" r="2276" b="28704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?id=7be1d2911953ccf5caf05540446bd382&amp;n=13"/>
          <p:cNvPicPr/>
          <p:nvPr/>
        </p:nvPicPr>
        <p:blipFill>
          <a:blip r:embed="rId2"/>
          <a:srcRect l="0" t="16558" r="0" b="17291"/>
          <a:stretch/>
        </p:blipFill>
        <p:spPr>
          <a:xfrm>
            <a:off x="1692360" y="1916280"/>
            <a:ext cx="6264360" cy="282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рудовое воспитание – одно из важнейших направлений в работе ДОУ, главной целью которого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формирование положительного отношения  к тр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-0.30712 -0.32546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Задачи трудового воспитания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Формировать позитивные установки к различным видам труда и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оспитывать ценностное отношение к собственному труду, труду других людей и его результатам; воспитывать личность ребенка в аспекте труда и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азвивать творческую инициативу, способность самостоятельно реализовывать себя в различных         видах труда  и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https://st.depositphotos.com/1015568/2416/v/950/depositphotos_24167227-stock-illustration-professions-kids-set-3.jpg"/>
          <p:cNvPicPr/>
          <p:nvPr/>
        </p:nvPicPr>
        <p:blipFill>
          <a:blip r:embed="rId2"/>
          <a:srcRect l="36144" t="0" r="35346" b="52405"/>
          <a:stretch/>
        </p:blipFill>
        <p:spPr>
          <a:xfrm>
            <a:off x="7164360" y="4005360"/>
            <a:ext cx="176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Компоненты труд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тив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 это причина, побуждающая к трудовой деятельности или заинтересовывающий моме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 это то, к чему надо стремить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рудовые действия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– это то, при помощи чего</a:t>
            </a: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существляется цель и достигается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ланирование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 это умение предвидеть</a:t>
            </a: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едстоящую работ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 это показатель завершения</a:t>
            </a: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работы, фактор, помогающий 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у детей интерес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epositphotos_24167227-stock-illustration-professions-kids-set-3"/>
          <p:cNvPicPr/>
          <p:nvPr/>
        </p:nvPicPr>
        <p:blipFill>
          <a:blip r:embed="rId2"/>
          <a:srcRect l="65024" t="50059" r="0" b="0"/>
          <a:stretch/>
        </p:blipFill>
        <p:spPr>
          <a:xfrm>
            <a:off x="6908760" y="3789360"/>
            <a:ext cx="2235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3610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Если нет охоты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s://st.depositphotos.com/1015568/2416/v/950/depositphotos_24167227-stock-illustration-professions-kids-set-3.jpg"/>
          <p:cNvPicPr/>
          <p:nvPr/>
        </p:nvPicPr>
        <p:blipFill>
          <a:blip r:embed="rId2"/>
          <a:srcRect l="64259" t="0" r="0" b="50004"/>
          <a:stretch/>
        </p:blipFill>
        <p:spPr>
          <a:xfrm>
            <a:off x="6967440" y="4205160"/>
            <a:ext cx="2176560" cy="2652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4859280" y="3068640"/>
            <a:ext cx="3610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мало толку от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5280" y="1628640"/>
            <a:ext cx="36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Дело масте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4581360"/>
            <a:ext cx="36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боит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95280" y="3068640"/>
            <a:ext cx="3610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то ловок в тр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4859280" y="1628640"/>
            <a:ext cx="36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уёт счастье себ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95280" y="4581360"/>
            <a:ext cx="36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На работу с радость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4859280" y="260280"/>
            <a:ext cx="36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а с работы с гордост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00798 -0.40949 E">
                                      <p:cBhvr>
                                        <p:cTn id="11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-4.72222E-006 0.42014 E">
                                      <p:cBhvr>
                                        <p:cTn id="11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15 -0.07777 L -0.08715 -0.41389 E">
                                      <p:cBhvr>
                                        <p:cTn id="11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8.67362E-019 L -0.00799 0.40949 E">
                                      <p:cBhvr>
                                        <p:cTn id="11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4144 E">
                                      <p:cBhvr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0.65093 E">
                                      <p:cBhvr>
                                        <p:cTn id="1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В рамках семинара запланирова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«Использование синквейна для закрепления знаний о профессиях» (представление опыта работы педагогов группы 8) - дека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«Пространство для организации ранней профориентации» (презентация игр, пособий, методических разработок) – фев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«Профессии наших мамочек» (выставка детского творчества в группах) – м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вест – путешествие «Мастер Град» (развлечение для детей старших  и подготовительных групп) - ап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epositphotos_24167227-stock-illustration-professions-kids-set-3"/>
          <p:cNvPicPr/>
          <p:nvPr/>
        </p:nvPicPr>
        <p:blipFill>
          <a:blip r:embed="rId2"/>
          <a:srcRect l="32505" t="48897" r="33498" b="0"/>
          <a:stretch/>
        </p:blipFill>
        <p:spPr>
          <a:xfrm>
            <a:off x="6948360" y="1989000"/>
            <a:ext cx="2016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?id=79ca3549195790bdc974512b2b4c8798&amp;n=13"/>
          <p:cNvPicPr/>
          <p:nvPr/>
        </p:nvPicPr>
        <p:blipFill>
          <a:blip r:embed="rId1"/>
          <a:srcRect l="0" t="0" r="25079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К следующему семинарскому занят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оставить перспективный план по ознакомлению  с трудом взросл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- в соответствии  с лексическими темами/ с профессиональными празд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- с учетом видов труда в ДО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самообслужи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хозяйственно-бытовой тру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труд в прир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ручной тр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- с учетом многообразия форм работы по ранней профориентации: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организованная образовательн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совместная трудовая деятельность, организаци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актических трудовых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познавательно-исследовательск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наблюдения за трудом взросл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коммуникативн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чтение художественной литера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художественно-творческ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игров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моделир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 целевые прогулки, виртуальные экскур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depositphotos_24167227-stock-illustration-professions-kids-set-3"/>
          <p:cNvPicPr/>
          <p:nvPr/>
        </p:nvPicPr>
        <p:blipFill>
          <a:blip r:embed="rId2"/>
          <a:srcRect l="63801" t="0" r="0" b="49084"/>
          <a:stretch/>
        </p:blipFill>
        <p:spPr>
          <a:xfrm>
            <a:off x="6516720" y="3357720"/>
            <a:ext cx="22924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03:22:46Z</dcterms:created>
  <dc:creator>Непоседа</dc:creator>
  <dc:description/>
  <dc:language>en-US</dc:language>
  <cp:lastModifiedBy>Светлана Юрьевна</cp:lastModifiedBy>
  <dcterms:modified xsi:type="dcterms:W3CDTF">2019-12-13T07:32:27Z</dcterms:modified>
  <cp:revision>10</cp:revision>
  <dc:subject/>
  <dc:title>Слайд 1</dc:title>
</cp:coreProperties>
</file>