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2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5.gif" ContentType="image/gif"/>
  <Override PartName="/ppt/media/image18.png" ContentType="image/png"/>
  <Override PartName="/ppt/media/image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DCD-D764-4018-8C70-1D8AD456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BDE-258C-4084-B2D9-16E2F63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D83-2A32-4C8C-9062-3627618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296-7DE6-4D19-A82C-D57646B0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F85-DAB7-42D5-955C-55E0CE8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6A9-BC97-4AC0-BB4A-284403C2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6FD-8118-41B1-970E-8EBC858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F3B-3F5B-402F-9258-B275C79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CF5-DE69-458C-A225-5E59F6BE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313-604B-4CA1-8FFD-A483C67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604-32FE-405F-AFE3-6062FC1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4DF-10C2-4CE5-8049-A42B514F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182-C248-4C95-8C17-7CBC2BF18F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28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Кош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2428920" y="785880"/>
            <a:ext cx="4500360" cy="31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и хорошо ориентируются во вкусах, различают кислое, солёное, горькое и сладкое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Объект 4" descr="http://funzoo.ru/uploads/posts/2008-05/1211226485_1210871840_05.jpg"/>
          <p:cNvPicPr/>
          <p:nvPr/>
        </p:nvPicPr>
        <p:blipFill>
          <a:blip r:embed="rId1"/>
          <a:stretch/>
        </p:blipFill>
        <p:spPr>
          <a:xfrm>
            <a:off x="1714680" y="2000160"/>
            <a:ext cx="6097320" cy="403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кошек  хорошо развитый вестибулярный аппарат, расположенный во внутреннем ухе. Кошки могут безбоязненно передвигаться по конькам крыш, заборам и деревья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5" descr="http://cs11322.userapi.com/u100830140/-5/x_85a6b06b.jpg"/>
          <p:cNvPicPr/>
          <p:nvPr/>
        </p:nvPicPr>
        <p:blipFill>
          <a:blip r:embed="rId1"/>
          <a:stretch/>
        </p:blipFill>
        <p:spPr>
          <a:xfrm>
            <a:off x="1547640" y="1989000"/>
            <a:ext cx="612000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падении они могут рефлекторно принять в воздухе положение, нужное при приземлении на лапы, создаёт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эффект парашюта»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Объект 6" descr="http://cs10075.vkontakte.ru/u140166728/-14/x_53d54964.jpg"/>
          <p:cNvPicPr/>
          <p:nvPr/>
        </p:nvPicPr>
        <p:blipFill>
          <a:blip r:embed="rId1"/>
          <a:stretch/>
        </p:blipFill>
        <p:spPr>
          <a:xfrm>
            <a:off x="5429160" y="2000160"/>
            <a:ext cx="321804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7" descr="http://img1.liveinternet.ru/images/attach/c/1/60/674/60674875_013.jpg"/>
          <p:cNvPicPr/>
          <p:nvPr/>
        </p:nvPicPr>
        <p:blipFill>
          <a:blip r:embed="rId2"/>
          <a:stretch/>
        </p:blipFill>
        <p:spPr>
          <a:xfrm>
            <a:off x="1258920" y="1989000"/>
            <a:ext cx="338436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Зрачок кошачьего глаза может изменять форму, и в темноте светится зелёны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Кошки превосходно видят в сумер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22" descr="http://desktopwallpapers.org.ua/pic/201107/1280x720/desktopwallpapers.org.ua-2550.jpg"/>
          <p:cNvPicPr/>
          <p:nvPr/>
        </p:nvPicPr>
        <p:blipFill>
          <a:blip r:embed="rId1"/>
          <a:stretch/>
        </p:blipFill>
        <p:spPr>
          <a:xfrm>
            <a:off x="1285920" y="2000160"/>
            <a:ext cx="661032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и любят чистоту и поэтому, постоянно «моются»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Чистоплотность является инстинктивной у всех кошачьих: чистота тела необходима при охоте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9" descr="http://img-fotki.yandex.ru/get/5104/kot-renat2010.0/0_4039f_f55d8994_XL"/>
          <p:cNvPicPr/>
          <p:nvPr/>
        </p:nvPicPr>
        <p:blipFill>
          <a:blip r:embed="rId1"/>
          <a:stretch/>
        </p:blipFill>
        <p:spPr>
          <a:xfrm>
            <a:off x="1763640" y="1773360"/>
            <a:ext cx="5904000" cy="429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ошки"/>
          <p:cNvPicPr/>
          <p:nvPr/>
        </p:nvPicPr>
        <p:blipFill>
          <a:blip r:embed="rId2"/>
          <a:stretch/>
        </p:blipFill>
        <p:spPr>
          <a:xfrm>
            <a:off x="1692360" y="3716280"/>
            <a:ext cx="3240000" cy="22384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 народных сказках часто главными персонажами были коты и кошки. Их изображали трудолюбивыми и ум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29" descr="http://img-fotki.yandex.ru/get/4511/sitella2009.e/0_55e24_6306869_XL"/>
          <p:cNvPicPr/>
          <p:nvPr/>
        </p:nvPicPr>
        <p:blipFill>
          <a:blip r:embed="rId1"/>
          <a:stretch/>
        </p:blipFill>
        <p:spPr>
          <a:xfrm>
            <a:off x="1071720" y="2000160"/>
            <a:ext cx="307152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Рисунок 28" descr="http://img-fotki.yandex.ru/get/5501/sitella2009.e/0_55e26_95783957_XL"/>
          <p:cNvPicPr/>
          <p:nvPr/>
        </p:nvPicPr>
        <p:blipFill>
          <a:blip r:embed="rId2"/>
          <a:stretch/>
        </p:blipFill>
        <p:spPr>
          <a:xfrm>
            <a:off x="5000760" y="2000160"/>
            <a:ext cx="31860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верьте поговорке «живут, как кошка с собакой». На самом же деле кошки  тоже умеют дружить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МУСЯ 121"/>
          <p:cNvPicPr/>
          <p:nvPr/>
        </p:nvPicPr>
        <p:blipFill>
          <a:blip r:embed="rId1"/>
          <a:stretch/>
        </p:blipFill>
        <p:spPr>
          <a:xfrm>
            <a:off x="1332000" y="1989000"/>
            <a:ext cx="655308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же живя рядом с человеком кошки остаются  свободолюбивыми и независимыми.  Сами могут добыть себе пищу, найти жилище и жить од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6" descr="http://s009.radikal.ru/i308/1011/f3/083740caa18et.jp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24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и нет дома – мышам раздоль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а спит, а мышей видит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а на печке, пёс на крылечк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а на мышей храб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532615sziqsge796"/>
          <p:cNvPicPr/>
          <p:nvPr/>
        </p:nvPicPr>
        <p:blipFill>
          <a:blip r:embed="rId1"/>
          <a:stretch/>
        </p:blipFill>
        <p:spPr>
          <a:xfrm>
            <a:off x="3286080" y="4000680"/>
            <a:ext cx="2840040" cy="22716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Содержимое 3" descr="http://animalworld.com.ua/images/2009/June_09/Foto/Photos_of_cats/photos_of_cats_9.jpg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а- млекопитающее семейства кошачьих отряда хищных. Является одним из самых популярных домашних живо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25" descr="http://img-fotki.yandex.ru/get/6300/91945973.84/0_72db2_d12b0587_XL"/>
          <p:cNvPicPr/>
          <p:nvPr/>
        </p:nvPicPr>
        <p:blipFill>
          <a:blip r:embed="rId1"/>
          <a:stretch/>
        </p:blipFill>
        <p:spPr>
          <a:xfrm>
            <a:off x="1809720" y="325764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http://kolyan.net/uploads/posts/2009-07/thumbs/1247513899_15.jpg"/>
          <p:cNvPicPr/>
          <p:nvPr/>
        </p:nvPicPr>
        <p:blipFill>
          <a:blip r:embed="rId3"/>
          <a:stretch/>
        </p:blipFill>
        <p:spPr>
          <a:xfrm>
            <a:off x="1571760" y="2000160"/>
            <a:ext cx="597672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омашнивание кошки произошло примерно 9500 лет назад на Ближнем Востоке, где зародились древнейшие человеческие цивилиз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12" descr="http://charmofegypt.ru/wp-content/uploads/2012/03/koshki-v-egypte-1-290x290.jpg"/>
          <p:cNvPicPr/>
          <p:nvPr/>
        </p:nvPicPr>
        <p:blipFill>
          <a:blip r:embed="rId1"/>
          <a:stretch/>
        </p:blipFill>
        <p:spPr>
          <a:xfrm>
            <a:off x="539640" y="2421000"/>
            <a:ext cx="340992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14" descr="http://zoofayna.ru/wp-content/uploads/2011/11/egipt_cats-e1321821355159.jpg"/>
          <p:cNvPicPr/>
          <p:nvPr/>
        </p:nvPicPr>
        <p:blipFill>
          <a:blip r:embed="rId2"/>
          <a:stretch/>
        </p:blipFill>
        <p:spPr>
          <a:xfrm>
            <a:off x="5148360" y="2421000"/>
            <a:ext cx="345600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6" descr="D:\Documents and Settings\Администратор\Мои документы\Мои рисунки\2013-02-21\772869.gif"/>
          <p:cNvPicPr/>
          <p:nvPr/>
        </p:nvPicPr>
        <p:blipFill>
          <a:blip r:embed="rId3"/>
          <a:stretch/>
        </p:blipFill>
        <p:spPr>
          <a:xfrm>
            <a:off x="4000680" y="1643040"/>
            <a:ext cx="1357200" cy="2178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началом земледелия у людей появились излишки пищи , и возникла необходимость их сохранения и защиты от грызунов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16" descr="http://www.themarysue.com/wp-content/uploads/2012/06/Cat-with-mouse-001.jpeg"/>
          <p:cNvPicPr/>
          <p:nvPr/>
        </p:nvPicPr>
        <p:blipFill>
          <a:blip r:embed="rId1"/>
          <a:stretch/>
        </p:blipFill>
        <p:spPr>
          <a:xfrm>
            <a:off x="1476360" y="2276640"/>
            <a:ext cx="622296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мире насчитывается около 600 млн. домашних кошек, выведено 256 пород, от длинношёрстных (персидская кошка) до лишённых шерсти (сфинксы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2" descr="http://www.keminfo.ru/image/upload/39Lejo33.jpg"/>
          <p:cNvPicPr/>
          <p:nvPr/>
        </p:nvPicPr>
        <p:blipFill>
          <a:blip r:embed="rId1"/>
          <a:stretch/>
        </p:blipFill>
        <p:spPr>
          <a:xfrm>
            <a:off x="5076720" y="1989000"/>
            <a:ext cx="300996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7" descr="http://www.proxvost.info/photo/long-haired/persian_cat/persian.jpg"/>
          <p:cNvPicPr/>
          <p:nvPr/>
        </p:nvPicPr>
        <p:blipFill>
          <a:blip r:embed="rId2"/>
          <a:stretch/>
        </p:blipFill>
        <p:spPr>
          <a:xfrm>
            <a:off x="1187280" y="1989000"/>
            <a:ext cx="293868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ух кошек настолько хорошо развит, что они даже  с закрытыми глазами слышат шорох и писк пробегающих мимо мышей. Кошки могут воспринимать и ультразвуковые сигна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МУСЯ 113"/>
          <p:cNvPicPr/>
          <p:nvPr/>
        </p:nvPicPr>
        <p:blipFill>
          <a:blip r:embed="rId1"/>
          <a:stretch/>
        </p:blipFill>
        <p:spPr>
          <a:xfrm>
            <a:off x="1371600" y="2038320"/>
            <a:ext cx="6400800" cy="400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язательные функции у кошек выполняют особые тактильные  волоски: над верхней губой, над глазами, под подбородком, это– вибриссы (ус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23" descr="http://img1.liveinternet.ru/images/attach/c/2/74/595/74595235_11.jpg"/>
          <p:cNvPicPr/>
          <p:nvPr/>
        </p:nvPicPr>
        <p:blipFill>
          <a:blip r:embed="rId1"/>
          <a:stretch/>
        </p:blipFill>
        <p:spPr>
          <a:xfrm>
            <a:off x="714240" y="2643120"/>
            <a:ext cx="381024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1243155407_5165"/>
          <p:cNvPicPr/>
          <p:nvPr/>
        </p:nvPicPr>
        <p:blipFill>
          <a:blip r:embed="rId2"/>
          <a:stretch/>
        </p:blipFill>
        <p:spPr>
          <a:xfrm>
            <a:off x="4992840" y="1981080"/>
            <a:ext cx="3119400" cy="4114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ибриссы также показывают настроение животного: направленные вперёд усы – любопытство и настороженность, а в агрессии кошка прижимает усы к мор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19" descr="http://grandwallpapers.net/photo/zlaya-koshka-800x600.jpg"/>
          <p:cNvPicPr/>
          <p:nvPr/>
        </p:nvPicPr>
        <p:blipFill>
          <a:blip r:embed="rId1"/>
          <a:stretch/>
        </p:blipFill>
        <p:spPr>
          <a:xfrm>
            <a:off x="3132000" y="2205000"/>
            <a:ext cx="5110200" cy="37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6" descr="3344361_2399744_358237_57_099dc01b934c6d0abacfddf1f7e6744e"/>
          <p:cNvPicPr/>
          <p:nvPr/>
        </p:nvPicPr>
        <p:blipFill>
          <a:blip r:embed="rId2"/>
          <a:stretch/>
        </p:blipFill>
        <p:spPr>
          <a:xfrm>
            <a:off x="0" y="2637000"/>
            <a:ext cx="3276720" cy="23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3344361_2399744_358237_57_099dc01b934c6d0abacfddf1f7e6744e"/>
          <p:cNvPicPr/>
          <p:nvPr/>
        </p:nvPicPr>
        <p:blipFill>
          <a:blip r:embed="rId3"/>
          <a:stretch/>
        </p:blipFill>
        <p:spPr>
          <a:xfrm>
            <a:off x="0" y="2643120"/>
            <a:ext cx="3276720" cy="23716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кошек сильно развито обоняние. Поверхность обонятельного эпителия составляет 5,8 квад. см., что в два раза больше чем у челове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11" descr="http://img-fotki.yandex.ru/get/5809/127811172.0/0_52790_4b1e880f_XL"/>
          <p:cNvPicPr/>
          <p:nvPr/>
        </p:nvPicPr>
        <p:blipFill>
          <a:blip r:embed="rId1"/>
          <a:stretch/>
        </p:blipFill>
        <p:spPr>
          <a:xfrm>
            <a:off x="1763640" y="1989000"/>
            <a:ext cx="561672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4" descr="C:\Documents and Settings\студент\Мои документы\Мои рисунки\9c27ae8f3a2cd3a15a07e9b4d376c14b.gif"/>
          <p:cNvPicPr/>
          <p:nvPr/>
        </p:nvPicPr>
        <p:blipFill>
          <a:blip r:embed="rId2"/>
          <a:stretch/>
        </p:blipFill>
        <p:spPr>
          <a:xfrm>
            <a:off x="2357280" y="50720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D:\Documents and Settings\Администратор\Мои документы\Мои рисунки\2013-02-21\WKJiXZKI.gif"/>
          <p:cNvPicPr/>
          <p:nvPr/>
        </p:nvPicPr>
        <p:blipFill>
          <a:blip r:embed="rId3"/>
          <a:stretch/>
        </p:blipFill>
        <p:spPr>
          <a:xfrm>
            <a:off x="6572160" y="4286160"/>
            <a:ext cx="809640" cy="7542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3867E-006 C 0.00642 -0.01272 0.00382 -0.00717 0.00816 -0.01642 C 0.00886 -0.01804 0.00851 -0.02035 0.00955 -0.02174 C 0.01059 -0.02313 0.01233 -0.02266 0.01372 -0.02359 C 0.01979 -0.02775 0.025 -0.03168 0.0316 -0.03469 C 0.0467 -0.03353 0.06181 -0.03307 0.07674 -0.03099 C 0.08611 -0.02983 0.09514 -0.0229 0.10417 -0.01989 C 0.11024 -0.01457 0.11771 -0.01411 0.12465 -0.01087 C 0.12865 -0.00902 0.13177 -0.00439 0.13559 -0.00185 C 0.14149 0.00208 0.14722 0.00393 0.15347 0.00555 C 0.16493 0.00486 0.17622 0.00486 0.18767 0.0037 C 0.1934 0.00324 0.19809 -0.0037 0.20278 -0.00717 C 0.2184 -0.01873 0.23333 -0.0333 0.2507 -0.04001 C 0.27865 -0.05065 0.32153 -0.04487 0.33976 -0.04556 C 0.35781 -0.05365 0.3658 -0.08511 0.37674 -0.10384 C 0.38125 -0.1228 0.39323 -0.14015 0.40278 -0.15495 C 0.40781 -0.16281 0.41285 -0.17553 0.42049 -0.18062 C 0.42552 -0.18409 0.4316 -0.18501 0.43698 -0.18779 C 0.44445 -0.19172 0.45087 -0.19473 0.45886 -0.19704 C 0.47691 -0.20907 0.49549 -0.21855 0.51233 -0.23358 C 0.51719 -0.23797 0.51597 -0.2426 0.51927 -0.24815 C 0.5217 -0.25208 0.52465 -0.25532 0.52743 -0.25902 C 0.54983 -0.28885 0.5632 -0.32539 0.57952 -0.36124 C 0.58472 -0.3728 0.58802 -0.38599 0.59323 -0.39778 C 0.59636 -0.4179 0.59583 -0.41258 0.60278 -0.42877 C 0.60851 -0.44241 0.60208 -0.4334 0.60955 -0.44519 C 0.61806 -0.45883 0.6316 -0.46693 0.64392 -0.47248 C 0.65035 -0.47849 0.65712 -0.48335 0.66441 -0.48705 C 0.67222 -0.49746 0.68281 -0.5118 0.69323 -0.51642 C 0.69931 -0.52891 0.69097 -0.51457 0.70278 -0.52359 C 0.70417 -0.52475 0.70434 -0.52752 0.70556 -0.52914 C 0.70712 -0.53122 0.70938 -0.53238 0.71094 -0.53469 C 0.72031 -0.54857 0.72656 -0.56499 0.7342 -0.58025 C 0.73889 -0.5895 0.74514 -0.59736 0.74514 -0.60939 E">
                                      <p:cBhvr>
                                        <p:cTn id="1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</dc:creator>
  <dc:description/>
  <dc:language>en-US</dc:language>
  <cp:lastModifiedBy>Валентина</cp:lastModifiedBy>
  <dcterms:modified xsi:type="dcterms:W3CDTF">2020-08-17T04:25:07Z</dcterms:modified>
  <cp:revision>45</cp:revision>
  <dc:subject/>
  <dc:title>PowerPoint Presentation</dc:title>
</cp:coreProperties>
</file>