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D92-CD59-4AF9-AD4C-1DABF52484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C84F-3796-4488-B86D-D2BA36027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42A7-05C0-4A55-ACDE-46740FBB3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EFE-EFD5-4855-9D6E-D286A945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612-EC02-4B11-879A-C7959BC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731-C207-4A83-BDC8-69E351FA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8B4-3A58-4DDC-8597-821D0832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B70-E161-43E7-BE80-D7FCEE3E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D5C2-B313-4C27-A186-8010F82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6A3-1CCD-4A20-8F6A-7BE923A9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479-5F1F-42AF-B4F7-82B11817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D4F9-005C-40B4-AAEB-CCECBF1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A8B8-9FF1-4C5E-A538-104EB20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E400-EC5E-4637-A0FB-EF7D6DB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F72-EDE1-4FA3-8AD9-9944FB7C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6C86-4905-4783-9419-8E8B4FE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A9C3-19DD-4751-8E87-EA3AD60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4BC8-66B5-4F1C-9BCC-1DDD74C1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52FF-5C77-44A2-8D94-51C479A2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35B3-0EB8-4E65-97D6-E8DB71CA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2232-C4D5-410B-AF8E-EBA4322D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D1E8-90B1-4532-8D0D-ACFCBA42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4440-B638-4B90-8092-AEC29358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6C5F-31CD-4477-8F31-CC5AFB0C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D01B-D8FF-40D5-ABBF-9CFFF4B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F49-14EA-4094-B1CF-8D54F5B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5019-2498-4067-BA24-4569A392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31F3-227B-4F06-AB75-5AF9E18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F5D7-C445-4955-80A6-165ED29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B8DA-AEEB-4CF2-AC14-C7E579A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F67D-34EF-42E2-8989-CFBEFA13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AF8D-D08C-4247-8964-E22163E0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D859-BFB8-4C91-A155-8400D61F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F7C7-386A-4144-B7AC-A885159A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86CF-9EAC-4A24-93CC-42F3182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98CD-246B-4BB4-8A7B-0534B75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B3C-56C2-4423-9985-C513A44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7F48-3915-4FC8-817B-A40CB25C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1B93-7A8F-47C3-A3BE-78E5E176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629D-0A97-4A77-800A-773E736F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5624-1E39-41EC-9827-05D4D66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5D72-59A2-4AA6-83BA-6542141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9356-3213-49F9-B276-17B3FD5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55DB-B6B1-459C-A81F-CDEF694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A63E-A503-4CD4-9501-513D2207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F70F-6F1C-444F-A6EE-C2448896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AC1B-B9DE-40FF-90AB-4EA54E47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C68-05FB-4F9D-ACB1-E29B78C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1996-00F0-498F-A2A9-A19C412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7E9B-A12B-4F3D-8D0D-6E947D29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B315-AD32-48B0-8640-BF15CBD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8889-6225-4DC7-AD49-6598DA6B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808C-7813-4009-9CF4-D7F10602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E304-B98D-41C0-A239-6C9F3E5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302C-23F3-45DD-8B5B-1B40C0B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99E1-B463-46A0-8F8D-F14FC49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2D20-6CD3-42FD-B4E5-9CFAB0EE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3E04-72C6-4982-A36A-CCC1CA8B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2EE-55C1-42AD-88A4-4842FDFC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8662-9716-4559-8E32-0AF933C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7F55-C863-4D85-B8E4-6EBC4D7B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D7B47-C48D-41B2-AA4E-96B77AEB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1F3FC-7158-48EE-BB74-3CBED8D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6A69-C22B-46C1-B3BD-4C42ED3E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28E4E-2F4C-4B3F-AA66-DD910D2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E1B2-A957-4683-BC8E-A74F10E4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8BA5-C5D4-437D-9C95-C3807A7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830E-C15F-4F19-91B2-8DA238C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2809-C669-47A6-B79A-B9FD27F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78C-7873-4522-ADBB-9D6F1CE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D30F-CE5D-4629-95AE-CBC27BF9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14C36-DC60-4E38-8440-98F64AB3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E8EC-D5E6-4A54-AED9-398B82D3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8347-F8B3-474D-9C05-75CA10D7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2619-3194-45FE-B1E7-AFE5D07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00D5-6541-4FCF-AC3A-B3E5C6D9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1FFA-5173-431E-BB30-7DF9D866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C3D1-CC82-4171-B611-2C9E7F4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63E9-37CD-4C15-A096-3BF27E86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3F05-922B-406C-A83B-A8DE0BA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B43-EEAD-4C0A-B3EE-70AF2392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1FF4-13CF-4568-BDEB-00BF08B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EFE8-A99C-4931-BDDA-E951E8D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51B6-E470-469E-BF02-450DFB9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4424-7CED-4AE6-8537-27DD8B67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215A4-4622-433A-B590-6604F97D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12A-95E9-452B-AEBB-C234E15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4320" y="-816120"/>
            <a:ext cx="1638360" cy="1638360"/>
          </a:xfrm>
          <a:custGeom>
            <a:avLst/>
            <a:gdLst/>
            <a:ahLst/>
            <a:rect l="l" t="t" r="r" b="b"/>
            <a:pathLst>
              <a:path w="1638301" h="1638300">
                <a:moveTo>
                  <a:pt x="1638301" y="819150"/>
                </a:moveTo>
                <a:cubicBezTo>
                  <a:pt x="1638301" y="1036490"/>
                  <a:pt x="1551928" y="1244920"/>
                  <a:pt x="1398198" y="1398555"/>
                </a:cubicBezTo>
                <a:cubicBezTo>
                  <a:pt x="1244468" y="1552190"/>
                  <a:pt x="1035984" y="1638433"/>
                  <a:pt x="818645" y="1638299"/>
                </a:cubicBezTo>
                <a:cubicBezTo>
                  <a:pt x="818814" y="1365249"/>
                  <a:pt x="818982" y="1092200"/>
                  <a:pt x="819151" y="819150"/>
                </a:cubicBezTo>
                <a:lnTo>
                  <a:pt x="16383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6680" y="20520"/>
            <a:ext cx="17049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F77-8091-4159-9A2B-8276342661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4320" y="-816120"/>
            <a:ext cx="1638360" cy="1638360"/>
          </a:xfrm>
          <a:custGeom>
            <a:avLst/>
            <a:gdLst/>
            <a:ahLst/>
            <a:rect l="l" t="t" r="r" b="b"/>
            <a:pathLst>
              <a:path w="1638301" h="1638300">
                <a:moveTo>
                  <a:pt x="1638301" y="819150"/>
                </a:moveTo>
                <a:cubicBezTo>
                  <a:pt x="1638301" y="1036490"/>
                  <a:pt x="1551928" y="1244920"/>
                  <a:pt x="1398198" y="1398555"/>
                </a:cubicBezTo>
                <a:cubicBezTo>
                  <a:pt x="1244468" y="1552190"/>
                  <a:pt x="1035984" y="1638433"/>
                  <a:pt x="818645" y="1638299"/>
                </a:cubicBezTo>
                <a:cubicBezTo>
                  <a:pt x="818814" y="1365249"/>
                  <a:pt x="818982" y="1092200"/>
                  <a:pt x="819151" y="819150"/>
                </a:cubicBezTo>
                <a:lnTo>
                  <a:pt x="16383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6680" y="20520"/>
            <a:ext cx="17049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2C53-D1A4-48D8-8CE9-8FA1E233DD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45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8DA2-DCFF-4A11-B06D-3EFC252372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230-6609-45E5-95FE-3C52A85248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48B-5808-4B37-9B3F-55CE4D51D1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9D43-848E-4F16-98E1-C085EAA44A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49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9EF-4712-4B15-8E46-ABA9BDADA3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22"/>
          <p:cNvSpPr/>
          <p:nvPr/>
        </p:nvSpPr>
        <p:spPr>
          <a:xfrm>
            <a:off x="1138320" y="404640"/>
            <a:ext cx="762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3204"/>
                </a:solidFill>
                <a:latin typeface="Arial"/>
              </a:rPr>
              <a:t>Муниципальное бюджетное 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3204"/>
                </a:solidFill>
                <a:latin typeface="Arial"/>
              </a:rPr>
              <a:t>детский сад комбинированного вида № 17 «Земляничка» г. Берд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693800" y="4797360"/>
            <a:ext cx="72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13204"/>
                </a:solidFill>
                <a:latin typeface="Arial"/>
              </a:rPr>
              <a:t>Методист Ольга Валентиновна Антонен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Прямоугольник 2" descr=""/>
          <p:cNvPicPr/>
          <p:nvPr/>
        </p:nvPicPr>
        <p:blipFill>
          <a:blip r:embed="rId1"/>
          <a:stretch/>
        </p:blipFill>
        <p:spPr>
          <a:xfrm>
            <a:off x="1347840" y="1792440"/>
            <a:ext cx="6937200" cy="23349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4088520" y="6292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13204"/>
                </a:solidFill>
                <a:latin typeface="Arial"/>
              </a:rPr>
              <a:t>Бердск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324000" y="246240"/>
            <a:ext cx="87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я познавательно-исследовательской деятельности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 младше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79280" y="927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 познавательно-исследовательской деятельности развитие исследовательского типа мышления у до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324000" y="15890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39760" y="1913040"/>
          <a:ext cx="8904240" cy="4667040"/>
        </p:xfrm>
        <a:graphic>
          <a:graphicData uri="http://schemas.openxmlformats.org/drawingml/2006/table">
            <a:tbl>
              <a:tblPr/>
              <a:tblGrid>
                <a:gridCol w="2892240"/>
                <a:gridCol w="6012000"/>
              </a:tblGrid>
              <a:tr h="201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разов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первичных представлений о свойствах предметов и веществ (форме, цвете, величине, структуре, звучности и т. д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навыка работы с различными инструментами, развитие мелкой мотор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ва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тие интереса к окружающему мир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тие речевых навыков (построение устной речи — ответов на вопросы, рассказ об увиденном), словарного запас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здание положительной мотивации к самостоятельному поиску нужной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имулирование и поощрение любознательности, наблюда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19160" y="126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-исследовательская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средней групп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0" y="636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реализация их повышенной любознательности, стремления к опытной активности и самосто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000" y="1282680"/>
          <a:ext cx="8856720" cy="3290760"/>
        </p:xfrm>
        <a:graphic>
          <a:graphicData uri="http://schemas.openxmlformats.org/drawingml/2006/table">
            <a:tbl>
              <a:tblPr/>
              <a:tblGrid>
                <a:gridCol w="2087640"/>
                <a:gridCol w="6769080"/>
              </a:tblGrid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разов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умения самостоятельно обозначать проблему/вопрос и выдвигать гипотезы для изучения в практической работ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предпосылок поисковой деятельности, интеллектуальной инициа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 умений находить причинно-следственные связи в процессе опытнической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вающ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сширение кругозора посредством наблюдений в исследовательском процесс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ывать стремление к самостоятельной познавательной активности, умение взаимодействовать со сверстни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59" name="Прямоугольник 1"/>
          <p:cNvSpPr/>
          <p:nvPr/>
        </p:nvSpPr>
        <p:spPr>
          <a:xfrm>
            <a:off x="119160" y="4795920"/>
            <a:ext cx="8948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едагога заключается в контроле действий воспитанников — практических и мыслительных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Дети проговаривают составляющие каждого этапа исслед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вится пробле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вигаются варианты её решения (этап целеполага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вучиваются гипоте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потезы проверяются опытным путё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ируются результаты опы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ируются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50920" y="189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я опытно-эксперимент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старшем дошкольн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395280" y="981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уточнение всего спектра свойств и признаков объектов и предметов, взаимосвязи и взаимозависимости объектов и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50920" y="1916280"/>
          <a:ext cx="8713800" cy="4663800"/>
        </p:xfrm>
        <a:graphic>
          <a:graphicData uri="http://schemas.openxmlformats.org/drawingml/2006/table">
            <a:tbl>
              <a:tblPr/>
              <a:tblGrid>
                <a:gridCol w="2089080"/>
                <a:gridCol w="6624720"/>
              </a:tblGrid>
              <a:tr h="155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разов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асширение представлений об объектах окружающего мир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учение самостоятельному планированию исследовательской деятельности: постановке целей, построению алгоритма действий, прогнозированию результ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вающ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тие аналитического типа мышления: совершенствование навыков сравнительного анализа, обобщения, классификации, подведения итогов практическ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тие умения устанавливать причинно-следственные связи, выстраивать логические цепоч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вершенствование речевых навыков, обогащение активного словарного запаса специальными терминам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ощрение инициативности и независимости в работе, создание положительной мотивации к экспериментирован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здание положительной эмоциональной атмосферы в группе и сплочённости детского коллектива, развитие умения работать в команд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ание аккуратности и ответственности в работе через выполнение трудовых поруч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личительная особенность работы в подготовительной групп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изация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1"/>
          <p:cNvSpPr/>
          <p:nvPr/>
        </p:nvSpPr>
        <p:spPr>
          <a:xfrm>
            <a:off x="181080" y="979560"/>
            <a:ext cx="8962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воспитанник должен 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щущать значимость проводимой им исследовательской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ытывать положительные эмоции от проведения опытов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дивидуально-личностный подхо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стратегическим методом организации процесса обучения в современном ДОУ. В первую очередь должны учитываться индивидуальные интересы воспитанников и уровень исследовательских способностей. Дети должны получать посильные к выполнению задания. Индивидуализировать экспериментальную деятельность можно через предоставление выбора материалов для опытов и формы проведения исслед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6–7 лет настраиваются не на развлекательные и игровые действия, а на освоение социальной компетенции — роли исследователя, первооткрывателя. Воспитанники учатся выстраивать алгоритм проведения опыта, следовать схеме и вносить необходимые поправки, обосновывать актуальность наблюдения за названными явлениями и объектами. Отсюда возникает необходимость создания проблемных ситуаций, к решению которых стремятся юные исследов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"/>
          <p:cNvSpPr/>
          <p:nvPr/>
        </p:nvSpPr>
        <p:spPr>
          <a:xfrm>
            <a:off x="520560" y="5950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ветствуется не только самостоятельная работа, но и выбор оптимального способа ее осущест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792000" y="189000"/>
            <a:ext cx="83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опытно-экспериментальной деятельности до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4"/>
          <p:cNvSpPr/>
          <p:nvPr/>
        </p:nvSpPr>
        <p:spPr>
          <a:xfrm>
            <a:off x="2529000" y="708120"/>
            <a:ext cx="487656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н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4967280" y="9018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6"/>
          <p:cNvSpPr/>
          <p:nvPr/>
        </p:nvSpPr>
        <p:spPr>
          <a:xfrm>
            <a:off x="3452760" y="1239840"/>
            <a:ext cx="3049560" cy="307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Целеполаг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7"/>
          <p:cNvSpPr/>
          <p:nvPr/>
        </p:nvSpPr>
        <p:spPr>
          <a:xfrm>
            <a:off x="4978440" y="1547640"/>
            <a:ext cx="324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8"/>
          <p:cNvSpPr/>
          <p:nvPr/>
        </p:nvSpPr>
        <p:spPr>
          <a:xfrm>
            <a:off x="3029040" y="1697040"/>
            <a:ext cx="405288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ыдвижение гипотез (как, с помощью чего, что получи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9"/>
          <p:cNvSpPr/>
          <p:nvPr/>
        </p:nvSpPr>
        <p:spPr>
          <a:xfrm>
            <a:off x="4965840" y="20876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0"/>
          <p:cNvSpPr/>
          <p:nvPr/>
        </p:nvSpPr>
        <p:spPr>
          <a:xfrm>
            <a:off x="2944800" y="2333520"/>
            <a:ext cx="4019400" cy="603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роверка предположения (отбор нужных средств, реализация в действ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1"/>
          <p:cNvSpPr/>
          <p:nvPr/>
        </p:nvSpPr>
        <p:spPr>
          <a:xfrm>
            <a:off x="4965840" y="281952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2"/>
          <p:cNvSpPr/>
          <p:nvPr/>
        </p:nvSpPr>
        <p:spPr>
          <a:xfrm>
            <a:off x="3062160" y="3076560"/>
            <a:ext cx="380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4"/>
          <p:cNvSpPr/>
          <p:nvPr/>
        </p:nvSpPr>
        <p:spPr>
          <a:xfrm>
            <a:off x="3062160" y="31082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4"/>
          <p:cNvSpPr/>
          <p:nvPr/>
        </p:nvSpPr>
        <p:spPr>
          <a:xfrm>
            <a:off x="6870600" y="31082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6"/>
          <p:cNvSpPr/>
          <p:nvPr/>
        </p:nvSpPr>
        <p:spPr>
          <a:xfrm>
            <a:off x="5691240" y="3440160"/>
            <a:ext cx="243828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Не подтвердил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5"/>
          <p:cNvSpPr/>
          <p:nvPr/>
        </p:nvSpPr>
        <p:spPr>
          <a:xfrm>
            <a:off x="2135160" y="3456000"/>
            <a:ext cx="2436840" cy="303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одтвердил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2"/>
          <p:cNvSpPr/>
          <p:nvPr/>
        </p:nvSpPr>
        <p:spPr>
          <a:xfrm>
            <a:off x="3352680" y="363060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2"/>
          <p:cNvSpPr/>
          <p:nvPr/>
        </p:nvSpPr>
        <p:spPr>
          <a:xfrm>
            <a:off x="7005600" y="37148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7"/>
          <p:cNvSpPr/>
          <p:nvPr/>
        </p:nvSpPr>
        <p:spPr>
          <a:xfrm>
            <a:off x="2135160" y="3913200"/>
            <a:ext cx="26290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рование выв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(как, что получилос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0"/>
          <p:cNvSpPr/>
          <p:nvPr/>
        </p:nvSpPr>
        <p:spPr>
          <a:xfrm>
            <a:off x="5592600" y="4000680"/>
            <a:ext cx="3073680" cy="59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озникновение новой гипотезы, предполо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4"/>
          <p:cNvSpPr/>
          <p:nvPr/>
        </p:nvSpPr>
        <p:spPr>
          <a:xfrm>
            <a:off x="7070760" y="459108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9"/>
          <p:cNvSpPr/>
          <p:nvPr/>
        </p:nvSpPr>
        <p:spPr>
          <a:xfrm>
            <a:off x="5627520" y="4849920"/>
            <a:ext cx="2908440" cy="317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Реализация в 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4"/>
          <p:cNvSpPr/>
          <p:nvPr/>
        </p:nvSpPr>
        <p:spPr>
          <a:xfrm>
            <a:off x="7081920" y="516744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8"/>
          <p:cNvSpPr/>
          <p:nvPr/>
        </p:nvSpPr>
        <p:spPr>
          <a:xfrm>
            <a:off x="5864400" y="5451480"/>
            <a:ext cx="2436480" cy="31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одтвердил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4"/>
          <p:cNvSpPr/>
          <p:nvPr/>
        </p:nvSpPr>
        <p:spPr>
          <a:xfrm>
            <a:off x="7129440" y="576252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1"/>
          <p:cNvSpPr/>
          <p:nvPr/>
        </p:nvSpPr>
        <p:spPr>
          <a:xfrm>
            <a:off x="5875200" y="6021360"/>
            <a:ext cx="243864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рование выв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(как, что получилос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Овал 1" descr=""/>
          <p:cNvPicPr/>
          <p:nvPr/>
        </p:nvPicPr>
        <p:blipFill>
          <a:blip r:embed="rId1"/>
          <a:stretch/>
        </p:blipFill>
        <p:spPr>
          <a:xfrm>
            <a:off x="2395440" y="2639880"/>
            <a:ext cx="4711680" cy="16210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ая соединительная линия 3"/>
          <p:cNvSpPr/>
          <p:nvPr/>
        </p:nvSpPr>
        <p:spPr>
          <a:xfrm flipH="1" flipV="1">
            <a:off x="1884240" y="1874520"/>
            <a:ext cx="959040" cy="11890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4"/>
          <p:cNvSpPr/>
          <p:nvPr/>
        </p:nvSpPr>
        <p:spPr>
          <a:xfrm>
            <a:off x="442800" y="593640"/>
            <a:ext cx="2881440" cy="1281240"/>
          </a:xfrm>
          <a:prstGeom prst="ellipse">
            <a:avLst/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8"/>
          <p:cNvSpPr/>
          <p:nvPr/>
        </p:nvSpPr>
        <p:spPr>
          <a:xfrm>
            <a:off x="7164360" y="2874960"/>
            <a:ext cx="1903320" cy="10987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4"/>
          <p:cNvSpPr/>
          <p:nvPr/>
        </p:nvSpPr>
        <p:spPr>
          <a:xfrm flipV="1">
            <a:off x="6108840" y="1692360"/>
            <a:ext cx="1055520" cy="1279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5"/>
          <p:cNvSpPr/>
          <p:nvPr/>
        </p:nvSpPr>
        <p:spPr>
          <a:xfrm>
            <a:off x="108000" y="2784600"/>
            <a:ext cx="2255760" cy="12794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звитие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21"/>
          <p:cNvSpPr/>
          <p:nvPr/>
        </p:nvSpPr>
        <p:spPr>
          <a:xfrm>
            <a:off x="6567480" y="3424320"/>
            <a:ext cx="596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3"/>
          <p:cNvSpPr/>
          <p:nvPr/>
        </p:nvSpPr>
        <p:spPr>
          <a:xfrm>
            <a:off x="2363760" y="3424320"/>
            <a:ext cx="12060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28"/>
          <p:cNvSpPr/>
          <p:nvPr/>
        </p:nvSpPr>
        <p:spPr>
          <a:xfrm>
            <a:off x="5435640" y="228600"/>
            <a:ext cx="3600360" cy="14637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Изобраз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30"/>
          <p:cNvSpPr/>
          <p:nvPr/>
        </p:nvSpPr>
        <p:spPr>
          <a:xfrm flipV="1">
            <a:off x="4562640" y="2057040"/>
            <a:ext cx="0" cy="639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31"/>
          <p:cNvSpPr/>
          <p:nvPr/>
        </p:nvSpPr>
        <p:spPr>
          <a:xfrm>
            <a:off x="3492360" y="1197000"/>
            <a:ext cx="220824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Э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3"/>
          <p:cNvSpPr/>
          <p:nvPr/>
        </p:nvSpPr>
        <p:spPr>
          <a:xfrm flipH="1">
            <a:off x="2458800" y="3973680"/>
            <a:ext cx="865080" cy="9190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36"/>
          <p:cNvSpPr/>
          <p:nvPr/>
        </p:nvSpPr>
        <p:spPr>
          <a:xfrm>
            <a:off x="4562640" y="4151160"/>
            <a:ext cx="0" cy="7416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38"/>
          <p:cNvSpPr/>
          <p:nvPr/>
        </p:nvSpPr>
        <p:spPr>
          <a:xfrm>
            <a:off x="6356520" y="3938760"/>
            <a:ext cx="807840" cy="954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40"/>
          <p:cNvSpPr/>
          <p:nvPr/>
        </p:nvSpPr>
        <p:spPr>
          <a:xfrm>
            <a:off x="0" y="4800600"/>
            <a:ext cx="3492360" cy="1736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удоже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41"/>
          <p:cNvSpPr/>
          <p:nvPr/>
        </p:nvSpPr>
        <p:spPr>
          <a:xfrm>
            <a:off x="3516480" y="4892760"/>
            <a:ext cx="2592360" cy="1187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42"/>
          <p:cNvSpPr/>
          <p:nvPr/>
        </p:nvSpPr>
        <p:spPr>
          <a:xfrm>
            <a:off x="6134040" y="4888080"/>
            <a:ext cx="2687760" cy="1463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из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с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79280" y="119700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е расположение в помещении группы. В уголке должно быть достаточное естественное освещение. Подвижные и шумные занятия в других центрах активности могут отвлекать от выполнения опытов, поэтому уголок находится в тихом мест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 для воспитанников. Материалы и приборы размещаются в шкафах таким образом, чтобы воспитанники легко их доставали. Рекомендуется разделить компоненты материальной базы на три сектора — дидактический, инструментальный, стимулирую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опасность. В уголке опытно-экспериментальной деятельности размещаются правила безопасности по нахождению в мини-лаборатории и проведению исследований (настенный плакат), воспитатель изучает их с детьми и проговаривает во время знакомства с уголком. Не рекомендуется обустраивать уголок навесными полками и шкафами со стеклянными дверцами. Электрические розетки и приборы (видеопроигрыватель, проектор) находятся вне зоны доступа детей. Вещества для экспериментирования, которые могут нанести вред здоровью ребёнка (марганцовка, зелёнка, уксус), предоставляются воспитателем по просьбе и действия с ними осуществляются под его контро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7469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ебования к оформлению уголк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 назвать исследовательский уголок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Прямоугольник 2"/>
          <p:cNvSpPr/>
          <p:nvPr/>
        </p:nvSpPr>
        <p:spPr>
          <a:xfrm>
            <a:off x="324000" y="836640"/>
            <a:ext cx="856908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уголка должно быть понятно детям и по возможности вызывать положительные эмоции. Младших дошкольников привлекают короткие именования и названия, в которых присутствует упоминание любимых персонажей — животных, сказочных и мультипликационных героев. Воспитанники старшей и подготовительной групп предпочитают отсылки к научной тематике и названия, связанные с фантастическими сюжетами. Рекомендуется привлекать детей к придумыванию названия уголка. Когда зона оборудовано и оснащено место будущего экспериментирования, воспитатель задаёт вопрос: «Как же назвать наш уголок?» Для стимулирования фантазии можно предложить выбрать понравившееся из предложенных вариантов и дополнить на свой вкус. Или дать задание придумать название в соответствии со стилем оформления лабора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ы классических названий: «Уголок экспериментирования», «Экспериментируем», «Наш исследовательский центр», «Опытная лаборатория», «Познавайка», «Любознайка», «Мы исследователи», «Познаём мир», «Хочу всё знать!». Варианты названий с использованием персонажей: «Уголок Почемучки», «Лаборатория фиксиков», «Научный центр Астерикса», «В гостях у дядюшки Филина», «Клуб знайки», «Лаборатория Лунтика», «Уроки профессора Чудакова». Варианты креативных названий: «Экспериментариум», «Лаборатория будущего», «Тайны планеты Земля», «Экспериментам — быть!», «Неизведанное рядом!», «Волшебство — это опыты», «Центр практической магии», «Школа учёных», «К экспериментированию готов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s://melkie.net/wp-content/uploads/2018/02/tehnika-bezopasnosti-v-ugolke-eksperimentirovaniya-600x424.jpg"/>
          <p:cNvPicPr/>
          <p:nvPr/>
        </p:nvPicPr>
        <p:blipFill>
          <a:blip r:embed="rId1"/>
          <a:stretch/>
        </p:blipFill>
        <p:spPr>
          <a:xfrm>
            <a:off x="22320" y="260280"/>
            <a:ext cx="4356000" cy="3078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s://melkie.net/wp-content/uploads/2018/02/pravila-provedeniya-opytov-s-vodoy-600x450.jpg"/>
          <p:cNvPicPr/>
          <p:nvPr/>
        </p:nvPicPr>
        <p:blipFill>
          <a:blip r:embed="rId2"/>
          <a:stretch/>
        </p:blipFill>
        <p:spPr>
          <a:xfrm>
            <a:off x="4403880" y="115920"/>
            <a:ext cx="4740120" cy="3556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s://melkie.net/wp-content/uploads/2018/02/pravila-pribyvaniya-v-ugolke-eksperimentirovaniya-600x450.jpg"/>
          <p:cNvPicPr/>
          <p:nvPr/>
        </p:nvPicPr>
        <p:blipFill>
          <a:blip r:embed="rId3"/>
          <a:stretch/>
        </p:blipFill>
        <p:spPr>
          <a:xfrm>
            <a:off x="2433600" y="3429000"/>
            <a:ext cx="43228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3564000" y="836640"/>
            <a:ext cx="5472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 Е. Тимиряз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Люди, научившиеся… наблюдениям и опытам, приобретают способность сами ставить вопросы и получать на них фактические ответы на более высоком умственном и нравственном уровне в сравнении с теми, кто такой школы не проше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Картинки по запросу тимирязев фото"/>
          <p:cNvPicPr/>
          <p:nvPr/>
        </p:nvPicPr>
        <p:blipFill>
          <a:blip r:embed="rId1"/>
          <a:stretch/>
        </p:blipFill>
        <p:spPr>
          <a:xfrm>
            <a:off x="250920" y="333360"/>
            <a:ext cx="28083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3"/>
          <p:cNvSpPr/>
          <p:nvPr/>
        </p:nvSpPr>
        <p:spPr>
          <a:xfrm>
            <a:off x="30240" y="50760"/>
            <a:ext cx="91137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ГОС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 познавательных интересов и познавательных действий ребёнка в различных видах 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 интеллектуальных качеств до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ГОС ДО особого внимания уделяет познавательно-исследовательской деятельности (исследование объектов окружающего мира и экспериментирование с 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 деятельност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ешения познавательных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экспериментирования в работе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ект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требованиями ФГОС, воспитателям в детском саду рекомендуется ежедневно организовывать ситуации, провоцирующие познавательную активность воспитанников. Одной из форм такого воздействия является экспериментально-исследовательская деятельность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иментально-исследовательская деятельность в детском саду – это эффективная деятельность, направленная на развитие познавательной активности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444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7" name="Picture 4" descr="1281290937_picturecontent-pid-21366"/>
          <p:cNvPicPr/>
          <p:nvPr/>
        </p:nvPicPr>
        <p:blipFill>
          <a:blip r:embed="rId1"/>
          <a:stretch/>
        </p:blipFill>
        <p:spPr>
          <a:xfrm>
            <a:off x="1258920" y="907920"/>
            <a:ext cx="74898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16000" y="816120"/>
            <a:ext cx="763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rbel"/>
              </a:rPr>
              <a:t>Культурные практик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– это разнообразные, основанные на текущих и перспективных интересах ребенка виды самостоятельной деятельности, поведения, душевного самочувствия и складывающегося с первых дней  жизни уникального индивидуального жизненного опыта.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             Н.Б.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1233360" y="2781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ультурные практики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— это ситуативное, автономное, самостоятельное, инициируемое взрослым или самим ребенком приобретение и повторение различного опыта общения и взаимодействия с людьми в различных группах, командах, сообществах и общественных структурах с взрослыми, сверстниками и младшими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урные практики на основе инициатив сам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урные практики, инициируемые, организуемые и направляемые взрос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2920" y="-28440"/>
            <a:ext cx="7497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ультурные практики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473040" y="189000"/>
            <a:ext cx="842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аких условиях возможно приобретение культурных практ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Процесс приобретения общих культурных умений во всей его полноте возможен только в том случае, если взрослый выступает в этом процессе в роли партнера, а не руководителя, поддерживая и развивая мотивацию ребен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мерная основная образовательная программа дошкольного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чему ФГОС ДО ориентирует на проектирование культурных практ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тому, ч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льтурные практики наполняют деятельность определенным смысл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которых дети самостоятельно, по своей инициативе и на основе своих индивидуальных желаний, интересов, потребностей, способностей, умений осваивают доступные им виды деятельности и способы поведения. Они действуют активно, свободно, уверенно, не боятся проявить инициативу, обосновать выбор, высказать свое собственное мнение, оценить ситуацию или посту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806400" y="470844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основе культурных практик ребенка формируются его привычки, пристрастия, интересы и излюбленные занятия, обогащается опыт общения со взрослыми, сверстниками и младшими детьми, приобретается собственный нравственный, эмоциональный опыт сопереживания, заботы, эмпатии, 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7280" y="-243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иды культурных практик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хема 3" descr=""/>
          <p:cNvPicPr/>
          <p:nvPr/>
        </p:nvPicPr>
        <p:blipFill>
          <a:blip r:embed="rId1"/>
          <a:stretch/>
        </p:blipFill>
        <p:spPr>
          <a:xfrm>
            <a:off x="469800" y="457200"/>
            <a:ext cx="8766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95280" y="260280"/>
          <a:ext cx="8424720" cy="6486480"/>
        </p:xfrm>
        <a:graphic>
          <a:graphicData uri="http://schemas.openxmlformats.org/drawingml/2006/table">
            <a:tbl>
              <a:tblPr/>
              <a:tblGrid>
                <a:gridCol w="1847880"/>
                <a:gridCol w="6576840"/>
              </a:tblGrid>
              <a:tr h="5605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ультурная прак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112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г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сят проблемный характер и заключают в себе жизненную проблему, близкую детям дошкольного возраста, в разрешении которой они принимают непосредственное участие. Краеведческие игры дают возможность приобщить ребенка к истории, культуре, географии, природе родного кр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693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узыкально-театральная и литературная гости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художественно-творческой деятельности детей, предполагающая организацию восприятия музыкальных и литературных произведений, творческую деятельность детей и свободное общение воспитателя и детей на литературном или музыкальном материале поэтов, писателей, музыкантов и художников родного кр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6923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в процессе которой предполагается решение проблемы краеведческого характера, предусматривающей использование разнообразных методов, средств в соответствующих видах детской деятельности и решение интегрированных задач соответствующих образовательных обла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28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кто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заключающаяся в процессе угадывания правильных ответов на вопросы из разных областей знания краеведческого характера. Например, викторина «Что я знаю о городе Новосибирске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0" y="128520"/>
          <a:ext cx="9144000" cy="6469200"/>
        </p:xfrm>
        <a:graphic>
          <a:graphicData uri="http://schemas.openxmlformats.org/drawingml/2006/table">
            <a:tbl>
              <a:tblPr/>
              <a:tblGrid>
                <a:gridCol w="2004840"/>
                <a:gridCol w="7139160"/>
              </a:tblGrid>
              <a:tr h="14691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ешествие,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а организации работы с детьми, в процессе которой происходит передвижение пешком или на транспорте по какой-либо территории с целью получения информации познавательного характера, либо закрепления ранее изученного материала в ходе реализации видов детской деятельности и обеспечивающие знакомство детей с социальным и культурным разнообразием родного поселка/города/кр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243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ртуальная экску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которая позволяет разнообразить и сделать интересным, а значит и более эффективным образовательный процесс, помогает реализовать принципы наглядности и научности обучения, способствуют развитию наблюдательности, навыков самостоятельной работы у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795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аршрутная иг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в процессе которой происходит практическое выполнение дошкольниками специально подобранных педагогом заданий краеведческого содержания в ходе целенаправленного движения по определенной схеме, карте, обозначенной в маршрутном лис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795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ыстав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в процессе которой происходит подготовка и публичная демонстрация детьми каких-либо продуктов (индивидуальных или совмест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х деятельности по определенной теме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243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Ярмар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в процессе которой происходит ознакомление их с популярной традицией устраивать 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становленное время и в определенном месте торжища, куда съезжаются продавцы и покупатели товаров с целью купли-продажи. например, «Сузунская ярмар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2243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лимпиа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в процессе которой происходит интеллектуальное соревнование детей в области краеведения, позволяющая выявить не только знание фактического материала, но и умение применять эти знания в новых нестандартных ситуациях, требующих творческого мышления. например, олимпиада для детей 6-7 лет «Знаток родного кра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250920" y="260280"/>
          <a:ext cx="8785080" cy="1584360"/>
        </p:xfrm>
        <a:graphic>
          <a:graphicData uri="http://schemas.openxmlformats.org/drawingml/2006/table">
            <a:tbl>
              <a:tblPr/>
              <a:tblGrid>
                <a:gridCol w="1925640"/>
                <a:gridCol w="6859440"/>
              </a:tblGrid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следовательская лаборатор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а организации работы с детьми, основанная на взаимодействии воспитателя и детей, в процессе которой дети осуществляют поиск объективной информации об объектах окружающего мира родного края путем опытно-экспериментальной деятель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Прямоугольник 2"/>
          <p:cNvSpPr/>
          <p:nvPr/>
        </p:nvSpPr>
        <p:spPr>
          <a:xfrm>
            <a:off x="503280" y="1871640"/>
            <a:ext cx="2879640" cy="863640"/>
          </a:xfrm>
          <a:prstGeom prst="rect">
            <a:avLst/>
          </a:prstGeom>
          <a:solidFill>
            <a:srgbClr val="e7dec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6086520" y="1882800"/>
            <a:ext cx="2879640" cy="863640"/>
          </a:xfrm>
          <a:prstGeom prst="rect">
            <a:avLst/>
          </a:prstGeom>
          <a:solidFill>
            <a:srgbClr val="e7dec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Двойная стрелка влево/вправо 5" descr=""/>
          <p:cNvPicPr/>
          <p:nvPr/>
        </p:nvPicPr>
        <p:blipFill>
          <a:blip r:embed="rId1"/>
          <a:stretch/>
        </p:blipFill>
        <p:spPr>
          <a:xfrm>
            <a:off x="3681360" y="1925640"/>
            <a:ext cx="2317680" cy="927000"/>
          </a:xfrm>
          <a:prstGeom prst="rect">
            <a:avLst/>
          </a:prstGeom>
          <a:ln w="0">
            <a:noFill/>
          </a:ln>
        </p:spPr>
      </p:pic>
      <p:sp>
        <p:nvSpPr>
          <p:cNvPr id="343" name="Скругленный прямоугольник 6"/>
          <p:cNvSpPr/>
          <p:nvPr/>
        </p:nvSpPr>
        <p:spPr>
          <a:xfrm>
            <a:off x="0" y="2859120"/>
            <a:ext cx="5580000" cy="399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Целью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зрослого, организующего познавательно-исследовательскую деятельность детей, являетс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азвитие у них любознательности, познавательной инициат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взрослый должен ознакомить ребенка с достаточно большим  объемом  конкретной  информации  об  окружающей  действительности  и предоставить ему культурные средства упорядочивания полученных знаний, позволяющие связывать отдельные представления в целостную картину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при решении указанных педагогических задач взрослый должен не только сохранить присущее с рождения каждому ребенку желание узнавать новое об окружающем, но и развить данное функциональное кач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5719680" y="2705040"/>
            <a:ext cx="3492720" cy="4037040"/>
          </a:xfrm>
          <a:custGeom>
            <a:avLst/>
            <a:gdLst>
              <a:gd name="textAreaLeft" fmla="*/ 170280 w 3492720"/>
              <a:gd name="textAreaRight" fmla="*/ 3322440 w 3492720"/>
              <a:gd name="textAreaTop" fmla="*/ 170280 h 4037040"/>
              <a:gd name="textAreaBottom" fmla="*/ 3866760 h 4037040"/>
            </a:gdLst>
            <a:ahLst/>
            <a:rect l="textAreaLeft" t="textAreaTop" r="textAreaRight" b="textAreaBottom"/>
            <a:pathLst>
              <a:path w="21600" h="24966">
                <a:moveTo>
                  <a:pt x="3600" y="0"/>
                </a:moveTo>
                <a:arcTo wR="3600" hR="3600" stAng="16200000" swAng="-5400000"/>
                <a:lnTo>
                  <a:pt x="0" y="21366"/>
                </a:lnTo>
                <a:arcTo wR="3600" hR="3600" stAng="10800000" swAng="-5400000"/>
                <a:lnTo>
                  <a:pt x="18000" y="249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знавательно-исследовательская деятельность ребенка-дошкольника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это активность направленная на постижение свойств объектов и явлений окружающего мира, выяснение связей между ними и их упорядочивание и систематизацию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179280" y="189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я познавательно-исследов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тей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Прямоугольник 3"/>
          <p:cNvGrpSpPr/>
          <p:nvPr/>
        </p:nvGrpSpPr>
        <p:grpSpPr>
          <a:xfrm>
            <a:off x="-73080" y="804960"/>
            <a:ext cx="9290160" cy="879480"/>
            <a:chOff x="-73080" y="804960"/>
            <a:chExt cx="9290160" cy="879480"/>
          </a:xfrm>
        </p:grpSpPr>
        <p:pic>
          <p:nvPicPr>
            <p:cNvPr id="34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73080" y="804960"/>
              <a:ext cx="92901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3760" y="860400"/>
              <a:ext cx="912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rbel"/>
                </a:rPr>
                <a:t>Образовательный процесс выстраивается по принципу «Ребёнок добывает знания»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rbel"/>
                </a:rPr>
                <a:t>Чтобы освоить знание и запомнить его, ребёнок переживает практический опы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4"/>
          <p:cNvSpPr/>
          <p:nvPr/>
        </p:nvSpPr>
        <p:spPr>
          <a:xfrm>
            <a:off x="344520" y="14842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— сформировать у детей исследовательский тип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6"/>
          <p:cNvSpPr/>
          <p:nvPr/>
        </p:nvSpPr>
        <p:spPr>
          <a:xfrm>
            <a:off x="266760" y="18543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познавательно-исследовательской деятельности в первой младшей груп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2360" y="2192400"/>
          <a:ext cx="8891640" cy="4856040"/>
        </p:xfrm>
        <a:graphic>
          <a:graphicData uri="http://schemas.openxmlformats.org/drawingml/2006/table">
            <a:tbl>
              <a:tblPr/>
              <a:tblGrid>
                <a:gridCol w="2519280"/>
                <a:gridCol w="6372360"/>
              </a:tblGrid>
              <a:tr h="2014920"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уч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формировать представления о предметном мир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формировать представления о мире животных и раст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ать первоначальные представления о природных явлениях, материалах и веществ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оставить понятие о геометрических эталонах: форма, величи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полнение словарного запа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801800"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азвив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тие всех видов восприятия: зрительного, слухового, сенсорного, вкусового, обонятельн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ирование умения работать с простыми инструмен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итие мелкой мотори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здание устойчивой мотивации к исследования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буждение к активной речев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08280"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оспит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ощрение наблюдательности и любозна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витие любви к порядку на рабочем месте, аккурат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спитание бережного отношения к живой приро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3:59:51Z</dcterms:created>
  <dc:creator>Ира</dc:creator>
  <dc:description/>
  <dc:language>en-US</dc:language>
  <cp:lastModifiedBy>кл</cp:lastModifiedBy>
  <dcterms:modified xsi:type="dcterms:W3CDTF">2019-12-10T04:35:41Z</dcterms:modified>
  <cp:revision>135</cp:revision>
  <dc:subject/>
  <dc:title>Слайд 1</dc:title>
</cp:coreProperties>
</file>