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C6B-1224-4A26-9ADD-11FB445E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C79-E629-4A53-BCB1-A58BAF7B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0E0-E6CE-4B0C-B57A-F4955933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640A-29CC-4C8F-B2C3-1826A860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178F-7265-4878-994A-332EF685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AA40-711C-4AE6-8B63-D0FCBE28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80C9-5BC2-4310-B717-4E0B6258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E20B-3A74-4AE2-A603-4CE17510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F71E-8E3F-48DD-AEE0-BBD13540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66A9-DBD0-4216-8476-5DB5F96D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1361-95AD-41C8-BA37-A37DCAAC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708-4F72-405E-B5B2-497A0BC9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EBFF-93D6-4D88-B724-1AB87B22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2C8C-F247-4B0C-B1A5-AB265E2F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F6FF-1999-485B-B7BB-98407269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B793-8642-40B0-8762-D2B40C80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1E65-39B9-4678-AB7E-DA216930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DC3-4D49-4AA6-BECC-26D0BC67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FC2-ADD2-435A-AA18-580072FA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A43-2B18-4DB5-81FE-0ABE485E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A17-39BC-4CFA-9D49-C1809EF8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DEA-4470-4E98-B717-8F75B983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9A1-74CA-41CF-97C6-F2C825FC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7E4-D382-49B9-897A-936A0367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B1A2-0148-4499-A384-E7745DF69F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BF34-59CD-4DAA-BA93-F2C4D8D1B3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М,Н,Ң  ХӘРЕФЛӘР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20 нче май.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ыйныф эш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Гг  Кк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Карга, күгәрчен, күке, тукра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616200" y="1211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500040"/>
            <a:ext cx="6102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 Black"/>
              </a:rPr>
              <a:t>Борын аваз хәрефләр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428840"/>
            <a:ext cx="7696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[</a:t>
            </a:r>
            <a:r>
              <a:rPr b="1" lang="tt-RU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]</a:t>
            </a:r>
            <a:r>
              <a:rPr b="1" lang="tt-RU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 [</a:t>
            </a:r>
            <a:r>
              <a:rPr b="1" lang="tt-RU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] </a:t>
            </a:r>
            <a:r>
              <a:rPr b="1" lang="tt-RU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[</a:t>
            </a:r>
            <a:r>
              <a:rPr b="1" lang="tt-RU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ң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]</a:t>
            </a:r>
            <a:r>
              <a:rPr b="1" lang="tt-RU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 – тартыклары борын авазлары дип атала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Мәсәлән, мин-миң, ана-аңа сүзләрендә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[</a:t>
            </a:r>
            <a:r>
              <a:rPr b="1" lang="tt-RU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]</a:t>
            </a:r>
            <a:r>
              <a:rPr b="1" lang="tt-RU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 [</a:t>
            </a:r>
            <a:r>
              <a:rPr b="1" lang="tt-RU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] </a:t>
            </a:r>
            <a:r>
              <a:rPr b="1" lang="tt-RU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[</a:t>
            </a:r>
            <a:r>
              <a:rPr b="1" lang="tt-RU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ң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]</a:t>
            </a:r>
            <a:r>
              <a:rPr b="1" lang="tt-RU" sz="36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  тартыклары борын авазлар</a:t>
            </a:r>
            <a:r>
              <a:rPr b="1" lang="tt-RU" sz="2400" spc="-1" strike="noStrike">
                <a:solidFill>
                  <a:srgbClr val="000000"/>
                </a:solidFill>
                <a:latin typeface="Arial Black"/>
                <a:ea typeface="Microsoft Sans Seri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Сүзләрне дөрес әйтегез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Г хәреф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Татар  телендә  г  хәрефе  ике  авазга  билге  булып  йөр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r>
              <a:rPr b="1" lang="tt-RU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Калын  сүзләрдә  ул  </a:t>
            </a:r>
            <a:r>
              <a:rPr b="1" lang="tt-RU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каты </a:t>
            </a:r>
            <a:r>
              <a:rPr b="1" lang="en-US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гъ</a:t>
            </a:r>
            <a:r>
              <a:rPr b="1" lang="en-US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]</a:t>
            </a:r>
            <a:r>
              <a:rPr b="1" lang="tt-RU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  </a:t>
            </a:r>
            <a:r>
              <a:rPr b="1" lang="tt-RU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авазын  белдерә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         </a:t>
            </a:r>
            <a:r>
              <a:rPr b="1" lang="tt-RU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суган</a:t>
            </a:r>
            <a:r>
              <a:rPr b="1" lang="en-US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 [</a:t>
            </a:r>
            <a:r>
              <a:rPr b="1" lang="ru-RU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сугъан</a:t>
            </a:r>
            <a:r>
              <a:rPr b="1" lang="en-US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]</a:t>
            </a:r>
            <a:r>
              <a:rPr b="1" lang="tt-RU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 , колга  </a:t>
            </a:r>
            <a:r>
              <a:rPr b="1" lang="en-US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къолгъа</a:t>
            </a:r>
            <a:r>
              <a:rPr b="1" lang="en-US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]</a:t>
            </a:r>
            <a:r>
              <a:rPr b="1" lang="ru-RU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Неч</a:t>
            </a:r>
            <a:r>
              <a:rPr b="1" lang="tt-RU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кә  сүзләрдә  г  хәрефе  </a:t>
            </a:r>
            <a:r>
              <a:rPr b="1" lang="tt-RU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йомшак  </a:t>
            </a:r>
            <a:r>
              <a:rPr b="1" lang="en-US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[</a:t>
            </a:r>
            <a:r>
              <a:rPr b="1" lang="tt-RU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г</a:t>
            </a:r>
            <a:r>
              <a:rPr b="1" lang="en-US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]</a:t>
            </a:r>
            <a:r>
              <a:rPr b="1" lang="tt-RU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 авазын  белдерә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[</a:t>
            </a:r>
            <a:r>
              <a:rPr b="1" lang="tt-RU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гөл</a:t>
            </a:r>
            <a:r>
              <a:rPr b="1" lang="en-US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],</a:t>
            </a:r>
            <a:r>
              <a:rPr b="1" lang="tt-RU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[</a:t>
            </a:r>
            <a:r>
              <a:rPr b="1" lang="tt-RU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тигэз</a:t>
            </a:r>
            <a:r>
              <a:rPr b="1" lang="en-US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Сүзләрне дөрес әйтегез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гадәт  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  [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г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ъ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әдәт 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]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                газиз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       [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гъ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әзиз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гайрәт  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[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гъәйрәт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]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                гаскәр   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  [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гъәскәр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  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гаҗәп  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 [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гъәҗәп 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]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               галәмәт  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 [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гъәләмәт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галәм   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[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гъәләм 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]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                гарәп         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[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гъәрәп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гадел    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[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гъәдел 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]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                  гаеп           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[</a:t>
            </a:r>
            <a:r>
              <a:rPr b="1" lang="tt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гъәйэп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6:34:05Z</dcterms:created>
  <dc:creator>Admin</dc:creator>
  <dc:description/>
  <dc:language>en-US</dc:language>
  <cp:lastModifiedBy>User</cp:lastModifiedBy>
  <dcterms:modified xsi:type="dcterms:W3CDTF">2020-05-20T08:17:40Z</dcterms:modified>
  <cp:revision>21</cp:revision>
  <dc:subject/>
  <dc:title>Сузык Яя хәрефләре һәм аның авазлары</dc:title>
</cp:coreProperties>
</file>