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2.jpeg" ContentType="image/jpeg"/>
  <Override PartName="/ppt/media/image20.wmf" ContentType="image/x-wmf"/>
  <Override PartName="/ppt/media/image13.wmf" ContentType="image/x-wmf"/>
  <Override PartName="/ppt/media/image30.png" ContentType="image/png"/>
  <Override PartName="/ppt/media/image28.png" ContentType="image/png"/>
  <Override PartName="/ppt/media/image5.gif" ContentType="image/gif"/>
  <Override PartName="/ppt/media/image33.png" ContentType="image/png"/>
  <Override PartName="/ppt/media/image16.wmf" ContentType="image/x-wmf"/>
  <Override PartName="/ppt/media/image8.wmf" ContentType="image/x-wmf"/>
  <Override PartName="/ppt/media/image6.wmf" ContentType="image/x-wmf"/>
  <Override PartName="/ppt/media/image7.wmf" ContentType="image/x-wmf"/>
  <Override PartName="/ppt/media/image9.wmf" ContentType="image/x-wmf"/>
  <Override PartName="/ppt/media/image11.gif" ContentType="image/gif"/>
  <Override PartName="/ppt/media/image10.wmf" ContentType="image/x-wmf"/>
  <Override PartName="/ppt/media/image25.jpeg" ContentType="image/jpeg"/>
  <Override PartName="/ppt/media/image32.png" ContentType="image/png"/>
  <Override PartName="/ppt/media/image4.wmf" ContentType="image/x-wmf"/>
  <Override PartName="/ppt/media/image3.wmf" ContentType="image/x-wmf"/>
  <Override PartName="/ppt/media/image1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58DD-9965-4A09-B545-CD26A9ED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20A5-D36B-47CD-8D2D-3854BEEA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40AD-598C-4028-A3E8-409107C2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A9A6-4A62-40D7-A90A-55912743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27E-E49C-4816-946C-282BB131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E92C-3851-4774-AAAF-F09BAB06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728-6C2E-4294-8308-07A72E20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E1BD-BC47-45EC-8C1F-D74C76F7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446-59CC-4010-91E1-F4BFAAC6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297-1CB0-4E5B-AEA2-93E67C55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CF7-EBC6-4483-956F-86D8ABB5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319-0ACF-464E-B9B5-F6652FB0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4995-9E83-44B5-BC44-2EB9F8E6B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gi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jpeg"/><Relationship Id="rId9" Type="http://schemas.openxmlformats.org/officeDocument/2006/relationships/image" Target="../media/image16.wmf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1197000"/>
            <a:ext cx="525636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ешь ли 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63640" y="3573360"/>
            <a:ext cx="6337440" cy="161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нституцию Росси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51280" y="1844640"/>
            <a:ext cx="1905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 txBox="1"/>
          <p:nvPr/>
        </p:nvSpPr>
        <p:spPr>
          <a:xfrm>
            <a:off x="684360" y="404640"/>
            <a:ext cx="1935000" cy="11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Ул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л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еожиданнос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780000" y="476280"/>
            <a:ext cx="19047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Тамож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да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доб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156360" y="1484280"/>
            <a:ext cx="2619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йм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ме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4360" y="4076640"/>
            <a:ext cx="14000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ч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тав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348000" y="4292640"/>
            <a:ext cx="252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утешеств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атуралис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77080" y="4076640"/>
            <a:ext cx="15620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уша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да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904680" cy="1368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356000" y="5229360"/>
            <a:ext cx="820800" cy="1031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948360" y="189000"/>
            <a:ext cx="1209960" cy="1168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908000" y="5084640"/>
            <a:ext cx="1116360" cy="144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6732720" y="4508640"/>
            <a:ext cx="172404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3924360" y="2205000"/>
            <a:ext cx="1208160" cy="127008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" action="ppaction://hlinkshowjump?jump=endshow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12236" y="3837"/>
                </a:moveTo>
                <a:lnTo>
                  <a:pt x="14812" y="6448"/>
                </a:lnTo>
                <a:lnTo>
                  <a:pt x="14812" y="4707"/>
                </a:lnTo>
                <a:lnTo>
                  <a:pt x="16588" y="4707"/>
                </a:lnTo>
                <a:lnTo>
                  <a:pt x="16588" y="8224"/>
                </a:lnTo>
                <a:lnTo>
                  <a:pt x="19199" y="10800"/>
                </a:lnTo>
                <a:lnTo>
                  <a:pt x="17545" y="10800"/>
                </a:lnTo>
                <a:lnTo>
                  <a:pt x="17545" y="17989"/>
                </a:lnTo>
                <a:lnTo>
                  <a:pt x="6926" y="17989"/>
                </a:lnTo>
                <a:lnTo>
                  <a:pt x="6926" y="10800"/>
                </a:lnTo>
                <a:lnTo>
                  <a:pt x="5273" y="10800"/>
                </a:lnTo>
                <a:close/>
              </a:path>
              <a:path fill="darkenLess" w="24471" h="21600">
                <a:moveTo>
                  <a:pt x="14812" y="6448"/>
                </a:moveTo>
                <a:lnTo>
                  <a:pt x="14812" y="4707"/>
                </a:lnTo>
                <a:lnTo>
                  <a:pt x="16588" y="4707"/>
                </a:lnTo>
                <a:lnTo>
                  <a:pt x="16588" y="8224"/>
                </a:lnTo>
                <a:close/>
              </a:path>
              <a:path fill="darkenLess" w="24471" h="21600">
                <a:moveTo>
                  <a:pt x="11313" y="14299"/>
                </a:moveTo>
                <a:lnTo>
                  <a:pt x="13158" y="14299"/>
                </a:lnTo>
                <a:lnTo>
                  <a:pt x="13158" y="17989"/>
                </a:lnTo>
                <a:lnTo>
                  <a:pt x="17545" y="17989"/>
                </a:lnTo>
                <a:lnTo>
                  <a:pt x="17545" y="10800"/>
                </a:lnTo>
                <a:lnTo>
                  <a:pt x="6926" y="10800"/>
                </a:lnTo>
                <a:lnTo>
                  <a:pt x="6926" y="17989"/>
                </a:lnTo>
                <a:lnTo>
                  <a:pt x="1131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333360"/>
            <a:ext cx="842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конституции встречаются иноязычные терм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тавьте их в соответств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1397160"/>
          <a:ext cx="8353440" cy="4657680"/>
        </p:xfrm>
        <a:graphic>
          <a:graphicData uri="http://schemas.openxmlformats.org/drawingml/2006/table">
            <a:tbl>
              <a:tblPr/>
              <a:tblGrid>
                <a:gridCol w="2960640"/>
                <a:gridCol w="5392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конститу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Власть нар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кре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Одетый в бел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федер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говор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демокра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Он вер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депу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То, что должно быть сообще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кандид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посла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парлам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ою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презид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установ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референду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идящий вперед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8388360" y="6497640"/>
            <a:ext cx="755640" cy="36036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5269" h="21600">
                <a:moveTo>
                  <a:pt x="0" y="0"/>
                </a:moveTo>
                <a:lnTo>
                  <a:pt x="45269" y="0"/>
                </a:lnTo>
                <a:lnTo>
                  <a:pt x="45269" y="21600"/>
                </a:lnTo>
                <a:lnTo>
                  <a:pt x="0" y="21600"/>
                </a:lnTo>
                <a:close/>
              </a:path>
              <a:path fill="lightenLess" w="45269" h="21600">
                <a:moveTo>
                  <a:pt x="0" y="0"/>
                </a:moveTo>
                <a:lnTo>
                  <a:pt x="45269" y="0"/>
                </a:lnTo>
                <a:lnTo>
                  <a:pt x="43869" y="1400"/>
                </a:lnTo>
                <a:lnTo>
                  <a:pt x="1400" y="1400"/>
                </a:lnTo>
                <a:close/>
              </a:path>
              <a:path fill="darken" w="45269" h="21600">
                <a:moveTo>
                  <a:pt x="45269" y="0"/>
                </a:moveTo>
                <a:lnTo>
                  <a:pt x="45269" y="21600"/>
                </a:lnTo>
                <a:lnTo>
                  <a:pt x="43869" y="20200"/>
                </a:lnTo>
                <a:lnTo>
                  <a:pt x="43869" y="1400"/>
                </a:lnTo>
                <a:close/>
              </a:path>
              <a:path fill="darkenLess" w="45269" h="21600">
                <a:moveTo>
                  <a:pt x="45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869" y="20200"/>
                </a:lnTo>
                <a:close/>
              </a:path>
              <a:path fill="lighten" w="45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269" h="21600">
                <a:moveTo>
                  <a:pt x="15628" y="10800"/>
                </a:moveTo>
                <a:lnTo>
                  <a:pt x="29641" y="3794"/>
                </a:lnTo>
                <a:lnTo>
                  <a:pt x="296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000" y="40464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1790640" cy="1761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732720" y="620640"/>
            <a:ext cx="1800000" cy="1781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51280" y="5013360"/>
            <a:ext cx="1881360" cy="1616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700360" y="549360"/>
            <a:ext cx="1662120" cy="129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84360" y="28526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172360" y="3716280"/>
            <a:ext cx="709560" cy="1851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5148360" y="476280"/>
            <a:ext cx="1158840" cy="1860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3059280" y="2852640"/>
            <a:ext cx="1044360" cy="1044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6659640" y="3068640"/>
            <a:ext cx="1038240" cy="1627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611280" y="5373720"/>
            <a:ext cx="839520" cy="126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4859280" y="2924280"/>
            <a:ext cx="1576440" cy="1049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700360" y="4653000"/>
            <a:ext cx="4276800" cy="104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 можно взя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собой за границу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" name="">
            <a:hlinkClick r:id="rId12" action="ppaction://hlinksldjump"/>
          </p:cNvPr>
          <p:cNvSpPr/>
          <p:nvPr/>
        </p:nvSpPr>
        <p:spPr>
          <a:xfrm>
            <a:off x="8388360" y="6497640"/>
            <a:ext cx="755640" cy="36036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5269" h="21600">
                <a:moveTo>
                  <a:pt x="0" y="0"/>
                </a:moveTo>
                <a:lnTo>
                  <a:pt x="45269" y="0"/>
                </a:lnTo>
                <a:lnTo>
                  <a:pt x="45269" y="21600"/>
                </a:lnTo>
                <a:lnTo>
                  <a:pt x="0" y="21600"/>
                </a:lnTo>
                <a:close/>
              </a:path>
              <a:path fill="lightenLess" w="45269" h="21600">
                <a:moveTo>
                  <a:pt x="0" y="0"/>
                </a:moveTo>
                <a:lnTo>
                  <a:pt x="45269" y="0"/>
                </a:lnTo>
                <a:lnTo>
                  <a:pt x="43869" y="1400"/>
                </a:lnTo>
                <a:lnTo>
                  <a:pt x="1400" y="1400"/>
                </a:lnTo>
                <a:close/>
              </a:path>
              <a:path fill="darken" w="45269" h="21600">
                <a:moveTo>
                  <a:pt x="45269" y="0"/>
                </a:moveTo>
                <a:lnTo>
                  <a:pt x="45269" y="21600"/>
                </a:lnTo>
                <a:lnTo>
                  <a:pt x="43869" y="20200"/>
                </a:lnTo>
                <a:lnTo>
                  <a:pt x="43869" y="1400"/>
                </a:lnTo>
                <a:close/>
              </a:path>
              <a:path fill="darkenLess" w="45269" h="21600">
                <a:moveTo>
                  <a:pt x="45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869" y="20200"/>
                </a:lnTo>
                <a:close/>
              </a:path>
              <a:path fill="lighten" w="45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269" h="21600">
                <a:moveTo>
                  <a:pt x="15628" y="10800"/>
                </a:moveTo>
                <a:lnTo>
                  <a:pt x="29641" y="3794"/>
                </a:lnTo>
                <a:lnTo>
                  <a:pt x="296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435640" y="2492280"/>
            <a:ext cx="345744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2492280"/>
            <a:ext cx="4103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4360" y="2781360"/>
            <a:ext cx="365760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авонаруш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724360" y="2708280"/>
            <a:ext cx="295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ступ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5300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вышение скорости при езде на автомоби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32360" y="3860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биение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76720" y="40464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езд в транспорте без о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7628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лоупотребление властью в личных интере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4720" y="51577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ход улицы на красный сигнал свето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3645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гон автомоби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6360" y="1341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корбление человека на ул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95640" y="4365720"/>
            <a:ext cx="20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жное сообщение по телефону о заложенной бом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112536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ндализм по отношению к памятникам стар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4292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питие спиртных напитков в транспор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8388360" y="6497640"/>
            <a:ext cx="755640" cy="36036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5269" h="21600">
                <a:moveTo>
                  <a:pt x="0" y="0"/>
                </a:moveTo>
                <a:lnTo>
                  <a:pt x="45269" y="0"/>
                </a:lnTo>
                <a:lnTo>
                  <a:pt x="45269" y="21600"/>
                </a:lnTo>
                <a:lnTo>
                  <a:pt x="0" y="21600"/>
                </a:lnTo>
                <a:close/>
              </a:path>
              <a:path fill="lightenLess" w="45269" h="21600">
                <a:moveTo>
                  <a:pt x="0" y="0"/>
                </a:moveTo>
                <a:lnTo>
                  <a:pt x="45269" y="0"/>
                </a:lnTo>
                <a:lnTo>
                  <a:pt x="43869" y="1400"/>
                </a:lnTo>
                <a:lnTo>
                  <a:pt x="1400" y="1400"/>
                </a:lnTo>
                <a:close/>
              </a:path>
              <a:path fill="darken" w="45269" h="21600">
                <a:moveTo>
                  <a:pt x="45269" y="0"/>
                </a:moveTo>
                <a:lnTo>
                  <a:pt x="45269" y="21600"/>
                </a:lnTo>
                <a:lnTo>
                  <a:pt x="43869" y="20200"/>
                </a:lnTo>
                <a:lnTo>
                  <a:pt x="43869" y="1400"/>
                </a:lnTo>
                <a:close/>
              </a:path>
              <a:path fill="darkenLess" w="45269" h="21600">
                <a:moveTo>
                  <a:pt x="45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869" y="20200"/>
                </a:lnTo>
                <a:close/>
              </a:path>
              <a:path fill="lighten" w="45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269" h="21600">
                <a:moveTo>
                  <a:pt x="15628" y="10800"/>
                </a:moveTo>
                <a:lnTo>
                  <a:pt x="29641" y="3794"/>
                </a:lnTo>
                <a:lnTo>
                  <a:pt x="296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71640" y="476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ивотные, занесенные в Красную книгу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421000"/>
            <a:ext cx="266364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я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8360" y="6497640"/>
            <a:ext cx="755640" cy="36036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5269" h="21600">
                <a:moveTo>
                  <a:pt x="0" y="0"/>
                </a:moveTo>
                <a:lnTo>
                  <a:pt x="45269" y="0"/>
                </a:lnTo>
                <a:lnTo>
                  <a:pt x="45269" y="21600"/>
                </a:lnTo>
                <a:lnTo>
                  <a:pt x="0" y="21600"/>
                </a:lnTo>
                <a:close/>
              </a:path>
              <a:path fill="lightenLess" w="45269" h="21600">
                <a:moveTo>
                  <a:pt x="0" y="0"/>
                </a:moveTo>
                <a:lnTo>
                  <a:pt x="45269" y="0"/>
                </a:lnTo>
                <a:lnTo>
                  <a:pt x="43869" y="1400"/>
                </a:lnTo>
                <a:lnTo>
                  <a:pt x="1400" y="1400"/>
                </a:lnTo>
                <a:close/>
              </a:path>
              <a:path fill="darken" w="45269" h="21600">
                <a:moveTo>
                  <a:pt x="45269" y="0"/>
                </a:moveTo>
                <a:lnTo>
                  <a:pt x="45269" y="21600"/>
                </a:lnTo>
                <a:lnTo>
                  <a:pt x="43869" y="20200"/>
                </a:lnTo>
                <a:lnTo>
                  <a:pt x="43869" y="1400"/>
                </a:lnTo>
                <a:close/>
              </a:path>
              <a:path fill="darkenLess" w="45269" h="21600">
                <a:moveTo>
                  <a:pt x="45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869" y="20200"/>
                </a:lnTo>
                <a:close/>
              </a:path>
              <a:path fill="lighten" w="45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269" h="21600">
                <a:moveTo>
                  <a:pt x="15628" y="10800"/>
                </a:moveTo>
                <a:lnTo>
                  <a:pt x="29641" y="3794"/>
                </a:lnTo>
                <a:lnTo>
                  <a:pt x="296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5229360"/>
            <a:ext cx="266364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3789360"/>
            <a:ext cx="266364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1268280"/>
            <a:ext cx="2664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08720" y="1413000"/>
            <a:ext cx="266364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24360" y="5445000"/>
            <a:ext cx="2664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ли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2781360"/>
            <a:ext cx="2664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рый медв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4581360"/>
            <a:ext cx="2664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б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1280" y="404640"/>
            <a:ext cx="2952720" cy="7207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5805360"/>
            <a:ext cx="2952720" cy="7207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лмык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268280"/>
            <a:ext cx="2952720" cy="7207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ку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2133720"/>
            <a:ext cx="2952720" cy="7207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тар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3141720"/>
            <a:ext cx="2952720" cy="7207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дыг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076640"/>
            <a:ext cx="2952720" cy="7207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шки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4941720"/>
            <a:ext cx="2952720" cy="7207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би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24360" y="3500280"/>
            <a:ext cx="2655720" cy="1586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127160" cy="1084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067280" y="260280"/>
            <a:ext cx="1655640" cy="1146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780000" y="5157720"/>
            <a:ext cx="1618920" cy="1400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067280" y="1160640"/>
            <a:ext cx="2952720" cy="2212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6673680" y="3645000"/>
            <a:ext cx="2470320" cy="3213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7311960" y="1916280"/>
            <a:ext cx="1832040" cy="1374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388360" y="6497640"/>
            <a:ext cx="755640" cy="36036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5269" h="21600">
                <a:moveTo>
                  <a:pt x="0" y="0"/>
                </a:moveTo>
                <a:lnTo>
                  <a:pt x="45269" y="0"/>
                </a:lnTo>
                <a:lnTo>
                  <a:pt x="45269" y="21600"/>
                </a:lnTo>
                <a:lnTo>
                  <a:pt x="0" y="21600"/>
                </a:lnTo>
                <a:close/>
              </a:path>
              <a:path fill="lightenLess" w="45269" h="21600">
                <a:moveTo>
                  <a:pt x="0" y="0"/>
                </a:moveTo>
                <a:lnTo>
                  <a:pt x="45269" y="0"/>
                </a:lnTo>
                <a:lnTo>
                  <a:pt x="43869" y="1400"/>
                </a:lnTo>
                <a:lnTo>
                  <a:pt x="1400" y="1400"/>
                </a:lnTo>
                <a:close/>
              </a:path>
              <a:path fill="darken" w="45269" h="21600">
                <a:moveTo>
                  <a:pt x="45269" y="0"/>
                </a:moveTo>
                <a:lnTo>
                  <a:pt x="45269" y="21600"/>
                </a:lnTo>
                <a:lnTo>
                  <a:pt x="43869" y="20200"/>
                </a:lnTo>
                <a:lnTo>
                  <a:pt x="43869" y="1400"/>
                </a:lnTo>
                <a:close/>
              </a:path>
              <a:path fill="darkenLess" w="45269" h="21600">
                <a:moveTo>
                  <a:pt x="45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869" y="20200"/>
                </a:lnTo>
                <a:close/>
              </a:path>
              <a:path fill="lighten" w="45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269" h="21600">
                <a:moveTo>
                  <a:pt x="15628" y="10800"/>
                </a:moveTo>
                <a:lnTo>
                  <a:pt x="29641" y="3794"/>
                </a:lnTo>
                <a:lnTo>
                  <a:pt x="296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1298520" cy="1128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11640" y="2205000"/>
            <a:ext cx="1587600" cy="1381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020000" y="620640"/>
            <a:ext cx="1379520" cy="1379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258920" y="2492280"/>
            <a:ext cx="1512720" cy="1316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7236000" y="2924280"/>
            <a:ext cx="1509480" cy="1307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4500720" y="404640"/>
            <a:ext cx="1298520" cy="1128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5651640" y="472428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2340000" y="4365720"/>
            <a:ext cx="1803240" cy="1568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388360" y="6497640"/>
            <a:ext cx="755640" cy="36036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5269" h="21600">
                <a:moveTo>
                  <a:pt x="0" y="0"/>
                </a:moveTo>
                <a:lnTo>
                  <a:pt x="45269" y="0"/>
                </a:lnTo>
                <a:lnTo>
                  <a:pt x="45269" y="21600"/>
                </a:lnTo>
                <a:lnTo>
                  <a:pt x="0" y="21600"/>
                </a:lnTo>
                <a:close/>
              </a:path>
              <a:path fill="lightenLess" w="45269" h="21600">
                <a:moveTo>
                  <a:pt x="0" y="0"/>
                </a:moveTo>
                <a:lnTo>
                  <a:pt x="45269" y="0"/>
                </a:lnTo>
                <a:lnTo>
                  <a:pt x="43869" y="1400"/>
                </a:lnTo>
                <a:lnTo>
                  <a:pt x="1400" y="1400"/>
                </a:lnTo>
                <a:close/>
              </a:path>
              <a:path fill="darken" w="45269" h="21600">
                <a:moveTo>
                  <a:pt x="45269" y="0"/>
                </a:moveTo>
                <a:lnTo>
                  <a:pt x="45269" y="21600"/>
                </a:lnTo>
                <a:lnTo>
                  <a:pt x="43869" y="20200"/>
                </a:lnTo>
                <a:lnTo>
                  <a:pt x="43869" y="1400"/>
                </a:lnTo>
                <a:close/>
              </a:path>
              <a:path fill="darkenLess" w="45269" h="21600">
                <a:moveTo>
                  <a:pt x="45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869" y="20200"/>
                </a:lnTo>
                <a:close/>
              </a:path>
              <a:path fill="lighten" w="45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269" h="21600">
                <a:moveTo>
                  <a:pt x="15628" y="10800"/>
                </a:moveTo>
                <a:lnTo>
                  <a:pt x="29641" y="3794"/>
                </a:lnTo>
                <a:lnTo>
                  <a:pt x="296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07:16:59Z</dcterms:created>
  <dc:creator>Завидова</dc:creator>
  <dc:description/>
  <dc:language>en-US</dc:language>
  <cp:lastModifiedBy>СВЕТОЧКА</cp:lastModifiedBy>
  <dcterms:modified xsi:type="dcterms:W3CDTF">2015-06-16T07:19:48Z</dcterms:modified>
  <cp:revision>10</cp:revision>
  <dc:subject/>
  <dc:title>Слайд 1</dc:title>
</cp:coreProperties>
</file>