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081-49AB-4BCF-A3D8-A00720B0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374-939C-4618-AC16-912D20A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DCB-AB33-4C46-844B-FA2BEAE8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CF4-DC90-4936-8964-7C95DA21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74B-67AC-4E69-8C4B-5B281610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ECB-8D45-4AF3-A994-0E44E497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C5B-B78F-4E5A-811A-420D1C24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199-A7AA-4B78-8721-86C8F35A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6CE-5AF1-4471-AE8F-2D9040BB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C05-D7B8-4A2B-B387-DFFF851A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85D-0253-44E2-9BF3-D6F59C4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7DA-DB8C-4E3C-B045-83B5B9E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64A-AF85-409F-9DF3-B563B12B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439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бахах стираных натель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лупы на землю швырну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бросались в бой смерте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ворота распахну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 открытыми гл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емцев голой грудью ш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кости пальцы разрез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оняли копья до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язь молча слушал разгов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упясь на коне сид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л он, спасая не го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отчину, не свой у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силой всенар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уть ливонцами закры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т, кто рисковал сегод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т всею Русью рискова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54936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765000"/>
            <a:ext cx="48974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лько выждав, чтоб ливон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в ряды, втянулись в 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, полыхнув мечом на солнц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ёл дружину за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яв мечи из русской с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нув копейные дре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еса с криком выл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ские по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льду летели с лязгом, с гром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мохнатым гривам наклоня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ервым на коне огром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мецкий строй врубился княз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тступая перед княз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ая копья и щи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ней валились немцы назем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в железные кр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57340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каком князе  идет речь в эт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1970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3336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43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ть о кончине св. Александра достигла Владимира в то самое время, когда народ молился в соборном храме о его благополучном возвращении на родину. Митрополит  Кирилл, выйдя к народу, со слезами воскликнул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Чада мои милые! Закатилось солнце земли Русской!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словам летописца, земля стонала от вопля и ры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ноября 1263 года тело великого труженика и радетеля Православной России было погребено во владимирской соборной церкви Рождественского монастыря. Современники повествуют, что при отпевании усопший князь сам, как бы живой, простер руку и принял грамоту с разрешительной молитвой из рук митроп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19520" y="404640"/>
            <a:ext cx="452448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24360" y="333360"/>
            <a:ext cx="48243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условиях страшных испытаний, обрушившихся на русские земли, Александр Невский сумел найти силы для противостояния западным завоевателям, снискав славу великого русского полководца, а также заложил основы взаимоотношений с Золотой Ор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же в 1280-х годах во Владимире начин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итание Александра Невского как свят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зднее он был официально канонизирован Русской православной 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ндр Невский был единственным православным светским правителем не только на Руси, но и во всей Европе, который не пошел на компромисс с католической церковью ради сохранения в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724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851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19640" y="260280"/>
            <a:ext cx="4967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я защитника рубежей России и покровителя воинов известно далеко за пределами нашей Родины. Свидетельство тому — многочисленные храмы, посвященные святому Александру Невск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20000" y="1773360"/>
            <a:ext cx="194292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92360" cy="261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2158920" cy="3111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195640" y="1916280"/>
            <a:ext cx="3149640" cy="236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24360" y="4430880"/>
            <a:ext cx="3744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 известные из них: Патриарший собор в Софии, кафедральный собор в Таллинне, храм в Тбилиси. Эти храмы — залог дружбы русского народа-освободителя с братскими нар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ператрицей Екатериной I был учрежде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государственная награда Российской империи с 1725 до 1917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ден состоял из знака-креста с двуглавыми орлами между концов креста и серебряной звезды. Во время Отечественной войны 1812–1814 гг. 14 орденов были выданы с бриллиан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476600" cy="4457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2565360"/>
            <a:ext cx="35989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ветское время орден был "восстановлен" в 1942 г. как военная награда командиров красной армии с название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ден Александра Невск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 фоне красной пентаграммы и без упоминания слова "свято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76280"/>
            <a:ext cx="619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ден «Святого Князя Александра Невск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деном Святого Князя Александра Невского награждаются граждане за самоотверженный поступок, мужество, отвагу и героизм, совершенные при исполнении воинского, служебного и гражданского долга в условиях, сопряженных с риском для жизни. За высокие достижения в государственной, производственной, научно-исследовательской, социальной, культурной, общественной и благотворительной деятельности, позволившей существенным образом улучшить условия жизни людей. За заслуги в подготовке высококвалифицированных кадров, воспитании подрастающего поколения, особо плодотворную деятельность в сближении и взаимообогащении культур наций и народностей, заслуги в развитии сотрудничества между народами, укреплении мира и сотрудничества между государствами, поддержании законности и право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ден имеет три степени. Орден носится на правой стороне гру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65920" y="1844640"/>
            <a:ext cx="31780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59280" y="1125360"/>
            <a:ext cx="40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той Александр Невский принадлежит не только своему времени. Его образ актуален для России и сегодня, в XXI веке. Самое же главное качество, которое во все времена должно быть присуще власти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безграничная любовь к Отечеству и своему нар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ся политическая деятельность Александра Невского определялась именно этим сильным и возвышенным чув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9924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125360"/>
            <a:ext cx="799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... Два подвига Александра Невского - его борьба с Западом и смирение перед Востоком - имели единственную цель - сбережение православия как источника нравственной и политической силы русского народа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5373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к Георгий Владимирович Вернад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8920" y="0"/>
            <a:ext cx="3745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4000" y="765000"/>
            <a:ext cx="435276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244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лександр</a:t>
            </a:r>
            <a:endParaRPr b="0" lang="en-US" sz="1800" spc="1" strike="noStrike">
              <a:ln w="8244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244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8244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вский-</a:t>
            </a:r>
            <a:endParaRPr b="0" lang="en-US" sz="1800" spc="1" strike="noStrike">
              <a:ln w="8244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8244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244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ь </a:t>
            </a:r>
            <a:endParaRPr b="0" lang="en-US" sz="1800" spc="1" strike="noStrike">
              <a:ln w="8244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244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ции.</a:t>
            </a:r>
            <a:endParaRPr b="0" lang="en-US" sz="1800" spc="1" strike="noStrike">
              <a:ln w="8244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549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стартовал проект телеканала «Россия»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ИМЯ РОССИИ»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правленный на выбор значимых персоналий, связанных с Россией, путём голосования интернет-пользователей, телезрителей и радиослуш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637000"/>
            <a:ext cx="331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бедителем телевизионного конкурса "Имя Россия" признан святой благоверный князь Александр Невск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68760" y="2205000"/>
            <a:ext cx="5475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той благоверный великий князь Александр Невский родился 30 мая 1220 г. в городе Переславле-Залесском. Отец его, Ярослав, в крещении Феодор, был младшим сыном Всеволода III Большое Гнездо. Мать св. Александра, Феодосия Игоревна, рязанская княж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421000"/>
            <a:ext cx="428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 1225 году Ярослав 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«учинил сыновьям княжеский постриг»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 — обряд посвящения в воины, который совершил в Спасо-Преображенском соборе епископ Суздальский святитель Сим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50864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 1228 году Александр вместе со старшим братом Фёдором были оставлены отцом в Новго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В 1230 году, когда новгородцы призвали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71640" y="333360"/>
            <a:ext cx="63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 1234 году состоялся первый поход Александра (под отцовским стягом) на ливонских нем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В 1236 году Ярослав уехал из Переяславля-Залесского княжить в Киев (оттуда в 1238 году — во Владимир). С этого времени начинается самостоятельная деятельность Алекса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70120" cy="3500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4005360"/>
            <a:ext cx="70563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с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 свои сорок лет провел Александр Невский и, как писано в его «Житии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Побеждал, но непобедим был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692280"/>
            <a:ext cx="547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ользовавшись нашествием Батыя, полчища крестоносцев вторглись в пределы Отечества. Первыми были шведы. Множество кораблей подошло к Неве под командованием ярла Биргера. Св. Александр, ему не было тогда еще 20 лет, долго молился в храме Святой Софии. Архиепископ Спиридон благословил св. князя и воинство его на брань. Выйдя из храма, Александр укрепил дружину исполненными веры словами: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в силе Бог, а в правде. Иные — с оружием, иные — на конях, а мы Имя Господа Бога нашего призовем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небольшой дружиной князь поспешил на вра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679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11280" y="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вская битв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4437000"/>
            <a:ext cx="8893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было чудное предзнаменование: стоявший в морском дозоре воин видел на рассвете 15 июля ладью, плывущую по морю, и на ней св. мучеников Бориса и Глеба, в одеждах багряных. Александр, ободренный, мужественно повел с молитвой войско на шведов. "И была сеча великая с латинянами, и перебил их бесчисленное множество, и самому предводителю возложил печать на лицо острым копье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За эту победу на реке Неве, одержанную 15 июля 1240 г., народ назвал св. Александра Не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54936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апреля 1242 года произошла битва на Чудском озере. Сражение это известно ка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едовое побоищ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Точный ход сражения неизвестен, но согласно ливонским хроникам, орденские рыцари оказались в ходе боя окружены. Согласно новгородской летописи русские 7 вёрст гнали немцев по льду. Потери ордена составили 20 убитых и 6 пленных рыца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717800" cy="388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411280" y="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едовое побоищ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220500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м рядом побед в 1245 году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блюстися имени ег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новгородцам часть Латгал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75596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дные пределы Русской земли были надежно ограждены, настало время обезопасить Русь с вост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242 г. св. Александр Невский со своим отцом, Ярославом, выехал в Орду. Священную миссию защитников Русской Земли Господь увенчал успехом, но на это потребовались годы трудов и жертв. Князь Ярослав отдал за это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щанный отцом союз с Золотой Ордой — необходимый тогда для предотвращения нового разгрома Руси — продолжал крепить св. Александр Невский. Обещав свою поддержку, св. Александр дал возможность Батыю выступить в поход против Монголии, стать главной силой во всей Великой Степи. В 1252 г. многие русские города восстали против татарского ига. Снова возникла угроза самому существованию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1640" y="333360"/>
            <a:ext cx="799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дил князь в орду. И принят был там. Предатель? А если взглянуть по другому. Ордынское нашествие было стихией, ураг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цель кочевников – грабежи, они  не покушались на православную веру.   Со стихией, когда она в силе, бороться бесполезно, надо было подождать, когда она ослаб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373200" cy="453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2708280"/>
            <a:ext cx="48956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ва освободителя русской земли достанется Дмитрию Донскому. Князь Александр Невский снискал себе исторический титу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ого русского дипломата, умевшего держать меч и вести перегов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А дипломатия не всегда и не всем  понят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8:27:24Z</dcterms:created>
  <dc:creator>СВЕТОЧКА</dc:creator>
  <dc:description/>
  <dc:language>en-US</dc:language>
  <cp:lastModifiedBy>СВЕТОЧКА</cp:lastModifiedBy>
  <dcterms:modified xsi:type="dcterms:W3CDTF">2015-06-16T07:19:25Z</dcterms:modified>
  <cp:revision>16</cp:revision>
  <dc:subject/>
  <dc:title>Слайд 1</dc:title>
</cp:coreProperties>
</file>