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6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26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517-73CF-47D3-996B-C59E034F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7B7-9213-481B-B6D8-C16EDAE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210-7920-406D-BE69-93E43E3C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2F3-FE9B-4445-8215-2989F8C9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90E0-B1C9-4694-97FB-DA69B5F2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5B14-B990-4D0A-B957-EC2B0E33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B6F0-6DC3-4E08-A364-75F6235D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C1B5-BFD5-4415-A213-2F0006F0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3381-DDE7-406E-ABBD-0A25F17F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B3A-A5A9-4B89-97B3-57F5FFD7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D54F-0F28-471E-AE19-79136CB6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16D-3898-4604-8CFB-4C2A7E62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E193-B9B5-4C15-ACB5-972C5F8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E8D0-69A1-4916-8EE1-18156E4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9FE2-6253-4BB9-BA2A-9046D753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052-0983-407F-86B0-CC20B784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57E6-AD49-43CF-9971-0DE878F5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335-B663-46F1-BC98-1F6CA0C5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631-D918-4DDA-8249-81B1BB7E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B85-935C-468D-A997-2664F100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7A6-585B-46C5-82C8-327FFB4E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00E-C901-4930-A5EF-1A8952A5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F29-DD96-43EE-A87B-A950260A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049-3C4E-4B37-B893-56AA5C9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9ABF-163F-4F00-B0D9-77000951A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880C-12E3-4214-8D11-1C544E1F9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БДОУ БГО ЦРР -детский сад№11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ы со Смешар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ла воспитатель1кв.к Ломакина А.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56000" y="4581360"/>
            <a:ext cx="3528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Найди на картинке лишний предмет и объясни почему он лишни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2469960" cy="2378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090880" cy="2155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0360" y="1700280"/>
            <a:ext cx="2284560" cy="2095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249640" cy="1773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492360" y="4437000"/>
            <a:ext cx="2203560" cy="2193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6372360" y="4221000"/>
            <a:ext cx="22557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1908360" cy="2048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2541600" cy="1584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796000" y="47628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26920" y="423396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156360" y="4148280"/>
            <a:ext cx="20048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1924200" cy="2305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2138040" cy="1554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693720"/>
            <a:ext cx="2089080" cy="1582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2158920" cy="1657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6300720" y="465300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376360" cy="2084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828880" cy="1590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364000" y="404640"/>
            <a:ext cx="2903760" cy="1584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2735280" cy="1711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5796000" y="4581360"/>
            <a:ext cx="2465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2127240" cy="2111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1800360" cy="1631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901520" cy="1774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135160" cy="1511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6084720" y="4292640"/>
            <a:ext cx="20685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935000" cy="2265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203832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4360" y="4581360"/>
            <a:ext cx="1928520" cy="1928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1989360" cy="1989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6227640" y="333360"/>
            <a:ext cx="23083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олодец!!!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 справился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2741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8T19:28:16Z</dcterms:created>
  <dc:creator>Microsoft Office</dc:creator>
  <dc:description/>
  <dc:language>en-US</dc:language>
  <cp:lastModifiedBy>Microsoft Office</cp:lastModifiedBy>
  <dcterms:modified xsi:type="dcterms:W3CDTF">2020-08-18T20:22:22Z</dcterms:modified>
  <cp:revision>2</cp:revision>
  <dc:subject/>
  <dc:title>МБДОУ БГО ЦРР -детский сад№11</dc:title>
</cp:coreProperties>
</file>