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0DD-581C-4533-A796-1BA68D69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865-E6F6-43DE-99F4-C8A882F6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878-B49A-4418-9F83-F754504D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D66-43FB-4FE4-9EF8-40EDF587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8E1-D653-4330-BFD3-7BE634B0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9D4-976E-468C-9621-292C82BF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8B0-20B4-4FB8-9352-4308929F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D12-F47E-4E36-B993-6057931B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AFCE-F09F-4D31-A283-50ED2A2C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DEE-F3AF-44FB-A575-7993850C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363-4629-4FBC-AF22-1572CF96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494-02F9-410C-834C-8DF125E3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43BB-55AA-4856-BE65-63701F210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Второстепенные члены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                    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бстоятельств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браза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просы:      как?    каким образ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шади бежали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ру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80000" y="321300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708360" y="321300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1403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40360" y="2852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3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1964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38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8000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5164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036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12000" y="386064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бстоятельств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теп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просы:      в какой степе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 высоты полета дома казались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совс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какой степени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алень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58920" y="3716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258560" y="3716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90800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08000" y="357336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6516720" y="335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516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00720" y="2924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16720" y="2924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2852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77080" y="2924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93080" y="2852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64360" y="29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бстоятельств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просы:      к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уна,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как бледное пятн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сквозь ту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рачные жел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08360" y="422100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708000" y="422100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0836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708360" y="2923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2924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27280" y="2852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00360" y="2924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16360" y="2852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16360" y="2924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03640" y="2852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76720" y="29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6400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80000" y="29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40360" y="2852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84720" y="2924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859280" y="2852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00720" y="2852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Обстоятельства сравне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союзами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ак, словно, будто, как буд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сравнительными оборотами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ыделяются запят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рач по нивам ходит важно, </a:t>
            </a:r>
            <a:r>
              <a:rPr b="1" i="1" lang="en-US" sz="3200" spc="-1" strike="noStrike">
                <a:solidFill>
                  <a:srgbClr val="009900"/>
                </a:solidFill>
                <a:latin typeface="Arial"/>
              </a:rPr>
              <a:t>слов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9900"/>
                </a:solidFill>
                <a:latin typeface="Arial"/>
              </a:rPr>
              <a:t>местный агро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бстоятельств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просы:      зачем?   для чего?   с какой цель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че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 хожу в школу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учитьс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321300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9236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276360" y="321300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635280" y="278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35280" y="278136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12000" y="278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64000" y="378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51640" y="37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24360" y="378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940360" y="37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12000" y="3789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00720" y="37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72360" y="378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бстоятельств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сло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просы:      при каком условии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 каком услов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ри желан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можно достичь мног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427640" y="321300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427280" y="321300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0072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42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402920" y="27813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03280" y="27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32000" y="378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47640" y="37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19280" y="378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83528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8000" y="378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12400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195640" y="378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11280" y="37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484360" y="378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771640" y="37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916360" y="3789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59280" y="37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32000" y="378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бстоятельств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сту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просы:      несмотря на ч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смотря на чт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есмотря на сильный вете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шлюпка вышла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20000" y="306864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019640" y="299736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877080" y="2708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042560" y="270828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4292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6920" y="3716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3645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16000" y="3716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32000" y="364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0328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619280" y="364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6364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050920" y="364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2400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484360" y="364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62728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916360" y="364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364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4800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35280" y="364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70836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95640" y="364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067280" y="37162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356000" y="364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2764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78800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516360" y="270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59280" y="37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Обстоятельства уступк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предлогом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есмотря 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выделяю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пят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берегу,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несмотря на сумерк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ожно   было разглядеть кр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убах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Второстепенные члены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допол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определение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обстоя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39640" y="458100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4581360"/>
            <a:ext cx="1425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826920" y="458100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4581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116000" y="4581000"/>
            <a:ext cx="21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4581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476360" y="4581000"/>
            <a:ext cx="1429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4581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763640" y="4581000"/>
            <a:ext cx="21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4581360"/>
            <a:ext cx="21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195640" y="4581000"/>
            <a:ext cx="215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458136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56000" y="4581000"/>
            <a:ext cx="215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58136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1964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31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31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1640" y="3141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3141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1964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51640" y="4653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5636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0400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4653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8036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2472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8508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28000" y="4653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53272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764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2205000"/>
            <a:ext cx="216036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618920" y="2133720"/>
            <a:ext cx="208908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определение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какой? чей? который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огласован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согласова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?                                                                                ка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клетчатый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иджак                      пиджак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в кле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700360" y="1916280"/>
            <a:ext cx="1727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27640" y="1916280"/>
            <a:ext cx="2016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400536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87640" y="400536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200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00000" y="3573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3573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076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940360" y="4076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2000" y="3645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5672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39640" y="465300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4653000"/>
            <a:ext cx="1425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826920" y="465300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042920" y="4653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465300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332000" y="4653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4653000"/>
            <a:ext cx="142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619280" y="4653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4653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908000" y="4653000"/>
            <a:ext cx="142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4653000"/>
            <a:ext cx="217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68360" y="4653000"/>
            <a:ext cx="142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465300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659640" y="4653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04000" y="4653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948360" y="465300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4653000"/>
            <a:ext cx="142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236000" y="4653000"/>
            <a:ext cx="215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51640" y="465300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596360" y="4653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40720" y="465300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956720" y="4653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01080" y="4653000"/>
            <a:ext cx="142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Приложе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вид 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ражено существите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ет другое название предм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ороз-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ое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Москв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река                                река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ушкин-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оэ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оэ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азета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«Тру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дополнение</a:t>
            </a:r>
            <a:br>
              <a:rPr sz="4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вопросы косвенных падеж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е получил                   (чего?)        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письм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Р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кому?)        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брату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Д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пишу                             (что?)        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письм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В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чем?)         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ручкой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о ком?)      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о себе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П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20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8000" y="342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8000" y="2781000"/>
            <a:ext cx="1440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3429000"/>
            <a:ext cx="1440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3429000"/>
            <a:ext cx="1511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92720" y="2276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80000" y="22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276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22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19640" y="29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2924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1964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36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60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19640" y="429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4292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4292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0360" y="429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19640" y="49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35640" y="49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51640" y="49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4941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Обстоятельство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мест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време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образа дейст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ичин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условия             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срав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цели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уступки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00720" y="119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148428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971280" y="148428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80360" y="1484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1484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1484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59280" y="1484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68360" y="1484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76360" y="1484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1484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708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88000" y="148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48360" y="1484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48360" y="2708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бстоятельств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просы: где? куда? отк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уда?                                      ку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Я вышел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из дом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добрался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до станции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видел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на перрон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свой поез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9236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1928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2781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403280" y="2781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11640" y="2708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211280" y="2708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414972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02920" y="414972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763640" y="2491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2492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400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88000" y="242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2421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763640" y="38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3860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8000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бстоятельств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просы: когда? как долго? с каких пор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 каких п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гда?             С каких пор?                                 Как долг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че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 самого ут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в течение всего дн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л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ж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80360" y="3716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380000" y="3716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45164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219640" y="321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19640" y="32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451640" y="299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123640" y="299736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2997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45164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55640" y="2781360"/>
            <a:ext cx="66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5640" y="2781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414972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1600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3280" y="414972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4149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63640" y="414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5092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24000" y="414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84360" y="4149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0036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71640" y="414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03640" y="414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236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414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40360" y="4149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414972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88000" y="414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0364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76720" y="4149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9272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4149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4149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200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84720" y="414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7236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43640" y="414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48360" y="4149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бстоятельств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ич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просы:       почему?  отчего?  по какой причи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какой причин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Из-за шум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падающего ливня  не было  слыш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обственного гол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77080" y="321300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877080" y="321300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48360" y="26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402920" y="263700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0328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564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4292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8728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4764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3860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092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195640" y="3860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14:53:01Z</dcterms:created>
  <dc:creator>Elena</dc:creator>
  <dc:description/>
  <dc:language>en-US</dc:language>
  <cp:lastModifiedBy>Elena</cp:lastModifiedBy>
  <dcterms:modified xsi:type="dcterms:W3CDTF">2011-12-11T08:00:46Z</dcterms:modified>
  <cp:revision>3</cp:revision>
  <dc:subject/>
  <dc:title> Презентация</dc:title>
</cp:coreProperties>
</file>