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D85-65E9-4998-9F6D-F978F37B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85D-F38C-4212-8C34-F38A0773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909-A1BF-45B1-B9F9-14EB94FA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C24-A55C-43C4-8B1D-F684994C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749-17ED-4B10-8545-706A3968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310-8DE3-4E6E-AB00-2DC1AFAC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E8B-D879-436C-B62E-2F47BD9F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530-435B-42DF-ABB3-1E4CB18F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D90-34BC-4BB9-9C8B-F3B89B6B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0FF-325E-41A0-A4D0-91783892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492-D558-45B1-B055-8CD15EB6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CC5-55E8-47C0-B098-E4106993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7ED5-D7A0-4196-AFF9-A817895F62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755640" y="2276640"/>
            <a:ext cx="67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briola"/>
              </a:rPr>
              <a:t>А.С.Пушкин. «Дубровский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briola"/>
              </a:rPr>
              <a:t>История создания романа. Протест Владимира Дубровского против несправедливых порядков, произвола и деспотиз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Без имени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539640" y="981000"/>
            <a:ext cx="67690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abriola"/>
              </a:rPr>
              <a:t>Авантюра</a:t>
            </a:r>
            <a:r>
              <a:rPr b="1" lang="ru-RU" sz="2400" spc="-1" strike="noStrike">
                <a:solidFill>
                  <a:srgbClr val="000000"/>
                </a:solidFill>
                <a:latin typeface="Gabriola"/>
              </a:rPr>
              <a:t> – рискованное, сомнительное по честности дело, предпринятое в расчете на случайный успе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abriola"/>
              </a:rPr>
              <a:t>Приключение</a:t>
            </a:r>
            <a:r>
              <a:rPr b="1" lang="ru-RU" sz="2400" spc="-1" strike="noStrike">
                <a:solidFill>
                  <a:srgbClr val="000000"/>
                </a:solidFill>
                <a:latin typeface="Gabriola"/>
              </a:rPr>
              <a:t> – происшествие, неожиданный случай в жизни, в похождения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abriola"/>
              </a:rPr>
              <a:t>Популярный</a:t>
            </a:r>
            <a:r>
              <a:rPr b="1" lang="ru-RU" sz="2400" spc="-1" strike="noStrike">
                <a:solidFill>
                  <a:srgbClr val="000000"/>
                </a:solidFill>
                <a:latin typeface="Gabriola"/>
              </a:rPr>
              <a:t> – 1. общедоступный, вполне понятный по простоте, ясности изложения;</a:t>
            </a:r>
            <a:r>
              <a:rPr b="1" lang="ru-RU" sz="2000" spc="-1" strike="noStrike">
                <a:solidFill>
                  <a:srgbClr val="000000"/>
                </a:solidFill>
                <a:latin typeface="Gabriol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abriola"/>
              </a:rPr>
              <a:t>2. Пользующийся широкой известнос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briol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835280" y="3789360"/>
            <a:ext cx="69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abriola"/>
              </a:rPr>
              <a:t>Роман</a:t>
            </a:r>
            <a:r>
              <a:rPr b="1" lang="ru-RU" sz="2400" spc="-1" strike="noStrike">
                <a:solidFill>
                  <a:srgbClr val="000000"/>
                </a:solidFill>
                <a:latin typeface="Gabriola"/>
              </a:rPr>
              <a:t> (фр. </a:t>
            </a:r>
            <a:r>
              <a:rPr b="1" lang="en-US" sz="2400" spc="-1" strike="noStrike">
                <a:solidFill>
                  <a:srgbClr val="000000"/>
                </a:solidFill>
                <a:latin typeface="Gabriola"/>
              </a:rPr>
              <a:t>Roman-</a:t>
            </a:r>
            <a:r>
              <a:rPr b="1" lang="ru-RU" sz="2400" spc="-1" strike="noStrike">
                <a:solidFill>
                  <a:srgbClr val="000000"/>
                </a:solidFill>
                <a:latin typeface="Gabriola"/>
              </a:rPr>
              <a:t> повествование) – большое повествовательное произведение, обычно отличающееся многообразием действующих лиц и разветвленностью сюж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abriola"/>
              </a:rPr>
              <a:t>Сюжет</a:t>
            </a:r>
            <a:r>
              <a:rPr b="1" lang="ru-RU" sz="2400" spc="-1" strike="noStrike">
                <a:solidFill>
                  <a:srgbClr val="000000"/>
                </a:solidFill>
                <a:latin typeface="Gabriola"/>
              </a:rPr>
              <a:t> –последовательность и связь событий в художественном произвед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Без имени1"/>
          <p:cNvPicPr/>
          <p:nvPr/>
        </p:nvPicPr>
        <p:blipFill>
          <a:blip r:embed="rId1"/>
          <a:stretch/>
        </p:blipFill>
        <p:spPr>
          <a:xfrm>
            <a:off x="0" y="0"/>
            <a:ext cx="9144000" cy="78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7"/>
          <p:cNvPicPr/>
          <p:nvPr/>
        </p:nvPicPr>
        <p:blipFill>
          <a:blip r:embed="rId1"/>
          <a:stretch/>
        </p:blipFill>
        <p:spPr>
          <a:xfrm>
            <a:off x="2403360" y="1197000"/>
            <a:ext cx="4224600" cy="475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TextBox 4"/>
          <p:cNvSpPr/>
          <p:nvPr/>
        </p:nvSpPr>
        <p:spPr>
          <a:xfrm>
            <a:off x="2403360" y="6453360"/>
            <a:ext cx="45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briola"/>
              </a:rPr>
              <a:t>Пожар в усадьбе Дубровск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Без имени5"/>
          <p:cNvPicPr/>
          <p:nvPr/>
        </p:nvPicPr>
        <p:blipFill>
          <a:blip r:embed="rId1"/>
          <a:stretch/>
        </p:blipFill>
        <p:spPr>
          <a:xfrm>
            <a:off x="0" y="0"/>
            <a:ext cx="928692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7 001"/>
          <p:cNvPicPr/>
          <p:nvPr/>
        </p:nvPicPr>
        <p:blipFill>
          <a:blip r:embed="rId1"/>
          <a:stretch/>
        </p:blipFill>
        <p:spPr>
          <a:xfrm>
            <a:off x="2484360" y="1125360"/>
            <a:ext cx="4154400" cy="481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extBox 5"/>
          <p:cNvSpPr/>
          <p:nvPr/>
        </p:nvSpPr>
        <p:spPr>
          <a:xfrm>
            <a:off x="2340000" y="645336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briola"/>
              </a:rPr>
              <a:t>Столкновение отряда Дубровского с войс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Без имени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07:14:49Z</dcterms:created>
  <dc:creator>Пашкова Екатерина</dc:creator>
  <dc:description/>
  <dc:language>en-US</dc:language>
  <cp:lastModifiedBy>Sonne</cp:lastModifiedBy>
  <dcterms:modified xsi:type="dcterms:W3CDTF">2016-12-05T16:35:32Z</dcterms:modified>
  <cp:revision>3</cp:revision>
  <dc:subject/>
  <dc:title>pedsovet.su</dc:title>
</cp:coreProperties>
</file>