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14.jpeg" ContentType="image/jpeg"/>
  <Override PartName="/ppt/media/image38.png" ContentType="image/png"/>
  <Override PartName="/ppt/media/image8.png" ContentType="image/pn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3.png" ContentType="image/png"/>
  <Override PartName="/ppt/media/image37.png" ContentType="image/png"/>
  <Override PartName="/ppt/media/image18.png" ContentType="image/png"/>
  <Override PartName="/ppt/media/image6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36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88BF-D880-4FE4-B343-2BED19F7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9BE-EBF6-4DD0-A82C-624F75E2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865A9A-3509-4D89-B372-66134A25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90DD71-90E0-4F6F-9879-6BC6EB4C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72A3F3-9F9C-4BF8-A0DB-C7CDD7F2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86E3AE-5123-4295-8AF6-72BECC00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107B55-9CB3-4563-A230-1E3B4439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7B57CE-B685-400B-99A9-A9E6F814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C021D7-4C0F-4BFC-9432-433BA048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60B6F3-E9E7-4BBA-A357-BC3A5F76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7769BF-0E49-4B17-B1BF-7E266B36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89E70-300A-483F-B988-496333A9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573A-4D9B-49E0-BF98-A57A41CF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75020-2881-45EF-A5A6-43742FC4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7B88D-C81A-4026-B61E-E3E9D5D6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D6484-5A10-4392-A3FC-1F4A251E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C5048-BEC3-46C2-AE2C-FFF968CB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82C58-E783-440B-8A08-8605087C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6EC3C-1440-4A54-85D6-E5515784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59060-A085-46CA-991C-06194971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C709A-28D5-45E5-AE85-0EAD6EA2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750C8-1FAA-437C-AE8D-FB38C9D4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F0746-D56C-45C1-AC8F-346EF008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B5FB-7B46-48E6-8948-044859F3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0E72A-0694-431A-81C8-31301F41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DE05-1AB9-4542-A657-ED4A815D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AEB7-66CB-4FF6-A0F5-493F1419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3FF1-1BBE-479D-A141-7BDAF5D5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754A-2EEB-451C-AFA5-ED2EB581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FBA1-F644-4763-A606-F20A7812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5DCB-02CD-4493-8E05-CCA510F8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B058-DA7C-4297-9863-1E88057A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1715-7A9C-4195-A450-15C03C0D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6EC0-02BE-4D02-ABF9-035E9468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8966-3686-41BF-AAD9-BC4A4A13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A4CC-9B1A-4F75-A02B-6DD2D58B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9510-DAE0-4099-A417-819CD3F8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8DD0-7E91-42DF-98FB-ABA51474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DE965-DDC7-4DD4-BE0E-619FC0F7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D57A8-F579-455E-A39A-A03E45FC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194A1-620F-4A11-A5FE-0E441BF0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3E020-3B67-44BC-B253-F2E0FBCE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A4169-5190-4DBC-A4D1-DA35C91F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5642-BD1B-4E12-A9F2-82F073DD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755D1-9186-4743-8964-DDF8B4BA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977A5-5995-477C-B751-DA95A44E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8E07C-3B03-4497-A7E0-89CA6DD3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42E69-A45D-45B6-818E-F7CB285D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B287E-3F81-4B8C-A3F5-D80EBB00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5FE9D-7CDC-4FA3-BB65-AE857D91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F2AF9-651A-4B4B-B529-1394E698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2B09F-1DEE-4EFA-8989-CB02B7FC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CF0DD-3879-4644-929A-CAF9BF48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928D7-C3B6-4333-B541-2539B0E0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8A95-B686-48D7-9506-A64FEA60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1A95B-F1B0-4092-B81E-844A23FE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93F6A-2C98-477E-8AB1-0D3E2A22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4443A-4295-4B98-A2E6-23C5ED7D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F2010-B2FB-472B-A4CE-4633B3EB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B8D7E-B04E-49A5-B88F-62A1F83A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4D60B-583B-4758-9677-E4BF1C7E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11E1B-CF51-439E-B3CB-837498CC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E0A3D-D1A9-4AAA-8A4B-5A416A90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BB748-B6C6-4BFA-8DB9-9808FEF3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D25A3C-D12A-4FB1-BC6F-9775B082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6745-BF7F-468F-9358-B61D5496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84FD9-3E8B-4CC7-9BD0-95B44070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B9B8BD-134E-4459-94A0-1EF0A15E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1C45EE-B03B-4DBB-9C98-6FAB6124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A8DEEF-452F-421F-AA9D-3E5E3BE9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3F17E6-E49B-4411-9715-056D4C11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55F6D-E9D3-4138-A12B-5A7014F7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9BB340-033A-4C9D-ACB8-57E781F2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CAF1AC-7D21-4EE2-A3BD-A75F6FB0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C6C943-94B5-4862-B214-23F58FBE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61203-AB35-44DB-B3B2-2B68A5DC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AF33-6D20-4EFF-8E1E-524C2E2C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7333C-06E7-4076-8F86-936C97B4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ECF84D-021E-4523-8C1D-E08768A1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320A14-3AA0-4608-82E8-9BC2F2A7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C7472A-E89C-4F1E-9281-CEA5827F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90EF27-6E06-4847-ADC0-8EC0155F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2BC0DE-F9C6-4DEA-B2A2-9BF73A66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FEC24D-CAFA-4F86-AC00-C5A28537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52ACCB-AC73-417C-9E90-F8B3347A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3D0632-FD85-4BA8-9AD4-6B4EE479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C10654-BECA-49F4-B73B-21A0195F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479B-39BE-421F-A78A-5ACAD33D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232203-0A26-4245-8339-21D87A12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FDBC71-A671-4535-A9BF-75CE05BC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4F2CBB-4E7C-4960-974F-E8D43DAA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32672B-0987-499B-8D33-CA475A8C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049A11-CDC3-4709-8D36-F6187AF7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1C71CE-7621-48B2-BEDE-C44EC86C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CD2DD7-B674-4265-9010-5421A759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3C77FF-92DA-4C94-9956-03C7A181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D2E982-1ED9-4884-BC60-ED0A698B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75B19C-0753-45A9-863B-266D8018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8DFB-1EB0-49FB-A94F-823B72A7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B2C191-637C-42BB-BCD7-2D5B778C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5EFCD3-F58C-4AC7-B12A-181A842F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5F22C8-ABB8-4B0F-B682-02962D3F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5F09B7-800B-4F17-8652-52F33BF8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969966-0F22-456B-9C57-495920F6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E2FC5-FAFF-4065-AE0A-7297914F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55677-91B7-41D6-9E49-1FC159A9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130F6-8D2F-46E6-A337-EF7D68A9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EC6CA-D4BF-4018-BB95-157614C7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C71F8-C327-4276-97AB-280184F6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B79E-92AA-4892-878D-AF1E2018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B27AE-9A1F-4B84-B9EB-18026E66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2AA05-326D-494C-B0B2-F29618C2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B64AD-1FAB-40D7-980B-8CC274C3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7D778-9034-4A23-BF91-5F9BE7A5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8322C-9B05-4E37-A698-3E8C505E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CA88A-5A4C-4D30-A59A-0843A83F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5E509-71D2-4DE0-9A28-F1561D9A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AB94E7-AF8F-4C93-8515-C3B185CB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84205E-8E57-4924-8D69-487D1748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6BE181-1FBC-479A-A3AA-8ED32FBD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84BB-5F76-47AE-8758-E438EF71B1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9FCE-49D3-45D6-83E9-2494C0EC043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3418-063A-47FF-A6CE-B38A29FD6C2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5F51-AD21-44BF-8EC2-F00ADFDFC50D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16CB-C2FB-4088-924A-78CF78AB52AF}" type="slidenum">
              <a:rPr b="1" lang="ru-RU" sz="1400" spc="-1" strike="noStrike">
                <a:solidFill>
                  <a:srgbClr val="c9c2d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sldNum" idx="14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6AFF-F882-40D4-8C96-858D1F12B6CA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2685-AF06-4AE8-9DEE-75534AD4603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2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F016-27DA-4D10-8F03-D81BA2C8A94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2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9739-2701-4B43-8C9B-5BF4BE67E7AF}" type="slidenum">
              <a:rPr b="1" lang="ru-RU" sz="1400" spc="-1" strike="noStrike">
                <a:solidFill>
                  <a:srgbClr val="69676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26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5A90-5C1A-48E9-96AE-8E3D4DD4B373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27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32968"/>
                </a:solidFill>
                <a:latin typeface="Impact"/>
              </a:rPr>
              <a:t>АКРОБАТИЧЕСКИЕ УПРАЖНЕНИЯ </a:t>
            </a:r>
            <a:br>
              <a:rPr sz="8600"/>
            </a:br>
            <a:r>
              <a:rPr b="1" lang="ru-RU" sz="3200" spc="-1" strike="noStrike">
                <a:solidFill>
                  <a:srgbClr val="c9c2d1"/>
                </a:solidFill>
                <a:latin typeface="Calibri"/>
              </a:rPr>
              <a:t>МЕТОДИЧЕСКАЯ РАЗРАБОТКА</a:t>
            </a:r>
            <a:br>
              <a:rPr sz="3200"/>
            </a:br>
            <a:r>
              <a:rPr b="1" lang="ru-RU" sz="3200" spc="-1" strike="noStrike">
                <a:solidFill>
                  <a:srgbClr val="c9c2d1"/>
                </a:solidFill>
                <a:latin typeface="Calibri"/>
              </a:rPr>
              <a:t>ПО ПРОГРАММЕ </a:t>
            </a:r>
            <a:br>
              <a:rPr sz="3200"/>
            </a:br>
            <a:r>
              <a:rPr b="1" lang="ru-RU" sz="3200" spc="-1" strike="noStrike">
                <a:solidFill>
                  <a:srgbClr val="c9c2d1"/>
                </a:solidFill>
                <a:latin typeface="Calibri"/>
              </a:rPr>
              <a:t>«ФИЗИЧЕСКАЯ КУЛЬТУРА». </a:t>
            </a:r>
            <a:br>
              <a:rPr sz="3200"/>
            </a:br>
            <a:endParaRPr b="0" lang="en-US" sz="32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3814560" y="4723920"/>
            <a:ext cx="532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читель физической культур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усева Надежда Васильевн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178920" y="1773360"/>
            <a:ext cx="8775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Кувырок назад в упор стоя, ноги вроз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з упора присев, заканчивая кувырок назад, развести ноги, не сгибая их в коленях, и выпрямляя руки, выйти в упор стоя ноги врозь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Типичные ошиб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Неправильная постановка рук, как при выполнении кувырка назад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лишком запоздалое разведение но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Неполное разгибание ног в момент развед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траховка и помощ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могать, стоя сбоку на коленях, поддерживая под спину в момент переворачивания через голову. Чтобы выполняющий не задел страхующего ногами при их разведении, последний должен находиться рядом с выполняющим в и. п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WordArt 4"/>
          <p:cNvSpPr txBox="1"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кробатически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8" name="Picture 8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580000" y="5229360"/>
            <a:ext cx="1656000" cy="14396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9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067280" y="5229360"/>
            <a:ext cx="1368360" cy="14396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0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2484360" y="4941720"/>
            <a:ext cx="1295640" cy="17002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4" descr="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7524720" y="4941720"/>
            <a:ext cx="1152720" cy="17272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5" descr="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684360" y="4941720"/>
            <a:ext cx="1439640" cy="1916280"/>
          </a:xfrm>
          <a:prstGeom prst="rect">
            <a:avLst/>
          </a:prstGeom>
          <a:ln w="0">
            <a:noFill/>
          </a:ln>
        </p:spPr>
      </p:pic>
      <p:sp>
        <p:nvSpPr>
          <p:cNvPr id="493" name="Line 16"/>
          <p:cNvSpPr/>
          <p:nvPr/>
        </p:nvSpPr>
        <p:spPr>
          <a:xfrm>
            <a:off x="826920" y="65977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-360" y="1557360"/>
            <a:ext cx="8955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Длинный кувыро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выполняется из полуприседа, руки назад. Махом рук вперед, разгибая ноги, поставить руки не ближе 60-80 см от носков впереди плеч, оттолкнуться ногами и выполнить кувырок в группировке. При этом надо стремиться, чтобы сгибание ног в коленях происходило в момент касания пола лопатками.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Типичные ошиб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Близкая постановка рук, что приводит к выполнению обычного кувырка вперед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Ноги в момент отталкивания не разгибаются полностью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Появление фазы полета из-за большого расстояния между стопами и местом постановки рук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Ошибки, типичные при выполнении группировок, перекатов и кувырка вперед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траховка и помощь.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Стоя сбоку у места постановки рук, одной рукой, накладывая ее на затылок выполняющего, помогать ему наклонять голову вперед, а другой поддерживать снизу под живот или бедро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WordArt 4"/>
          <p:cNvSpPr txBox="1"/>
          <p:nvPr/>
        </p:nvSpPr>
        <p:spPr>
          <a:xfrm>
            <a:off x="971640" y="214200"/>
            <a:ext cx="797220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Акробатически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6" name="Picture 6" descr=""/>
          <p:cNvPicPr/>
          <p:nvPr/>
        </p:nvPicPr>
        <p:blipFill>
          <a:blip r:embed="rId1"/>
          <a:stretch/>
        </p:blipFill>
        <p:spPr>
          <a:xfrm>
            <a:off x="971640" y="4941720"/>
            <a:ext cx="6913440" cy="1916280"/>
          </a:xfrm>
          <a:prstGeom prst="rect">
            <a:avLst/>
          </a:prstGeom>
          <a:ln w="0">
            <a:noFill/>
          </a:ln>
        </p:spPr>
      </p:pic>
      <p:sp>
        <p:nvSpPr>
          <p:cNvPr id="497" name="Line 7"/>
          <p:cNvSpPr/>
          <p:nvPr/>
        </p:nvSpPr>
        <p:spPr>
          <a:xfrm>
            <a:off x="3564000" y="558972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-360" y="1557000"/>
            <a:ext cx="8775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Кувырок вперед прыжком с 3х шагов разбег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Характерная особенность техники - 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полетная фаза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после толчка ногами, в безопорном положении тело слегка согнуто в тазобедренных суставах. После касания руками опоры выполняется кувырок вперед. Кувырок вперед прыжком выполняется из полуприседа, с шага, с разбег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Типичные ошиб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Ошибки, типичные при выполнении кувырка в группировке, длинного кувырка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Слишком высокая или низкая траектория в полетной фазе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Постановка рук под себя и резкое их сгибание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траховка и помощ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обеспечивается  в фазе полета, особенно в момент прихода руками на опору. Стоя сбоку, страхующий одной рукой берет ученика за затылок, наклоняет его голову вперед, а другой рукой помогает снизу под бедро.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WordArt 4"/>
          <p:cNvSpPr txBox="1"/>
          <p:nvPr/>
        </p:nvSpPr>
        <p:spPr>
          <a:xfrm>
            <a:off x="900000" y="214200"/>
            <a:ext cx="804384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Акробатически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0" name="Picture 6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547640" y="4797360"/>
            <a:ext cx="5256360" cy="2060640"/>
          </a:xfrm>
          <a:prstGeom prst="rect">
            <a:avLst/>
          </a:prstGeom>
          <a:ln w="0">
            <a:noFill/>
          </a:ln>
        </p:spPr>
      </p:pic>
      <p:sp>
        <p:nvSpPr>
          <p:cNvPr id="501" name="Line 7"/>
          <p:cNvSpPr/>
          <p:nvPr/>
        </p:nvSpPr>
        <p:spPr>
          <a:xfrm>
            <a:off x="2340000" y="666900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-360" y="1773000"/>
            <a:ext cx="89550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увырок прыжком через препятствие высотой 90 с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увырок выполняется аналогично кувырку прыжком с трех шагов разбега, но высота полетной фазы постепенно увеличивается, для чего и увеличивается длина и скорость разбег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Типичные ошиб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шибки такие же как при кувырках прыжком без препятствия. Учащиеся не освоившие кувырок прыжком с места, не должны допускаться к выполнению данного упражн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WordArt 4"/>
          <p:cNvSpPr txBox="1"/>
          <p:nvPr/>
        </p:nvSpPr>
        <p:spPr>
          <a:xfrm>
            <a:off x="900000" y="214200"/>
            <a:ext cx="804384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Акробатически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4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84360" y="3860640"/>
            <a:ext cx="7775280" cy="2997360"/>
          </a:xfrm>
          <a:prstGeom prst="rect">
            <a:avLst/>
          </a:prstGeom>
          <a:ln w="0">
            <a:noFill/>
          </a:ln>
        </p:spPr>
      </p:pic>
      <p:sp>
        <p:nvSpPr>
          <p:cNvPr id="505" name="Line 8"/>
          <p:cNvSpPr/>
          <p:nvPr/>
        </p:nvSpPr>
        <p:spPr>
          <a:xfrm>
            <a:off x="147636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-360" y="1773360"/>
            <a:ext cx="8955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Кувырок назад через стойку на руках с помощью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увырок выполняется из седа с наклоном вперед или после седа назад с прямыми ногами. Заканчивая перекат назад согнувшись, поставить руки около плеч пальцами к плечам и быстро разогнуться ногами вверх, одновременно активно выпрямляя руки, опуская ноги назад, принять упор присе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Типичные ошиб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Преждевременное разгибание в тазобедренных суставах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Запоздалое разгибание в тазобедренных суставах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Неправильная постановка рук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траховка и помощ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тоя сбоку ноги врозь около места постановки рук, взять за ноги и помочь разогнуться в стойку на руках и, подтолкнув за ноги, оказать помощь при завершении кувырка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WordArt 4"/>
          <p:cNvSpPr txBox="1"/>
          <p:nvPr/>
        </p:nvSpPr>
        <p:spPr>
          <a:xfrm>
            <a:off x="1042920" y="214200"/>
            <a:ext cx="790092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Акробатически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8" name="Picture 6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835280" y="4437000"/>
            <a:ext cx="5781600" cy="2421000"/>
          </a:xfrm>
          <a:prstGeom prst="rect">
            <a:avLst/>
          </a:prstGeom>
          <a:ln w="0">
            <a:noFill/>
          </a:ln>
        </p:spPr>
      </p:pic>
      <p:sp>
        <p:nvSpPr>
          <p:cNvPr id="509" name="Line 8"/>
          <p:cNvSpPr/>
          <p:nvPr/>
        </p:nvSpPr>
        <p:spPr>
          <a:xfrm>
            <a:off x="2403360" y="67705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-360" y="1557000"/>
            <a:ext cx="8955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тойка на лопатках согнув ног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Выполняется перекатом назад в группировке. В момент опоры лопатками и затылком подставить руки под поясницу (большими пальцами вперед), ноги согнуты, голени вертикально. Это подводящее упражнение для обучения стойке на лопатках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Из стойки на лопатках согнув ноги перекатом вперед упор присе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Убрав руки с поясницы, начать перекат вперед, одновременно взять группировку. В конце переката выполнить энергичное движение плечами вперед и принять упор присев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          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Типичные ошиб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Перекат выполняется с откидыванием плеч и головы назад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Руки ставятся под спину рано, локти широко разведены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Туловище не принимает вертикального положения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Голени отклоняются от вертикального положения, носки не оттянуты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Страховка и помощ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омогать, стоя сбоку от ученика, одной рукой поддерживая под спину, другой за ног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WordArt 4"/>
          <p:cNvSpPr txBox="1"/>
          <p:nvPr/>
        </p:nvSpPr>
        <p:spPr>
          <a:xfrm>
            <a:off x="971640" y="214200"/>
            <a:ext cx="797220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Акробатически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2" name="Picture 6" descr=""/>
          <p:cNvPicPr/>
          <p:nvPr/>
        </p:nvPicPr>
        <p:blipFill>
          <a:blip r:embed="rId1"/>
          <a:stretch/>
        </p:blipFill>
        <p:spPr>
          <a:xfrm>
            <a:off x="2050920" y="5084640"/>
            <a:ext cx="4392720" cy="1773360"/>
          </a:xfrm>
          <a:prstGeom prst="rect">
            <a:avLst/>
          </a:prstGeom>
          <a:ln w="0">
            <a:noFill/>
          </a:ln>
        </p:spPr>
      </p:pic>
      <p:sp>
        <p:nvSpPr>
          <p:cNvPr id="513" name="Line 7"/>
          <p:cNvSpPr/>
          <p:nvPr/>
        </p:nvSpPr>
        <p:spPr>
          <a:xfrm>
            <a:off x="2268360" y="6669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-360" y="1773360"/>
            <a:ext cx="89550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тойка на лопатка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з упора присев, взявшись руками за середину голени, выполнить перекат назад. В конце переката, коснувшись пола лопатками, упереться руками в поясницу и, разогнув ноги, выполнить стойку на лопатках. Туловище должно быть прямым, локти широко не разводить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Типичные ошиб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гибание в тазобедренных сустава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ело отклонено от вертикальной плоск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Широко разведены лок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траховка и помощь.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Стоя сбоку от ученика у места опоры лопатками, одной рукой захватить за голень, предупреждая возможность опускания ног за голову. После выхода в стойку на лопатках дополнительно (по мере необходимости) поддерживать сзади за бедро, добиваясь более точного вертикального положения тела с вытянутыми носками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WordArt 4"/>
          <p:cNvSpPr txBox="1"/>
          <p:nvPr/>
        </p:nvSpPr>
        <p:spPr>
          <a:xfrm>
            <a:off x="1042920" y="214200"/>
            <a:ext cx="790092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Акробатически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268360" y="4941720"/>
            <a:ext cx="5010480" cy="1916280"/>
          </a:xfrm>
          <a:prstGeom prst="rect">
            <a:avLst/>
          </a:prstGeom>
          <a:ln w="0">
            <a:noFill/>
          </a:ln>
        </p:spPr>
      </p:pic>
      <p:sp>
        <p:nvSpPr>
          <p:cNvPr id="517" name="Line 7"/>
          <p:cNvSpPr/>
          <p:nvPr/>
        </p:nvSpPr>
        <p:spPr>
          <a:xfrm>
            <a:off x="2484360" y="530064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-360" y="1773000"/>
            <a:ext cx="8955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тойка на голове согнув ног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пражнение является подводящим для освоения стойки на голове и руках. Из упора присев, разгибая ноги, опереться головой о мат, перенося массу тела на руки и голову, без толчка и маха согнуть к груди сначала одну ногу, затем другую, принимая стойку на голове согнув ног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Типичные ошиб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Неправильная постановка головы: не на лоб, а на тем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Близкая постановка головы к рукам (нарушен принцип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равностороннего треугольника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гибание ног не к груди, а за спин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траховка и помощь.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могать, стоя сбоку на коленях, поддерживая одной рукой под спину, другой за голен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WordArt 4"/>
          <p:cNvSpPr txBox="1"/>
          <p:nvPr/>
        </p:nvSpPr>
        <p:spPr>
          <a:xfrm>
            <a:off x="971640" y="214200"/>
            <a:ext cx="797220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Акробатически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0" name="Picture 7" descr=""/>
          <p:cNvPicPr/>
          <p:nvPr/>
        </p:nvPicPr>
        <p:blipFill>
          <a:blip r:embed="rId1"/>
          <a:stretch/>
        </p:blipFill>
        <p:spPr>
          <a:xfrm>
            <a:off x="2124000" y="4653000"/>
            <a:ext cx="4248360" cy="2205000"/>
          </a:xfrm>
          <a:prstGeom prst="rect">
            <a:avLst/>
          </a:prstGeom>
          <a:ln w="0">
            <a:noFill/>
          </a:ln>
        </p:spPr>
      </p:pic>
      <p:sp>
        <p:nvSpPr>
          <p:cNvPr id="521" name="Line 8"/>
          <p:cNvSpPr/>
          <p:nvPr/>
        </p:nvSpPr>
        <p:spPr>
          <a:xfrm>
            <a:off x="2484360" y="6597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87757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Стойка на голове и рук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з упора присев, опираясь головой (верхней частью лба) впереди рук, образуя равносторонний треугольник, толчком ног, стойка на голове согнув ноги с последующим выпрямлением туловища до прямого вертикального полож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Типичные ошиб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Неправильная постановка головы (не на лоб, а на темя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Голова поставлена близко или далеко от рук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Неполное разгибание в тазобедренных сустава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Излишнее прогибание в поясниц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Ноги согнуты в коленях, носки не оттянут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Страховка и помощь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тоя сбоку, одной рукой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ддерживать за голень снизу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другой под спину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ри выходе в стойку поддерживать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дной рукой за бедро, а другой за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голень, добиваясь точного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ертикального полож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WordArt 4"/>
          <p:cNvSpPr txBox="1"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Акробатически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4" name="Line 7"/>
          <p:cNvSpPr/>
          <p:nvPr/>
        </p:nvSpPr>
        <p:spPr>
          <a:xfrm flipH="1">
            <a:off x="8316720" y="573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Line 8"/>
          <p:cNvSpPr/>
          <p:nvPr/>
        </p:nvSpPr>
        <p:spPr>
          <a:xfrm>
            <a:off x="6443640" y="609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Line 9"/>
          <p:cNvSpPr/>
          <p:nvPr/>
        </p:nvSpPr>
        <p:spPr>
          <a:xfrm flipV="1">
            <a:off x="5219640" y="6021000"/>
            <a:ext cx="73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Line 10"/>
          <p:cNvSpPr/>
          <p:nvPr/>
        </p:nvSpPr>
        <p:spPr>
          <a:xfrm flipV="1">
            <a:off x="7451640" y="5876640"/>
            <a:ext cx="14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8" name="Picture 11" descr=""/>
          <p:cNvPicPr/>
          <p:nvPr/>
        </p:nvPicPr>
        <p:blipFill>
          <a:blip r:embed="rId1"/>
          <a:stretch/>
        </p:blipFill>
        <p:spPr>
          <a:xfrm>
            <a:off x="4500720" y="4869000"/>
            <a:ext cx="4103640" cy="1989000"/>
          </a:xfrm>
          <a:prstGeom prst="rect">
            <a:avLst/>
          </a:prstGeom>
          <a:ln w="0">
            <a:noFill/>
          </a:ln>
        </p:spPr>
      </p:pic>
      <p:sp>
        <p:nvSpPr>
          <p:cNvPr id="529" name="Line 13"/>
          <p:cNvSpPr/>
          <p:nvPr/>
        </p:nvSpPr>
        <p:spPr>
          <a:xfrm>
            <a:off x="5003640" y="6669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-360" y="1773360"/>
            <a:ext cx="89550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Из упора присев силой стойка на голов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Из упора присев (голова и руки как и при выполнении стойки на голове и руках согнув ноги, стойку силой можно выполнить с согнутыми или прямыми ногами (согнувшись). Но в обоих вариантах из упора присев, предварительно разогнув ноги и не отрывая их от пола, необходимо поставить вертикально туловище, а затем поднять ноги: в первом случае — сгибая их в коленях через стойку, согнув ноги, а во втором — разгибаясь в тазобедренных суставах с прямыми ногами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Типичные ошиб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Неправильное положение рук и головы, описанное ране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тойка выполняется толчком двумя или махом одной и толчком друго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лишком далеко или близко поставлены руки от ног, и при разгибании ног туловище принимает наклонное положение: либо вперед (когда руки поставлены слишком близко к ногам), либо назад (когда руки поставлены слишком далеко от ног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Преждевременное разгибание в тазобедренных суставах (до того момента, когда туловище еще не примет вертикального положения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Страховка и помощь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тоя с боку, одной рукой поддерживать под спину, другой под ног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WordArt 4"/>
          <p:cNvSpPr txBox="1"/>
          <p:nvPr/>
        </p:nvSpPr>
        <p:spPr>
          <a:xfrm>
            <a:off x="1042920" y="214200"/>
            <a:ext cx="790092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Акробатически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2" name="Picture 7" descr=""/>
          <p:cNvPicPr/>
          <p:nvPr/>
        </p:nvPicPr>
        <p:blipFill>
          <a:blip r:embed="rId1"/>
          <a:stretch/>
        </p:blipFill>
        <p:spPr>
          <a:xfrm>
            <a:off x="4067280" y="5157720"/>
            <a:ext cx="4859280" cy="17002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8" descr=""/>
          <p:cNvPicPr/>
          <p:nvPr/>
        </p:nvPicPr>
        <p:blipFill>
          <a:blip r:embed="rId2"/>
          <a:stretch/>
        </p:blipFill>
        <p:spPr>
          <a:xfrm>
            <a:off x="250920" y="5191200"/>
            <a:ext cx="3724200" cy="1666800"/>
          </a:xfrm>
          <a:prstGeom prst="rect">
            <a:avLst/>
          </a:prstGeom>
          <a:ln w="0">
            <a:noFill/>
          </a:ln>
        </p:spPr>
      </p:pic>
      <p:sp>
        <p:nvSpPr>
          <p:cNvPr id="534" name="Line 9"/>
          <p:cNvSpPr/>
          <p:nvPr/>
        </p:nvSpPr>
        <p:spPr>
          <a:xfrm>
            <a:off x="468360" y="551664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Line 11"/>
          <p:cNvSpPr/>
          <p:nvPr/>
        </p:nvSpPr>
        <p:spPr>
          <a:xfrm>
            <a:off x="4643280" y="551664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8775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Группиров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это согнутое положение тела, при котором колени подтянуты к плечам, локти прижаты к туловищу, а кисти захватывают середину голени (стопы и колени слегка разведены). Группировка служит основным подводящим упражнением к перекатам, кувыркам и сальто в группировке. Группировку выполняют в приседе (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а),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идя (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б),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лежа на спине (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в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Типичные ошиб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ткинутая назад голов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Ноги вместе, не разведен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Ноги разведены слишком широк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Высокий или низкий захват руками голеней , захват в «замок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Неплотная группиров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WordArt 4"/>
          <p:cNvSpPr txBox="1"/>
          <p:nvPr/>
        </p:nvSpPr>
        <p:spPr>
          <a:xfrm>
            <a:off x="1116000" y="404640"/>
            <a:ext cx="7848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Impact"/>
              </a:rPr>
              <a:t>Акробатически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4" name="Picture 5" descr=""/>
          <p:cNvPicPr/>
          <p:nvPr/>
        </p:nvPicPr>
        <p:blipFill>
          <a:blip r:embed="rId1"/>
          <a:stretch/>
        </p:blipFill>
        <p:spPr>
          <a:xfrm>
            <a:off x="1403280" y="4797360"/>
            <a:ext cx="1440000" cy="20606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6" descr=""/>
          <p:cNvPicPr/>
          <p:nvPr/>
        </p:nvPicPr>
        <p:blipFill>
          <a:blip r:embed="rId2"/>
          <a:stretch/>
        </p:blipFill>
        <p:spPr>
          <a:xfrm>
            <a:off x="3851280" y="4869000"/>
            <a:ext cx="1370160" cy="19890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7" descr=""/>
          <p:cNvPicPr/>
          <p:nvPr/>
        </p:nvPicPr>
        <p:blipFill>
          <a:blip r:embed="rId3"/>
          <a:stretch/>
        </p:blipFill>
        <p:spPr>
          <a:xfrm>
            <a:off x="6300720" y="4724280"/>
            <a:ext cx="1440000" cy="2133720"/>
          </a:xfrm>
          <a:prstGeom prst="rect">
            <a:avLst/>
          </a:prstGeom>
          <a:ln w="0">
            <a:noFill/>
          </a:ln>
        </p:spPr>
      </p:pic>
      <p:sp>
        <p:nvSpPr>
          <p:cNvPr id="457" name="Управляющая кнопка: назад 6">
            <a:hlinkClick r:id="rId4" action="ppaction://hlinksldjump"/>
          </p:cNvPr>
          <p:cNvSpPr/>
          <p:nvPr/>
        </p:nvSpPr>
        <p:spPr>
          <a:xfrm>
            <a:off x="850104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6878" y="10800"/>
                </a:moveTo>
                <a:lnTo>
                  <a:pt x="20891" y="3794"/>
                </a:lnTo>
                <a:lnTo>
                  <a:pt x="20891" y="17806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-360" y="1773360"/>
            <a:ext cx="8955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тойка на руках махом одной и толчком друг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тоя на маховой ноге, толчковую вперед на носок, руки вверху ладонями вперед, шагом сделать выпад, наклонить туловище вперед, поставить прямые руки на пол на ширине плеч и махом одной, толчком другой выйти в стойку на руках. В стойке ноги соединить, смотреть на пол, немного наклонив голову назад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Типичные ошиб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Неправильное положение головы (не отклоняется назад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лишком прогнутое тел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лишком широкая или узкая постановка рук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Не полностью выпрямлено тело в плечевых и грудинноключичных сустава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траховка и помощь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могать со стороны маховой ноги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ытянув одну руку вперед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(над местом постановки рук)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торой захватить ученика з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бедро или голень маховой ног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днятая рука служит ориентиром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чащийся должен остановиться 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омент касания ее ногам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WordArt 4"/>
          <p:cNvSpPr txBox="1"/>
          <p:nvPr/>
        </p:nvSpPr>
        <p:spPr>
          <a:xfrm>
            <a:off x="900000" y="214200"/>
            <a:ext cx="804384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Акробатически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8" name="Picture 6" descr=""/>
          <p:cNvPicPr/>
          <p:nvPr/>
        </p:nvPicPr>
        <p:blipFill>
          <a:blip r:embed="rId1"/>
          <a:stretch/>
        </p:blipFill>
        <p:spPr>
          <a:xfrm>
            <a:off x="4140360" y="4581360"/>
            <a:ext cx="5003640" cy="2276640"/>
          </a:xfrm>
          <a:prstGeom prst="rect">
            <a:avLst/>
          </a:prstGeom>
          <a:ln w="0">
            <a:noFill/>
          </a:ln>
        </p:spPr>
      </p:pic>
      <p:sp>
        <p:nvSpPr>
          <p:cNvPr id="539" name="Line 7"/>
          <p:cNvSpPr/>
          <p:nvPr/>
        </p:nvSpPr>
        <p:spPr>
          <a:xfrm>
            <a:off x="5148360" y="6669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-360" y="1773360"/>
            <a:ext cx="8955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«Мост» из положения лежа на спин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Лежа на спине, сильно согнуть ноги и развести их (на длину стопы), носки  развернуть кнаружи, руками опереться у плеч (пальцами к плечам). Выпрямляя одновременно руки и ноги, прогнуться и наклонить голову назад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гибая руки и ноги, наклоняя голову вперед, медленно опуститься на спину в исходное положение. При выполнении стремиться полностью разогнуть ноги и перевести массу тела на руки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Типичные ошиб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Ноги в коленях согнуты, ступни на носка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Ноги согнуты в коленях, плечи смещены от точек опоры кисте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Руки и ноги широко расставлен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Голова наклонена вперед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траховка и помощь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тоя сбоку, поддерживать одной рукой под спину у лопаток, другой под поясниц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WordArt 4"/>
          <p:cNvSpPr txBox="1"/>
          <p:nvPr/>
        </p:nvSpPr>
        <p:spPr>
          <a:xfrm>
            <a:off x="971640" y="214200"/>
            <a:ext cx="797220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Акробатически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2" name="Picture 5" descr=""/>
          <p:cNvPicPr/>
          <p:nvPr/>
        </p:nvPicPr>
        <p:blipFill>
          <a:blip r:embed="rId1"/>
          <a:stretch/>
        </p:blipFill>
        <p:spPr>
          <a:xfrm>
            <a:off x="3995640" y="3500280"/>
            <a:ext cx="2448000" cy="8128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6" descr=""/>
          <p:cNvPicPr/>
          <p:nvPr/>
        </p:nvPicPr>
        <p:blipFill>
          <a:blip r:embed="rId2"/>
          <a:stretch/>
        </p:blipFill>
        <p:spPr>
          <a:xfrm>
            <a:off x="6804000" y="3213000"/>
            <a:ext cx="1871640" cy="1224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7" descr=""/>
          <p:cNvPicPr/>
          <p:nvPr/>
        </p:nvPicPr>
        <p:blipFill>
          <a:blip r:embed="rId3"/>
          <a:stretch/>
        </p:blipFill>
        <p:spPr>
          <a:xfrm>
            <a:off x="4500720" y="5084640"/>
            <a:ext cx="1295280" cy="10810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8" descr=""/>
          <p:cNvPicPr/>
          <p:nvPr/>
        </p:nvPicPr>
        <p:blipFill>
          <a:blip r:embed="rId4"/>
          <a:stretch/>
        </p:blipFill>
        <p:spPr>
          <a:xfrm>
            <a:off x="7020000" y="5157720"/>
            <a:ext cx="1368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250920" y="1844640"/>
            <a:ext cx="8704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Из стойки ноги врозь наклоном назад «мост» с помощью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ыполняется из стойки ноги врозь, руки вверх. Наклоняясь назад, подать таз вперед и медленно опуститься в положение «мост». При опускании голову наклонить назад до отказ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Типичные ошиб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ри наклоне туловища назад и опускании в «мост» голова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не полностью отведена назад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В положении «мост» типичные ошибки описаны выше.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траховка и помощь.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траховку осуществлять стоя сбок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ддерживая одной рукой под лопатки, другой под поясницу. Упражнение выполняют со страховкой до полного осво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WordArt 4"/>
          <p:cNvSpPr txBox="1"/>
          <p:nvPr/>
        </p:nvSpPr>
        <p:spPr>
          <a:xfrm>
            <a:off x="971640" y="214200"/>
            <a:ext cx="797220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Акробатически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8" name="Picture 7" descr=""/>
          <p:cNvPicPr/>
          <p:nvPr/>
        </p:nvPicPr>
        <p:blipFill>
          <a:blip r:embed="rId1"/>
          <a:stretch/>
        </p:blipFill>
        <p:spPr>
          <a:xfrm>
            <a:off x="179280" y="4581360"/>
            <a:ext cx="4516560" cy="22766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8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859280" y="4581360"/>
            <a:ext cx="4105440" cy="2276640"/>
          </a:xfrm>
          <a:prstGeom prst="rect">
            <a:avLst/>
          </a:prstGeom>
          <a:ln w="0">
            <a:noFill/>
          </a:ln>
        </p:spPr>
      </p:pic>
      <p:sp>
        <p:nvSpPr>
          <p:cNvPr id="550" name="Line 9"/>
          <p:cNvSpPr/>
          <p:nvPr/>
        </p:nvSpPr>
        <p:spPr>
          <a:xfrm>
            <a:off x="5867280" y="5084640"/>
            <a:ext cx="208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178920" y="1557000"/>
            <a:ext cx="8775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Мост» и поворот кругом в упор стоя на одном колен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Техника выполнения «моста» из положения лежа на спине и из положения стоя с помощью (слайд 34, 35). Поэтому здесь остановимся на технике поворота в упор стоя на одном колене из положения «мост». Перенося тяжесть тела на правую (левую) руку и правую (левую) ногу, оттолкнуться левой (правой) рукой и начать поворот направо (налево). Повернувшись на 90°, согнуться и закончить упражнение в упоре стоя на правом (левом) колене, другую назад. Завершая поворот, опереться на левую (правую) руку и вернуть кисть правой (левой) руки в обычное положени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Типичные ошиб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Недостаточная передача тяжести тела на руки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Слишком широкая постановка рук на пол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При повороте нет толчка ногой, противоположной повороту от пола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Опускание и сгибание ноги сзади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Страховка и помощь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могать, стоя с противоположной повороту стороны, поддерживая под спину и за ног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2" name="Picture 5" descr=""/>
          <p:cNvPicPr/>
          <p:nvPr/>
        </p:nvPicPr>
        <p:blipFill>
          <a:blip r:embed="rId1"/>
          <a:stretch/>
        </p:blipFill>
        <p:spPr>
          <a:xfrm>
            <a:off x="1619280" y="5373720"/>
            <a:ext cx="2303280" cy="1484280"/>
          </a:xfrm>
          <a:prstGeom prst="rect">
            <a:avLst/>
          </a:prstGeom>
          <a:ln w="0">
            <a:noFill/>
          </a:ln>
        </p:spPr>
      </p:pic>
      <p:sp>
        <p:nvSpPr>
          <p:cNvPr id="553" name="WordArt 6"/>
          <p:cNvSpPr txBox="1"/>
          <p:nvPr/>
        </p:nvSpPr>
        <p:spPr>
          <a:xfrm>
            <a:off x="971640" y="214200"/>
            <a:ext cx="797220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Акробатически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4" name="Picture 8" descr=""/>
          <p:cNvPicPr/>
          <p:nvPr/>
        </p:nvPicPr>
        <p:blipFill>
          <a:blip r:embed="rId2"/>
          <a:stretch/>
        </p:blipFill>
        <p:spPr>
          <a:xfrm>
            <a:off x="3995640" y="5445000"/>
            <a:ext cx="5148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-360" y="1557000"/>
            <a:ext cx="8955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Переворот в сторону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Из стойки лицом по направлению движения поднять руки вперед-вверх ладонями вперед и сделать шаг той ногой, в какую сторону выполняется переворот, затем, наклоняясь вперед, опереться о пол одноименной рукой (если переворот выполняется влево, то левой рукой) пальцами в эту же сторону на расстоянии шага от толчковой ноги и махом одной и толчком другой выйти в стойку на руках ноги врозь. Далее, оттолкнувшись поочередно руками, прийти в стойку ноги врозь, руки в сторон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Типичные ошиб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Руки и ноги не ставятся на одной лин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Переворот выполняется не через стойку на руках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Голова не отклонена назад, и ученик не контролирует постановку рук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Переворот выполняется не через стойку на руках, т.е. тело проходит не в вертикальной плоскости, а сбок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Страховка и помощь.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 практике применяют три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сновных варианта помощ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оводкой по движению со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тороны спины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дной рукой поддерживать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за пояс, другой под плечо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Захватом обеими руками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крестно за поясниц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Захватом обеими руками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за поясниц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WordArt 6"/>
          <p:cNvSpPr txBox="1"/>
          <p:nvPr/>
        </p:nvSpPr>
        <p:spPr>
          <a:xfrm>
            <a:off x="971640" y="214200"/>
            <a:ext cx="797220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Акробатически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7" name="Picture 7" descr=""/>
          <p:cNvPicPr/>
          <p:nvPr/>
        </p:nvPicPr>
        <p:blipFill>
          <a:blip r:embed="rId1"/>
          <a:stretch/>
        </p:blipFill>
        <p:spPr>
          <a:xfrm>
            <a:off x="3203640" y="4437000"/>
            <a:ext cx="5940360" cy="2421000"/>
          </a:xfrm>
          <a:prstGeom prst="rect">
            <a:avLst/>
          </a:prstGeom>
          <a:ln w="0">
            <a:noFill/>
          </a:ln>
        </p:spPr>
      </p:pic>
      <p:sp>
        <p:nvSpPr>
          <p:cNvPr id="558" name="Line 8"/>
          <p:cNvSpPr/>
          <p:nvPr/>
        </p:nvSpPr>
        <p:spPr>
          <a:xfrm>
            <a:off x="4140360" y="66690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-360" y="1773360"/>
            <a:ext cx="8955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Перекаты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это движение с последовательным касанием пола (опоры) отдельными частями тела без переворачивания через голову. Перекаты используют как подводящие упражнения во время обучения кувыркам. Программой </a:t>
            </a: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предусмотрены перекаты вперед и назад в группировке, в стороны из упора стоя на коленях, прогнувшись, лежа на животе.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Из упора присев перекат назад в группировке перекатом вперед в упор присе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Из упора стоя на коленях перекаты в стороны в группировке. Последовательно касаясь пола предплечьем, плечом, боком, спиной, другим боком и плечом, взять группировку и обратным движением возвратиться в исходное положени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Лежа на животе, прогнуться, наклонить голову назад и принять упор лежа на бедрах. Быстро сгибая руки, выполнить перекат вперед, и, разгибая их, перекат назад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о время наполнения перекатов обращать внимание на правильность и плотность группировк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Перекат вперед и назад                                  Перекаты в стороны из                                                   Перекаты прогнувшись,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в группировке                                                  упора стоя на коленях                                                     лежа на животе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WordArt 4"/>
          <p:cNvSpPr txBox="1"/>
          <p:nvPr/>
        </p:nvSpPr>
        <p:spPr>
          <a:xfrm>
            <a:off x="971640" y="214200"/>
            <a:ext cx="797220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Акробатически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0" name="Picture 7" descr=""/>
          <p:cNvPicPr/>
          <p:nvPr/>
        </p:nvPicPr>
        <p:blipFill>
          <a:blip r:embed="rId1"/>
          <a:stretch/>
        </p:blipFill>
        <p:spPr>
          <a:xfrm>
            <a:off x="2916360" y="4941720"/>
            <a:ext cx="3816360" cy="10782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0" descr=""/>
          <p:cNvPicPr/>
          <p:nvPr/>
        </p:nvPicPr>
        <p:blipFill>
          <a:blip r:embed="rId2"/>
          <a:stretch/>
        </p:blipFill>
        <p:spPr>
          <a:xfrm>
            <a:off x="7164360" y="4437000"/>
            <a:ext cx="1655640" cy="15494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"/>
          <p:cNvPicPr/>
          <p:nvPr/>
        </p:nvPicPr>
        <p:blipFill>
          <a:blip r:embed="rId3"/>
          <a:stretch/>
        </p:blipFill>
        <p:spPr>
          <a:xfrm>
            <a:off x="0" y="4653000"/>
            <a:ext cx="2886120" cy="1476360"/>
          </a:xfrm>
          <a:prstGeom prst="rect">
            <a:avLst/>
          </a:prstGeom>
          <a:ln w="0">
            <a:noFill/>
          </a:ln>
        </p:spPr>
      </p:pic>
      <p:sp>
        <p:nvSpPr>
          <p:cNvPr id="463" name="Line 12"/>
          <p:cNvSpPr/>
          <p:nvPr/>
        </p:nvSpPr>
        <p:spPr>
          <a:xfrm>
            <a:off x="179280" y="5877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250920" y="1773000"/>
            <a:ext cx="87040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Перекат назад в группировке с последующей опорой руками за голов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Это упражнение является подводящим для освоения первой части кувырка назад. Из упора присев сгруппироваться и выполнять перекат назад, в конце переката опереться ладонями о пол у головы, держа локтя и кисти параллельн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Типичные ошиб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ри постановке кистей сильно разведены лок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окти и кисти не параллельн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Неодновременная постановка кисте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Страховка и помощь.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ри появлении ошибок помогать, стоя у головы, параллельно держать лок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WordArt 4"/>
          <p:cNvSpPr txBox="1"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Акробатически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6" name="Picture 6" descr=""/>
          <p:cNvPicPr/>
          <p:nvPr/>
        </p:nvPicPr>
        <p:blipFill>
          <a:blip r:embed="rId1"/>
          <a:stretch/>
        </p:blipFill>
        <p:spPr>
          <a:xfrm>
            <a:off x="1763640" y="4797360"/>
            <a:ext cx="4896000" cy="2060640"/>
          </a:xfrm>
          <a:prstGeom prst="rect">
            <a:avLst/>
          </a:prstGeom>
          <a:ln w="0">
            <a:noFill/>
          </a:ln>
        </p:spPr>
      </p:pic>
      <p:sp>
        <p:nvSpPr>
          <p:cNvPr id="467" name="Line 7"/>
          <p:cNvSpPr/>
          <p:nvPr/>
        </p:nvSpPr>
        <p:spPr>
          <a:xfrm>
            <a:off x="2195640" y="6597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178920" y="1773360"/>
            <a:ext cx="87757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Кувырок впере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Из упора присев (с опорой руками впереди стоп на 30-40 см), выпрямляя ноги, перенести массу тела на руки. Сгибая руки и наклоняя голову вперед, оттолкнуться ногами и, переворачиваясь через голову, сделать перекат на шею и лопатки. Опираясь лопатками о пол, резко согнуть ноги и взять группировку. Заканчивая кувырок, принять упор присе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Типичные ошиб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Опора руками близко к ступням (приводит к удару спиной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Отсутствие отталкивания ногам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Недостаточная группировк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Неправильное положение рук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Опора руками сзади при переходе в упор присе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траховка и помощь.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артнер, стоя на одном колене, сбоку одной рукой помогает выполняющему наклонить голову вперед на грудь, а другой, поддерживая под грудь или плечо, обеспечивает мягкое опускание на лопатки и увеличивает вращение вперед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WordArt 4"/>
          <p:cNvSpPr txBox="1"/>
          <p:nvPr/>
        </p:nvSpPr>
        <p:spPr>
          <a:xfrm>
            <a:off x="971640" y="214200"/>
            <a:ext cx="797220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Акробатически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0" name="Picture 7" descr=""/>
          <p:cNvPicPr/>
          <p:nvPr/>
        </p:nvPicPr>
        <p:blipFill>
          <a:blip r:embed="rId1"/>
          <a:stretch/>
        </p:blipFill>
        <p:spPr>
          <a:xfrm>
            <a:off x="1042920" y="5157720"/>
            <a:ext cx="71294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250920" y="1773000"/>
            <a:ext cx="8704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Кувырок в сторон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ыполняется из упора стоя на коленях или упора присев. Первая часть кувырка такая же, как и у переката в сторону т.е. последовательно касаясь пола предплечьем, плечом, боком, спиной, другим боком и плечом  прийти снова в упор стоя на коленях или в упор присе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WordArt 4"/>
          <p:cNvSpPr txBox="1"/>
          <p:nvPr/>
        </p:nvSpPr>
        <p:spPr>
          <a:xfrm>
            <a:off x="971640" y="214200"/>
            <a:ext cx="797220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Акробатически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1"/>
          <a:stretch/>
        </p:blipFill>
        <p:spPr>
          <a:xfrm>
            <a:off x="1403280" y="4724280"/>
            <a:ext cx="6481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250920" y="1773000"/>
            <a:ext cx="870408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Кувырок назад в группировк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з упора присев, тяжесть тела перенести на руки, затем отталкиваяс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уками, быстро перекатиться назад, увеличив вращающий момент за счет плотной группировки; в момент касания опоры лопатками поставить кистиза плечами и, опираясь на них, перевернуться через голову (не разгибая ног) и перейти в упор присев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Типичные ошиб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Неточная постановка рук (на кулаки, на тыльную сторону кистей, непараллельная постановка кистей и локтей)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Разгибание ног в момент постановки рук и переворачивания через голову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Неплотная группировка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Отсутствие опоры и отжимания на руках в момент переворачивания через голову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Медленное переворачивание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траховка и помощь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Стоя сбоку, одной рукой поддерживать под плечо, другой, подтолкнуть под спину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WordArt 4"/>
          <p:cNvSpPr txBox="1"/>
          <p:nvPr/>
        </p:nvSpPr>
        <p:spPr>
          <a:xfrm>
            <a:off x="1042920" y="214200"/>
            <a:ext cx="790092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Акробатически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6" name="Picture 6" descr=""/>
          <p:cNvPicPr/>
          <p:nvPr/>
        </p:nvPicPr>
        <p:blipFill>
          <a:blip r:embed="rId1"/>
          <a:stretch/>
        </p:blipFill>
        <p:spPr>
          <a:xfrm>
            <a:off x="1692360" y="5524560"/>
            <a:ext cx="5991120" cy="1333440"/>
          </a:xfrm>
          <a:prstGeom prst="rect">
            <a:avLst/>
          </a:prstGeom>
          <a:ln w="0">
            <a:noFill/>
          </a:ln>
        </p:spPr>
      </p:pic>
      <p:sp>
        <p:nvSpPr>
          <p:cNvPr id="477" name="Line 7"/>
          <p:cNvSpPr/>
          <p:nvPr/>
        </p:nvSpPr>
        <p:spPr>
          <a:xfrm>
            <a:off x="2627280" y="674208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323640" y="1773000"/>
            <a:ext cx="86310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Кувырок вперед в стойку на лопатка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з упора присев или упора стоя на коленях, разгибая ноги, согнуться в тазобедренных суставах и, наклоняя голову на грудь, опуститься на шею и лопатки. Далее, не отрывая носки от пола, подставляя руки под спину, поднять ноги в стойку на лопатках, перекатом вперед в группировке вст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Типичные ошиб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реждевременный отрыв ног от опоры и падение вперед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остановка рук с широко разведенными локтям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шибки, типичные для стойки на лопатка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траховка и помощ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о избежание сильного вращения и возможного опускания таза, стоя сбоку, поддерживать за голень, помогая перейти в стойку на лопатках, далее помогать, как при выполнении стойки на лопатка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WordArt 4"/>
          <p:cNvSpPr txBox="1"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кробатически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0" name="Picture 6" descr=""/>
          <p:cNvPicPr/>
          <p:nvPr/>
        </p:nvPicPr>
        <p:blipFill>
          <a:blip r:embed="rId1"/>
          <a:stretch/>
        </p:blipFill>
        <p:spPr>
          <a:xfrm>
            <a:off x="2843280" y="4941720"/>
            <a:ext cx="4753080" cy="1916280"/>
          </a:xfrm>
          <a:prstGeom prst="rect">
            <a:avLst/>
          </a:prstGeom>
          <a:ln w="0">
            <a:noFill/>
          </a:ln>
        </p:spPr>
      </p:pic>
      <p:sp>
        <p:nvSpPr>
          <p:cNvPr id="481" name="Line 9"/>
          <p:cNvSpPr/>
          <p:nvPr/>
        </p:nvSpPr>
        <p:spPr>
          <a:xfrm flipH="1">
            <a:off x="5003640" y="5300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178920" y="1773000"/>
            <a:ext cx="8775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Кувырок назад в полушпага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Заканчивая кувырок назад, согнуть одну ногу к груди и, опираясь на руки, поставить ее на колено, другую ногу не сгибать и не опускать; выпрямиться, разогнуть руки в упор стоя на колене. Опуская ногу и отодвигаясь, выпрямиться, скользя руками по полу, — полушпагат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Типичные ошиб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Резкое опускание согнутой и прямой ног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гибание ноги, отведенной назад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траховка и помощь.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тоя сбоку, поддерживать под бедро прямой ноги и под плеч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WordArt 4"/>
          <p:cNvSpPr txBox="1"/>
          <p:nvPr/>
        </p:nvSpPr>
        <p:spPr>
          <a:xfrm>
            <a:off x="1042920" y="214200"/>
            <a:ext cx="790092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Акробатически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4" name="Picture 6" descr=""/>
          <p:cNvPicPr/>
          <p:nvPr/>
        </p:nvPicPr>
        <p:blipFill>
          <a:blip r:embed="rId1"/>
          <a:stretch/>
        </p:blipFill>
        <p:spPr>
          <a:xfrm>
            <a:off x="755640" y="4365720"/>
            <a:ext cx="7993080" cy="2303280"/>
          </a:xfrm>
          <a:prstGeom prst="rect">
            <a:avLst/>
          </a:prstGeom>
          <a:ln w="0">
            <a:noFill/>
          </a:ln>
        </p:spPr>
      </p:pic>
      <p:sp>
        <p:nvSpPr>
          <p:cNvPr id="485" name="Line 7"/>
          <p:cNvSpPr/>
          <p:nvPr/>
        </p:nvSpPr>
        <p:spPr>
          <a:xfrm>
            <a:off x="1258920" y="6524640"/>
            <a:ext cx="22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03:05:00Z</dcterms:created>
  <dc:creator>1</dc:creator>
  <dc:description/>
  <dc:language>en-US</dc:language>
  <cp:lastModifiedBy>Надежда</cp:lastModifiedBy>
  <dcterms:modified xsi:type="dcterms:W3CDTF">2020-08-18T09:08:01Z</dcterms:modified>
  <cp:revision>154</cp:revision>
  <dc:subject/>
  <dc:title>Гимнастика Методическая разработка по программе  «Физическая культура»  автора А.П. Матвеева</dc:title>
</cp:coreProperties>
</file>