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5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B6A8-6CE4-48D7-9930-392CA3DC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6A5-B248-4687-94DC-2B653EA8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DD51C-2757-4E9A-8BAE-018234B2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20093-9A97-4954-B490-AA534E2D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1B1FE-EBE3-4D4C-B10C-45EECFE9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1FB6C-AEAC-45D1-B936-601AC480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5461D-64BA-4A0E-93CB-9873C7C7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FEFFF-FE86-47F8-9C44-235B9047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F06CB-BBE4-4253-89D4-DB80EC30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70667-7DBB-4D67-91A6-3A990408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D3481-FAD1-438D-AEB6-5DE81273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DBB-8455-438C-AF60-F003B079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ECF-6440-4D19-B2FB-97279461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F21F-CE2C-47A2-8840-5BD72441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5568-7337-439B-9E46-3819D77A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84AE-141D-4233-973F-CA850422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0D35-D6EE-46A8-8A39-C62EB5A0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F6D5-092A-490A-AEE4-489F2DC6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5B12-5740-430C-8423-35C41D02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7C70-C166-4F0D-84B5-12C6FEBF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F10-0344-4B25-918F-6F761DAE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DE84-BF3E-49A1-9489-4D225D21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3218-951C-41E3-813E-B377F171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3157-82A6-4449-97D4-32A90323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BB0E-B95C-42F1-9E44-7D6A7EC6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A27B-4333-4A4C-9B3D-2EE5AC8B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4AC11-CF08-4948-87F4-DC8078E8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8735A-707E-4EA4-A93F-BD48EFBE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FE213-5EFC-4797-B8EF-F144AABC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F7CF8-16D7-4B08-8E51-534274B5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2CB5D-316D-43D6-B8C4-8EC6D325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D331-7199-49FD-A475-FD4A7CF2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FCEF7-A16E-4C1A-8799-9A78B660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C0CFC-0218-4370-815E-2363ACB4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1BFCE-0ED4-48EB-96B9-9138FBC3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8D953-A85B-4C99-AB95-B54ED6AA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6A484-183D-44FB-9A45-D7902C20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BAC6F-7A1B-4F03-BA05-D5C9C5A1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5A97B-EB99-43A5-A98C-71FDDFDC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C1178-B4D0-439E-B975-6C6A07DD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EF950-18A9-4AEA-ABB7-5FDBD0D1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487E3-5346-45E5-9AD4-B90CF3BE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227-9722-4043-9A3B-A431BC38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DE477-31DA-4157-9211-97A23CAD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5965F-2076-4AF6-92BF-313D292C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5689B-DD7E-4CFD-BFB0-ADA1F0FF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E0977-8BC6-467B-B54C-B278DCE3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C0473-4550-4473-B31D-D42009B9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3A475-580F-4EB3-AA76-C0CE62E9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29FB8-CC70-45B6-9C19-33761C3F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2BD46-BCD4-450F-A716-61EA3F7D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2BDF4-EF04-4533-93E5-F2867C70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7DAF7-28C1-4959-B174-3E427BB3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977-6685-40B6-ABD8-D658A18F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F88AC-5054-4C52-B3F6-ACA7FF3E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A178D-79B6-4490-B3B6-23D5DD10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A2DBC-CF8F-4781-8474-FEE80AB1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F07C3-E2A5-4B3B-9E37-5C300FCD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74D20-DE15-4903-AAE6-8FF8673C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F5ABB-745B-467F-8DD4-C66667D3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1A28B-1779-4679-9209-83AFCC8E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5AB05-1B52-45A8-9CC0-C521FA30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8D25D-F554-4237-B769-E76F759D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BC386-BA72-4097-A5C8-4C9D3058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FDF-27A2-4AE6-B14C-2DAFE46D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635CF-C305-4BD3-8A97-939B7C99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93A54-3D55-42E0-AC1C-29A568E9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B663D-F11E-434B-8EBD-6FD97B4D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65DC4-6DC2-46D2-848C-9CE490BF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DD10F-E1F9-48AD-B828-53E94199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3C2F9-DFB4-4538-9AB9-88C55074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FE1CD-2D44-4FEB-ADB6-E8F035DD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8106B-F44D-4448-9D4D-3DB8A6D7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48038-B01D-4F56-8703-94FB528F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2D04C-B287-4D9F-9771-F964A914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540-F5CD-4A9F-AA88-983BA27E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FD6D8-A4EF-4145-B2AB-12262A61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94B56-DF0E-455A-AC14-CB644C7F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69A40-8E4B-4833-8AAF-311B33D3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3BBFE-EC95-4CC6-810C-62112E92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F22F4-B17F-4F1F-AEE9-B6DBDD90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6A9F7-168E-40F2-9C1D-92575B51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40F7B-8B47-47DA-9BCD-5B35DADD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4A688-E84B-43E7-A1CA-12079E64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72170-C76B-4E25-A415-5F4134C2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157CF-8093-4C5B-974F-AF43CA6B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E9F5-E0D0-4F32-83F1-C806C6B9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7A1E2-5FED-474D-B157-367933C4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BA7ED-439B-48DE-9A68-B99DA617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4C15C-F16C-4889-B9FF-D37961F0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F0353-66C9-454F-AEC0-995003FF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0FCAC-0BDE-4D59-A084-FCCF1AAB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3A0EF-C89A-4620-A971-B0DEE9AE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E5B92-DED5-4487-AA40-AEBC023B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7E160-5268-4202-9E67-F786E494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F181A-87AF-48A9-8327-72C35CB6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E85D7-6E1B-417D-8813-21D781D3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231-027B-40E5-882D-58AF10CC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25E4D-CF9B-4EBD-B628-6D6483CD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553C6-C1EF-4C18-8092-3469F432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52F89-CB17-45D6-923C-39B9FE31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513C0-47A2-492C-B8D7-5865FB16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E05E2-BD66-4D52-B07A-EC6877AE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86B02-81AD-44B3-9394-5FF9099E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3BCB1-60A1-4B88-829A-E1E09980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31094-8166-4593-8B02-6A76C956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6C9D8-59C3-463C-8B2A-D57CE01C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8D2EC-EE7B-4030-B32C-137FDDEC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0DE7-E165-42AA-9BDF-FE62EABAD50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54B3-423B-40B7-A5F0-62AE4AD2DD3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C7D0-BEE4-403E-A5A9-059ACB5D9DF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93A0-8353-468D-AF0C-0B543EA5809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0DFA-E479-4CEB-9005-85F13FFC5FD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FC99-6A83-4C59-BAF4-204357E8538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A477-FC0D-476C-BA83-678E057DDFB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8E29-EF6C-44D0-93CE-3382587BF11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826E-BAA9-4C09-B6B8-B08929BABA2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03320" y="365040"/>
            <a:ext cx="8894520" cy="1689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1" descr="Рисунок1"/>
          <p:cNvPicPr/>
          <p:nvPr/>
        </p:nvPicPr>
        <p:blipFill>
          <a:blip r:embed="rId2"/>
          <a:stretch/>
        </p:blipFill>
        <p:spPr>
          <a:xfrm>
            <a:off x="2571840" y="1785960"/>
            <a:ext cx="356220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C:\Documents and Settings\Администратор\Мои документы\Мои рисунки\305-2.jpg"/>
          <p:cNvPicPr/>
          <p:nvPr/>
        </p:nvPicPr>
        <p:blipFill>
          <a:blip r:embed="rId1"/>
          <a:stretch/>
        </p:blipFill>
        <p:spPr>
          <a:xfrm>
            <a:off x="2143080" y="990720"/>
            <a:ext cx="4270320" cy="565452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оугольник 2" descr=""/>
          <p:cNvPicPr/>
          <p:nvPr/>
        </p:nvPicPr>
        <p:blipFill>
          <a:blip r:embed="rId2"/>
          <a:stretch/>
        </p:blipFill>
        <p:spPr>
          <a:xfrm>
            <a:off x="1139760" y="-201600"/>
            <a:ext cx="618192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C:\Documents and Settings\Администратор\Мои документы\Мои рисунки\ideal-stand.jpg"/>
          <p:cNvPicPr/>
          <p:nvPr/>
        </p:nvPicPr>
        <p:blipFill>
          <a:blip r:embed="rId1"/>
          <a:stretch/>
        </p:blipFill>
        <p:spPr>
          <a:xfrm>
            <a:off x="3500280" y="4572000"/>
            <a:ext cx="2143440" cy="219708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оугольник 2" descr=""/>
          <p:cNvPicPr/>
          <p:nvPr/>
        </p:nvPicPr>
        <p:blipFill>
          <a:blip r:embed="rId2"/>
          <a:stretch/>
        </p:blipFill>
        <p:spPr>
          <a:xfrm>
            <a:off x="-139680" y="19080"/>
            <a:ext cx="9051840" cy="115092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3"/>
          <p:cNvSpPr/>
          <p:nvPr/>
        </p:nvSpPr>
        <p:spPr>
          <a:xfrm>
            <a:off x="357120" y="1285920"/>
            <a:ext cx="814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та и бесхитростная непринужденность романа – кажущиеся, на самом деле в основе произведения лежит сложная поэтическая выстроенность композиции. Основные приемы, рождающие эту свободу романа в стихах, связаны с поэтической независимостью создателя и его гер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0" y="713880"/>
            <a:ext cx="91440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2800" spc="-1" strike="noStrike">
                <a:solidFill>
                  <a:srgbClr val="0070c0"/>
                </a:solidFill>
                <a:latin typeface="Franklin Gothic Book"/>
              </a:rPr>
              <a:t>Можно выделить главные приемы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инцип «противоречий»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Творческий процесс создания романа на глазах читател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ихоть, каприз Автора как творческий импульс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вобода как главная составляющая творчест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ереключение интонаций, множественность точек зрени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истема ассоциац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Цитаты и реминисценции, расширяющие мир роман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азрушение читательских ожиданий, ироническое пренебрежение эстетическими догмами, законам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Прямоугольник 3" descr=""/>
          <p:cNvPicPr/>
          <p:nvPr/>
        </p:nvPicPr>
        <p:blipFill>
          <a:blip r:embed="rId1"/>
          <a:stretch/>
        </p:blipFill>
        <p:spPr>
          <a:xfrm>
            <a:off x="158760" y="-152280"/>
            <a:ext cx="8186760" cy="944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214200" y="1214280"/>
            <a:ext cx="8686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Роман написан в форме дневника Автора, в котором серьезное мешается с легкомысленным: преклоняется перед возлюбленной и флиртует на бал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Тематика лирических отступлений (любовь и дружба, цель и смысл жизни, искусство и творческое вдохновение, красота природы и женское очарование, деревенский быт и вопросы экономики и управления, индивидуализм личности и соборность русской жизни и др.), сопутствующая история главных герое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8" name="Прямоугольник 3" descr=""/>
          <p:cNvPicPr/>
          <p:nvPr/>
        </p:nvPicPr>
        <p:blipFill>
          <a:blip r:embed="rId1"/>
          <a:stretch/>
        </p:blipFill>
        <p:spPr>
          <a:xfrm>
            <a:off x="1420920" y="19080"/>
            <a:ext cx="5949720" cy="1150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C:\Documents and Settings\Администратор\Мои документы\Мои рисунки\1000186374.jpg"/>
          <p:cNvPicPr/>
          <p:nvPr/>
        </p:nvPicPr>
        <p:blipFill>
          <a:blip r:embed="rId1"/>
          <a:stretch/>
        </p:blipFill>
        <p:spPr>
          <a:xfrm>
            <a:off x="2428920" y="1163520"/>
            <a:ext cx="3929040" cy="5604120"/>
          </a:xfrm>
          <a:prstGeom prst="rect">
            <a:avLst/>
          </a:prstGeom>
          <a:ln w="0">
            <a:noFill/>
          </a:ln>
        </p:spPr>
      </p:pic>
      <p:pic>
        <p:nvPicPr>
          <p:cNvPr id="430" name="Прямоугольник 2" descr=""/>
          <p:cNvPicPr/>
          <p:nvPr/>
        </p:nvPicPr>
        <p:blipFill>
          <a:blip r:embed="rId2"/>
          <a:stretch/>
        </p:blipFill>
        <p:spPr>
          <a:xfrm>
            <a:off x="1279440" y="19080"/>
            <a:ext cx="6389640" cy="1150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14200" y="356760"/>
            <a:ext cx="86868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Franklin Gothic Book"/>
              </a:rPr>
              <a:t>                  </a:t>
            </a:r>
            <a:r>
              <a:rPr b="0" lang="ru-RU" sz="3200" spc="-1" strike="noStrike">
                <a:solidFill>
                  <a:srgbClr val="7030a0"/>
                </a:solidFill>
                <a:latin typeface="Franklin Gothic Book"/>
              </a:rPr>
              <a:t>Этот урок поможет вам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определить значение романа «Евгений Онегин» в русской литературе и в творчестве самого А.С.Пушкин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выявить лироэпическую природу романа. Узнать о лирических отступлениях и их тематик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выяснить творческую историю романа и соотнести ее с тем или иным периодом творчества поэт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понять жанровое и композиционное своеобразие роман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3"/>
          <p:cNvSpPr/>
          <p:nvPr/>
        </p:nvSpPr>
        <p:spPr>
          <a:xfrm>
            <a:off x="1714680" y="14292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История создания романа</a:t>
            </a: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7" descr="147"/>
          <p:cNvPicPr/>
          <p:nvPr/>
        </p:nvPicPr>
        <p:blipFill>
          <a:blip r:embed="rId1"/>
          <a:stretch/>
        </p:blipFill>
        <p:spPr>
          <a:xfrm>
            <a:off x="5715000" y="1285920"/>
            <a:ext cx="3017880" cy="484200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5"/>
          <p:cNvSpPr/>
          <p:nvPr/>
        </p:nvSpPr>
        <p:spPr>
          <a:xfrm>
            <a:off x="214200" y="1071720"/>
            <a:ext cx="535788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Написание романа заняло у Пушкина более семи лет (1823 - 1830). В свет он выходил отдельными главами: первая глава романа появилась отдельной книжкой в 1825 г., вторая - в 1826-м, третья - в 1827-м, в начале 1828 г. появились четвертая и пятая главы, а в марте 1828-го - шестая, седьмая вышла в марте 1830-го и последняя - восьмая – была опубликована в 1832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В набросках общего плана романа значилось девять глав, но в процессе написания план немного изменился, так что в первое полное издание "Евгения Онегина" (1833) Пушкин включил восемь глав и "Отрывки из путешествия Онегина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450720" y="281160"/>
            <a:ext cx="8699760" cy="11509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Кроме того, тогда же в Болдино была написана и десятая глава "Евгения Онегина" , которую Пушкин сжег, и до нас дошли только отдельные отрывки из черновиков (черновой текст поэт зашифровал, и литературоведам удалось расшифровать неполных 16 строф), содержащих опасные для Пушкина продекабристские высказывания, как можно оценить по восстановленным частям, очень едкая и язвительная. В канонический текст романа десятая глава не входит. 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Завершил работу над "Евгением Онегиным" 26 сентября 1830 г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Прямоугольник 1" descr=""/>
          <p:cNvPicPr/>
          <p:nvPr/>
        </p:nvPicPr>
        <p:blipFill>
          <a:blip r:embed="rId1"/>
          <a:stretch/>
        </p:blipFill>
        <p:spPr>
          <a:xfrm>
            <a:off x="1127160" y="109440"/>
            <a:ext cx="6132600" cy="1822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Documents and Settings\Администратор\Мои документы\Мои рисунки\%D0%BD%D0%B5%D0%B3%D0%B8%D0%BD_%20%D0%98%D0%BB%D0%BB%D1%8E%D1%81%D1%82%D1%80%D0%B0%D1%86%D0%B8%D1%8F%20%D0%BA%20%D1%80%D0%BE%D0%BC%D0%B0%D0%BD%D1%83.jpg"/>
          <p:cNvPicPr/>
          <p:nvPr/>
        </p:nvPicPr>
        <p:blipFill>
          <a:blip r:embed="rId2"/>
          <a:stretch/>
        </p:blipFill>
        <p:spPr>
          <a:xfrm>
            <a:off x="5000760" y="4714920"/>
            <a:ext cx="3071520" cy="193500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3"/>
          <p:cNvSpPr/>
          <p:nvPr/>
        </p:nvSpPr>
        <p:spPr>
          <a:xfrm>
            <a:off x="285840" y="128592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нр произведения – лироэпический, т.е. параллельно с традиционным повествованием (история отношений Онегина и Татьяны) присутствует личностное, эмоциональное восприятие всего происходящего (благодаря образу Авто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нельзя отождествлять Автора с самим Пушкиным, хотя в личности повествователя, в его системе ценностей, и образе жизни многое напоминает о его великом создателе (он тоже поэт, ценящий свободу и независимость лич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C:\Documents and Settings\Администратор\Мои документы\Мои рисунки\305-3.jpg"/>
          <p:cNvPicPr/>
          <p:nvPr/>
        </p:nvPicPr>
        <p:blipFill>
          <a:blip r:embed="rId1"/>
          <a:stretch/>
        </p:blipFill>
        <p:spPr>
          <a:xfrm>
            <a:off x="6715080" y="3948120"/>
            <a:ext cx="2227320" cy="2698920"/>
          </a:xfrm>
          <a:prstGeom prst="rect">
            <a:avLst/>
          </a:prstGeom>
          <a:ln w="0">
            <a:noFill/>
          </a:ln>
        </p:spPr>
      </p:pic>
      <p:pic>
        <p:nvPicPr>
          <p:cNvPr id="411" name="Прямоугольник 2" descr=""/>
          <p:cNvPicPr/>
          <p:nvPr/>
        </p:nvPicPr>
        <p:blipFill>
          <a:blip r:embed="rId2"/>
          <a:stretch/>
        </p:blipFill>
        <p:spPr>
          <a:xfrm>
            <a:off x="1365120" y="19080"/>
            <a:ext cx="5675400" cy="115092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3"/>
          <p:cNvSpPr/>
          <p:nvPr/>
        </p:nvSpPr>
        <p:spPr>
          <a:xfrm>
            <a:off x="428760" y="1444680"/>
            <a:ext cx="807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 Автора – это художественное обобщение, он живет в воображаемом пространстве и подобен другим героям романа. Кроме того, Автор – повествователь и герой, ведущий тонкую игру с читателем, непринужденно создающий эту «воздушную громад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подчиняется только собственным ощущениям и декларирует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я, в закон себе вме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стей единый произво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Franklin Gothic Medium"/>
              </a:rPr>
              <a:t>         </a:t>
            </a:r>
            <a:r>
              <a:rPr b="0" lang="ru-RU" sz="3600" spc="-1" strike="noStrike">
                <a:solidFill>
                  <a:srgbClr val="c00000"/>
                </a:solidFill>
                <a:latin typeface="Franklin Gothic Medium"/>
              </a:rPr>
              <a:t>ПРИНЦИП  ПРОТИВОРЕЧИЙ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85480" y="1285920"/>
            <a:ext cx="8553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 ходе длительной работы над романом замысел его менялся, и характер главного героя в конце главы оказался далеким от его облика в первых строфах романа. Отношение автора к нему тоже изменилось, но Пушкин не стал ничего устранять, а превратил подобные нестыковки в принцип противоречий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Я кончил первую главу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ересмотрел все это строго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отиворечий очень мног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о их исправить не хочу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213840" y="856800"/>
            <a:ext cx="442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дальнейшем этот прием проявился в различных авторских характеристиках героев, неожиданной смене интонаций, предложений о том или ином уделе, ожидающем геро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2" descr="C:\Documents and Settings\Администратор\Мои документы\Мои рисунки\305-3.jpg"/>
          <p:cNvPicPr/>
          <p:nvPr/>
        </p:nvPicPr>
        <p:blipFill>
          <a:blip r:embed="rId1"/>
          <a:stretch/>
        </p:blipFill>
        <p:spPr>
          <a:xfrm>
            <a:off x="4643280" y="642960"/>
            <a:ext cx="4248360" cy="5146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Прямоугольник 2" descr=""/>
          <p:cNvPicPr/>
          <p:nvPr/>
        </p:nvPicPr>
        <p:blipFill>
          <a:blip r:embed="rId1"/>
          <a:stretch/>
        </p:blipFill>
        <p:spPr>
          <a:xfrm>
            <a:off x="103320" y="-133200"/>
            <a:ext cx="8692920" cy="159048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3"/>
          <p:cNvSpPr/>
          <p:nvPr/>
        </p:nvSpPr>
        <p:spPr>
          <a:xfrm>
            <a:off x="357120" y="1500120"/>
            <a:ext cx="62150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ем антитезы, контраста (Онегин – Ленский, Татьяна – Ольга), зеркальности (два письма, две встречи и два объяснения), внутренней символической связи сцен (сон и именины), разрушение читательских ожиданий (обещание повести героев под венец оборачивается трагической развязкой) – все это помогло Пушкину преодолеть эстетические каноны и любые формы литературной условности, выйти за пределы застывших форм, привычных образцов и создать «поэзию действительности», новую жизненную реа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озиционно роман не имеет традиционного начала и традиционного фин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4" descr="C:\Documents and Settings\Администратор\Мои документы\Мои рисунки\push8.jpg"/>
          <p:cNvPicPr/>
          <p:nvPr/>
        </p:nvPicPr>
        <p:blipFill>
          <a:blip r:embed="rId2"/>
          <a:stretch/>
        </p:blipFill>
        <p:spPr>
          <a:xfrm>
            <a:off x="6715080" y="2786040"/>
            <a:ext cx="2112840" cy="2357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7:42:17Z</dcterms:created>
  <dc:creator>Zver</dc:creator>
  <dc:description/>
  <dc:language>en-US</dc:language>
  <cp:lastModifiedBy>User</cp:lastModifiedBy>
  <dcterms:modified xsi:type="dcterms:W3CDTF">2020-08-19T17:37:58Z</dcterms:modified>
  <cp:revision>15</cp:revision>
  <dc:subject/>
  <dc:title>Слайд 1</dc:title>
</cp:coreProperties>
</file>