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CE7-6A1D-4003-B790-7B84978D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A1A-8D9B-4F00-BF6F-59000E35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AE09D3-3EE3-4467-8CE2-6D48D665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3F9D8A-07CA-42A3-B737-650ADDAE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6AB46D-16F7-47B2-8682-97131A46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E0A3B5-B2D9-4631-8C35-6F8E7A4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7238FF-CA84-4115-B707-F8A1C7E2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A509C-5FCD-4BCE-A51E-5DB2BA4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2A223-39A1-4AEB-9041-4176CF1C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5D5AB4-24A5-4DE1-BF2E-DB4635AD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1AB397-FA7F-4F4A-81BB-28FF5CA5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93B08-C06D-42D9-BD62-12A7C256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C7D-E000-4366-8532-31CDB516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54BFD-FBCB-4BF0-8A98-291D964E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8AB93-4FAC-45D7-A63B-E924E5BD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5A605-C615-46AD-AD07-10E4DFCF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94CF9-232A-4845-AE4F-03701862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13CA6-6FB0-4FED-8192-2EDDBF0B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4F3B8-9A36-4592-8E4C-29C1FD86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68EE7-ECA3-4CDA-A10C-0CFA9CAE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115F0-9550-44AF-8EBA-CC695F54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68D16-428B-4B31-8904-54A78C99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AE198-BCDF-484A-93D6-D4F1943E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CA3-BE35-4E22-AAE4-EF912530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DBE80-F62C-4848-BADF-45F9E619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0B2-AC51-4B9E-BF2A-CADCEC86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C0E8-ED1A-429D-9CFB-7FF7C78D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A28F-EA31-4A3A-BD34-DD5F7078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6A38-90BB-4D67-98A8-A81923B0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8B6F-D17A-4E34-AE63-CA88356C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F9EF-5D93-4109-BE81-2E7B90F2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0216-9C75-4F42-B970-D245D433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2D0-3312-4EB6-B703-53303B4E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F453-AC65-4B9F-9413-3F38742D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D33E-B93B-4F5A-9DA9-350B576F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9572-E506-469A-A0F0-16B8E1C3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C0DE-795B-4C88-8B1C-7C128B4A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2DD6-BF8D-4350-B65C-A8C8213F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61F5F-5437-449C-B057-472A424E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CAA9-5B8E-4C69-A989-19488E79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0CB1-F12E-48CD-B0E3-B4DE9723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C2DB-1727-4720-B25B-F986AE0B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06D3-9175-4B66-853E-76D33F03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CE9-7C6A-44D2-84E7-F5E3E282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2C48-8839-40ED-9A5C-37B340C2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05A8-97EC-4967-8F40-7F2F5DC1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1005-E832-4A66-9F10-130AC83C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3EC0-B68C-4DC8-B76F-1052DD2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E954-974D-4CAE-9664-8F7F5CC9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2437-B3E6-4ADB-8FDE-76D6F6F2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E650-77E1-4358-AF20-69084951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8EA62-0DEB-4296-9FFF-E8AE3BB1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790B8-0535-4434-AF96-9BDF566C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9C28-E19A-420B-BC0A-EF4E7797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1DE-815F-45DF-95CF-162C6649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B7A8-9B7A-4CCE-8BEC-025DEF6D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E8B9F-4C3B-48B0-8E90-FF58AED1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6AF82-73CF-404E-9CD4-61991D16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9DEC-6E93-4C4E-81AD-C9140823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0241-FA74-42A8-964A-F8B95949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518D-3ED8-4810-A8B4-62BBA0C4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35BA-1488-4D0C-919E-6A532A40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6C79A-7E2B-4151-BE1C-B7EAF42A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1E5D0-1746-49FB-8135-5BB9ACC0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C2D0C-5B1E-4925-B142-D3830AB5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A43-9401-4682-ABDC-DC47FC96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25654-65C1-4839-90B8-8572B22F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1D253-EA74-43C3-B5FC-29744741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4F8AF-BBCD-4626-9A11-29B7B605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80A01-A688-41C8-8D21-0E36641C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3167D-54E5-48A8-8EBE-2D0CB239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D9FB0-6CE2-4455-800C-60007A6D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B81B0-E23F-44AC-B889-AFE563CF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C1808-6D03-428B-BDE2-DA448FE5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4722B-F20A-4F8B-AFDA-ECA112D6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7CC49-B19F-4C50-8683-2938EE37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30F-D170-4D86-857B-C757D2ED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1FB5E-DED1-4D92-874C-12D94215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D2A5E-E18B-43CF-8ECE-01AE5BAE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DF38E-B690-4A5C-B8D6-CB096E2B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30F71-41A3-4AEF-925A-C393BFC3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D69F0-AEC2-498A-9915-D6C84A07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E696F-BC42-402F-BF82-FD51510C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58369-1384-4201-ACB7-83382197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B8D64-F7B0-409B-9976-55381B9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02569-C0FC-4742-883F-D370C78F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B72DE-59B2-4CD7-8A6E-403044A9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C77-EE7F-48ED-A4C4-004B7D6D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8F0AF-4E68-463D-805F-285A6943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2CDAD-23D6-4231-8860-3CE23994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ADDDF-608B-4DF4-8A73-A902882C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E8D06-CA37-4AE7-A56B-9081CB2C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0361C-9410-4C28-831B-CE51177A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BE34D-65E1-41EC-BB60-E986C269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367A5-6688-4944-9B79-77D5C002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EFD83-3DC6-49FD-B8FD-08F41FD0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95DE2-E453-4F5C-B356-9CD60843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FC923-BC35-4055-A418-74F4038F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1D6-F213-49BF-803F-136E27A5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CA0D8-DC5F-4FEE-9CEB-F449C3DE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FDA2C-210E-4073-B2C1-ED150F4D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E7BF9-5482-4839-8005-68DAC192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A6D5AD-4F3B-4A9D-A5EE-D8AD1AF1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B371E-C1FD-4EA8-A3F9-2DE04759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804D-9CB4-49AB-9138-CDBF204F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D14B4-E518-4F01-8E8A-7FC8944F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C1F6E-9A4B-46ED-BF03-9EF3A33E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44D16-E6D0-4641-A8E2-B9152CFA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E6713-C551-45F5-B08E-1EB5ACBD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37D-B28F-4F0B-A194-A3D9ECEB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FD66A-DC83-4E1C-8A93-160F4270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8B567-4D73-477C-97CA-651781CD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A9410-D367-43C9-9ABD-958EE832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216CA-4BDE-4038-82DE-652F1076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75E44-DA2F-48F0-91D7-0727D615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C8C52-59AF-4A6B-AE79-C2320304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E9538-A808-4755-A24D-CAF6D4FD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E29AA5-610B-4168-B21C-D72F099D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D0A0F2-0BD6-4BAC-AA93-611060FD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73D201-A01A-4AF4-A52F-0A736387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9E95-1E86-4432-B1FA-CC4D039FA4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A213-B896-45BF-AA58-CE4B5C078E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6AA8-3EC3-4AC8-8946-F8E4D403B5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9DE8-C9E8-469F-807D-7CCBCBD049F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7C43-922F-4F08-A515-64BA19C2309C}" type="slidenum">
              <a:rPr b="1" lang="ru-RU" sz="14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4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B46A-367F-48C5-9565-E0A37B8DB19B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B105-81A9-49C8-AD1B-E48B43554E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2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FB71-98C8-4F1C-B9DA-9591A8E5B4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4732-166D-4E1A-B9FC-7ACBC46714E3}" type="slidenum">
              <a:rPr b="1" lang="ru-RU" sz="14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034B-D1EB-46BE-A1E3-0FBD5DF1096F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990099"/>
                </a:solidFill>
                <a:latin typeface="Impact"/>
              </a:rPr>
              <a:t>ПОЛОЖЕНИЯ В СТОЙКАХ</a:t>
            </a:r>
            <a:br>
              <a:rPr sz="8600"/>
            </a:br>
            <a:r>
              <a:rPr b="1" lang="ru-RU" sz="3200" spc="-1" strike="noStrike">
                <a:solidFill>
                  <a:srgbClr val="c9c2d1"/>
                </a:solidFill>
                <a:latin typeface="Calibri"/>
              </a:rPr>
              <a:t>МЕТОДИЧЕСКАЯ РАЗРАБОТКА</a:t>
            </a:r>
            <a:br>
              <a:rPr sz="3200"/>
            </a:br>
            <a:r>
              <a:rPr b="1" lang="ru-RU" sz="3200" spc="-1" strike="noStrike">
                <a:solidFill>
                  <a:srgbClr val="c9c2d1"/>
                </a:solidFill>
                <a:latin typeface="Calibri"/>
              </a:rPr>
              <a:t>ПО ПРОГРАММЕ </a:t>
            </a:r>
            <a:br>
              <a:rPr sz="3200"/>
            </a:br>
            <a:r>
              <a:rPr b="1" lang="ru-RU" sz="3200" spc="-1" strike="noStrike">
                <a:solidFill>
                  <a:srgbClr val="c9c2d1"/>
                </a:solidFill>
                <a:latin typeface="Calibri"/>
              </a:rPr>
              <a:t>«ФИЗИЧЕСКАЯ КУЛЬТУРА». </a:t>
            </a:r>
            <a:br>
              <a:rPr sz="3200"/>
            </a:br>
            <a:endParaRPr b="0" lang="en-US" sz="32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563640" y="5105520"/>
            <a:ext cx="532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тель физической культур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усева Надежда Васильевн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89550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Выпад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выполняется выставлением ноги в любом направлении с одновременным сгибанием ее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Выпад правой (левой)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— выставление ноги вперед с одновременным сгибанием ее так, чтобы колено находилось на уровне носка, а ступня другой ноги несколько поворачивалась носком наружу (а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Выпад назад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— выставление ноги назад (б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Выпад с наклоном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— соединение выпада с одновременным наклоном туловища вперед, руки свободно скрещиваются перед коленом выставленной ноги. Например, выпад вправо с наклоном (в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Глубокий выпад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— выпад с максимальным разведением ног. Положение рук и туловища указываются дополнительно. Например, глубокий выпад правой, руки в стороны - назад (</a:t>
            </a:r>
            <a:r>
              <a:rPr b="1" i="1" lang="ru-RU" sz="1700" spc="-1" strike="noStrike">
                <a:solidFill>
                  <a:srgbClr val="000000"/>
                </a:solidFill>
                <a:latin typeface="Tahoma"/>
              </a:rPr>
              <a:t>г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258920" y="4508640"/>
            <a:ext cx="6049800" cy="2349360"/>
          </a:xfrm>
          <a:prstGeom prst="rect">
            <a:avLst/>
          </a:prstGeom>
          <a:ln w="0">
            <a:noFill/>
          </a:ln>
        </p:spPr>
      </p:pic>
      <p:sp>
        <p:nvSpPr>
          <p:cNvPr id="506" name="WordArt 5"/>
          <p:cNvSpPr txBox="1"/>
          <p:nvPr/>
        </p:nvSpPr>
        <p:spPr>
          <a:xfrm>
            <a:off x="1187280" y="620640"/>
            <a:ext cx="777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Положения в выпадах.</a:t>
            </a:r>
            <a:endParaRPr b="0" lang="en-US" sz="800" spc="1" strike="noStrike">
              <a:ln w="0">
                <a:noFill/>
              </a:ln>
              <a:solidFill>
                <a:srgbClr val="990099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7" name="Управляющая кнопка: назад 6"/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75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Наклон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— термин для определения сгибания тела в тазобедренных суставах вперед, назад или в стороны с полной амплитудой движения. При выполнении вперед указание о направлении можно опускать. Например, наклон (</a:t>
            </a:r>
            <a:r>
              <a:rPr b="1" i="1" lang="ru-RU" sz="1700" spc="-1" strike="noStrike">
                <a:solidFill>
                  <a:srgbClr val="000000"/>
                </a:solidFill>
                <a:latin typeface="Tahoma"/>
              </a:rPr>
              <a:t>а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Наклон прогнувшись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выполняется обычно вперед, руки в стороны, голова приподнята (</a:t>
            </a:r>
            <a:r>
              <a:rPr b="1" i="1" lang="ru-RU" sz="1700" spc="-1" strike="noStrike">
                <a:solidFill>
                  <a:srgbClr val="000000"/>
                </a:solidFill>
                <a:latin typeface="Tahoma"/>
              </a:rPr>
              <a:t>б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Наклон с захватом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— наклон вперед, при котором руки захватывают голеностопные суставы (</a:t>
            </a:r>
            <a:r>
              <a:rPr b="1" i="1" lang="ru-RU" sz="1700" spc="-1" strike="noStrike">
                <a:solidFill>
                  <a:srgbClr val="000000"/>
                </a:solidFill>
                <a:latin typeface="Tahoma"/>
              </a:rPr>
              <a:t>в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0" name="Picture 4" descr=""/>
          <p:cNvPicPr/>
          <p:nvPr/>
        </p:nvPicPr>
        <p:blipFill>
          <a:blip r:embed="rId1"/>
          <a:stretch/>
        </p:blipFill>
        <p:spPr>
          <a:xfrm>
            <a:off x="2627280" y="4221000"/>
            <a:ext cx="3745080" cy="2232360"/>
          </a:xfrm>
          <a:prstGeom prst="rect">
            <a:avLst/>
          </a:prstGeom>
          <a:ln w="0">
            <a:noFill/>
          </a:ln>
        </p:spPr>
      </p:pic>
      <p:sp>
        <p:nvSpPr>
          <p:cNvPr id="511" name="WordArt 5"/>
          <p:cNvSpPr txBox="1"/>
          <p:nvPr/>
        </p:nvSpPr>
        <p:spPr>
          <a:xfrm>
            <a:off x="1187280" y="549360"/>
            <a:ext cx="7777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Положения в наклонах.</a:t>
            </a:r>
            <a:endParaRPr b="0" lang="en-US" sz="800" spc="1" strike="noStrike">
              <a:ln w="0">
                <a:noFill/>
              </a:ln>
              <a:solidFill>
                <a:srgbClr val="990099"/>
              </a:soli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2" name="Управляющая кнопка: назад 6"/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89550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Основная стойка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(сокращенно о. с.) — положение соответствует строевой стойке</a:t>
            </a: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но положение рук в ней может быть различным. Этим она и отличается от строевой (а)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Узкая стойка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— стойка, в которой ноги расставлены врозь вдвое меньше, чем в стойке ноги врозь (6)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Стойка ноги врозь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— в этой стойке ступни расположены так же, как и в о. с., но ноги расставлены на ширину плеч (</a:t>
            </a: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в).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О положении рук, если они не внизу, должны быть дополнительные указания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Широкая стойка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— стойка, в которой ноги широко разведены в стороны (</a:t>
            </a: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г)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Стойка скрестно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— одна нога находится перед другой скрестно и касается колена опорной ноги, ступни параллельны, на расстоянии 10-15 см (</a:t>
            </a: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д)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Стойка ноги врозь правой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— стойка, в которой правая нога находится на шаг впереди левой (</a:t>
            </a: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е).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Данная стойка может быть широкой и узкой, о чем следует указывать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187280" y="404640"/>
            <a:ext cx="7705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ожения в стойках.</a:t>
            </a:r>
            <a:endParaRPr b="0" lang="en-US" sz="800" spc="1" strike="noStrike">
              <a:ln w="0">
                <a:noFill/>
              </a:ln>
              <a:solidFill>
                <a:srgbClr val="99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87640" y="4437000"/>
            <a:ext cx="5400720" cy="2421000"/>
          </a:xfrm>
          <a:prstGeom prst="rect">
            <a:avLst/>
          </a:prstGeom>
          <a:ln w="0">
            <a:noFill/>
          </a:ln>
        </p:spPr>
      </p:pic>
      <p:sp>
        <p:nvSpPr>
          <p:cNvPr id="455" name="Управляющая кнопка: назад 6"/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78920" y="1844280"/>
            <a:ext cx="877572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ойка на правом (левом) колене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при обычном способе выполнения одну ногу поднимают и, сгибая, отводят назад. Одновременно с этим сгибают другую ногу, опускаясь на колено так, чтобы бедро опорной ноги и голень другой (находящейся впереди) были перпендикулярны пол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ойка на коленя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стойка, в которой колени, голени и носки опираются о пол (снаряд) всей длиной, носки вытяну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ойка на лопатка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выполняется с опорой лопатками и затылком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 руки упираются в поясниц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ойка на голов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выполняется с опорой головой и рук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ойка на рука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выполняется на прямых руках, тело вертикально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ожения в стойках.</a:t>
            </a:r>
            <a:endParaRPr b="0" lang="en-US" sz="800" spc="1" strike="noStrike">
              <a:ln w="0">
                <a:noFill/>
              </a:ln>
              <a:solidFill>
                <a:srgbClr val="99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8" name="Picture 8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050920" y="5157720"/>
            <a:ext cx="935280" cy="1511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851280" y="4869000"/>
            <a:ext cx="792000" cy="1989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5508720" y="5057640"/>
            <a:ext cx="720720" cy="1800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7451640" y="4869000"/>
            <a:ext cx="792360" cy="1989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2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324000" y="5084640"/>
            <a:ext cx="10951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704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Сед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– положение занимающегося сидя на полу или на снаряде  с прямыми ногами, руки касаются опоры или находятся в каком – либо положении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Сед углом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– положение с поднятыми ногами, до угла 45 градусов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Сед согнувшись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– ноги подняты до вертикального положения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Сед с захватом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– то же, но туловище и голова наклонены к ногам, а ноги, захватом за голеностопный сустав подтягиваются к туловищу, голова опущена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Сед на пятках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– сед на обеих пятках, туловище вертикально, положение рук оговаривается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Сед на пятках с наклоном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– то –же, но туловище наклонено вперед до касания поднятыми вверх руками пола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ед,                        сед углом,                   сед согнувшись,         сед с        сед на пятках,     сед на пят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упор сзади              упор сзади                  упор сзади              захватом       руки на пояс       с наклоном впере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WordArt 4"/>
          <p:cNvSpPr txBox="1"/>
          <p:nvPr/>
        </p:nvSpPr>
        <p:spPr>
          <a:xfrm>
            <a:off x="1116000" y="620640"/>
            <a:ext cx="770400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Положения в седах.</a:t>
            </a:r>
            <a:endParaRPr b="0" lang="en-US" sz="800" spc="1" strike="noStrike">
              <a:ln w="0">
                <a:noFill/>
              </a:ln>
              <a:solidFill>
                <a:srgbClr val="990099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6" name="Picture 20" descr=""/>
          <p:cNvPicPr/>
          <p:nvPr/>
        </p:nvPicPr>
        <p:blipFill>
          <a:blip r:embed="rId1"/>
          <a:stretch/>
        </p:blipFill>
        <p:spPr>
          <a:xfrm>
            <a:off x="0" y="4724280"/>
            <a:ext cx="1886040" cy="1602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1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835280" y="4797360"/>
            <a:ext cx="1485720" cy="13446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2" descr=""/>
          <p:cNvPicPr/>
          <p:nvPr/>
        </p:nvPicPr>
        <p:blipFill>
          <a:blip r:embed="rId3"/>
          <a:stretch/>
        </p:blipFill>
        <p:spPr>
          <a:xfrm>
            <a:off x="3492360" y="4437000"/>
            <a:ext cx="1076400" cy="1944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3" descr=""/>
          <p:cNvPicPr/>
          <p:nvPr/>
        </p:nvPicPr>
        <p:blipFill>
          <a:blip r:embed="rId4"/>
          <a:stretch/>
        </p:blipFill>
        <p:spPr>
          <a:xfrm>
            <a:off x="4788000" y="4508640"/>
            <a:ext cx="718920" cy="1839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4" descr=""/>
          <p:cNvPicPr/>
          <p:nvPr/>
        </p:nvPicPr>
        <p:blipFill>
          <a:blip r:embed="rId5"/>
          <a:stretch/>
        </p:blipFill>
        <p:spPr>
          <a:xfrm>
            <a:off x="5940360" y="4365720"/>
            <a:ext cx="935280" cy="19112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5" descr=""/>
          <p:cNvPicPr/>
          <p:nvPr/>
        </p:nvPicPr>
        <p:blipFill>
          <a:blip r:embed="rId6"/>
          <a:stretch/>
        </p:blipFill>
        <p:spPr>
          <a:xfrm>
            <a:off x="6877080" y="5084640"/>
            <a:ext cx="1908000" cy="1220760"/>
          </a:xfrm>
          <a:prstGeom prst="rect">
            <a:avLst/>
          </a:prstGeom>
          <a:ln w="0">
            <a:noFill/>
          </a:ln>
        </p:spPr>
      </p:pic>
      <p:sp>
        <p:nvSpPr>
          <p:cNvPr id="472" name="Управляющая кнопка: назад 6"/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75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Упор присев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присед, колени вместе, руки опираются около носков снаружи, голова прямо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Упор стоя на коленя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опора руками и коленями, носки вытянуты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Упор леж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занимающийся обращен передней стороной тела к опоре. Термин «спереди» принято опускать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Упор лежа сзади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учащийся обращен к опоре спиной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упор  присев                   упор стоя                         упор лежа                            упор лежа сзад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на колен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WordArt 4"/>
          <p:cNvSpPr txBox="1"/>
          <p:nvPr/>
        </p:nvSpPr>
        <p:spPr>
          <a:xfrm>
            <a:off x="1187280" y="620640"/>
            <a:ext cx="777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Положения в упорах.</a:t>
            </a:r>
            <a:endParaRPr b="0" lang="en-US" sz="800" spc="1" strike="noStrike">
              <a:ln w="0">
                <a:noFill/>
              </a:ln>
              <a:solidFill>
                <a:srgbClr val="990099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1"/>
          <a:stretch/>
        </p:blipFill>
        <p:spPr>
          <a:xfrm>
            <a:off x="611280" y="4437000"/>
            <a:ext cx="1008000" cy="1368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2195640" y="4508640"/>
            <a:ext cx="1665000" cy="13381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9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2011320" cy="12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"/>
          <p:cNvPicPr/>
          <p:nvPr/>
        </p:nvPicPr>
        <p:blipFill>
          <a:blip r:embed="rId4"/>
          <a:stretch/>
        </p:blipFill>
        <p:spPr>
          <a:xfrm>
            <a:off x="6300720" y="4508640"/>
            <a:ext cx="2187720" cy="1253880"/>
          </a:xfrm>
          <a:prstGeom prst="rect">
            <a:avLst/>
          </a:prstGeom>
          <a:ln w="0">
            <a:noFill/>
          </a:ln>
        </p:spPr>
      </p:pic>
      <p:sp>
        <p:nvSpPr>
          <p:cNvPr id="480" name="Управляющая кнопка: назад 6"/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5"/>
          <p:cNvSpPr txBox="1"/>
          <p:nvPr/>
        </p:nvSpPr>
        <p:spPr>
          <a:xfrm>
            <a:off x="971640" y="549360"/>
            <a:ext cx="7792920" cy="12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Положения в упорах.</a:t>
            </a:r>
            <a:endParaRPr b="0" lang="en-US" sz="800" spc="1" strike="noStrike">
              <a:ln w="0">
                <a:noFill/>
              </a:ln>
              <a:solidFill>
                <a:srgbClr val="990099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Упор лежа боко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тело обращено боком при опоре на одну руку, другая рука обычно у тела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Упор лежа на бедра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упор, при котором тело максимально прогнуто, бедра касаются опоры или лежат на не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Упор лежа сзади на предплечьях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налогичный упору лежа сзади, но руки упираются предплечьями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упор лежа                                                  упор лежа                                          упор лежа сзад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боком                                                        на бедрах                                            на предплечь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Picture 7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2174760" cy="11685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"/>
          <p:cNvPicPr/>
          <p:nvPr/>
        </p:nvPicPr>
        <p:blipFill>
          <a:blip r:embed="rId2"/>
          <a:stretch/>
        </p:blipFill>
        <p:spPr>
          <a:xfrm>
            <a:off x="3203640" y="4365720"/>
            <a:ext cx="2305080" cy="13507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"/>
          <p:cNvPicPr/>
          <p:nvPr/>
        </p:nvPicPr>
        <p:blipFill>
          <a:blip r:embed="rId3"/>
          <a:stretch/>
        </p:blipFill>
        <p:spPr>
          <a:xfrm>
            <a:off x="5796000" y="4437000"/>
            <a:ext cx="23763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Равновесие — это положение, в котором учащийся стоит на одной ноге, наклонившись вперед, подняв другую ногу назад до отказа и руки в стороны.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Для принятия равновесия из основной стойки отвести одну ногу максимально назад и прогнуться. Сохраняя такое положение, сделать наклон вперед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Боковое равновесие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 - одноименная рука вверх, положение другой – оговаривается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Заднее равновесие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- отвести одну ногу максимально вперед и прогнуться назад. Положение рук оговаривается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При наклоне туловища вперед нога опускается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Не полностью выпрямлена опорная нога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ahoma"/>
              </a:rPr>
              <a:t>Страховка и помощь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тоя сбоку со стороны отводимой ноги, одной рукой помогать под плечо, другой под бедро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вновесие     </a:t>
            </a:r>
            <a:r>
              <a:rPr b="0" i="1" lang="ru-RU" sz="7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боковое равновесие одноименная                           заднее равновес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верх, другая на пояс                                      руки в сторо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468360" y="4581360"/>
            <a:ext cx="1582560" cy="1845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1873080" cy="1916280"/>
          </a:xfrm>
          <a:prstGeom prst="rect">
            <a:avLst/>
          </a:prstGeom>
          <a:ln w="0">
            <a:noFill/>
          </a:ln>
        </p:spPr>
      </p:pic>
      <p:sp>
        <p:nvSpPr>
          <p:cNvPr id="489" name="WordArt 7"/>
          <p:cNvSpPr txBox="1"/>
          <p:nvPr/>
        </p:nvSpPr>
        <p:spPr>
          <a:xfrm>
            <a:off x="826920" y="214200"/>
            <a:ext cx="81169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Положения в равновесиях.</a:t>
            </a:r>
            <a:endParaRPr b="0" lang="en-US" sz="800" spc="1" strike="noStrike">
              <a:ln w="0">
                <a:noFill/>
              </a:ln>
              <a:solidFill>
                <a:srgbClr val="990099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Picture 8" descr=""/>
          <p:cNvPicPr/>
          <p:nvPr/>
        </p:nvPicPr>
        <p:blipFill>
          <a:blip r:embed="rId3"/>
          <a:stretch/>
        </p:blipFill>
        <p:spPr>
          <a:xfrm>
            <a:off x="6588000" y="4508640"/>
            <a:ext cx="2016360" cy="1917720"/>
          </a:xfrm>
          <a:prstGeom prst="rect">
            <a:avLst/>
          </a:prstGeom>
          <a:ln w="0">
            <a:noFill/>
          </a:ln>
        </p:spPr>
      </p:pic>
      <p:sp>
        <p:nvSpPr>
          <p:cNvPr id="491" name="Управляющая кнопка: назад 6"/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94920" y="206064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Шпагат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сед с предельно разведенными ногами (в стороны),туловище вертикально, руки в стороны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Шпагат правой (левой)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— указывается нога, находящаяся спереди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олушпагат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— сед на пятке согнутой вперед ноги, другая сзади, туловище вертикально, руки в стороны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ctr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ипичные ошиб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уловище наклонено впере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топа согнутой ноги отведена в сторон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тведенная назад нога согнута в колен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Руки согнут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шпагат                                               шпагат правой                                           полушпаг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WordArt 4"/>
          <p:cNvSpPr txBox="1"/>
          <p:nvPr/>
        </p:nvSpPr>
        <p:spPr>
          <a:xfrm>
            <a:off x="900000" y="549360"/>
            <a:ext cx="804384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Положение шпагата.</a:t>
            </a:r>
            <a:endParaRPr b="0" lang="en-US" sz="800" spc="1" strike="noStrike">
              <a:ln w="0">
                <a:noFill/>
              </a:ln>
              <a:solidFill>
                <a:srgbClr val="990099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4" name="Picture 6" descr=""/>
          <p:cNvPicPr/>
          <p:nvPr/>
        </p:nvPicPr>
        <p:blipFill>
          <a:blip r:embed="rId1"/>
          <a:stretch/>
        </p:blipFill>
        <p:spPr>
          <a:xfrm>
            <a:off x="611280" y="479736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7" descr=""/>
          <p:cNvPicPr/>
          <p:nvPr/>
        </p:nvPicPr>
        <p:blipFill>
          <a:blip r:embed="rId2"/>
          <a:stretch/>
        </p:blipFill>
        <p:spPr>
          <a:xfrm>
            <a:off x="3276720" y="4797360"/>
            <a:ext cx="2447640" cy="1440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"/>
          <p:cNvPicPr/>
          <p:nvPr/>
        </p:nvPicPr>
        <p:blipFill>
          <a:blip r:embed="rId3"/>
          <a:stretch/>
        </p:blipFill>
        <p:spPr>
          <a:xfrm>
            <a:off x="6156360" y="4724280"/>
            <a:ext cx="2160720" cy="1441440"/>
          </a:xfrm>
          <a:prstGeom prst="rect">
            <a:avLst/>
          </a:prstGeom>
          <a:ln w="0">
            <a:noFill/>
          </a:ln>
        </p:spPr>
      </p:pic>
      <p:sp>
        <p:nvSpPr>
          <p:cNvPr id="497" name="Управляющая кнопка: назад 6"/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75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Присед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— положение занимающегося, в котором ноги согнуты (опора на носки), руки в любом положении (а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Полуприсед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— приседание, выполняемое на половину амплитуды (б); часто применяется с полунаклоном и называется «старт пловца» (</a:t>
            </a:r>
            <a:r>
              <a:rPr b="1" i="1" lang="ru-RU" sz="1700" spc="-1" strike="noStrike">
                <a:solidFill>
                  <a:srgbClr val="000000"/>
                </a:solidFill>
                <a:latin typeface="Tahoma"/>
              </a:rPr>
              <a:t>д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Круглый присед (полуприсед)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— приседание на носках, колени вместе, туловище согнуто вперед, руки вперед, голова опущена (</a:t>
            </a:r>
            <a:r>
              <a:rPr b="1" i="1" lang="ru-RU" sz="1700" spc="-1" strike="noStrike">
                <a:solidFill>
                  <a:srgbClr val="000000"/>
                </a:solidFill>
                <a:latin typeface="Tahoma"/>
              </a:rPr>
              <a:t>в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Присед наклонно</a:t>
            </a:r>
            <a:r>
              <a:rPr b="1" i="1" lang="ru-RU" sz="1700" spc="-1" strike="noStrike">
                <a:solidFill>
                  <a:srgbClr val="000000"/>
                </a:solidFill>
                <a:latin typeface="Tahoma"/>
              </a:rPr>
              <a:t> — присед, при выполнении которого бедра, туловище и голова на одной линии. Положение рук, если они не вдоль тела, указывается дополнительно. Например, руки вперед (г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ahoma"/>
              </a:rPr>
              <a:t>Присед на правой (левой)</a:t>
            </a:r>
            <a:r>
              <a:rPr b="1" i="1" lang="ru-RU" sz="1700" spc="-1" strike="noStrike">
                <a:solidFill>
                  <a:srgbClr val="000000"/>
                </a:solidFill>
                <a:latin typeface="Tahoma"/>
              </a:rPr>
              <a:t> — приседание, выполняемое на одной ноге, другая поднята вперед, руки вперед (е)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4365720"/>
            <a:ext cx="6264360" cy="2492280"/>
          </a:xfrm>
          <a:prstGeom prst="rect">
            <a:avLst/>
          </a:prstGeom>
          <a:ln w="0">
            <a:noFill/>
          </a:ln>
        </p:spPr>
      </p:pic>
      <p:sp>
        <p:nvSpPr>
          <p:cNvPr id="501" name="WordArt 5"/>
          <p:cNvSpPr txBox="1"/>
          <p:nvPr/>
        </p:nvSpPr>
        <p:spPr>
          <a:xfrm>
            <a:off x="1187280" y="692280"/>
            <a:ext cx="7705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Положения приседов.</a:t>
            </a:r>
            <a:endParaRPr b="0" lang="en-US" sz="800" spc="1" strike="noStrike">
              <a:ln w="0">
                <a:noFill/>
              </a:ln>
              <a:solidFill>
                <a:srgbClr val="990099"/>
              </a:soli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Управляющая кнопка: назад 6"/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03:05:00Z</dcterms:created>
  <dc:creator>1</dc:creator>
  <dc:description/>
  <dc:language>en-US</dc:language>
  <cp:lastModifiedBy>Надежда</cp:lastModifiedBy>
  <dcterms:modified xsi:type="dcterms:W3CDTF">2020-08-18T09:05:13Z</dcterms:modified>
  <cp:revision>154</cp:revision>
  <dc:subject/>
  <dc:title>Гимнастика Методическая разработка по программе  «Физическая культура»  автора А.П. Матвеева</dc:title>
</cp:coreProperties>
</file>