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919-873B-4096-95E7-C78BE965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855-2B98-4B78-B19B-F00230B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3340E8-A71B-4AFA-8B9B-30106920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98938-AF1E-4277-A06E-5615F6B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5FEDD-EFF6-4390-AD54-01D4536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D0B8C-AE8B-48A2-A635-E8728BA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6293C-7BE4-48C5-BF29-684F2F9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CAD17-F4A0-4601-8BA5-790E479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1E806E-D31F-436D-9012-8BA9B1E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58E32-95ED-45C9-8EA7-663C203B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29192-CC48-4564-9E8B-2AD4578A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5D795-8822-48FE-9A1F-EFBEA40C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ABB-2F72-4B15-9EA3-0908BCFF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4753-DE5C-45AB-B3FA-49F9A915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25B06-72A7-4A98-951A-3D62502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BBDB7-13BE-4096-8165-6F5A106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3BA9-5030-4CC7-9DE1-7862C8C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5F637-57FD-4ABC-865C-050DF27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09FA2-FE94-4598-9D2C-0CB05D4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E3059-BBDD-4E6C-9263-92FEC78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F3B86-8E8D-4BB1-8EA1-30345AB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BA6A-34FF-4C88-BABA-1AD24FF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78419-4343-4D3B-BBF2-AD7430D7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06D-FC23-40CD-9340-D0419565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F803E-FC06-452B-A165-CC562F2B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ABB0-5B9F-4E2D-88C3-F2B929E3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D9AE-72E3-452D-B32C-7E98374C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390-A935-4B8E-B4BF-226CBDF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84C-910F-4C44-B15F-8BC26386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63C8-4C40-4F41-933B-03B9751B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0C9-07EB-4527-8BA4-F8BF722D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BF34-89BC-4A50-BF34-CFF0D4C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C05-27B0-4F15-BCEC-7A86D41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831B-A4A4-4747-AD95-55538CF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2C1-4132-4483-ADB0-017038C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5F4C-08A5-48E5-A972-2BCCB513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0E8-B3EA-4BE5-AA4C-96AF4973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E59-98F5-475F-82A4-8E30A207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8FA0-31F4-455C-9ED9-9077F877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777F-C6A5-4A4A-A71C-EFCA646C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02AE-2E21-44B2-AA1C-E78ECEB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6D75-E462-4010-A897-7D11642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3393-44D1-4CE6-BAEA-628480A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DEC-2350-4AFE-A4AE-FE3076F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7D80-50D1-4F1B-82FE-BFC6BF7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AFEE-0364-448D-B24F-7FA2D18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582E-75A2-4978-BE0A-771E93C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8E0A-0E6C-4937-926F-01FDA08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C0CE-6441-4036-90DA-7934E52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5A8B-9151-408F-B50D-7E7ABF50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FD08-9453-46B8-A6BC-48DE3ADD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CCA7-1E6F-4233-AABD-9157D913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44EC-F231-4A77-B1DD-52C9C1A6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17FC-EB09-482C-BB20-A02C599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222-A85F-40F9-B79F-EEA3799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7C44-0D1C-4A49-8710-E99C7D5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6708-2073-43BB-95C3-CAAACEA8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7BA6-40ED-45E0-A266-C1AD3978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00F9-2FBB-4B9D-8292-1F637B2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3A25-6F19-4101-B8D4-746AF6C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9450-C052-4113-8442-D3436700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7B17-7661-4010-B920-A32B7910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3BE3-84A3-4932-A325-28FC2C35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B0DC-B4AA-4A11-9123-5B4911E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4E296-CE1B-4352-B9C5-14AE1BCD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2B9-4D4C-48D5-B0A8-AC4E1CF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F300C-317A-4191-93C5-6ACE320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A5D1D-D3C8-48DB-A711-7AB88E92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9C196-94A9-4798-BE6A-A11D0A43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3FB41-3C90-4A20-86D0-049BBFF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2F334-7D44-4C8F-8770-3D3E187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F10EB-B3B4-43AB-9D5B-56E4350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DDD1C-640B-4218-B65F-0C44F5B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642D4-43B6-43A0-AC39-76C9079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BD1C3-3438-42D7-B582-526EF425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1F462-8308-4D87-9E8D-1557A99B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270-D406-44FA-90A0-A601850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BB14A-0A7B-4EAA-B161-4272D186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86BA3-7355-430D-8ECC-492C753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C609F-7364-41E1-8DC2-2059454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05148-4DF3-46BD-8D5C-AE09FDB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F5AE6-FDBF-4BE4-ABB3-0DCBC2E5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B6A2F-6523-4364-9DF5-0F26264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BFC37-4C0A-4B9E-97B9-AC810675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55018-F7D9-4B6F-9B59-F9E8364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A025F-480D-41C3-A7EE-8A3C690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75C8F-E6EE-41A0-A525-8520783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299-E3B3-4663-B976-DE4E11A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36447-39E8-4F81-8C12-BEAB94CB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34961-1118-4906-BA54-D85ABFFC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BCABB-C60F-456E-BB7D-06A543F7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3CFD7-8FAD-4A35-900D-6CD66B23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7AF7C-2CAC-45E1-999E-E46DD4E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581B6-74BB-4861-B179-07AD4D1B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2DAC5-C266-4926-BF0E-0AAD13C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BAF37-A70D-419C-B660-64FE841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01A4D-F382-4920-B232-4F846F49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5DE9B-1F95-42AA-80D0-E9FF8D2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784-A6CC-4A35-A048-C9DAAB49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9973A-E046-4CED-9929-782B896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15097-4F1D-4B67-B4E3-54C63BA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1D93B-C3E6-4ED0-8472-5E3C103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1FC94-A83A-4F12-B983-F220EE14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AF672-3CF4-49C1-87C7-EB0E9EC8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16BCA-C794-47B3-A7DC-1C91C05C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E6A8-7A32-4C41-8FAA-62A9CAF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AA2B-B5B3-4D30-B65D-E987318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CC610-5F33-4A99-A054-2CD9BC2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9279-884E-4FF0-A30F-7322BF8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C97-D20E-42E4-85E0-78550DF4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1B35-FF95-47DD-83EE-51534014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0E81-9DFA-4C2E-ADD1-F0518D5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15A7-E87A-462E-8D91-58BBFF4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BF54-D2C5-45E1-9303-E02B8EA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FD8D9-CEEE-407E-88C6-D36619E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44B1-9A9A-43F7-8AE4-0FB7F13A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0EE0-0583-4B93-9E41-F940E75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5B773A-33F8-4213-AB3F-11F86936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8ECCC-7FDA-4AE3-AC08-22852682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5D975-609F-42C6-B3A9-FF632D48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D9B-C6C7-4DA7-9D28-EC68D28DC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A9BB-7B25-45FC-9233-4F753A3120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5E2-AC8D-4612-BE69-0C42AD35AF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FAE-E1A6-44D7-81C4-E0C2D94C441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8AE-9F01-4583-B256-3B6AE88DB437}" type="slidenum">
              <a:rPr b="1" lang="ru-RU" sz="14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F77F-FF4D-4CD1-B81B-80D6769C9D7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E88-6E9B-47B1-A0BD-CC1174E542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90A-EDEB-46C6-9ED8-F306916828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F755-A40D-4DF5-AACD-5BF687F5B86F}" type="slidenum">
              <a:rPr b="1" lang="ru-RU" sz="14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56C-2B19-4DCC-A2DC-E49ECF092DF6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932968"/>
                </a:solidFill>
                <a:latin typeface="Impact"/>
              </a:rPr>
              <a:t>СТРОЕВЫЕ УПРАЖНЕНИЯ </a:t>
            </a:r>
            <a:br>
              <a:rPr sz="86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МЕТОДИЧЕСКАЯ РАЗРАБОТКА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ПО ПРОГРАММЕ 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«ФИЗИЧЕСКАЯ КУЛЬТУРА». </a:t>
            </a:r>
            <a:br>
              <a:rPr sz="3200"/>
            </a:br>
            <a:endParaRPr b="0" lang="en-US" sz="32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563640" y="510552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усева Надежда Васильевн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704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ХОДЬБА ЗМЕЙК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сколько противоходов подря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еличина змейки определяется п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рвому противоходу по команде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Противоходом налево (направо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МАРШ!»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Затем, перед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вершением противохода, звучи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манда: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Змейкой — МАРШ!»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этой команде направляющ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редвигается «змейкой» до нов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манды учител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ХОДЬБА ПО ДИАГОНА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 движение по прямой из одног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гла зала (площадки) через центр к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ругому углу. В этом случае подается команд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По диагонали — МАРШ!»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сполнительну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манду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МАРШ!»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дают в тот момент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гда направляющий дойдет д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ответствующего уг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WordArt 6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2" name="Picture 7" descr=""/>
          <p:cNvPicPr/>
          <p:nvPr/>
        </p:nvPicPr>
        <p:blipFill>
          <a:blip r:embed="rId1"/>
          <a:stretch/>
        </p:blipFill>
        <p:spPr>
          <a:xfrm>
            <a:off x="6800760" y="3476520"/>
            <a:ext cx="2343240" cy="3381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9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хемы движения колон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руг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вижение по окружност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етл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тивоход, в конце которого меняется направление движения. Различают открытую петлю, при которой направление движения меняется в противоположную сторон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етля закрыта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аправление движения меняется в сторону колонны, и занимающиеся через одного (два) пересекают е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пирал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вижение по кругу с постепенным уменьшением радиуса до центра и выходом в противоположном направлении противоход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Разведе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ление колонны на более мелкие колонны (две, три), например: из колонны по два в колонну по одно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ведени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вижение, противоположное разведени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5" descr=""/>
          <p:cNvPicPr/>
          <p:nvPr/>
        </p:nvPicPr>
        <p:blipFill>
          <a:blip r:embed="rId1"/>
          <a:stretch/>
        </p:blipFill>
        <p:spPr>
          <a:xfrm>
            <a:off x="4788000" y="508464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7093080" y="4292640"/>
            <a:ext cx="1582560" cy="865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2987640" y="5013360"/>
            <a:ext cx="1728720" cy="1844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4"/>
          <a:stretch/>
        </p:blipFill>
        <p:spPr>
          <a:xfrm>
            <a:off x="179280" y="5013360"/>
            <a:ext cx="1297080" cy="1844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"/>
          <p:cNvPicPr/>
          <p:nvPr/>
        </p:nvPicPr>
        <p:blipFill>
          <a:blip r:embed="rId5"/>
          <a:stretch/>
        </p:blipFill>
        <p:spPr>
          <a:xfrm>
            <a:off x="1476360" y="4869000"/>
            <a:ext cx="1366920" cy="1989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10"/>
          <p:cNvSpPr txBox="1"/>
          <p:nvPr/>
        </p:nvSpPr>
        <p:spPr>
          <a:xfrm>
            <a:off x="1042920" y="404640"/>
            <a:ext cx="8101080" cy="131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2" name="Picture 11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7072200" y="5300640"/>
            <a:ext cx="1656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79280" y="1773000"/>
            <a:ext cx="8780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овместные или одиночные действия занимающихся в стро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строения в одну шеренг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щиеся строятся в шеренгу по команде учителя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Становись!»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Учитель становится на определенное место (верхний правый угол зала, площадки), а учащиеся становятся слева от него. Когда направляющий займет свое место рядом с учителем, последний переходит на середину зала (площадки), помогает ученикам взять правильный интервал. В строю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оят прямо, плечи развернуты, руки свободно опущены вниз, а полусогнутые кисти прижаты к бедрам, носки ног разведены пятки сомкнуты. Такое положение н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сновной стойко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1"/>
          <a:stretch/>
        </p:blipFill>
        <p:spPr>
          <a:xfrm>
            <a:off x="4284720" y="4221000"/>
            <a:ext cx="4716360" cy="2637000"/>
          </a:xfrm>
          <a:prstGeom prst="rect">
            <a:avLst/>
          </a:prstGeom>
          <a:ln w="0">
            <a:noFill/>
          </a:ln>
        </p:spPr>
      </p:pic>
      <p:sp>
        <p:nvSpPr>
          <p:cNvPr id="453" name="Управляющая кнопка: назад 6">
            <a:hlinkClick r:id="rId2" action="ppaction://hlinksldjump"/>
          </p:cNvPr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704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СТРОЕНИЕ В КОЛОННУ ПО ОДНОМ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оманде учителя: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«В колонну по одному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ановись!»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все учащиеся становятся в затылок за учителем. Строиться в  колонну по одному можно также поворотом налево или напра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Размыкания — способы увеличения интервала или дистанции стро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РАЗМЫКАНИЕ НА ВЫТЯНУТЫЕ РУКИ ВПЕРЕД В КОЛОН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команд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а вытянутые вперед рук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азомкнись!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ти размыкаются, касаясь прямыми руками плеч ученика, стоящего вперед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РАЗМЫКАНИЕ НА ВЫТЯНУТЫЕ РУКИ В СТОРОНЫ В ШЕРЕНГ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команде «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право (влево) на вытянутые в стороны руки, приставными шагами — разомкнись!»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ученики размыкаются на нужное расстояние в указанном направлении, поднимая руки в стороны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мыкание в колонне                            размыкание в шеренг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3095640" cy="1872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2"/>
          <a:stretch/>
        </p:blipFill>
        <p:spPr>
          <a:xfrm>
            <a:off x="4284720" y="4365720"/>
            <a:ext cx="439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63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ВОРОТЫ НАПРАВО И НАЛЕ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ороты ученики выполняют по разделениям на два счета по команд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але-ВО!», «напра- ВО!»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По предварительной команд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апра-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ти выполняют первую половину поворота, что соответствует счету «раз», поворот на правой пятке и левом носке. По исполнительной команде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«-ВО!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ставляют левую ногу к правой , заканчивая поворот, счет «два». Расслабленное положение рук является типичной ошибкой этого упражн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1042920" y="214200"/>
            <a:ext cx="7900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959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704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ерестроения — переходы из одного строя в друг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ЕРЕСТРОЕНИЯ ИЗ ОДНОЙ ШЕРЕНГИ В ДВ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ле расчета на первый-второй, подается команда: «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ласс, в две шеренги – СТРОЙСЯ!»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По исполнительной команде «СТРОЙСЯ!» вторые номера на счет «раз» делают шаг левой ногой назад, на «два», не приставляя правой ноги, - шаг вправо, на «три» — приставляют левую ногу к правой и становятся в затылок за первыми номерами. Для обратного перестроения подается команда: «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ласс, в одну шеренгу – СТРОЙСЯ!»,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производятся действия обратного характ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103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559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ЕРЕСТРОЕНИЕ В ДВА КРУГА ИЗ ДВУХШЕРЕНГОВОГО СТРО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строение проводится поэтапно. Сначала разучивается перестроение в один круг из шеренги, взявшись за руки. Можно выполнять на нарисованном на полу круге, ученики за направляющим размещаются по кругу. Перестроение в круг из шеренги производится быстрее, если направляющий и замыкающий пойдут навстречу друг другу. При этом половина учащихся идет за направляющим, а другая — за замыкающим. Когда этот вид перестроения освоен, можно осваивать перестроение в два круга из двухшеренгового стро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1"/>
          <a:stretch/>
        </p:blipFill>
        <p:spPr>
          <a:xfrm>
            <a:off x="2771640" y="4221000"/>
            <a:ext cx="3168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8955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РАЗМЫКАНИЕ ПО РАСЧЕТУ «ШЕСТЬ - ТРИ - НА МЕСТ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И «ДЕВЯТЬ - ШЕСТЬ - ТРИ - НА МЕСТ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т способ применяется при размыкании из шеренги, посл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счета. По команде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По расчету шагом — МАРШ!»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учащиеся выходят вперед, делая столько шагов, сколько каждым из них было названо при расчете, кроме тех, кто говорил «на месте» (они с места не сходят). По команде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На свои места шагом марш!»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ученики, вышедшие вперед, поворачиваются кругом (по счету «раз-два»), идут на прежние места и, оказавшись в строю, поворачиваются круг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начале применяется размыкание по расчету «шесть — три — на месте», затем «девять — шесть — три — на мест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WordArt 4"/>
          <p:cNvSpPr txBox="1"/>
          <p:nvPr/>
        </p:nvSpPr>
        <p:spPr>
          <a:xfrm>
            <a:off x="971640" y="214200"/>
            <a:ext cx="797220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050920" y="4508640"/>
            <a:ext cx="4321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955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ОДЬБА В ОБХ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мый простой способ передвиж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ников в колонне по одному. Выполняе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команд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алево (направо) в обхо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шагом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РШ!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ОДЬБА ПРОТИВОХО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олняется по команде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Противоходом налево (направо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РШ!»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тивоход — это дви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обратном направлении ряд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троем (справа или слев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ходьбы противоходом нале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полнительную команду над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ать под шаг левой ноги, а для ходьб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тивоходом направо — под шаг прав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1042920" y="333360"/>
            <a:ext cx="790092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роевые упражнения.</a:t>
            </a:r>
            <a:endParaRPr b="0" lang="en-US" sz="800" spc="1" strike="noStrike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 rot="21448200">
            <a:off x="5149440" y="4143240"/>
            <a:ext cx="3890880" cy="2381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5286240" y="1773360"/>
            <a:ext cx="3857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05:00Z</dcterms:created>
  <dc:creator>1</dc:creator>
  <dc:description/>
  <dc:language>en-US</dc:language>
  <cp:lastModifiedBy>Надежда</cp:lastModifiedBy>
  <dcterms:modified xsi:type="dcterms:W3CDTF">2020-08-18T09:00:57Z</dcterms:modified>
  <cp:revision>154</cp:revision>
  <dc:subject/>
  <dc:title>Гимнастика Методическая разработка по программе  «Физическая культура»  автора А.П. Матвеева</dc:title>
</cp:coreProperties>
</file>