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7174-FC97-404F-83E7-418DBCEE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19B5-2BD6-4DB0-94FD-37819F36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0729-1BB9-4E42-9BFC-F0D664EE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AE15-0DBF-4025-AAF4-59FCBB9C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1481-B971-42EA-A2F4-A97BFE7F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216-7A22-4240-A40B-6567F3B7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5C3D-D803-4504-9C7C-CB3E294B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BB9E-629A-43B2-B300-3EC54639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7C55-E122-4ED0-8251-3A2DE601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6923-CF88-40E3-883B-AC3513A9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A127-23EB-4B60-8BEB-9C0DD945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751E-A96F-405D-B4C5-5619CA32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0399-D7E9-4C54-AD33-4339E1CCAB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video" Target="file:///\\192.168.0.155\&#1091;&#1095;&#1080;&#1090;&#1077;&#1083;&#1100;&#1089;&#1082;&#1072;&#1103;\&#1043;&#1086;&#1088;&#1073;\&#1074;&#1086;&#1083;&#1082;%20&#1085;&#1072;%20&#1087;&#1089;&#1072;&#1088;&#1085;&#1077;%20&#1042;&#1080;&#1076;&#1077;&#1086;&#1082;&#1083;&#1080;&#1087;%20&#1082;%20&#1091;&#1088;&#1086;&#1082;&#1091;%20&#1083;&#1080;&#1090;&#1077;&#1088;&#1072;&#1090;&#1091;&#1088;&#1099;.mp4" TargetMode="External"/><Relationship Id="rId2" Type="http://schemas.microsoft.com/office/2007/relationships/media" Target="file:///\\192.168.0.155\&#1091;&#1095;&#1080;&#1090;&#1077;&#1083;&#1100;&#1089;&#1082;&#1072;&#1103;\&#1043;&#1086;&#1088;&#1073;\&#1074;&#1086;&#1083;&#1082;%20&#1085;&#1072;%20&#1087;&#1089;&#1072;&#1088;&#1085;&#1077;%20&#1042;&#1080;&#1076;&#1077;&#1086;&#1082;&#1083;&#1080;&#1087;%20&#1082;%20&#1091;&#1088;&#1086;&#1082;&#1091;%20&#1083;&#1080;&#1090;&#1077;&#1088;&#1072;&#1090;&#1091;&#1088;&#1099;.mp4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cc"/>
                </a:solidFill>
                <a:latin typeface="Arial"/>
              </a:rPr>
              <a:t>И.А.Крылов </a:t>
            </a:r>
            <a:br>
              <a:rPr sz="4000"/>
            </a:br>
            <a:r>
              <a:rPr b="1" lang="ru-RU" sz="4000" spc="-1" strike="noStrike">
                <a:solidFill>
                  <a:srgbClr val="33cccc"/>
                </a:solidFill>
                <a:latin typeface="Arial"/>
              </a:rPr>
              <a:t>«Волк на псарне»</a:t>
            </a: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Отражение исторических событий в басне .Патриотическая позиция автор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60199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cc"/>
                </a:solidFill>
                <a:latin typeface="Arial"/>
              </a:rPr>
              <a:t>Урок литературы в 5 клас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i?id=80a3b33eddce5919edc3083d7d92590a&amp;n=33&amp;h=215&amp;w=153"/>
          <p:cNvPicPr/>
          <p:nvPr/>
        </p:nvPicPr>
        <p:blipFill>
          <a:blip r:embed="rId1"/>
          <a:stretch/>
        </p:blipFill>
        <p:spPr>
          <a:xfrm>
            <a:off x="6553080" y="3276720"/>
            <a:ext cx="2448000" cy="3343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i?id=88f0cfa797ac9f68be90e94e122eb7b9&amp;n=33&amp;h=215&amp;w=159"/>
          <p:cNvPicPr/>
          <p:nvPr/>
        </p:nvPicPr>
        <p:blipFill>
          <a:blip r:embed="rId2"/>
          <a:stretch/>
        </p:blipFill>
        <p:spPr>
          <a:xfrm>
            <a:off x="228600" y="3352680"/>
            <a:ext cx="23590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Times New Roman"/>
              </a:rPr>
              <a:t>Словарная работа с тек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попал на псарню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Поднялся... двор»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и вмиг ворота на запор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ощетиня шерсть, // Глазами, кажется, хотел бы всех он съесть...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расчесться за овец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Пустился в переговоры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Не делать мировой»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Выпустить на Волка гончих стаю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i?id=57d132e9f1723a5c2d32b592ae9d7412&amp;n=33&amp;h=215&amp;w=287"/>
          <p:cNvPicPr/>
          <p:nvPr/>
        </p:nvPicPr>
        <p:blipFill>
          <a:blip r:embed="rId1"/>
          <a:stretch/>
        </p:blipFill>
        <p:spPr>
          <a:xfrm>
            <a:off x="5724360" y="4295880"/>
            <a:ext cx="34196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cccc"/>
                </a:solidFill>
                <a:latin typeface="Times New Roman"/>
              </a:rPr>
              <a:t>Некоторые  слова басни звучат как крылатые выражения, послов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попал на псарню», «вмиг ворота на запор», «глазами, кажется, хотел бы всех он съесть», «пустился в переговоры», «не делать мировой», «выпустил на Волка гончих стаю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2438280" y="3581280"/>
            <a:ext cx="49024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cc"/>
                </a:solidFill>
                <a:latin typeface="Times New Roman"/>
              </a:rPr>
              <a:t>Подведем итог уро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51055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бы вы сказали И.А.Крылову, если бы встретились с ни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ушайте исторический анекдот об И.А.  Крыл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33cccc"/>
                </a:solidFill>
                <a:latin typeface="Times New Roman"/>
              </a:rPr>
              <a:t>По улице шли студенты, а перед ними вышагивал важно И.А.Крылов. Ребята решили пошутить, намекая на его необъятные размеры: - Туча идёт! Крылов обернулся и сказал: - И… лягушки заквакал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cc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33cccc"/>
                </a:solidFill>
                <a:latin typeface="Times New Roman"/>
              </a:rPr>
              <a:t>О каких чертах характера И.А. Крылова говорит эта истори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PwYhe3kUcu0e-kJJ2fZuMmZAd-boYVQIfQCuAz2qL-Ron-8HaF2dTBLfiz9ZLUOgWqFGmxy5g5ZJVGczJOz-hi5fB7c86mZJyMDCXUUxERbxEY_hF9PHkG4BX5DPg-rn3ovYJQ"/>
          <p:cNvPicPr/>
          <p:nvPr/>
        </p:nvPicPr>
        <p:blipFill>
          <a:blip r:embed="rId1"/>
          <a:stretch/>
        </p:blipFill>
        <p:spPr>
          <a:xfrm>
            <a:off x="5791320" y="1752480"/>
            <a:ext cx="32004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Times New Roman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выразительное чтение наизусть басни «Волк на псарн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ндивидуальное задани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Нарисовать иллюстрацию к бас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29728"/>
          <p:cNvPicPr/>
          <p:nvPr/>
        </p:nvPicPr>
        <p:blipFill>
          <a:blip r:embed="rId1"/>
          <a:stretch/>
        </p:blipFill>
        <p:spPr>
          <a:xfrm rot="1150200">
            <a:off x="6476760" y="3809520"/>
            <a:ext cx="1884240" cy="2800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562011279ac625e1a704f9b8a91a38aa"/>
          <p:cNvPicPr/>
          <p:nvPr/>
        </p:nvPicPr>
        <p:blipFill>
          <a:blip r:embed="rId2"/>
          <a:stretch/>
        </p:blipFill>
        <p:spPr>
          <a:xfrm>
            <a:off x="1066680" y="3809880"/>
            <a:ext cx="2934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 уро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олжить работу над анализом басни как жанр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зать, что литература есть отражение жизни нар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рабатывать навыки выразительного чтения по роля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ивать учащимся чувство патриотизм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80880" y="380880"/>
            <a:ext cx="83822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/>
                <p:tgtEl>
                  <p:spTgt spid="48"/>
                </p:tgtEl>
              </p:cMediaNode>
            </p:vide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Times New Roman"/>
              </a:rPr>
              <a:t>Прослушайте внимательно  бас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овите героев данной бас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какой волчьей натуре идет речь? Почему волка не любя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волк хотел избежать наказ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черты характера он прояви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i?id=2f044b84e77348cfbe78fb3937504783&amp;n=33&amp;h=215&amp;w=308"/>
          <p:cNvPicPr/>
          <p:nvPr/>
        </p:nvPicPr>
        <p:blipFill>
          <a:blip r:embed="rId1"/>
          <a:stretch/>
        </p:blipFill>
        <p:spPr>
          <a:xfrm>
            <a:off x="3809880" y="3083040"/>
            <a:ext cx="50673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3200" spc="-1" strike="noStrike">
                <a:solidFill>
                  <a:srgbClr val="33cccc"/>
                </a:solidFill>
                <a:latin typeface="Times New Roman"/>
              </a:rPr>
              <a:t>Рассмотрите иллюстрацию А. Лаптева к этой бас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62485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вы считаете, соответствует ли она характеру крыловского текс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4027479"/>
          <p:cNvPicPr/>
          <p:nvPr/>
        </p:nvPicPr>
        <p:blipFill>
          <a:blip r:embed="rId1"/>
          <a:stretch/>
        </p:blipFill>
        <p:spPr>
          <a:xfrm>
            <a:off x="228600" y="609480"/>
            <a:ext cx="4202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ллегория бас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4640438"/>
          <p:cNvPicPr/>
          <p:nvPr/>
        </p:nvPicPr>
        <p:blipFill>
          <a:blip r:embed="rId1"/>
          <a:stretch/>
        </p:blipFill>
        <p:spPr>
          <a:xfrm>
            <a:off x="4800600" y="36576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Times New Roman"/>
              </a:rPr>
              <a:t>Беседа с класс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ая часть речи в басне преобладае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чём это говори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создаёт картину переполох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ую роль играет огон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это ассоциируется с событиями 1812 го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разе кого изображены в басне Наполеон и Кутуз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автор описывает волка? Зачи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синонимы автор подбирает к слов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 волк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автор относится к своим героям? Докажите цитатами из бас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ы считаете, с какой целью была написана басн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патриотиз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о мы можем назвать патриот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атриотизм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i?id=0eb20e93ef6eca45c46ef6a6ff33d053&amp;n=33&amp;h=192&amp;w=270"/>
          <p:cNvPicPr/>
          <p:nvPr/>
        </p:nvPicPr>
        <p:blipFill>
          <a:blip r:embed="rId1"/>
          <a:stretch/>
        </p:blipFill>
        <p:spPr>
          <a:xfrm>
            <a:off x="5715000" y="4267080"/>
            <a:ext cx="3333600" cy="2470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i?id=21e9df948b518b6324d47d6f88c127e2&amp;n=33&amp;h=215&amp;w=246"/>
          <p:cNvPicPr/>
          <p:nvPr/>
        </p:nvPicPr>
        <p:blipFill>
          <a:blip r:embed="rId2"/>
          <a:stretch/>
        </p:blipFill>
        <p:spPr>
          <a:xfrm>
            <a:off x="5791320" y="152280"/>
            <a:ext cx="3257280" cy="2846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i?id=666bd748e88fa97ba2e02e397b99e1f3&amp;n=33&amp;h=215&amp;w=280"/>
          <p:cNvPicPr/>
          <p:nvPr/>
        </p:nvPicPr>
        <p:blipFill>
          <a:blip r:embed="rId3"/>
          <a:stretch/>
        </p:blipFill>
        <p:spPr>
          <a:xfrm>
            <a:off x="152280" y="2362320"/>
            <a:ext cx="4572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В</dc:creator>
  <dc:description/>
  <dc:language>en-US</dc:language>
  <cp:lastModifiedBy>Marischa</cp:lastModifiedBy>
  <dcterms:modified xsi:type="dcterms:W3CDTF">2017-10-02T07:07:3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