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ADA-3DDA-4C77-8322-1CB8A94C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F0D-0753-45CF-8124-C6073511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707DA-64F5-46C9-AE56-3F15F545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B7C6-E07F-4D10-B18F-A02A7EB9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90914-9704-4031-914D-6FE4C765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C5554-9F8B-492D-B10B-317900D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F7FBB-6179-44B7-BA25-46CB857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75139-6272-4B93-9D76-640D3BE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78A2-0DAC-4267-ACA7-1397C8D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0F99-004E-4703-ACDF-6E19FB6C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035DD-3F36-456C-966A-E9733F0A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FF82D-80E4-4CEC-9333-66CC19ED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DD4-61D0-4D73-91E4-3407C9AB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CBB29-92DD-428D-8A6A-FD9262D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05E06-BF22-482C-B97B-8AB38E87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CFD20-3299-4070-B711-41874E0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D283C-0CFB-42DF-97E7-64C42C5E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95721-E640-42DF-8AC9-1A9C01B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A45FA-BB80-42D2-B086-EAB7604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FB7AF-D176-494B-B1F2-EB58DAD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FB6D2-B8C5-4B9D-8365-05FD6A9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9A00-076C-4DF8-AD81-C9F583B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B0220-0721-4D53-B779-DE8E3B7A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FEB-D449-4A16-94E6-423531A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A0BDB-0FC3-4DA5-A1CF-886BFAA3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C33AB-549C-4D45-A765-00B8A94A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FD82F-039A-4527-B830-33B7FB55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51BCE-3CE2-45CC-927A-51BFDE90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83902-FFBD-41FB-BEE5-D7C6DC0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2ECD1-7FA2-4E37-861D-EC5E0B48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C3276-B44B-473D-A831-623A807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549C-75DB-4ED4-8829-6CDB87D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33E7F-44DA-48AE-8041-850EC222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9F1D-F6BD-4416-AED7-9810A3B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20BD-24DE-4ADC-BB5F-CDC1C8A3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637F0-B6E9-45D6-98F3-28A9BFE5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7AE50-5E8F-47B7-BD8F-4D937E65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FC7D9-31EE-4D3E-A56E-3C503F85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72C45-C234-4687-BE22-43A37135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57ACA-0DD8-4290-B2B4-CDE43FFA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3C8B8-897B-4338-A4A5-19E3B91B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5B0D3-0504-4C90-A9DD-BF881A9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E906D-0527-4503-ACA2-FB983DB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40461-58CC-4E8D-83EB-A4D42982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01CC2-D54F-4242-BEA5-9EA87A9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D16-949E-4FAD-859A-AB01EA0A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4D37F-3541-4160-A37C-BBE8260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D9BB6-B18A-451A-A2C4-F5B8CD8D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CC1C9-F95A-4195-9DB4-38081A0D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6D076-878C-48F3-AC59-F5C63F36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74FE9-4841-4BA8-A4C9-A3429C57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A7354-49D4-4BAB-A431-22EABA62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84A0E-4AA5-47CF-A888-0F391BE0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A2379-50BC-47BD-A362-C3A8F3FF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6542C-582A-4C15-807B-E7BBD39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69E8D-4ACD-445D-AEE2-808FC7C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7867-C411-42A8-8DF6-BA155F8A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1F811-5C9D-4BDF-8C6F-E9C1C836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9ECEF-F611-4C98-931E-49E59D0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81416-F7F9-40CC-A856-5F9E959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AFFC5-C4AE-4FF7-B739-58258B7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E8D84-3389-456F-9153-AD3BE13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BFBC7-DFF4-47F4-8586-D8043F9C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3BA04-E065-4DEF-A69D-2EEA118F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B34BC-6AD5-4D67-8E1E-DD4CD3CA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65313-B3C5-436C-A050-6BFBC041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6AB23-8C2D-47B0-949D-67851FF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B123-6288-41EE-8E0F-E56804FA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2B8DF-1109-4BF9-948C-03D3E6D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A64AB-1529-4D90-A3DE-703C3712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5BB7C-5727-47FC-9B41-7FE20B3A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DBDC5-E2C6-4EC1-93AF-4A772A46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62E3D-AEA3-4AAE-9203-EC0FE34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82599-2011-490C-BACE-7414CC1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0F89E-FF37-4323-95E9-BAC6A67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C356A-D14E-4A02-9A68-BF198CA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17220-96CC-438C-A0F3-BD55DC90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5EEB9-3B71-426B-A277-5396C886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651D-B40D-4BBB-87F4-C04B67C9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C971E-97AC-4BFC-B131-49DDD06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032A3-57E6-401B-9A9C-9C52C7D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B95F2-2CE7-40C4-B81F-90E9368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81018-B870-4BA6-8F6B-15841E63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D3C5C-013C-4FF4-9352-538737F9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12463-20F6-4D0D-9428-8040B2E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42585-247F-40DC-B92D-8943640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4D3B2-2735-4209-887E-0C4DAD3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34A39-33C7-4EF4-AC65-52D3A0B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C8D71-4A47-4423-B1FF-ECAD5D9A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CFC-29E4-4266-BC87-3106DCE6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0B4F7-6315-4039-9805-4D65A1C4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C2AE9-349D-4E96-BFF4-AD9C7ED8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7EB2E-43BA-4945-BD1F-AA1921F1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2FC0E-7D34-456C-97FE-C3BEE8A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6BFAB-BA57-427F-9AC0-D2EABB04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4F986-0BE0-4735-AF8C-0B840440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E7DB7-B2D7-4D8C-BFEC-03B10065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94E56-46A5-4FEA-BE9D-7F6D580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77D26-9A2E-45E5-B375-E27A2C8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A6064-4C99-4401-8FA9-DB8B5D6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69A-8E97-4DDA-AC09-9CD0066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D9CDE-1144-4727-BF95-B9D07582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19B17-0017-467E-8DE4-AE2B011F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BB8CD-8042-4256-8ECD-9A77394C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6879D-91C1-47DD-A166-86C3857B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88F33-BE98-49AE-A0DB-FD6DD49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6A648-01D6-44CE-9960-DE3B22A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B6BF8-6C3A-4D4B-92C3-459189C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246C4-B051-4BEF-855B-20B5657F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9F159-453A-484B-899E-12926642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EEB81-E984-4CCD-AEEB-637DA6A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ACB-530F-4721-9415-DC78666E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F5C6-7A7D-4335-B969-4E2ED19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A65F1-9B2E-4113-BC2F-D0A7979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CA177-ACF8-405A-ADB7-438EA00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2DD0C-3582-4865-B41D-77BB5EE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75C96-BD2E-4902-9D08-549406A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B61C9-7E99-436A-9196-6BA2314C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0D18E-299A-4FD5-8D44-26759FE2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E5860-A7BB-4C21-BE8B-2387D2E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DD611-948B-47C1-A26F-5F74D26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4D5B1-25A7-4106-95E7-94FD375A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2171A-6E19-4A53-B384-07AA4885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F053-19A1-46AF-94AF-7EDC17C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4B361-1E84-4218-BF30-11593EEA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D51E6-760D-4A8C-BB63-779C7CC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8DE9D-5798-46C2-9703-B03558E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7E719-1D1B-42C8-A059-1547BA8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DAD75-E8FF-4231-A546-1DE64565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27219-A623-4C1C-8001-DBC82DAD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4D090-90D5-4DF0-AEE6-B28321EC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EA53E-DDCE-49CC-9562-28A7C14B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FD15D-BB21-4F10-A7BA-B92CED33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CB15B-15EF-41B8-9FDC-E831F8DA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E17-C303-49A4-93FB-2D3C1977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8D485-486A-477A-A21D-2BF9765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D9B78-BE34-4DA6-A802-67C57D22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A6E4A-8859-4CD7-9F65-FD3C775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9367E-3C0C-4553-8ECE-749A4D1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C6E29-D9D8-4673-843C-6152004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EC7D2-9C79-4135-8C48-C15FAD9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70DE6-503E-4DA7-BBF9-B27CAED5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5BBE9-56C1-47CC-8097-BCED90C0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28BFA-F914-4CBB-9016-7E576548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AAF71-29BD-42AE-B5B9-2CCECF33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DBFD-5A2C-4C5A-AFAB-520ED82E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0B1DE-4EF5-4A44-8318-095355AD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30D45-3133-4F7B-8319-8608178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59C9F-707F-4390-BD76-D0E1E0A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FE58D-FD27-4ACC-879C-C6FF2B9A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FA441-FF52-4A39-8E79-82ABE6BE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F192E-6965-40AF-A9D7-D6C9FF3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23CE4-B2E3-4DB3-BA8B-84033F4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CA82E-58B9-4370-9F02-304DF73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DD4AC-DFEA-4235-92E5-3EC8EAC4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29623-0D43-4BB4-9372-4D97E8FC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463B-4B26-4599-BC4B-CA5A0327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D2F8B-B06F-4AD7-90CB-A354E4C8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48A4A-E225-4B1A-B401-27A211CB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A25BB-F2D6-48D0-B51A-3EBD1A6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FB22D-EB42-4E8D-98EE-64B9C98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B8482-4989-466E-AF15-2AE79560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12F74-CB5F-4C25-AD4C-3AFB1CC6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8266C-4360-449B-81C4-73302E17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1CD48-CCB6-4E3A-8844-A698773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79E52-DF54-4A86-A8B7-307900F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858A9-8A99-43B5-97EB-744357C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F8BF-765A-4BE1-BB1A-CC15ECB2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09686-701B-4A78-B58E-2E4693D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F55D4-A397-42A8-B222-4438CE44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96AF6-15AD-4BF4-B90B-44C58784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05F4FA-C016-4018-B486-2BE2F898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6908FF-DE88-408D-8B55-0471582D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AC4518-2508-4C2D-A421-90907A0A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F0BAB-6D6C-4479-AB5C-2A2FD6D4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5251C-6626-4FCD-B290-5AE5691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361C3-8ECE-4D73-BBC3-3CC0C7ED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FCB88-2A93-4F19-9637-5ED271E0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85D5-20E1-4EDB-861E-30721E30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D8F91A-4867-4746-AFFB-DE16F16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8DB95-D015-4017-AE60-4B54528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160A86-AD99-4B5B-B94E-7909E2E2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7C9340-81DB-4090-B392-3E075D19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F6F45A-1907-4C91-8510-FBFCEED8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432CD3-0B94-4261-B5E6-C261D4BE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7BF90-B0BF-4C08-911A-6339E7D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698F9-E5EA-4925-B790-DF84F0A3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E2575-A1E7-4DA8-8D06-8F971599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9B088F-0012-4091-95C6-0DEA6A3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6A72-E384-435C-B2B6-806B73A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FB62A-F655-4662-ABB9-E1031642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5B4C3-A6EF-4D9F-A5BD-37C442D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51DE4-763E-4BA0-BF76-D7CCDBE9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70D882-2CC9-4A43-B5E0-68B790B8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5A24E2-550C-4E08-A88A-93699B55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406D9-312C-42E6-A64E-AAB50D72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D84E5-9704-4833-9492-1F8DCBB0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AAA11A-9E8E-4F9D-94EE-9964D2BB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4F94D2-F784-4323-A871-32501D6A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723374-64B1-4E7B-8E6B-C4B2A037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C7F8-CE36-411F-A49E-9942E53E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128C05-0545-42E8-8B43-89ABEBA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C49D93-F3D1-4D37-899A-4895EC1B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9717EE-41A8-4879-8899-D5696747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A685E2-AF8F-4352-9682-5A9BCE9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386060-DF78-42FF-A17E-599438E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203281-7322-4DB3-AD05-7110827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A9CB1-7408-477F-97AD-CA4DAD4F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24E51-D85B-43FD-BDA1-583934CD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89E0FD-A51D-44DC-869B-42A41015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41102-E8AB-4EA5-BB4B-9E385FC2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07AB-55EF-4038-A460-C2BEDE6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EEB9E9-7FEA-40DC-B341-AE0569A5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0C1616-4682-4029-872C-32961D8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1CAC7B-4461-4E1E-B6DE-26C66492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C61CF4-A80D-491D-AC5D-59217D7A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AE377A-560E-4E64-9AE0-74703686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39FF22-18A4-444F-BA5F-34EC925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8B87FE-8C59-4044-B86E-1B293F3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408F9F-243F-4838-8740-AB66A1B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3F3E9B-EFD8-4D2B-9AE2-39BBACF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C1F26B-8E13-4001-A71D-FF8BB9D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4CB-8E39-45CF-B5C4-AAAE8A4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AA73-4DD5-43DF-B056-062991C4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B3DFC6-BF5E-457C-9FEB-AEE8D362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4A0655-FF12-4C3B-86C0-EAFA97D8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C7F1EA-D69E-4980-8BCA-4E74BAF3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2E446F-074A-430E-8B10-216210D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378155-5872-4B3E-97F4-CBB2C88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0623DB-83C6-403F-892A-3C3C9BC7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1B659A-656E-4BBF-BAC2-C12C0816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257C8F-463B-4A66-851F-D4BFFA0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DF0CB-B518-4111-B98B-7E0E9F7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64D6D3-53F3-4659-ACEF-D657AB4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5018-1362-4556-AEBE-847EDD8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AE971-2241-4EEB-B7FB-94A8CF7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5783EF-0FDA-4047-8C6F-6CBAEE39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7BFE6E-07AB-41DF-9745-268C38DA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859A81-DC9E-4484-A9F8-36BDD3F7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C82DB7-8CA8-4AD1-9CC5-902BABFF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7A980F-18C8-457F-89D9-24623511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00C917-B14C-4B39-9506-C1756C6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30000C-D419-47BE-BCAE-6A8260B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B4E97F-9651-409C-8828-000B350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818827-209D-47F7-9862-0A02EE9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D481-90F4-4547-8940-06652B61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763AD1-9D27-4A64-A542-DDAE371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FBC13-A208-49DB-8004-3642406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4C57E8-9508-4839-8830-40992F5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3912E8-1139-41C9-A306-E2C20049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31BAFF-6397-4EE7-95BE-7A1BF29A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9A0ED4-6649-4E86-A285-94CE4B1E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705095-6458-4BA9-90FC-8E3A99F7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852EC8-C210-4084-9B21-DAD8F366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EFE665-F6D1-4464-9E3A-98C5E97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DB6961-0B2D-4786-A3EB-034B5E42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148E-8326-44D5-B394-C4E5EFE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CB07BF-4D4F-4B29-9F30-4A8FA0A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326A3A-67FA-4276-A0B6-3418BB0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1AA8E8-230F-4FF0-B647-2C54F84C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D5014F-68CC-49C1-B634-26A221CD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F84ECE-5C71-42B5-A475-E082F87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0BD4D6-3714-4887-B44A-441CFA6F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4EAEF4-8DC2-43C4-A830-3B21DF69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C03732-02BA-42D9-ABC4-43195E99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C5F451-8299-4234-A7FD-27D8153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280B43-ECD8-46D7-873D-24616495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B4AF-0919-4476-93CF-34661D0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B96001-7891-429E-880D-C48E3C2B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F85FC3-1077-49AD-860A-33AE00F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BC6C5C-31F9-4574-977F-53356A82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853E2F-F1E5-47F6-B699-CB6ED2B4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C1C0D6-2DDA-46F7-9343-EE7A68D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B46D24-F715-4078-B22B-C49F4D0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2596CA-5EDD-421D-943F-9D4FC6F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12856F-0DB2-4FAD-AD1F-8366C6AE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B650AA-2CF9-4CC5-A6C7-4D5722BE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8D32C6-D2B9-4E11-8B96-5ADA996B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1FBE-0936-43B9-BE64-BE1EE845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FE59BA-8BA0-46DB-B382-6BEBC521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7D925C-C8BE-4359-8D5B-3AA4D85B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64D945-32CF-4C01-B3C3-38893D19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ED01B2-8C34-4C29-875E-B720ADE5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FDF97E-95F5-46E7-B8C3-65CDD20E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940C40-6481-4F46-BCE8-E6A1ED4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2B7933-A51C-408A-8525-A649A9AE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FADC84-4077-466E-86CE-14E8A3A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70147E-803F-4C4E-9BB0-73BCC6C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8EF8E6-0C30-4676-B6F4-A121CA5C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4BC6-A98D-4927-9157-63123917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9F3E77-6AE8-4F0E-A17F-A2057553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512A16-65D2-49FE-A828-87BE3306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2F7AC-E097-446D-B5CF-45E34DD9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4DF963-FD8E-468F-AA22-7BCD12A8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EFB28E-1680-4D73-A00B-B457CE76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FC8E6C-C404-4973-A7DA-1F1D1F6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AC1BA0-A42F-423D-8818-13449F94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5EE7BE-1DFD-4CBC-8BE1-4987F76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C031C3-13A4-4154-ACC1-B6774DF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9BC6D1-50D0-42FF-B923-729BA80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CE45-C057-486F-AFC2-8E468044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2A333F-AC8E-4A3B-ABDF-B61D929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471B91-EF5A-4F2D-B918-D775B154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053E1C-73B7-4490-AEC2-A5CCCEB5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0B422E-D31E-4ADB-BAD6-786F4DB3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2CE823-1B8D-413A-A887-B6058139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723EDD-3E61-49CA-901D-15077092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75ED3F-FB08-4CEB-A070-7F180FE9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C21250-A1F4-45B3-ACF1-7CBBA22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8DDB29-F5BD-4E23-B975-63A25FC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B8AD84-1D9A-4151-AE85-5EB9F86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9883-00C2-4286-BABA-7C65F754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02BC6F-BE67-4EE5-BFE8-454C96A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FE3DB3-34E2-4A79-8855-D15DF87E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8D785F-789C-41C1-949C-B53B006D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4990DF-D110-42DD-A3C0-730C45D4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BB5CC5-3A20-4FCA-86EA-98F8C264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72A968-D59F-4FC1-A502-69492FB3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F7DEB3-61B5-4F10-899A-8BE3392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8F34E8-FD38-447B-906D-1A40EE8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4E669E-3D28-4AC2-9639-159D7D59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119E3D-6386-411D-B581-375F898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DA4A-0A02-4A4D-963D-C6A3A6E0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4157B0-07CB-4C54-B001-5C68EC19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9A5D23-D68C-4507-8698-68994ED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C0C0D9-8FDE-4D13-B478-81C59664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18E96D-DE8B-4BC4-9F6F-CE0E935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D46D28-088A-4900-BFD6-C30B32D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BDD2D4-6270-461B-BEBF-F099B26D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A43350-137F-4A92-8B0C-ABB4718B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CAB68B-63BD-4FB5-B664-AC4AD10E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913757-B076-48C7-B36F-BD4CC41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9C5118-54E5-4E62-BCB0-8F01028C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915-A08F-4864-ACDE-318471C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F4F9-563C-4DDD-83ED-8A512BC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FF5EA6-BB6C-4E2A-9A63-99085D2B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2C33CF-225B-47A5-A795-F8A84E7B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B176A7-B3AB-437E-BB08-85B8B21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6EB5D6-3D77-442B-9AC0-5F55345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DA6BE2-5B0D-41EF-96B1-32CF57E2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411018-F762-4F59-87A5-E59D308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01DC77-1584-43FC-9772-01FFEB3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92E459-5E97-438B-8DF5-46AED642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4FD136-19DC-4844-834A-FCB106A3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0D094D-0414-41A3-B5CB-390B2952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6F00-F753-4857-B08D-A666409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0BE581-8CCB-43C9-A5EB-5C22947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ADDA32-35A3-48A8-83DC-E1DA410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F500AC-0D22-488D-9895-04A4E632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C7CD89-979B-4AE3-80B9-D5CA1FB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328CD9-D71D-4223-BACC-33FE7824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F3E3FF-E8D6-4DAB-A4A1-FA4F0C6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1ED142-4A10-4944-9EA0-85B3DDE4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D59977-119D-443E-8257-6A69040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3FA8E1-7320-4804-BFFA-9CAA0EA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759C22-5F1A-49C5-BA48-81E5A87A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BE8C-CF8F-4E0F-8766-A90199B7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D50C05-7170-4F5D-B3F6-D48E96E7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3E8D4F-09BA-4B0A-B567-50703F0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DC4F58-11AB-4EDB-B108-B1B8311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79ABAA-EC59-4E8D-B443-71AAABA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B67738-E903-4228-891B-C7FF7733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50E3A1-D77E-49A7-9765-46C5408A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90D912-3B54-4B8C-AD17-B68828E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7B8403-5A76-4893-A788-0CD588B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ABA69B-06C1-470A-8364-7757C024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446FCF-8998-4345-929C-2B2803A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E996-C68F-476D-A1E4-02B7C39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AC6B4D-53A7-43C1-96AE-885356A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B542DF-D964-4721-BB05-88FF7D95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B7532C-7BF3-4A45-9FAD-229BA8B0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AD2528-DE42-4773-B07F-95BB0A6C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EE98E3-0752-4FE7-B5AF-89176C6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D61A2C-4B69-4F01-81D0-5EAF968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C118D9-DC18-4E32-9BE9-328AAB7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E3460A-8565-45B9-94E4-8BA548C5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741B3B-10A8-45BD-A2EB-9C47A61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28FBE0-B469-481D-9EB8-A8955B9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8170-82EB-4AF3-BE7C-1B7E395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BA004E-3D42-47BE-AC7F-E86EBA7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F94505-9737-40A8-96EA-AD1A957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05808D-EC0A-4180-A630-E25B7E17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B14387-CE41-45E0-9F74-69B161CD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021EB1-562D-45A9-AA40-8550E208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641409-1369-4C02-BE25-B09036AC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DAA773-F3D4-4059-8099-E539A37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E00267-1526-4769-AAF4-F83CAA0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989D8A-71B7-4363-B205-70EAD936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1AAF70-DD18-4632-86BD-3D69797F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DF10-9D04-4FD5-B57A-9167593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1B64A6-11A5-4614-ACE6-202EFE2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E19A56-8F63-4FCA-8912-22DA74D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0E08E6-DAA5-405C-BDF6-EC13B3A0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C04797-7735-43B8-9E39-8391E59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F268B6-61DE-4BA6-801E-54CC07A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3A4BFD-A35C-4E72-BD21-D6B7FC31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40506E-EB4E-4A96-815D-02ABF9B3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EC8316-4558-49D2-90B1-671049FB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68F2A3-6BAB-4264-9141-8C61417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07EFB3-D741-40D2-BA14-5A428C3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AEB9-2DC6-4B9E-93DA-B52F0B4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394F40-C97E-4A0A-8F3E-E108A671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571D79-F8BA-4063-A710-CA2416B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9170A3-7DAE-4183-81CC-EF8AB58D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B1E8E4-2C8D-42FC-B2F1-966309E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914691-2389-49D6-89B0-602C248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2AE511-6BE0-4A21-BD6F-21805C7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805657-6E6C-4BA8-9C5C-0BE7A5E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FE349D-DC17-4DF8-9C7C-845111E4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0561EF-49BD-4994-82DC-491856E6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1C88F4-12C7-4962-876C-09B24C3C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8765-0F72-49C1-8C67-CB8A226D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0DA159-5AE5-4927-9D47-37F49C0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3B4B57-5AA5-4530-B5AA-AC647B3E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4BFC92-1EED-4E4A-B877-B1F2CA86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6805FE-7BF8-4B46-A768-8898905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A3E227-FFAF-41A6-BDD1-2BCA3A4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F1B2EE-137F-442F-85B8-C867F3B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94EC93-F358-4D5A-B597-F9E1BEA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E40E9F-F896-468D-B5E0-F87F6D4B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A915B3-9B40-4E60-AF7B-87F2169D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C208CE-0120-4B81-A454-3DC04865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9F27-52AA-42D5-8906-C9005826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874F2A-C421-400C-94F8-3EE38A7B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C4A0B3-A095-46F0-A002-2F42710C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E112AF-FBFA-4F99-B664-4730B98F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B46A21-6A59-4B7C-962F-A6ED1966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108717-4503-4F1A-894D-C3E0F45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7B44B1-BD06-4628-98AE-B47189B6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23E0BE-A1F3-45B3-B553-51A45D3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79E969-9696-4680-9D7D-08CEAC6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AAA77A-90AB-4E35-BF8F-60A705E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F99403-5F47-450F-82CE-C0C67EC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7CCFF-48BD-42CD-B9B6-BC178827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8C2E6E-B9D8-4750-89BC-94343768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F966F2-1514-4707-BD3D-5D3DBE75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E3AB5D-28A4-4627-A673-AAF7475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493B7B-EB61-4595-94B5-C9F85479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C69109-4DCD-4A7E-A4D2-7C0BA1CA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F7AEDF-EDF9-4EF6-B55C-18C23EB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432DFC-B104-4492-A7E0-4A2EEAD5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028A24-2692-471B-B5B4-3906835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5D042A-3EA3-40F5-BD6C-F81C502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2C54C6-8FCB-4D9A-88A0-ACEF85D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3A3-A99E-4289-A32C-4E3EF201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2425-37F8-4352-9296-0F6B51A8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13ED42-E6FD-4900-B612-152FDF8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CC483F-3694-4051-A29A-4024C38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945B67-7FFF-4887-BBED-DB67EA3B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0F37D7-55D9-4135-B10A-B119ABF5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B852BD-E479-4194-83D1-1C54E035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80DD6E-EE50-4BF3-B809-05B32D2E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28A6A1-F139-4EEB-960D-A915F4C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9A0334-9CE6-4BBF-99F2-6D20648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02D260-0254-43B9-A959-64A83AB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B5343C-1696-426D-AE75-289DA48F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92F2-F3E6-49E9-8417-1F6B2D73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8B2416-E95C-4324-81B5-FCBD8B3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E91BED-A9BD-4916-95E8-5CD19DE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2B185F-DBE3-48D1-A954-791C085C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F4225C0-B27D-4C3B-9C9D-5D43115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D6D44A-7386-4D67-9D5D-9F2347AA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11CEC2-9004-4959-811A-97B62FC5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A38D75-833A-4B0D-AE88-625E13E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65769F-D6C6-4A3F-BDAA-80434FB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AFF756-6747-4EC0-9E2F-1212B41B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2E443B-BF62-4CCA-88D5-A04DE19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65CB-A6BF-4106-AD30-F1A1257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84ADF7-5998-443C-8213-0041007A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2FA8E2-28AA-4E03-A4F0-FDBEC24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D60B7D-6E26-4CD9-A71F-E35F3361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D201DB-E467-487A-A25E-BF2E9FA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E9E03C-A7FE-4898-9BEB-3087601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28ADB2-C781-4881-BEB6-E6387D3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751D90-D78C-4B58-8212-826296E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22A3B2-0429-4D92-94FE-9B3EBDF1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99A078-8013-4441-AB6B-26A686A9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4245-CC02-4C04-AB6F-5D2787C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57B0-C678-4254-B622-37C8A5C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B8CA-27F8-44E9-8C87-9DB6116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B96E-6DA5-4608-95CD-663D3DA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6D8DC-B670-489E-8462-2645986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3EC4-D4D5-49CC-9573-D693D5C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E633-9344-4070-8906-B0493E59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559-9D77-4E46-A060-729680BC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8255-F734-4E23-B494-DFBB5228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44F2-2F77-458D-845E-8B584CF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9D03-158E-4422-B4E2-43DAF3B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355D-5564-46A1-BD77-86A9E21C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ABDB-88B7-430C-A7C4-E623B286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2E1C-40AD-4D69-A49D-F9EF364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82F5-CC31-402A-8C37-13880741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9B3E-2A2C-4D44-8966-3F8C73A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063A-56BD-44F7-A3EE-54D2FED8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12D1-CC8D-4BE1-A273-3FC26B9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008-0B71-470D-972A-082048C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B366-EE83-4BB8-8852-07A10B80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16FA3-8695-4E0D-A68E-E16E8B44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E6F6-69E1-48DB-99FC-BE26FC0D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2BAB7-8C37-4221-8CCC-C130C7E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FE6D-6B55-4EEB-881A-E70D430A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572A-1B0B-4E22-9773-3E3177D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083C-7F4F-4F01-BEB0-2037AC16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F095-0387-4B15-A81A-5DC003FD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A1E7-2F9A-40E2-85D2-3C95B596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B552-FB3C-4867-A7E4-9086C51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2B2-AA3E-4C87-9093-51CBD49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A4209-8ADD-4058-B773-9EEBEF9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F5429-F1ED-4F72-84D3-3C51617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A476-C383-4645-952C-EF60493F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BF38-07CC-4305-981D-A4F01869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571C-B4A5-40B3-B039-97D0FA57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5FD82-74A1-46D4-AA70-26C07EFB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D1828-CA17-4262-A807-92C70D9C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1F0F-D4E1-438E-B4D6-9AD76532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77842-7142-45E7-95B4-BD59967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592E-EDD8-404E-BBDB-C974A439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54A-E9AC-4D31-84DD-AB1E114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8B365-EC3D-499D-A5E7-C82B59AD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03EE6-88B9-4BAC-B375-0791114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AF3F1-B59B-4A90-A15B-6416EBC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199F-4C19-4771-AB0C-D3EB237E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0C6C-797F-4800-91A5-754B77F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5266F-FEA2-4B9A-BDBB-91FE6DC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91EB1-4BF9-45F2-88B1-3DB77B51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B0C12-5BD0-4645-910B-7B2690F4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A1941-736A-478A-94D6-1F7B2ED2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AFACF-3D09-40FC-8DB5-A7DA3E7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F89E-FA82-457C-B241-3239DFD113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E66-6B33-4711-81DB-FC778C80C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677-0D3D-4DA6-8218-8CBCFBF72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732F-77D4-4227-9A4F-5DF95493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4F76-2B18-4523-AF0A-2BFFB6F4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7141-8BC9-4050-A3FE-9D9235E5E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E194-D73C-4EC8-A7AB-0797B2D46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338-A353-4B88-952A-112A33A4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240-EA5A-425D-AC18-53D765AD7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56AB-AEE4-4EA3-A0CD-3779593A4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A2E-2051-4909-92FC-165BDE279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6DB5-DE8A-43D5-B510-C15154676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2D48-BB4B-4F00-98C7-02A833C83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D89F-343C-4432-981C-8FBC56E7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9FE-CB01-4630-915E-0F8DB0057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4D2-0F75-4910-A0EA-9464F8F71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E0E1-D823-4C21-AEE0-95AF4E304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D29E-DE92-4960-81EE-F9E07D439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4402-ADD9-4AD9-848D-8EEE47C1F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433-923E-46C6-8469-6D07303D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306A-977A-4BB6-872C-6D3C6A9D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9AC1-C189-4F07-A71E-ECD8CD2B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465-7708-4807-B557-9787D228F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A8F1-81D1-4722-A7B9-154E17772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E8FF-2FF6-4CD4-AFD4-E7823C43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D79-DBCC-4156-9EC3-7B4F2644D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E196-769C-4C1C-ADED-6D504D7BE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3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74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A9BF-DFE1-494F-B604-729B223665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97F6-59C1-4063-B360-EB1E855B41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8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69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1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 type="dt" idx="10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 type="ftr" idx="10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 type="sldNum" idx="10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36B8-BB93-40B2-81AD-46BFA0B913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0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DF5-874E-4F73-B464-5707C791D2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C53-095F-48DA-9FBD-8B9A9AB6B5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60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7AFA-CCFC-427B-AE38-88757FFC993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141-BD02-4642-A05F-A2722C1C0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1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1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1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1750-6180-4A06-AA8E-836D90F691B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1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1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1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6D7-EDFF-40C7-A601-E680A93209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3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 type="dt" idx="1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 type="ftr" idx="1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 type="sldNum" idx="1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62D-5163-42A9-8DD9-1F7514FF6B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8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2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2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2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32C-AF4A-4736-9CCE-EA80A16C6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83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3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3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3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566-86D2-47FC-922C-BA25FC3AF1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03DE-2838-46AA-B89F-4E54BFA9B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C6D-449B-4BC2-9936-4F6FA008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5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93F-BC22-4145-8B6B-5D0B0BC1CD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97B-7265-4382-9CE7-75981A62CD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B37D-8CC5-4E05-AA1E-FAA62D84B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apos;&#1058;&#1080;&#1087;%20&#1048;&#1075;&#1083;&#1086;&#1082;&#1086;&#1078;&#1080;&#1077;&apos;.%20&#1053;&#1072;&#1091;&#1095;&#1085;&#1086;%20&#1087;&#1086;&#1087;&#1091;&#1083;&#1103;&#1088;&#1085;&#1099;&#1081;%20&#1092;&#1080;&#1083;&#1100;&#1084;.mp4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42840" y="134568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Биология. Животные.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7 клас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Физминутк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893" name="Picture 2" descr="C:\Users\user\Desktop\0011-009-.gif"/>
          <p:cNvPicPr/>
          <p:nvPr/>
        </p:nvPicPr>
        <p:blipFill>
          <a:blip r:embed="rId1"/>
          <a:stretch/>
        </p:blipFill>
        <p:spPr>
          <a:xfrm>
            <a:off x="2575080" y="1792440"/>
            <a:ext cx="4047840" cy="4606920"/>
          </a:xfrm>
          <a:prstGeom prst="rect">
            <a:avLst/>
          </a:prstGeom>
          <a:ln w="0">
            <a:noFill/>
          </a:ln>
        </p:spPr>
      </p:pic>
      <p:pic>
        <p:nvPicPr>
          <p:cNvPr id="1894" name="Звуки природы_-_Морской прибой.mp3" descr=""/>
          <p:cNvPicPr/>
          <p:nvPr/>
        </p:nvPicPr>
        <p:blipFill>
          <a:blip r:embed="rId2"/>
          <a:stretch/>
        </p:blipFill>
        <p:spPr>
          <a:xfrm>
            <a:off x="8375760" y="62625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520967" fill="hold"/>
                                        <p:tgtEl>
                                          <p:spTgt spid="1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Задание: заполнить таблицу «Тип Иглокожие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1896" name=""/>
          <p:cNvGraphicFramePr/>
          <p:nvPr/>
        </p:nvGraphicFramePr>
        <p:xfrm>
          <a:off x="0" y="1825560"/>
          <a:ext cx="9144000" cy="5033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677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ие лил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ие звез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и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ие 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677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677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Тип Иглокож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99" name="Рисунок 4" descr=""/>
          <p:cNvPicPr/>
          <p:nvPr/>
        </p:nvPicPr>
        <p:blipFill>
          <a:blip r:embed="rId2"/>
          <a:stretch/>
        </p:blipFill>
        <p:spPr>
          <a:xfrm>
            <a:off x="739800" y="1409760"/>
            <a:ext cx="8143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Значение Иглокожих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в природе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вобождают морское дно от органических останк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Являются пищей морским животным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для человек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Морские ежи и их икра имеют промысловое значение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анцирь морских ежей богат фосфором и кальцием, поэтому перерабатывается на удобр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екоторые виды голотурий под названием «трепанги» употребляют в пищу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екоторые ядовит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Оцените утверждения</a:t>
            </a:r>
            <a:br>
              <a:rPr sz="3900"/>
            </a:b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(да или нет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969840" y="1820520"/>
            <a:ext cx="788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се иглокожие живут в морях и океанах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а иглокожих: звезда, шар, циліндр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глокожие имеют двустороннюю симметрию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се иглокожие раздельнопол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едставители имеют известковый скелет 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рские звезды дышат жабрам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905" name="Picture 2" descr="C:\Users\user\Desktop\devostchkazapartoj.gif"/>
          <p:cNvPicPr/>
          <p:nvPr/>
        </p:nvPicPr>
        <p:blipFill>
          <a:blip r:embed="rId1"/>
          <a:stretch/>
        </p:blipFill>
        <p:spPr>
          <a:xfrm>
            <a:off x="3732120" y="4160880"/>
            <a:ext cx="2497320" cy="2450880"/>
          </a:xfrm>
          <a:prstGeom prst="rect">
            <a:avLst/>
          </a:prstGeom>
          <a:ln w="0">
            <a:noFill/>
          </a:ln>
        </p:spPr>
      </p:pic>
      <p:sp>
        <p:nvSpPr>
          <p:cNvPr id="1906" name="TextBox 4"/>
          <p:cNvSpPr/>
          <p:nvPr/>
        </p:nvSpPr>
        <p:spPr>
          <a:xfrm>
            <a:off x="1138320" y="1585800"/>
            <a:ext cx="696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ть параграф 1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 по выбору: подготовить сообщение об интересных особенностях иглокожих, пользуясь дополнительной литературой, составить презентацию, 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975960" y="671400"/>
            <a:ext cx="7886520" cy="8114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удрая притч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878" name="Picture 4" descr="C:\Users\user\Desktop\vorochat-kamni.orig.jpg"/>
          <p:cNvPicPr/>
          <p:nvPr/>
        </p:nvPicPr>
        <p:blipFill>
          <a:blip r:embed="rId1"/>
          <a:stretch/>
        </p:blipFill>
        <p:spPr>
          <a:xfrm>
            <a:off x="1434960" y="1677960"/>
            <a:ext cx="74995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 txBox="1"/>
          <p:nvPr/>
        </p:nvSpPr>
        <p:spPr>
          <a:xfrm>
            <a:off x="1008000" y="910800"/>
            <a:ext cx="813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Магический лабиринт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014120" y="8319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Тема урока: Тип Иглокож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881" name="Рисунок 37" descr=""/>
          <p:cNvPicPr/>
          <p:nvPr/>
        </p:nvPicPr>
        <p:blipFill>
          <a:blip r:embed="rId1"/>
          <a:stretch/>
        </p:blipFill>
        <p:spPr>
          <a:xfrm>
            <a:off x="969840" y="2332080"/>
            <a:ext cx="3954600" cy="2887560"/>
          </a:xfrm>
          <a:prstGeom prst="rect">
            <a:avLst/>
          </a:prstGeom>
          <a:ln w="0">
            <a:noFill/>
          </a:ln>
        </p:spPr>
      </p:pic>
      <p:pic>
        <p:nvPicPr>
          <p:cNvPr id="1882" name="Рисунок 58" descr=""/>
          <p:cNvPicPr/>
          <p:nvPr/>
        </p:nvPicPr>
        <p:blipFill>
          <a:blip r:embed="rId2"/>
          <a:stretch/>
        </p:blipFill>
        <p:spPr>
          <a:xfrm>
            <a:off x="5149800" y="3792600"/>
            <a:ext cx="3714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Цель    урока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852480" y="2506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Изучить строение Иглокожи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ознакомиться  с многообразием Иглокожи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Узнать значение Иглокожих в природ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и для челове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886" name="Picture 2" descr="D:\Иглокожие\0252371261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008000" y="274320"/>
            <a:ext cx="79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           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Форма тела Иглокожи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888" name="Picture 2" descr="C:\Users\user\Desktop\mediapreview.jpg"/>
          <p:cNvPicPr/>
          <p:nvPr/>
        </p:nvPicPr>
        <p:blipFill>
          <a:blip r:embed="rId1"/>
          <a:stretch/>
        </p:blipFill>
        <p:spPr>
          <a:xfrm>
            <a:off x="1082520" y="1447920"/>
            <a:ext cx="80614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нутреннее стро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890" name="Picture 4" descr="Внутреннее строение морской звезды"/>
          <p:cNvPicPr/>
          <p:nvPr/>
        </p:nvPicPr>
        <p:blipFill>
          <a:blip r:embed="rId1"/>
          <a:stretch/>
        </p:blipFill>
        <p:spPr>
          <a:xfrm>
            <a:off x="1251000" y="1322280"/>
            <a:ext cx="75564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Рисунок 10" descr="http://school-collection.edu.ru/catalog/res/000007d8-1000-4ddd-b2a4-2400475d4f08/view/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2:52:24Z</dcterms:created>
  <dc:creator>Инна</dc:creator>
  <dc:description/>
  <dc:language>en-US</dc:language>
  <cp:lastModifiedBy>user</cp:lastModifiedBy>
  <dcterms:modified xsi:type="dcterms:W3CDTF">2019-10-15T20:24:56Z</dcterms:modified>
  <cp:revision>10</cp:revision>
  <dc:subject/>
  <dc:title>Презентация PowerPoint</dc:title>
</cp:coreProperties>
</file>