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E48-CCEB-412B-BA55-A5CAC4A3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20A-F824-4358-9F10-7088E30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1D3-70D8-4AEB-A0E4-7A218694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532-81EA-4BAF-8D5F-A3E41B8E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09B5-223C-4A2E-AF23-949A01F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9486-5106-4482-BA67-F16763C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749A-ECBD-471A-B247-55A9C88F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8153-182E-428E-9971-D90760A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2B06-4978-4D5B-BFA3-D8E09BC1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E483-B3AD-40A2-8C6E-29EB8A4E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2DD0-66DB-46A7-81EC-C514CD3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E74-733D-4D4B-9BA2-D8236BC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5232-4816-4ADD-A7EE-E041CB1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0BC0-300C-4C0C-91BF-F773FBF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6818-2589-4C8B-BB67-72891D2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6924-5B89-4142-8F49-289D7671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C70-BDAB-4846-915A-30D01AE5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812-D029-4C97-8B76-5F6A1D03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F7C-33D4-4AB8-97AB-B0410DE9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D3C-FE1E-40F5-B295-2DE0965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1C8-F8A2-4148-B294-BD25E20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5B5-B659-45B1-A751-EBB107B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A67-0C93-4474-ADE8-FB601EF8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130-3955-4C99-B2F8-ED4680D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8115-60FE-44B8-AE68-6D6903187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8D8A-30CD-42B0-A7A0-4AB6BFDA2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2843280" y="14130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МАЙ, РЕШАЙ, ОТГАДЫВ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0"/>
          <p:cNvSpPr/>
          <p:nvPr/>
        </p:nvSpPr>
        <p:spPr>
          <a:xfrm>
            <a:off x="1187280" y="3333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ЗАГ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971640" y="1484280"/>
            <a:ext cx="514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живает в водоём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ом пятится в проём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усатый и глазаст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аришь - станет 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s://fanfishka.ru/uploads/posts/2020-02/1582903503_procambarus_clarkii_pink.jpg"/>
          <p:cNvPicPr/>
          <p:nvPr/>
        </p:nvPicPr>
        <p:blipFill>
          <a:blip r:embed="rId1"/>
          <a:stretch/>
        </p:blipFill>
        <p:spPr>
          <a:xfrm>
            <a:off x="5580000" y="441360"/>
            <a:ext cx="3132360" cy="208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1890360" y="4076640"/>
            <a:ext cx="526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ие факты о раках встретились в зага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ой факт не соответствует ист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помните, кто сообщил нам эти фак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 какому классу относятся ра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310120" y="2492280"/>
            <a:ext cx="45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  <a:ea typeface="Calibri"/>
              </a:rPr>
              <a:t>РАКООБРАЗ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857160" y="12351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ьте все возможные слова, используя буквы этого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187280" y="33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ПРОВЕРЯЕМ 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s://web-zoopark.ru/wp-content/uploads/2018/06/4-121.jpg"/>
          <p:cNvPicPr/>
          <p:nvPr/>
        </p:nvPicPr>
        <p:blipFill>
          <a:blip r:embed="rId1"/>
          <a:srcRect l="0" t="0" r="12394" b="9601"/>
          <a:stretch/>
        </p:blipFill>
        <p:spPr>
          <a:xfrm>
            <a:off x="5724360" y="4076640"/>
            <a:ext cx="2662560" cy="20178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38280" y="333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Calibri"/>
              </a:rPr>
              <a:t>В КАКИХ СЛОВАХ СПРЯТАЛСЯ 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  <a:ea typeface="Calibri"/>
              </a:rPr>
              <a:t>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1197000"/>
          <a:ext cx="6095880" cy="38401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52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2"/>
          <p:cNvSpPr/>
          <p:nvPr/>
        </p:nvSpPr>
        <p:spPr>
          <a:xfrm>
            <a:off x="1990080" y="1268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   А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970280" y="185436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   А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1298880" y="24638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   А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1970280" y="314172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   А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871440" y="37512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   А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3263400" y="44402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   А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4246200" y="126828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рак живет в  полной темн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4708800" y="196056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рак живет там, где ссор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5337360" y="26146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рак отправился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6009120" y="326376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рак пашет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6757560" y="375588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рак жи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гов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5994720" y="515304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рак обожает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1191240" y="1268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1209240" y="1854360"/>
            <a:ext cx="32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                 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3273480" y="246384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    Т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1209240" y="314172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                      Т    О   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1209960" y="37879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    О    Н   Т                     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1207800" y="442764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    Т    Т                      Ц   И   О  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7199280" y="4402080"/>
            <a:ext cx="7225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0"/>
          <p:cNvSpPr/>
          <p:nvPr/>
        </p:nvSpPr>
        <p:spPr>
          <a:xfrm>
            <a:off x="1042920" y="333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ОГДА ТАК ГОВО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062360" y="1386000"/>
            <a:ext cx="49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Показать, где раки зим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089000" y="2535120"/>
            <a:ext cx="47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Когда рак на горе свис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207080" y="381780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На безрыбье и рак - 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img0.joyreactor.cc/pics/post/full/%D0%BF%D0%BE%D0%B3%D0%BE%D0%B2%D0%BE%D1%80%D0%BA%D0%B8-%C2%AB%D0%9B%D0%BE%D0%B1%D1%81%D1%82%D0%B5%D1%80-%D1%81%D0%B2%D0%B8%D1%81%D1%82%D0%B8%D1%82-%D0%BD%D0%B0-%D0%B2%D0%B5%D1%80%D1%88%D0%B8%D0%BD%D0%B5%C2%BB-%D0%B4%D0%BB%D0%B8%D0%BD%D0%BD%D0%BE%D0%BF%D0%BE%D1%81%D1%82-%D0%BA%D0%B0%D1%80%D1%82%D0%B8%D0%BD%D0%BA%D0%B8-3938634.jpeg"/>
          <p:cNvPicPr/>
          <p:nvPr/>
        </p:nvPicPr>
        <p:blipFill>
          <a:blip r:embed="rId1"/>
          <a:srcRect l="0" t="0" r="0" b="4935"/>
          <a:stretch/>
        </p:blipFill>
        <p:spPr>
          <a:xfrm>
            <a:off x="5818320" y="2060640"/>
            <a:ext cx="1249200" cy="17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s://cdn1.vectorstock.com/i/1000x1000/30/20/father-punishing-son-vector-1843020.jpg"/>
          <p:cNvPicPr/>
          <p:nvPr/>
        </p:nvPicPr>
        <p:blipFill>
          <a:blip r:embed="rId2"/>
          <a:srcRect l="0" t="0" r="0" b="8458"/>
          <a:stretch/>
        </p:blipFill>
        <p:spPr>
          <a:xfrm>
            <a:off x="6804000" y="644400"/>
            <a:ext cx="1330200" cy="1781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s://avatars.mds.yandex.net/get-pdb/2497711/ea37bbb4-9f98-4134-8425-d660374edba1/s1200?webp=false"/>
          <p:cNvPicPr/>
          <p:nvPr/>
        </p:nvPicPr>
        <p:blipFill>
          <a:blip r:embed="rId3"/>
          <a:stretch/>
        </p:blipFill>
        <p:spPr>
          <a:xfrm>
            <a:off x="7236000" y="3284640"/>
            <a:ext cx="1595160" cy="1374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1231920" y="5229360"/>
            <a:ext cx="30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Красный, как 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https://i.ytimg.com/vi/TlfAodPQT8Y/hqdefault.jpg"/>
          <p:cNvPicPr/>
          <p:nvPr/>
        </p:nvPicPr>
        <p:blipFill>
          <a:blip r:embed="rId4"/>
          <a:srcRect l="4717" t="19948" r="2661" b="14656"/>
          <a:stretch/>
        </p:blipFill>
        <p:spPr>
          <a:xfrm>
            <a:off x="4932360" y="4718160"/>
            <a:ext cx="2117880" cy="1120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2348280" y="609300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го не хватает в моих предложен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"/>
          <p:cNvSpPr/>
          <p:nvPr/>
        </p:nvSpPr>
        <p:spPr>
          <a:xfrm>
            <a:off x="611280" y="48420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 все возможные слова, изменяя только одну букву в первом сл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    о    ч    к    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s://ds04.infourok.ru/uploads/ex/0eb7/000ca55e-6593fb34/hello_html_m42d0f9ff.jpg"/>
          <p:cNvPicPr/>
          <p:nvPr/>
        </p:nvPicPr>
        <p:blipFill>
          <a:blip r:embed="rId1"/>
          <a:stretch/>
        </p:blipFill>
        <p:spPr>
          <a:xfrm>
            <a:off x="1139760" y="3198960"/>
            <a:ext cx="1192320" cy="119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s://avatars.mds.yandex.net/get-pdb/1645430/7cd121ad-f0e7-49fb-9d47-549b817bfefd/s1200?webp=false"/>
          <p:cNvPicPr/>
          <p:nvPr/>
        </p:nvPicPr>
        <p:blipFill>
          <a:blip r:embed="rId2"/>
          <a:stretch/>
        </p:blipFill>
        <p:spPr>
          <a:xfrm>
            <a:off x="2936880" y="3187800"/>
            <a:ext cx="976320" cy="11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s://avatars.mds.yandex.net/get-pdb/1757027/ac5ac1e7-fd3e-49cb-9c6c-0c32a9012fd4/s1200?webp=false"/>
          <p:cNvPicPr/>
          <p:nvPr/>
        </p:nvPicPr>
        <p:blipFill>
          <a:blip r:embed="rId3"/>
          <a:stretch/>
        </p:blipFill>
        <p:spPr>
          <a:xfrm>
            <a:off x="4557600" y="3321000"/>
            <a:ext cx="1843200" cy="113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s://static3.bigstockphoto.com/7/1/8/large1500/81727025.jpg"/>
          <p:cNvPicPr/>
          <p:nvPr/>
        </p:nvPicPr>
        <p:blipFill>
          <a:blip r:embed="rId4"/>
          <a:srcRect l="23450" t="12901" r="18086" b="17942"/>
          <a:stretch/>
        </p:blipFill>
        <p:spPr>
          <a:xfrm>
            <a:off x="7318440" y="3187800"/>
            <a:ext cx="85392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s://klv-oboi.by/img/gallery/3/thumbs/31405-730.jpg"/>
          <p:cNvPicPr/>
          <p:nvPr/>
        </p:nvPicPr>
        <p:blipFill>
          <a:blip r:embed="rId5"/>
          <a:stretch/>
        </p:blipFill>
        <p:spPr>
          <a:xfrm>
            <a:off x="1220760" y="5051520"/>
            <a:ext cx="1233360" cy="91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https://i.pinimg.com/originals/b3/62/4c/b3624cf47917b14ab839d6c07a9802e9.png"/>
          <p:cNvPicPr/>
          <p:nvPr/>
        </p:nvPicPr>
        <p:blipFill>
          <a:blip r:embed="rId6"/>
          <a:srcRect l="34265" t="0" r="0" b="0"/>
          <a:stretch/>
        </p:blipFill>
        <p:spPr>
          <a:xfrm>
            <a:off x="3059280" y="5003640"/>
            <a:ext cx="1368360" cy="101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https://clipartstation.com/wp-content/uploads/2017/11/schubkarre-clipart-2.png"/>
          <p:cNvPicPr/>
          <p:nvPr/>
        </p:nvPicPr>
        <p:blipFill>
          <a:blip r:embed="rId7"/>
          <a:stretch/>
        </p:blipFill>
        <p:spPr>
          <a:xfrm>
            <a:off x="4884840" y="5049720"/>
            <a:ext cx="1515960" cy="1071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https://avatars.mds.yandex.net/get-pdb/879261/1546703e-078a-461f-984a-52ecb6c87898/s1200?webp=false"/>
          <p:cNvPicPr/>
          <p:nvPr/>
        </p:nvPicPr>
        <p:blipFill>
          <a:blip r:embed="rId8"/>
          <a:stretch/>
        </p:blipFill>
        <p:spPr>
          <a:xfrm>
            <a:off x="6683400" y="4892760"/>
            <a:ext cx="18493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http://cdn01.ru/files/users/images/08/01/08011e0433ae71f7039fc62a5512d090.png"/>
          <p:cNvPicPr/>
          <p:nvPr/>
        </p:nvPicPr>
        <p:blipFill>
          <a:blip r:embed="rId9"/>
          <a:stretch/>
        </p:blipFill>
        <p:spPr>
          <a:xfrm>
            <a:off x="952560" y="2990880"/>
            <a:ext cx="1566720" cy="175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http://cdn01.ru/files/users/images/08/01/08011e0433ae71f7039fc62a5512d090.png"/>
          <p:cNvPicPr/>
          <p:nvPr/>
        </p:nvPicPr>
        <p:blipFill>
          <a:blip r:embed="rId10"/>
          <a:stretch/>
        </p:blipFill>
        <p:spPr>
          <a:xfrm>
            <a:off x="2641680" y="2917800"/>
            <a:ext cx="1566720" cy="175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http://cdn01.ru/files/users/images/08/01/08011e0433ae71f7039fc62a5512d090.png"/>
          <p:cNvPicPr/>
          <p:nvPr/>
        </p:nvPicPr>
        <p:blipFill>
          <a:blip r:embed="rId11"/>
          <a:stretch/>
        </p:blipFill>
        <p:spPr>
          <a:xfrm>
            <a:off x="4695840" y="2990880"/>
            <a:ext cx="1566720" cy="175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http://cdn01.ru/files/users/images/08/01/08011e0433ae71f7039fc62a5512d090.png"/>
          <p:cNvPicPr/>
          <p:nvPr/>
        </p:nvPicPr>
        <p:blipFill>
          <a:blip r:embed="rId12"/>
          <a:stretch/>
        </p:blipFill>
        <p:spPr>
          <a:xfrm>
            <a:off x="6824520" y="2917800"/>
            <a:ext cx="1567080" cy="17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cdn01.ru/files/users/images/08/01/08011e0433ae71f7039fc62a5512d090.png"/>
          <p:cNvPicPr/>
          <p:nvPr/>
        </p:nvPicPr>
        <p:blipFill>
          <a:blip r:embed="rId13"/>
          <a:stretch/>
        </p:blipFill>
        <p:spPr>
          <a:xfrm>
            <a:off x="1054080" y="4708440"/>
            <a:ext cx="1566720" cy="175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cdn01.ru/files/users/images/08/01/08011e0433ae71f7039fc62a5512d090.png"/>
          <p:cNvPicPr/>
          <p:nvPr/>
        </p:nvPicPr>
        <p:blipFill>
          <a:blip r:embed="rId14"/>
          <a:stretch/>
        </p:blipFill>
        <p:spPr>
          <a:xfrm>
            <a:off x="2960640" y="4633920"/>
            <a:ext cx="1567080" cy="175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http://cdn01.ru/files/users/images/08/01/08011e0433ae71f7039fc62a5512d090.png"/>
          <p:cNvPicPr/>
          <p:nvPr/>
        </p:nvPicPr>
        <p:blipFill>
          <a:blip r:embed="rId15"/>
          <a:stretch/>
        </p:blipFill>
        <p:spPr>
          <a:xfrm>
            <a:off x="4835520" y="4680000"/>
            <a:ext cx="1681200" cy="175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cdn01.ru/files/users/images/08/01/08011e0433ae71f7039fc62a5512d090.png"/>
          <p:cNvPicPr/>
          <p:nvPr/>
        </p:nvPicPr>
        <p:blipFill>
          <a:blip r:embed="rId16"/>
          <a:stretch/>
        </p:blipFill>
        <p:spPr>
          <a:xfrm>
            <a:off x="6824520" y="4578480"/>
            <a:ext cx="15670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Наталья</cp:lastModifiedBy>
  <dcterms:modified xsi:type="dcterms:W3CDTF">2020-04-21T14:50:35Z</dcterms:modified>
  <cp:revision>240</cp:revision>
  <dc:subject/>
  <dc:title>Слайд 1</dc:title>
</cp:coreProperties>
</file>