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02F-C9BE-483D-81D7-028FB281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BDA-9D44-4BC5-9951-82A0D1BD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6BA-DBC4-44C5-9058-36EE472D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881-CB52-462D-9EB6-A6A20AC7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01B-62B7-4AF1-9393-668CE4DC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288-F086-4E3E-B229-63DFB693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DDB-E093-4199-B9CB-7ABD37CA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7CD-7692-4D1C-8624-7B48FECF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CE6-0362-449E-89AD-0337B1F7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273-19AD-40B9-BA36-E157A618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C86-88DD-4B5F-8A64-07B12ED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62D-28B1-401F-BCC8-7A8FF5E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D42C-43D3-437C-A5A1-949748215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glosum.ru/&#1047;&#1085;&#1072;&#1095;&#1077;&#1085;&#1080;&#1077;-&#1089;&#1083;&#1086;&#1074;&#1072;-&#1061;&#1091;&#1076;&#1086;&#1078;&#1085;&#1080;&#1082;" TargetMode="External"/><Relationship Id="rId2" Type="http://schemas.openxmlformats.org/officeDocument/2006/relationships/hyperlink" Target="https://glosum.ru/&#1047;&#1085;&#1072;&#1095;&#1077;&#1085;&#1080;&#1077;-&#1089;&#1083;&#1086;&#1074;&#1072;-&#1063;&#1090;&#1086;-&#1085;&#1080;&#1073;&#1091;&#1076;&#1100;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1 имени 397-й Сарненской дивиз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Аткарска Саратовской области</a:t>
            </a:r>
            <a:br>
              <a:rPr sz="4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следовательский проек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лово «художник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уроках русского язык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яся 6 класс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здова Алина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ьянова Мария Валерьевна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Цве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бедра испуганной нимф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бледно-розовый ;русское название заимствованно из французского языка. (В 18 веке во Франции этот цвет имел особую популярность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31859c"/>
                </a:solidFill>
                <a:latin typeface="Calibri"/>
              </a:rPr>
              <a:t>воды пляжа Бонд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зеленоватый цвет океанской во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лягушка в обморок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ветлый серо-зеле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s://ic.pics.livejournal.com/lazy_lazy/9855518/23249/23249_900.jpg"/>
          <p:cNvPicPr/>
          <p:nvPr/>
        </p:nvPicPr>
        <p:blipFill>
          <a:blip r:embed="rId1"/>
          <a:stretch/>
        </p:blipFill>
        <p:spPr>
          <a:xfrm>
            <a:off x="7236000" y="5187960"/>
            <a:ext cx="1908000" cy="164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26253476"/>
          <p:cNvPicPr/>
          <p:nvPr/>
        </p:nvPicPr>
        <p:blipFill>
          <a:blip r:embed="rId2"/>
          <a:stretch/>
        </p:blipFill>
        <p:spPr>
          <a:xfrm>
            <a:off x="468360" y="0"/>
            <a:ext cx="1332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Морфем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ень –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суффикс-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(указывает на название профессий, род деятельности), окончание –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лево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основа –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26253476"/>
          <p:cNvPicPr/>
          <p:nvPr/>
        </p:nvPicPr>
        <p:blipFill>
          <a:blip r:embed="rId1"/>
          <a:stretch/>
        </p:blipFill>
        <p:spPr>
          <a:xfrm>
            <a:off x="7667640" y="5118120"/>
            <a:ext cx="1332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Морфолог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   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Художник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мя существительное, нарицательное, одушевлённое, мужского рода, 2 склонения, изменяется по числам, падежа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26253476"/>
          <p:cNvPicPr/>
          <p:nvPr/>
        </p:nvPicPr>
        <p:blipFill>
          <a:blip r:embed="rId1"/>
          <a:stretch/>
        </p:blipFill>
        <p:spPr>
          <a:xfrm>
            <a:off x="7667640" y="5118120"/>
            <a:ext cx="1332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Calibri"/>
              </a:rPr>
              <a:t>Словарь худож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kinhelp.ru/wp-content/uploads/2016/06/218.Izobrazitelnaya-deyatelnost.jpg"/>
          <p:cNvPicPr/>
          <p:nvPr/>
        </p:nvPicPr>
        <p:blipFill>
          <a:blip r:embed="rId1"/>
          <a:stretch/>
        </p:blipFill>
        <p:spPr>
          <a:xfrm>
            <a:off x="3203640" y="1844640"/>
            <a:ext cx="3232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становить связь между материалом, изучаемым на уроках русского языка, со знаниями, полученными в МАУ ДО «Детская школа искусств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пределить разделы русского языка, которые помогут в достижении поставленной цел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 соответствии с разделами русского языка провести исследования в намеченной обла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одобрать материал для создания словаря художник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формить словарь худож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26253476"/>
          <p:cNvPicPr/>
          <p:nvPr/>
        </p:nvPicPr>
        <p:blipFill>
          <a:blip r:embed="rId1"/>
          <a:stretch/>
        </p:blipFill>
        <p:spPr>
          <a:xfrm>
            <a:off x="7667640" y="5216400"/>
            <a:ext cx="95580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онимание  и осознание связи между занятиями в школе и своим увлечением помогает развиваться и совершенствоваться  в обоих направления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Проблемный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Может ли увлечение стать помощником при изучении русского язы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26253476"/>
          <p:cNvPicPr/>
          <p:nvPr/>
        </p:nvPicPr>
        <p:blipFill>
          <a:blip r:embed="rId1"/>
          <a:stretch/>
        </p:blipFill>
        <p:spPr>
          <a:xfrm>
            <a:off x="7667640" y="5216400"/>
            <a:ext cx="95580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Школьный этимологический словарь </a:t>
            </a:r>
            <a:br>
              <a:rPr sz="3200"/>
            </a:b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русского языка. Происхождение 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удожник -заимств. из ст.сл. яз. Суф. производное от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хѫдогъ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«опытный, искусный»&lt; готск.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*handag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«ловкий, умелый», суф. производного от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hand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«рука».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Художни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буквально -«с умелыми рукам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2feafd617be2b33f63c267674b0e60d"/>
          <p:cNvPicPr/>
          <p:nvPr/>
        </p:nvPicPr>
        <p:blipFill>
          <a:blip r:embed="rId1"/>
          <a:stretch/>
        </p:blipFill>
        <p:spPr>
          <a:xfrm>
            <a:off x="5003640" y="1628640"/>
            <a:ext cx="3313440" cy="460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26253476"/>
          <p:cNvPicPr/>
          <p:nvPr/>
        </p:nvPicPr>
        <p:blipFill>
          <a:blip r:embed="rId2"/>
          <a:stretch/>
        </p:blipFill>
        <p:spPr>
          <a:xfrm>
            <a:off x="8028000" y="5613480"/>
            <a:ext cx="9558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Значение слова «Художник» </a:t>
            </a:r>
            <a:br>
              <a:rPr sz="4000"/>
            </a:br>
            <a:r>
              <a:rPr b="0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в словаре Д.Н. Уша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ХУДО́ЖНИК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художник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,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·му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. Человек, творчески работающий в какой-нибудь области искусства (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·книж.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. То же о живописц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. Перен. О том, кто исполняет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что-нибудь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с большим вкусом, художественным чуть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s://ds03.infourok.ru/uploads/ex/0f61/00007108-dbea8f31/img14.jpg"/>
          <p:cNvPicPr/>
          <p:nvPr/>
        </p:nvPicPr>
        <p:blipFill>
          <a:blip r:embed="rId3"/>
          <a:stretch/>
        </p:blipFill>
        <p:spPr>
          <a:xfrm>
            <a:off x="4572000" y="213372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26253476"/>
          <p:cNvPicPr/>
          <p:nvPr/>
        </p:nvPicPr>
        <p:blipFill>
          <a:blip r:embed="rId4"/>
          <a:stretch/>
        </p:blipFill>
        <p:spPr>
          <a:xfrm>
            <a:off x="7667640" y="5118120"/>
            <a:ext cx="1332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Значение слова «Художник» в словаре Синонимов 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Сущ.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астер, искусник, виртуоз, арти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2.Живописец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(портретист,баталист,маринист и проч.), иконописец (богомаз), скульптор, ваятел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900igr.net/up/datas/155547/005.jpg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328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26253476"/>
          <p:cNvPicPr/>
          <p:nvPr/>
        </p:nvPicPr>
        <p:blipFill>
          <a:blip r:embed="rId2"/>
          <a:stretch/>
        </p:blipFill>
        <p:spPr>
          <a:xfrm>
            <a:off x="7667640" y="5118120"/>
            <a:ext cx="1332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ПРОФЕССИОНАЛИЗ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. Мастихин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это тонкая упругая лопаточка, которой художник-живописец наносит грунт на полотно, смешивает краски на палитре и удаляет лишнюю крас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Светоустойчивость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(светостойкость) – способность краски противостоять воздействию солнечного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26253476"/>
          <p:cNvPicPr/>
          <p:nvPr/>
        </p:nvPicPr>
        <p:blipFill>
          <a:blip r:embed="rId1"/>
          <a:stretch/>
        </p:blipFill>
        <p:spPr>
          <a:xfrm>
            <a:off x="7667640" y="5118120"/>
            <a:ext cx="1332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ПРОФЕССИОНАЛИЗ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Гратуар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-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тальной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ердцевидный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кребок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для выравнивания 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оск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в гравюре на металле; используется 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акж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для снятия высохшей 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раск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в масляной живопи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ольберт-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подставка, обычно деревянная, на которой художник помещает во время работы картину, рисунок и т. д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26253476"/>
          <p:cNvPicPr/>
          <p:nvPr/>
        </p:nvPicPr>
        <p:blipFill>
          <a:blip r:embed="rId1"/>
          <a:stretch/>
        </p:blipFill>
        <p:spPr>
          <a:xfrm>
            <a:off x="7667640" y="5118120"/>
            <a:ext cx="1332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ПРОФЕССИОНАЛИЗ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.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Палитр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- 1) небольшая тонкая деревянная доска для смешения красок; 2) характер цветовых сочетаний, типичных для данной картины, для произведений данного художника или художественн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6.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Сангин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(от франц. sanguine, от лат. sanguinelis - кроваво-красный) - карандаши (без оправы) различных красно-коричневых т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26253476"/>
          <p:cNvPicPr/>
          <p:nvPr/>
        </p:nvPicPr>
        <p:blipFill>
          <a:blip r:embed="rId1"/>
          <a:stretch/>
        </p:blipFill>
        <p:spPr>
          <a:xfrm>
            <a:off x="7667640" y="5118120"/>
            <a:ext cx="1332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6T14:33:29Z</dcterms:created>
  <dc:creator>RePack by SPecialiST</dc:creator>
  <dc:description/>
  <dc:language>en-US</dc:language>
  <cp:lastModifiedBy>ГИА</cp:lastModifiedBy>
  <dcterms:modified xsi:type="dcterms:W3CDTF">2019-03-27T06:16:05Z</dcterms:modified>
  <cp:revision>8</cp:revision>
  <dc:subject/>
  <dc:title>Слайд 1</dc:title>
</cp:coreProperties>
</file>