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D064-5F3C-411F-9B08-103E85A8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AEB0-44AA-4283-BA40-BBDF863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F51D-864F-49A2-AC6B-95C4702C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2CA7-AB96-4DF6-8CEB-B77CC4A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7B1D-BF2F-41E0-BD69-5277FE85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E4E-5BAA-4615-B33D-D7FFD12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D4FC-EC0A-4C5D-954B-E1C41766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54DA-3D7F-4F4D-8BF3-3DFC7881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49DD-7443-41EA-867A-EBC55617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865-E930-48C3-83A6-82E35B7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243D-5530-4D3F-B035-0E06594B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025D-BD4D-40DB-8E00-BCCD17BD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2AE-1FD8-46CF-9FD2-3CD82E43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D2BE-B2FE-4A8E-92CB-B402F7A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E86C-119B-45B3-BD0A-01161E2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E55-A5F1-4DA7-BD81-723C62EA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3B62-ECF3-40B7-AB61-332009D0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3676-F1A4-4601-A348-61415E3D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8B06-710A-45B2-BFE2-27D08C9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7BFF-2B33-4912-AB96-0F59A1BF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4B98-4A15-4823-B300-C67323C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8AEF-61E3-4EF5-98DA-3223D21F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0BEE-1797-4E7C-B5C7-57E4E7F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4783-00B3-48FF-9C75-B076A51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49CA-FB0C-44D8-89A2-5C05CDB0BE9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4F1A-EE54-4337-9807-07A8C3B425C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0_&#1085;&#1086;&#1103;&#1073;&#1088;&#1103;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Иога́нн Кри́стоф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Фри́дрих фон Ши́ллер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0 ноя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1759, Марбах-на-Неккаре — 9 мая 1805, Веймар) 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цкий поэт, философ, историк, теоретик искусства и драматур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6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9604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22860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творческого сотрудничества с Гете над стихами цикла «Ксении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ллер принялся за создание трилогии «Валленштейн» — о знаменитом полководце, герое Тридцатилетней вой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 этой трилогией последовали его лучшие драмы — «Мария Стюарт», «Орлеанская дева» и «Вильгельм Телл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304920"/>
            <a:ext cx="4343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три года до смерти великому поэту было даровано дворя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ившиеся с конца 1803 года приступы чахотки все чаще прерывали его творческую работу. К осени 1804 г. болезнь обострила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ллер умер 9 мая 1805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 мая при огромном стечении народа на Веймарском кладбище состоялась траурная паних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wheel spokes="1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Благодарю </a:t>
            </a: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за внимание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6" descr="Подпись"/>
          <p:cNvPicPr/>
          <p:nvPr/>
        </p:nvPicPr>
        <p:blipFill>
          <a:blip r:embed="rId1"/>
          <a:stretch/>
        </p:blipFill>
        <p:spPr>
          <a:xfrm>
            <a:off x="1523880" y="3429000"/>
            <a:ext cx="6324840" cy="158112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cover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95120" y="3504960"/>
            <a:ext cx="5791320" cy="23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боту выполнил Дмитрий Крылов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У «СОШ №10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5105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59 г. был открыт в небольшом немецком городке Марбах шиллеровский муз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маленькой площади с фонтаном стоит неказистый домик с вывеской пекаря, а поднявшись по деревянным ступеням, оказываешься в убогой комнате с большой печ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рос маленький Фриц Шиллер — будущий великий немецкий поэт и драматур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9" descr="220px-MarbachSchillerhaus"/>
          <p:cNvPicPr/>
          <p:nvPr/>
        </p:nvPicPr>
        <p:blipFill>
          <a:blip r:embed="rId1"/>
          <a:stretch/>
        </p:blipFill>
        <p:spPr>
          <a:xfrm>
            <a:off x="5334120" y="609480"/>
            <a:ext cx="380988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ец Фридриха Иоганн Каспар Шиллер был военным фельдшером и немало поскитался по Европе в те беспокойные год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семье его почти не видели ни жена, Елизавета Доротея Кодвейс, дочь владельца корчмы, ни их дети — Кристофина и Фридри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9000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8640" y="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Будущее сына отец уже определил: духовная карьера. В Лорхе, местный пастор Мазер занимался с Фрицем и его сестрой  немецким языком и латынью. В знак уважения к своему первому учителю Шиллер впоследствии даст его имя смелому старику пастору, обличителю всесильного графа Моора в юношеской драме «Разбойники»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7" descr="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0" y="0"/>
            <a:ext cx="3809880" cy="670572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4495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1766 г. семья пере-ехала в Людвигсбу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ридриха отдали в городскую латинскую шк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ле окончания кото-рой он должен был поступить в семина-рию, чтобы затем под-готовиться к экзаме-нам на богословский факультет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3045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сной 1772 г. герцог Карл Евгений  пополнял военные учебные заве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осемь лет 14-летнего Фридриха оторвали от семьи, от друзей, лишили отрочества и ю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динственным средством защитить свою внутреннюю свободу для Фридриха Шиллера была поэзи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5181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1775 г. он вместе с друзьями организовал в академии тайный поэтический союз, который просуществовал вплоть до перевода военного академиста в Штутгарт, где открывался новый факультет — медицинский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Фридрих считал, что «карьера медика — верный кусок хлеба»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днако поэзия в стороне не осталась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5295960" y="0"/>
            <a:ext cx="38480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имой 1776 г. в журнале «Шабский магазин» увидело свет стихотворение «Вечер», подписанное инициалом Ш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месте с врачебным дипломом Шиллер получил назначение в гренадерский полк полковым лекарем.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22824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1781 г. Шиллер издал свое произведение «Разбойники»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 13 января 1782 г. состоялась премьера драмы, вызвавшая небывалый восторг зрителей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мя Шиллера зазвучало по всей Германи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1000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09588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ллером  задумана новая драма под названием «Заговор Фиеско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ллельно поэт работал над другой драмой о простой девушке Луизе. Позже эта драма получила название «Коварство и любов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ной 1783 г. в издательстве Шванна в Мангейме вышел из печати «Заговор Фиеско». Премьера состоялась в начале 1784 г., но была встречена публикой холод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5715000" y="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1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дактируемом им журнале «Рейнская Талия» опубликованы первые акты драмы «Дон Карлос». Памятью о встрече с Фрау фон Кальб остались два стихотворения — «Борьба» и «Отречени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т непростой период жизни поэта возникла его известная ода «К радост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1780-х годов Шиллер начал преподавательскую деятельность как профессор истории в Йенском университете. Его постоянным местом жительства отныне стал Вейм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-36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есь он знакомится с Шарлоттой фон Ленгефельд. В 1790 г. они поженились. Шарлотта стала преданной женой и матерью четверых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220px-Schiller_Weimar"/>
          <p:cNvPicPr/>
          <p:nvPr/>
        </p:nvPicPr>
        <p:blipFill>
          <a:blip r:embed="rId1"/>
          <a:stretch/>
        </p:blipFill>
        <p:spPr>
          <a:xfrm>
            <a:off x="914400" y="525780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rcRect l="-93" t="7502" r="2630" b="7735"/>
          <a:stretch/>
        </p:blipFill>
        <p:spPr>
          <a:xfrm>
            <a:off x="5334120" y="2819520"/>
            <a:ext cx="30477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иса</cp:lastModifiedBy>
  <dcterms:modified xsi:type="dcterms:W3CDTF">2015-01-03T22:19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