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A64E-657A-468A-82F2-CA68DD57A8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4BF7-2273-4EB3-A83E-A973ED5D1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8C1-D01A-46C4-84E9-6FEE1E49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8F3-98F4-44F3-8B7D-8C4CFC9F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215-2389-4AF1-8CFC-E467A4DE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95B-FAB9-4842-B988-C2D95751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D8BD-2494-4C6A-A3B2-FC06D0A7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A9A8-6EFE-47D4-9C9C-A7B452C6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0812-2426-4E8A-8852-6B5D6FF0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657C-9D2B-4447-BF94-556E766A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D606-05ED-4B1F-BC56-CD669BDA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FF6A-7813-4C51-B0F5-474B6F3D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B402-1E99-46E4-8B00-3C61A94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9BB-7C7E-493D-9091-48C41FA1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E6D9-EA92-4BCF-8601-380F283C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2C1E-2EDC-46B0-8DB4-6C87AAC2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B1CD-601D-47BE-9BA9-599A4B56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5C2F-E679-4300-81B6-3EAAD835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81B-B088-4228-8B4C-3AB004CA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EC99-CB21-4D88-B0F9-11FD1CA8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CB53-54B1-4690-AA71-B121E797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E02F-654E-4038-B593-48B8EBEE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150B-93C2-4D77-8914-84D194CA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09B3-23D4-4E48-ACA6-7E0C93C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9F7-528F-4B28-889F-16EAD905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C3BC-D23A-4105-9EA7-42371860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63A6-4832-4DE5-BBC2-F0D78B6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2799-58C6-41A4-82E0-4B77DE1B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A835-D96F-4BA6-9F2E-98B845EE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A69E-B367-4143-BED0-5A26DE8F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2A7A-2FBA-4F58-ADEB-618C3DF4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DA53-FF20-4D22-867A-03E5A273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50EB-8EC7-46EE-A754-9B6DCCF8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DE3B-9F85-4656-9501-72E994B9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561C-F5DD-45C8-A97A-57D1AC5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B1E-1E1F-485F-93DC-D9910B1D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B70D-F391-4101-AAB9-78DDC95D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FF6F-1BC8-4FA7-82A4-E428A565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4D33B-B690-46B0-B688-E3C65397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B480-AD54-47AB-AA6E-3FA3329A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6AEA2-2042-4A17-8D5D-7AA0808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B076-DCC8-4CD8-BA6F-D141798E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DDEF6-BA97-47FF-AF56-0D9DE31A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D9CE5-6AD0-4C77-87FA-8BC34697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CAE8-2CA1-4A2B-8CFE-571717D1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75C8-0242-422D-A9B0-82835F22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E66-AD9E-4AD0-A093-EB53874D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134B6-444D-459F-8122-947A231C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DDC3-8B48-482C-B582-6EFD0B6D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E85D6-6F4C-44B2-A02D-705198A8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D56E2-C483-499F-8FE2-CE4081D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7531A-84F5-402D-89FA-E6E018F5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A4B6E-3C9F-459B-8C5C-50A47813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51445-EABD-496E-A74B-25AA9936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CE548-9DD7-4B85-9DEC-6A4F04E4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D264-73AE-4CAE-821E-D833707D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2816A-38EE-4516-B5BB-586804FA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3A4-6277-4D0D-93DE-5BC4676F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2ED26-368C-4167-BA9D-7187756F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FABB-D962-41A2-9A40-D79B1AC7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55592-9B3C-4C67-8F3B-3017EBB2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006A7-8E5C-4FB7-A6AE-D3C6D824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FC14E-4EF5-410B-9448-907D3F33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D6193-0503-4C26-9D46-CC1A7CCB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68D0-A9AB-4897-8E0C-570A1A44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E41ED-36DA-4B0D-BC92-F297931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C4A9A-734F-4E3A-A62B-6C3FB223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23526-4A18-45B8-813D-CC73B214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FDB-AC1E-4A5D-A35D-5DFEB799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E25B-B9EA-459E-9B8C-876FFF49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BE618-F045-42DC-A9A1-145E984B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C048B-F2D9-4CED-B195-2EB8B63B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8DA06-6C53-4CAE-8EEE-60938FD6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E9BB-9601-4BF1-A468-90AFBB16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B0BC4-A4CA-4B43-A4C1-3EBAC358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78AB2-91AD-435D-B119-B43E2501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7F514-41F4-4F52-9944-AE031C5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3673E-EF9D-458A-BD11-64CF16C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C8AB8-2880-4AB8-B584-6A84823A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107-09C4-4481-B10E-ABF39C4B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2780F-29F0-4469-82E8-9C5063D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417C1-484D-415A-960A-618B29DF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0A598-7DEA-4084-A599-3593DA45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95375-8A23-4E36-B35A-38960C68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1A9B2-C29B-4C17-8F83-2C26FF9F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042-22AB-4CCB-9339-EDFEFB7F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6912-E6AE-46E4-B742-13934086EB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CEB7-F869-4ACB-92B4-32D30A6CF9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DEE0-4D07-4693-B8C7-5DC555922D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FB95-A768-47C9-8DE2-F60D89D9B1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9C3B-279D-47FF-B882-042BF0765E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56C0-FBEF-4878-AFDE-080C9BEA1F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1066-88B5-4BDF-AFC5-08B90DD410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Прямоугольник 2" descr=""/>
          <p:cNvPicPr/>
          <p:nvPr/>
        </p:nvPicPr>
        <p:blipFill>
          <a:blip r:embed="rId1"/>
          <a:stretch/>
        </p:blipFill>
        <p:spPr>
          <a:xfrm>
            <a:off x="4498920" y="4498920"/>
            <a:ext cx="4645080" cy="157320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3" descr=""/>
          <p:cNvPicPr/>
          <p:nvPr/>
        </p:nvPicPr>
        <p:blipFill>
          <a:blip r:embed="rId2"/>
          <a:stretch/>
        </p:blipFill>
        <p:spPr>
          <a:xfrm>
            <a:off x="1042920" y="1000080"/>
            <a:ext cx="7851960" cy="175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1197000"/>
            <a:ext cx="789156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пределить  состав группы детей с ослабленным здоровьем   и  трудностями в обучении для  создания программ  внеурочной деятельности  по социализации обучающихся   и оказанию   детям , в первую очередь,  психолого-педагогической помощ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( до 1 мая 2016 года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835e01"/>
                </a:solidFill>
                <a:latin typeface="Corbel"/>
              </a:rPr>
              <a:t>Актуально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13204"/>
                </a:solidFill>
                <a:latin typeface="Corbel"/>
              </a:rPr>
              <a:t>Основной целью модернизации всей системы образования является повышение качества образован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комплексной технологии индивидуального сопровождения, как особой культуры психологической и педагогической поддержки, помощи в решении задач развития, обучения и социализации уча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99640" y="1483920"/>
            <a:ext cx="793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.  Создать социально-психологические условия для решения актуальных задач развития, обучения и социализации учащих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2. Систематически отслеживать  психолого-педагогический  статус ученика и динамику его психологического и личностного развития в процессе школьного обуч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. Предупреждать возникновения проблем в психическом  и личностном развитии ребён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Алгоритм деятельности педагог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71280" y="144756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: Диагностика (наблюдения, тесты, срезы…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: Апробация выбранной модели индивидуализации образования. Определение зоны актуального и ближайшего развития, формирование «групп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13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71280" y="691920"/>
            <a:ext cx="79628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риативный образовательный маршрут для учащихся с опережающими темпами  развития и высоким уровнем учебной мотивации. «Хочу быть успешным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учащихся с ослабленным здоровьем. «По дороге здоровья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 учащихся  с низким  уровнем  учебной мотивации и трудностями в обучении. «По дороге  к знаниям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Таблица 7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9002880" cy="614520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8"/>
          <p:cNvSpPr/>
          <p:nvPr/>
        </p:nvSpPr>
        <p:spPr>
          <a:xfrm>
            <a:off x="3643200" y="2357280"/>
            <a:ext cx="1071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ндивидуальные проявления  на занятиях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7000" y="-206280"/>
          <a:ext cx="9117000" cy="6978600"/>
        </p:xfrm>
        <a:graphic>
          <a:graphicData uri="http://schemas.openxmlformats.org/drawingml/2006/table">
            <a:tbl>
              <a:tblPr/>
              <a:tblGrid>
                <a:gridCol w="1542960"/>
                <a:gridCol w="4535640"/>
                <a:gridCol w="30384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писок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ндивидуальные  проявления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едагогические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являют особый интерес к занятиям, активны, любят придумывать интересные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ддерживать и развивать их интерес, давать усложненные задания, предъявлять более высокие треб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проявляют внешне свою активность , но всегда внимательны, малоинициати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спитывать уверенность  в своих силах, поощрять начинания, развивать творческую инициати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проявляют интереса к занятиям, невнимательны, не всегда могут  ответить  на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скрыть причины такого поведения, проводить индивидуальные 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имательно слушают , но ответить на поставленные вопросы не могут, предпочитают отмалчиваться, застенчивы,  имеют пробелы в зна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водить индивидуальную работу по преодолению застенчивости, на отдельных занятиях ликвидировать пробелы в зна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4aa33"/>
                </a:solidFill>
                <a:latin typeface="Corbel"/>
              </a:rPr>
              <a:t>Вывод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920" y="1642680"/>
            <a:ext cx="76485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7f26"/>
                </a:solidFill>
                <a:latin typeface="Corbel"/>
              </a:rPr>
              <a:t>реализуется положительная динамика качества  обучения в класс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7f26"/>
                </a:solidFill>
                <a:latin typeface="Corbel"/>
              </a:rPr>
              <a:t>повышается уровень предметных и метапредметных  результат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7f26"/>
                </a:solidFill>
                <a:latin typeface="Corbel"/>
              </a:rPr>
              <a:t>повышается уровень самооценки учебно-познавательной  деятель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7f26"/>
                </a:solidFill>
                <a:latin typeface="Corbel"/>
              </a:rPr>
              <a:t>Увеличивается число учащихся – победителей конкурсов  и олимпиад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4:11:36Z</dcterms:created>
  <dc:creator>Admin</dc:creator>
  <dc:description/>
  <dc:language>en-US</dc:language>
  <cp:lastModifiedBy>Christina Aflyatunova</cp:lastModifiedBy>
  <dcterms:modified xsi:type="dcterms:W3CDTF">2020-08-20T16:24:04Z</dcterms:modified>
  <cp:revision>315</cp:revision>
  <dc:subject/>
  <dc:title>Слайд 1</dc:title>
</cp:coreProperties>
</file>