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-360" y="6948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Lucida Sans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Lucida San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F9A9C30-B089-4911-BAFE-7731368111F1}" type="slidenum">
              <a:rPr b="0" lang="ru-RU" sz="1800" spc="-1" strike="noStrike">
                <a:solidFill>
                  <a:srgbClr val="ffffff"/>
                </a:solidFill>
                <a:latin typeface="Arial"/>
                <a:ea typeface="Droid San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место официального классного журнала главным средством накопления информации об образовательных результатах ученика предлагают ввести портфель достижений (портфолио). Официальный классный журнал, конечно, не отменяется, но итоговая оценка за начальную школу (решения о переводе на следующую степень образования) теперь будет приниматься не на основе годовых предметных отиеток в журнале, а на основе всех результатов (предметных, метапредметных, личностных; учебных и внеучебных) накопленных в портфеле достижений ученика за четыре года обучения в начальной школ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21553-396A-4D38-8A20-1DE12B6735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2400F-4449-46A5-8A64-32CF8666E83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FF24AD-E6DE-4890-96E3-A18DD1408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125799-F72D-4A7E-802B-32CF6C0A3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CCC9F6-4934-42F6-AD48-6F5CC725D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259CB6-0461-4998-B73F-05569348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D9B639-08F0-443F-A296-C5989BEF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D5A78F-E5E2-421A-A006-8577B503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2BA177-6782-4FA0-8958-6801D68BA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206B45-AB15-4530-A3F2-DA2E39750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B9ADBB-3282-4719-ACB9-709427D45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997A41-3F3B-43AD-92CE-629062BA3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5A1A0-5DCC-44D5-B080-35C6F8EA74E6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DC10FB-2ED5-46F4-9C7E-4E954066B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FAC84B-D6BD-4EFE-A8EE-A3873AEB0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A93263-79E4-4841-A96E-587AA120B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ACED8A-04FF-447C-AF1B-9C59220CB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7385F7-8450-40EF-9213-68F5DE525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B2B301-D0F8-4FC3-AC21-B9DFCED8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260E8F-96F0-4D35-8F1C-9C1EBAE7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FE8260-F569-4E18-8D18-B2194F83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34BFD0-ABE0-474D-821F-BE5FCE5FE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8005B6-77D7-49E7-87CB-083C9DED0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6F1A2-FA30-49A4-B2D2-2F15EF6EE803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A2DB44-3C86-4F95-816C-0949702FD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B0510D5-1917-418E-A0D3-A0E5FBAA6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7081BA0-FED6-44C1-B884-90483152B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3D273A7-9734-491C-B7BF-18E816A67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82127A0-8B3F-4C0B-A5F9-4D1B2A826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8B3D4C3-7991-4895-AF0A-47B60A92A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B84D420-913A-426B-B9AC-B419C25E0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465D761-1EF1-46D6-9D06-2CAF39A6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2F0C128-B372-47BB-B244-DFD7056B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086EA04-97DD-4A0C-886F-BF9C0932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FA4A72-9DB8-4BC2-A0DD-3CEE62666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67374C3-D090-4719-A052-D0CC52BF1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CA2C089-E762-49B0-9243-CAE5D6C2F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01903F3-4C75-4F74-BB97-B85C29127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8B2C11-22A3-4F62-A487-39B772B7C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1A191A-B1A4-4DAD-8D2E-EEB627214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EB5CEC-B847-4B3D-BF36-5CD07B846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F39289-3B1B-48BB-922B-18861ADB0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08BF50-F31E-44DB-877F-9EE887087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E618B5-B9B0-4124-A0B2-E93FCB5FB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A324B9-08A9-4882-A74C-F9143BD5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97D0C0-8D4A-4011-BD1D-24898B156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FAB86D-6836-4686-AC35-FC16EFB5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57CFCC-633B-4D1F-818F-81377A13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F2189F-7EB4-4429-8671-B0E2113F3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DB9489-F82C-4690-B157-F30E660C6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BEAA9D-0E79-43CC-881C-97DF9EA38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22EF783-22CE-43FE-8309-E937C9F36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430C79D-1174-4D51-9729-974A4A46D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19FEAF7-1749-49D0-ABC4-2443A1690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54822F5-54C9-4D7E-B3F9-FCE530FF2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420F20B-6D1C-4F36-BC40-4EF1605BE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BC5FA7-7652-4644-A509-767D60B0A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FE70EF9-9844-42F4-A033-7F52CAA06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3D66C29-3958-4BB4-B8B9-23F8274AA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FE008DC-984D-40F5-9515-D29BA7BE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54323F4-96BE-4103-A0AC-78C79E6C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DA2AA21-D17A-4E1D-B9F9-F0F9B44BD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43923D6-5263-44F8-BCED-0004572CC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97484A0-D488-46DE-9293-825A1C5EB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092A4C-B5FA-491F-BA1D-1365BC030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18A499-67BF-44A8-A6B3-16D011B22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A22360-3EAD-4B6B-8836-E66E16CF2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15E064-9732-4821-9696-35E27533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FF86F-88BF-474F-9E8D-A5C7ED296B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150005-3F56-4088-BEA7-44BC9EC8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D0F698-1D87-4FE5-A16D-8F44DB97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17DB19-D671-4855-81FE-A150DB25D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BF1ABC-CCC7-42D4-8D0A-A540AF53D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0E34A2-683F-44A9-B853-200BE3AB7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E5D016-7358-40E5-86AF-7ABFA8B32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22E31E-4121-4D90-A564-BA5304D8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D607A9-89E4-47C8-A987-9F36CE417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CE8116-D2ED-488F-9AE0-2E72118A8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5F4D26-EF05-4139-8F22-DCE160FBA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FEAB6-4A8F-4B01-A4D9-9B79B193657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E4E6BB-9DBE-4A18-A25E-D200167EE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8CCB5C-BFE4-4AFF-9DD9-EFAE1FC9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382FE1-A2B0-4592-B70E-D777918A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30E2AC-637D-4F89-8D9E-DE8241F4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27CD3C-6945-4453-B6E4-8622B1288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8E3310-77F9-455F-AF80-FBFDFD453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4E3640-5F7F-4D1A-A8FA-C11F40AE9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B8DC8E-5789-495A-9868-E9F3AC11D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2909C2-719F-48D0-9CD0-37A545994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D5B0C3-E117-48CC-BA71-0E947E65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96F1F-BBC0-4185-BCF0-3744C2276DC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FF278D-DF8E-4DD5-91E0-51E3775B4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AB2A41-A3F5-4DC5-AF71-D2FBDCD1B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28D17A-8942-4827-B1ED-74E25DF40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0F5B76-EE70-4B47-9E2F-F483037D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8D8760-C777-4D07-83C3-1B64B367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A00DF9-A7D6-4016-8FF4-BF825EBD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ECB78A-FC51-419C-ACC2-CE6D1E7F1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2F696C-C231-4C0A-BEC7-B6871C3BB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EC7D11-A910-42B9-88B8-35E83AA0A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9EDFFEE-3BA5-493D-BDE6-F97F7A3D7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C196F-14C6-4241-8614-95266CA64C8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9FE8C3-7B0F-4101-B295-2D30A7EB4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E5167C-ECB4-40BC-B445-007C25047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7AA7F3-7AF1-4908-8E39-51D8BE883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5FD9CFE-09BA-4F0D-B6C1-3F913981C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9A2C821-AFDA-4672-B11A-13A8B37E6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D8AE05-6B42-40EC-9689-27688F72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F250F0-51C7-4127-8809-9F4FD4F5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33E3AA1-2D0B-43C8-85F6-1213E2CB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95AD7D-2D90-4847-ACBD-47E45966C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7808AF-DDB4-4E42-83CE-916ACF7A6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9C349-C1DB-45A6-8E2E-C7FFEB2C722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889E54-102D-4265-B5C1-172C28D8A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B1A156-1456-4067-AEB7-FB0BBA8FF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FD2EFE-DA72-4681-9E03-DFB6ECE8E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184564-D58F-499F-8C25-2948481B1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2631B3-F217-4339-9F8C-9E62A1AC8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856CC0-00F0-46D4-B921-53F45BAE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2FA3D8-8025-4B78-99C3-8C47C9090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017316-3815-40BE-8E32-E2625E0A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2E9EFF4-7FF3-4CA9-B0D9-B2FCC046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5E6889A-BAC5-47B6-ABAC-46F2CBBB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B674E-25C5-49C3-822E-BC9A14382B0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B8A103-51CC-4356-A891-2984F4FD5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6940DD-DB31-47AD-9740-E3D3277C5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E877FD-FB6E-403D-B2B0-4EDBA8A50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611B95-2E82-43CF-B5A4-207EE3783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363F94E-DD8A-4031-A547-A69E16D23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51E0551-7064-43EC-AF24-76A7445D2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00B8490-0882-46D4-8EA6-CE9C575D6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0A71156-F983-446F-B54C-6A680CF6D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B9E69BE-7881-415F-A9F3-29C05C0E5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F061181-1C9F-4938-A00E-F2D9CC40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6DFC3-EA14-463D-886A-06BA62D1FB8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2FAAE6-74B6-4513-991B-E74750B1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BEE392A-4607-4B13-BC6E-2F728B3A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648461D-644C-4E98-89CD-CE6432847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F38DDF7-FEA1-422D-871A-645C7BFCC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22BCCA9-6DE6-4C17-B9A0-96FA82C0F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30408B9-395C-4E42-9F11-C73922795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0167DA1-3BE8-4CBF-BA9D-BF614D508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D12DFD6-3C1E-4D45-9E80-EC7883394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9CD93D3-9DC5-4AC2-A071-47E9A02EB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B32BA37-5297-47D9-B774-8360B5B8F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12FCA-AF66-425C-9629-FC96E15BFF8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C51F233-8D02-4D31-90D9-240A5A784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2EA01F3-00F4-49E6-A7B7-4AAA827A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489DE41-3F23-4547-9C2E-4B9E9E6E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DADEB40-8563-4942-A731-B42B98A7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3D77DF2-F547-46EE-9775-4A5B3A088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80FB78-E2CF-4168-A6D6-0ACADD479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F911D42-8F33-436E-ADC2-48D1F8B21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494D45-0C0A-4D64-B3FC-5C3858E73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813732-04E6-4018-928A-E4A9F75AC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AC73DF-AEFE-4DCD-937E-F00A828F3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Lucida Sans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392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28456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4AC4200-1313-4A24-9F09-EA5F6D68EAF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9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00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2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0A03DB1-3304-435C-9ACE-5387BCAA92CB}" type="slidenum">
              <a:rPr b="0" lang="en-US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2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3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3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991F9EA-374F-4FDB-BA4C-82616F10B56C}" type="slidenum">
              <a:rPr b="0" lang="en-US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7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88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982BB25-1454-45E5-AAB6-03CE155EC3D3}" type="slidenum">
              <a:rPr b="0" lang="en-US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2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533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3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3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2466CFA-894A-4B88-BD24-A935DA8424E1}" type="slidenum">
              <a:rPr b="0" lang="en-US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3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A77B75E-0BF5-42D0-BD62-2A5D69A48D82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88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24C442D-4332-4B88-900A-839D40862A61}" type="slidenum">
              <a:rPr b="0" lang="en-US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33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3A3C2E3-77EB-40A6-9FB9-4EC743FFC717}" type="slidenum">
              <a:rPr b="0" lang="en-US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7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78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CB192B9-3113-4012-ADDD-F4492B335D12}" type="slidenum">
              <a:rPr b="0" lang="en-US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3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A4AF3EF-9193-48A4-9B35-69674B35DD8E}" type="slidenum">
              <a:rPr b="0" lang="en-US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7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68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1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8706C1F-E89D-4BEB-8539-57B387C9A9EE}" type="slidenum">
              <a:rPr b="0" lang="en-US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2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313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2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8D692E9-83EC-47D2-B863-2C8CB5D5D980}" type="slidenum">
              <a:rPr b="0" lang="en-US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7E0B06F-A30A-4CEC-891B-2B93F3B85B91}" type="slidenum">
              <a:rPr b="0" lang="en-US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Text Box 1"/>
          <p:cNvGrpSpPr/>
          <p:nvPr/>
        </p:nvGrpSpPr>
        <p:grpSpPr>
          <a:xfrm>
            <a:off x="324000" y="317520"/>
            <a:ext cx="8412120" cy="4078440"/>
            <a:chOff x="324000" y="317520"/>
            <a:chExt cx="8412120" cy="4078440"/>
          </a:xfrm>
        </p:grpSpPr>
        <p:pic>
          <p:nvPicPr>
            <p:cNvPr id="580" name="Text Box 1" descr=""/>
            <p:cNvPicPr/>
            <p:nvPr/>
          </p:nvPicPr>
          <p:blipFill>
            <a:blip r:embed="rId1"/>
            <a:stretch/>
          </p:blipFill>
          <p:spPr>
            <a:xfrm>
              <a:off x="324000" y="317520"/>
              <a:ext cx="8412120" cy="407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"/>
            <p:cNvSpPr/>
            <p:nvPr/>
          </p:nvSpPr>
          <p:spPr>
            <a:xfrm>
              <a:off x="684360" y="333360"/>
              <a:ext cx="7991280" cy="37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191966"/>
                  </a:solidFill>
                  <a:latin typeface="Times New Roman"/>
                </a:rPr>
                <a:t>Выступлени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191966"/>
                  </a:solidFill>
                  <a:latin typeface="Times New Roman"/>
                </a:rPr>
                <a:t>на ГМО учителей начальных классов по теме: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4000" spc="-1" strike="noStrike">
                  <a:solidFill>
                    <a:srgbClr val="191966"/>
                  </a:solidFill>
                  <a:latin typeface="Times New Roman"/>
                </a:rPr>
                <a:t>«Организация эффективной контрольно-оценочной деятельности»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ru-RU" sz="2000" spc="-1" strike="noStrike">
                  <a:solidFill>
                    <a:srgbClr val="191966"/>
                  </a:solidFill>
                  <a:latin typeface="Times New Roman"/>
                </a:rPr>
                <a:t>Учитель МБОУ «Лицей «Серпухов»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ru-RU" sz="2000" spc="-1" strike="noStrike">
                  <a:solidFill>
                    <a:srgbClr val="191966"/>
                  </a:solidFill>
                  <a:latin typeface="Times New Roman"/>
                </a:rPr>
                <a:t>                                                                                  </a:t>
              </a:r>
              <a:r>
                <a:rPr b="1" i="1" lang="ru-RU" sz="2000" spc="-1" strike="noStrike">
                  <a:solidFill>
                    <a:srgbClr val="191966"/>
                  </a:solidFill>
                  <a:latin typeface="Times New Roman"/>
                </a:rPr>
                <a:t>Сапичева О. Ю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2" name="Text Box 2"/>
          <p:cNvSpPr/>
          <p:nvPr/>
        </p:nvSpPr>
        <p:spPr>
          <a:xfrm>
            <a:off x="0" y="3886200"/>
            <a:ext cx="64008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3" name="Прямоугольник 3"/>
          <p:cNvGrpSpPr/>
          <p:nvPr/>
        </p:nvGrpSpPr>
        <p:grpSpPr>
          <a:xfrm>
            <a:off x="549360" y="4486320"/>
            <a:ext cx="8302680" cy="1981080"/>
            <a:chOff x="549360" y="4486320"/>
            <a:chExt cx="8302680" cy="1981080"/>
          </a:xfrm>
        </p:grpSpPr>
        <p:pic>
          <p:nvPicPr>
            <p:cNvPr id="584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549360" y="4486320"/>
              <a:ext cx="830268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"/>
            <p:cNvSpPr/>
            <p:nvPr/>
          </p:nvSpPr>
          <p:spPr>
            <a:xfrm>
              <a:off x="611280" y="4581360"/>
              <a:ext cx="80643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ru-RU" sz="28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«Глубочайшим свойством человеческой природы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ru-RU" sz="28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ru-RU" sz="28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является страстное стремление людей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ru-RU" sz="28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ru-RU" sz="28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быть оцененным  по достоинству»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ru-RU" sz="28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Д.Уильям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6" name="TextBox 5"/>
          <p:cNvSpPr/>
          <p:nvPr/>
        </p:nvSpPr>
        <p:spPr>
          <a:xfrm>
            <a:off x="3492360" y="6334200"/>
            <a:ext cx="208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191966"/>
                </a:solidFill>
                <a:latin typeface="Times New Roman"/>
              </a:rPr>
              <a:t>29.03.2017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II</a:t>
            </a: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этап (2 – 4 классы)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468360" y="836640"/>
            <a:ext cx="8183520" cy="5400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сходит совершенствование работы учащихся над пооперационным (процессуальном) контролем освоения способов деятельност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ается задача: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«ошибкоопасных»  мест, поиск возможных причин возникновения ошибок и путей их ликвидаци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у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ивный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онтроль за способом действия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ется работа над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стической оценко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Итоги </a:t>
            </a:r>
            <a:r>
              <a:rPr b="1" lang="en-US" sz="2400" spc="-1" strike="noStrike">
                <a:solidFill>
                  <a:srgbClr val="ff8d3e"/>
                </a:solidFill>
                <a:latin typeface="Verdana"/>
              </a:rPr>
              <a:t>II</a:t>
            </a: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этапа формирования действий контроля и оценки у младших школьников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Обучающиеся могут: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395280" y="155700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6000"/>
          </a:bodyPr>
          <a:p>
            <a:pPr marL="254160" indent="-25416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ь возможные «ошибкоопасные» мест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ить возможные причины возникших ошибок и наметить план их индивидуальной ликвидации и коррекци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ить границу применимости того или иного способа действия, выделить из группы заданий то, которое не соответствует данному способу решени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цировать задания по сложности, выбирать объем и уровень сложности заданий для индивидуальной самостоятельной работы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лизовать оценку своих действий с помощью, например, баллов на основе суммы разных умени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18352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8d3e"/>
                </a:solidFill>
                <a:latin typeface="Verdana"/>
              </a:rPr>
              <a:t>III</a:t>
            </a: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этап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(второе полугодие 4 класса –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5 класс)</a:t>
            </a:r>
            <a:br>
              <a:rPr sz="2400"/>
            </a:b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39640" y="112500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1000"/>
          </a:bodyPr>
          <a:p>
            <a:pPr marL="214560" indent="-2145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ительном этап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учающиеся вместе с учителем осваивают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лный цикл  контрольно-оценочной деятельност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14560" indent="-2145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ют, то, что будет проверяться (работа с критериями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14560" indent="-2145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яют проверочные задания (в том числе, с «ловушками») под составленные критери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14560" indent="-2145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яют сложность заданий, приписывают баллы сложност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14560" indent="-2145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ют (или ищут) образец для проверки задания (работы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14560" indent="-2145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яют полученные данные с образцом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14560" indent="-2145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ют характеристику ошибок и выдвигают гипотезы об их причинах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14560" indent="-2145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яют (или ищут) корректировочные задания или новую «индивидуальную» проверочную работу с последующим их выполнением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14560" indent="-2145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бщают учителю (сверстнику) о готовности предъявить свои достижения (результаты) для публичной оценк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14560" indent="-2145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одят формализованные свои оценочные достижения в общепринятую 5-балльную систем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14560" indent="-2145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6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6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6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539640" y="333360"/>
            <a:ext cx="8183520" cy="3456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овление контрольно-оценочной самостоятельности младших школьников связано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формированием индивидуального учебного действия.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9" name="Picture 4" descr="http://dyatkovo-solnyshko.ru/shkola/bezymja1.png"/>
          <p:cNvPicPr/>
          <p:nvPr/>
        </p:nvPicPr>
        <p:blipFill>
          <a:blip r:embed="rId1"/>
          <a:stretch/>
        </p:blipFill>
        <p:spPr>
          <a:xfrm>
            <a:off x="3059280" y="3645000"/>
            <a:ext cx="279864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4000" y="277920"/>
            <a:ext cx="800244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8d3e"/>
                </a:solidFill>
                <a:latin typeface="Times New Roman"/>
              </a:rPr>
              <a:t>Приемы оценочной деятельности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457200" y="1600200"/>
            <a:ext cx="4619520" cy="4565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сенка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5219640" y="1700280"/>
            <a:ext cx="3394080" cy="4349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Line 5"/>
          <p:cNvSpPr/>
          <p:nvPr/>
        </p:nvSpPr>
        <p:spPr>
          <a:xfrm>
            <a:off x="971640" y="2494080"/>
            <a:ext cx="129528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Line 6"/>
          <p:cNvSpPr/>
          <p:nvPr/>
        </p:nvSpPr>
        <p:spPr>
          <a:xfrm>
            <a:off x="2268360" y="2492280"/>
            <a:ext cx="0" cy="10810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Line 7"/>
          <p:cNvSpPr/>
          <p:nvPr/>
        </p:nvSpPr>
        <p:spPr>
          <a:xfrm>
            <a:off x="2268360" y="3573360"/>
            <a:ext cx="12240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Line 8"/>
          <p:cNvSpPr/>
          <p:nvPr/>
        </p:nvSpPr>
        <p:spPr>
          <a:xfrm>
            <a:off x="3492360" y="3573360"/>
            <a:ext cx="0" cy="11509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Line 9"/>
          <p:cNvSpPr/>
          <p:nvPr/>
        </p:nvSpPr>
        <p:spPr>
          <a:xfrm>
            <a:off x="3492360" y="4724280"/>
            <a:ext cx="14400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Line 10"/>
          <p:cNvSpPr/>
          <p:nvPr/>
        </p:nvSpPr>
        <p:spPr>
          <a:xfrm>
            <a:off x="4932360" y="4724280"/>
            <a:ext cx="0" cy="12970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Line 11"/>
          <p:cNvSpPr/>
          <p:nvPr/>
        </p:nvSpPr>
        <p:spPr>
          <a:xfrm>
            <a:off x="971640" y="2492280"/>
            <a:ext cx="0" cy="35290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Line 12"/>
          <p:cNvSpPr/>
          <p:nvPr/>
        </p:nvSpPr>
        <p:spPr>
          <a:xfrm>
            <a:off x="971640" y="6021360"/>
            <a:ext cx="396072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AutoShape 14"/>
          <p:cNvSpPr/>
          <p:nvPr/>
        </p:nvSpPr>
        <p:spPr>
          <a:xfrm>
            <a:off x="1116000" y="1989000"/>
            <a:ext cx="431640" cy="432000"/>
          </a:xfrm>
          <a:prstGeom prst="smileyFace">
            <a:avLst>
              <a:gd name="adj" fmla="val 9282"/>
            </a:avLst>
          </a:prstGeom>
          <a:solidFill>
            <a:srgbClr val="008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AutoShape 15"/>
          <p:cNvSpPr/>
          <p:nvPr/>
        </p:nvSpPr>
        <p:spPr>
          <a:xfrm>
            <a:off x="2771640" y="3068640"/>
            <a:ext cx="432000" cy="431640"/>
          </a:xfrm>
          <a:prstGeom prst="smileyFace">
            <a:avLst>
              <a:gd name="adj" fmla="val 9282"/>
            </a:avLst>
          </a:prstGeom>
          <a:solidFill>
            <a:srgbClr val="0000ff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AutoShape 16"/>
          <p:cNvSpPr/>
          <p:nvPr/>
        </p:nvSpPr>
        <p:spPr>
          <a:xfrm>
            <a:off x="3995640" y="4221000"/>
            <a:ext cx="432000" cy="43200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Rectangle 17"/>
          <p:cNvSpPr/>
          <p:nvPr/>
        </p:nvSpPr>
        <p:spPr>
          <a:xfrm>
            <a:off x="5219640" y="1700280"/>
            <a:ext cx="34560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b9f25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AutoShape 18"/>
          <p:cNvSpPr/>
          <p:nvPr/>
        </p:nvSpPr>
        <p:spPr>
          <a:xfrm>
            <a:off x="3995640" y="4221000"/>
            <a:ext cx="432000" cy="43200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Rectangle 19"/>
          <p:cNvSpPr/>
          <p:nvPr/>
        </p:nvSpPr>
        <p:spPr>
          <a:xfrm>
            <a:off x="5219640" y="1700280"/>
            <a:ext cx="34560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AutoShape 20"/>
          <p:cNvSpPr/>
          <p:nvPr/>
        </p:nvSpPr>
        <p:spPr>
          <a:xfrm>
            <a:off x="3995640" y="4221000"/>
            <a:ext cx="432000" cy="43200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AutoShape 25"/>
          <p:cNvSpPr/>
          <p:nvPr/>
        </p:nvSpPr>
        <p:spPr>
          <a:xfrm>
            <a:off x="1116000" y="1989000"/>
            <a:ext cx="431640" cy="432000"/>
          </a:xfrm>
          <a:prstGeom prst="smileyFace">
            <a:avLst>
              <a:gd name="adj" fmla="val 9282"/>
            </a:avLst>
          </a:prstGeom>
          <a:solidFill>
            <a:srgbClr val="008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AutoShape 26"/>
          <p:cNvSpPr/>
          <p:nvPr/>
        </p:nvSpPr>
        <p:spPr>
          <a:xfrm>
            <a:off x="2771640" y="3068640"/>
            <a:ext cx="432000" cy="431640"/>
          </a:xfrm>
          <a:prstGeom prst="smileyFace">
            <a:avLst>
              <a:gd name="adj" fmla="val 9282"/>
            </a:avLst>
          </a:prstGeom>
          <a:solidFill>
            <a:srgbClr val="0000ff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Rectangle 27"/>
          <p:cNvSpPr/>
          <p:nvPr/>
        </p:nvSpPr>
        <p:spPr>
          <a:xfrm>
            <a:off x="5219640" y="1700280"/>
            <a:ext cx="34560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b9f25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AutoShape 28"/>
          <p:cNvSpPr/>
          <p:nvPr/>
        </p:nvSpPr>
        <p:spPr>
          <a:xfrm>
            <a:off x="3995640" y="4221000"/>
            <a:ext cx="432000" cy="43200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Rectangle 29"/>
          <p:cNvSpPr/>
          <p:nvPr/>
        </p:nvSpPr>
        <p:spPr>
          <a:xfrm>
            <a:off x="457200" y="1600200"/>
            <a:ext cx="461952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Line 30"/>
          <p:cNvSpPr/>
          <p:nvPr/>
        </p:nvSpPr>
        <p:spPr>
          <a:xfrm>
            <a:off x="971640" y="2494080"/>
            <a:ext cx="129528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Line 31"/>
          <p:cNvSpPr/>
          <p:nvPr/>
        </p:nvSpPr>
        <p:spPr>
          <a:xfrm>
            <a:off x="2268360" y="2492280"/>
            <a:ext cx="0" cy="10810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Line 32"/>
          <p:cNvSpPr/>
          <p:nvPr/>
        </p:nvSpPr>
        <p:spPr>
          <a:xfrm>
            <a:off x="2268360" y="3573360"/>
            <a:ext cx="12240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Line 33"/>
          <p:cNvSpPr/>
          <p:nvPr/>
        </p:nvSpPr>
        <p:spPr>
          <a:xfrm>
            <a:off x="3492360" y="3573360"/>
            <a:ext cx="0" cy="11509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Line 34"/>
          <p:cNvSpPr/>
          <p:nvPr/>
        </p:nvSpPr>
        <p:spPr>
          <a:xfrm>
            <a:off x="3492360" y="4724280"/>
            <a:ext cx="14400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Line 35"/>
          <p:cNvSpPr/>
          <p:nvPr/>
        </p:nvSpPr>
        <p:spPr>
          <a:xfrm>
            <a:off x="4932360" y="4724280"/>
            <a:ext cx="0" cy="12970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Line 36"/>
          <p:cNvSpPr/>
          <p:nvPr/>
        </p:nvSpPr>
        <p:spPr>
          <a:xfrm>
            <a:off x="971640" y="2492280"/>
            <a:ext cx="0" cy="35290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Line 37"/>
          <p:cNvSpPr/>
          <p:nvPr/>
        </p:nvSpPr>
        <p:spPr>
          <a:xfrm>
            <a:off x="971640" y="6021360"/>
            <a:ext cx="396072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AutoShape 38"/>
          <p:cNvSpPr/>
          <p:nvPr/>
        </p:nvSpPr>
        <p:spPr>
          <a:xfrm>
            <a:off x="1116000" y="1989000"/>
            <a:ext cx="431640" cy="432000"/>
          </a:xfrm>
          <a:prstGeom prst="smileyFace">
            <a:avLst>
              <a:gd name="adj" fmla="val 9282"/>
            </a:avLst>
          </a:prstGeom>
          <a:solidFill>
            <a:srgbClr val="008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AutoShape 39"/>
          <p:cNvSpPr/>
          <p:nvPr/>
        </p:nvSpPr>
        <p:spPr>
          <a:xfrm>
            <a:off x="2771640" y="3068640"/>
            <a:ext cx="432000" cy="431640"/>
          </a:xfrm>
          <a:prstGeom prst="smileyFace">
            <a:avLst>
              <a:gd name="adj" fmla="val 9282"/>
            </a:avLst>
          </a:prstGeom>
          <a:solidFill>
            <a:srgbClr val="0000ff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Rectangle 40"/>
          <p:cNvSpPr/>
          <p:nvPr/>
        </p:nvSpPr>
        <p:spPr>
          <a:xfrm>
            <a:off x="5219640" y="1700280"/>
            <a:ext cx="34560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b9f25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AutoShape 41"/>
          <p:cNvSpPr/>
          <p:nvPr/>
        </p:nvSpPr>
        <p:spPr>
          <a:xfrm>
            <a:off x="3995640" y="4221000"/>
            <a:ext cx="432000" cy="43200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AutoShape 42"/>
          <p:cNvSpPr/>
          <p:nvPr/>
        </p:nvSpPr>
        <p:spPr>
          <a:xfrm>
            <a:off x="1116000" y="1989000"/>
            <a:ext cx="431640" cy="432000"/>
          </a:xfrm>
          <a:prstGeom prst="smileyFace">
            <a:avLst>
              <a:gd name="adj" fmla="val 9282"/>
            </a:avLst>
          </a:prstGeom>
          <a:solidFill>
            <a:srgbClr val="008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AutoShape 43"/>
          <p:cNvSpPr/>
          <p:nvPr/>
        </p:nvSpPr>
        <p:spPr>
          <a:xfrm>
            <a:off x="2771640" y="3068640"/>
            <a:ext cx="432000" cy="431640"/>
          </a:xfrm>
          <a:prstGeom prst="smileyFace">
            <a:avLst>
              <a:gd name="adj" fmla="val 9282"/>
            </a:avLst>
          </a:prstGeom>
          <a:solidFill>
            <a:srgbClr val="0000ff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Rectangle 44"/>
          <p:cNvSpPr/>
          <p:nvPr/>
        </p:nvSpPr>
        <p:spPr>
          <a:xfrm>
            <a:off x="5219640" y="1628640"/>
            <a:ext cx="345600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b9f25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664d"/>
                </a:solidFill>
                <a:latin typeface="Times New Roman"/>
              </a:rPr>
              <a:t>Материал усво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b9f25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Требуется помощь или коррек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b9f25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Не понял, как выполнить зада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AutoShape 45"/>
          <p:cNvSpPr/>
          <p:nvPr/>
        </p:nvSpPr>
        <p:spPr>
          <a:xfrm>
            <a:off x="3995640" y="4221000"/>
            <a:ext cx="432000" cy="43200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 txBox="1"/>
          <p:nvPr/>
        </p:nvSpPr>
        <p:spPr>
          <a:xfrm>
            <a:off x="755640" y="620280"/>
            <a:ext cx="5688000" cy="5472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Светофор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са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, но не уверен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а помощь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Oval 4"/>
          <p:cNvSpPr/>
          <p:nvPr/>
        </p:nvSpPr>
        <p:spPr>
          <a:xfrm>
            <a:off x="971640" y="3213000"/>
            <a:ext cx="576000" cy="576360"/>
          </a:xfrm>
          <a:prstGeom prst="ellipse">
            <a:avLst/>
          </a:prstGeom>
          <a:solidFill>
            <a:srgbClr val="f07f0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Oval 6"/>
          <p:cNvSpPr/>
          <p:nvPr/>
        </p:nvSpPr>
        <p:spPr>
          <a:xfrm>
            <a:off x="900000" y="4149720"/>
            <a:ext cx="576360" cy="576360"/>
          </a:xfrm>
          <a:prstGeom prst="ellipse">
            <a:avLst/>
          </a:prstGeom>
          <a:solidFill>
            <a:srgbClr val="ff0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Oval 7"/>
          <p:cNvSpPr/>
          <p:nvPr/>
        </p:nvSpPr>
        <p:spPr>
          <a:xfrm>
            <a:off x="971640" y="2349360"/>
            <a:ext cx="576000" cy="576360"/>
          </a:xfrm>
          <a:prstGeom prst="ellipse">
            <a:avLst/>
          </a:prstGeom>
          <a:solidFill>
            <a:srgbClr val="008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WordArt 11"/>
          <p:cNvSpPr txBox="1"/>
          <p:nvPr/>
        </p:nvSpPr>
        <p:spPr>
          <a:xfrm>
            <a:off x="6227640" y="4508640"/>
            <a:ext cx="21592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654" name="Rectangle 2"/>
          <p:cNvSpPr/>
          <p:nvPr/>
        </p:nvSpPr>
        <p:spPr>
          <a:xfrm>
            <a:off x="468360" y="404640"/>
            <a:ext cx="818352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8d3e"/>
                </a:solidFill>
                <a:latin typeface="Times New Roman"/>
              </a:rPr>
              <a:t>Приемы оценочной деятельност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07552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8d3e"/>
                </a:solidFill>
                <a:latin typeface="Times New Roman"/>
              </a:rPr>
              <a:t>Приемы оценочной деятельности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39640" y="-360"/>
            <a:ext cx="8174160" cy="738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26000"/>
          </a:bodyPr>
          <a:p>
            <a:pPr marL="687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7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7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7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Волшебная линеечка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7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                         А                        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Line 4"/>
          <p:cNvSpPr/>
          <p:nvPr/>
        </p:nvSpPr>
        <p:spPr>
          <a:xfrm>
            <a:off x="1042920" y="2852640"/>
            <a:ext cx="0" cy="28083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Line 5"/>
          <p:cNvSpPr/>
          <p:nvPr/>
        </p:nvSpPr>
        <p:spPr>
          <a:xfrm>
            <a:off x="755640" y="2852640"/>
            <a:ext cx="57636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Line 6"/>
          <p:cNvSpPr/>
          <p:nvPr/>
        </p:nvSpPr>
        <p:spPr>
          <a:xfrm>
            <a:off x="755640" y="4221000"/>
            <a:ext cx="57636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Line 7"/>
          <p:cNvSpPr/>
          <p:nvPr/>
        </p:nvSpPr>
        <p:spPr>
          <a:xfrm>
            <a:off x="755640" y="5661000"/>
            <a:ext cx="57636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Line 8"/>
          <p:cNvSpPr/>
          <p:nvPr/>
        </p:nvSpPr>
        <p:spPr>
          <a:xfrm>
            <a:off x="4500720" y="2852640"/>
            <a:ext cx="0" cy="28083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Line 9"/>
          <p:cNvSpPr/>
          <p:nvPr/>
        </p:nvSpPr>
        <p:spPr>
          <a:xfrm>
            <a:off x="7667640" y="2852640"/>
            <a:ext cx="0" cy="28083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Line 10"/>
          <p:cNvSpPr/>
          <p:nvPr/>
        </p:nvSpPr>
        <p:spPr>
          <a:xfrm>
            <a:off x="4211640" y="2852640"/>
            <a:ext cx="57636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Line 11"/>
          <p:cNvSpPr/>
          <p:nvPr/>
        </p:nvSpPr>
        <p:spPr>
          <a:xfrm>
            <a:off x="4211640" y="4076640"/>
            <a:ext cx="57636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Line 12"/>
          <p:cNvSpPr/>
          <p:nvPr/>
        </p:nvSpPr>
        <p:spPr>
          <a:xfrm>
            <a:off x="4211640" y="5661000"/>
            <a:ext cx="57636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Line 13"/>
          <p:cNvSpPr/>
          <p:nvPr/>
        </p:nvSpPr>
        <p:spPr>
          <a:xfrm>
            <a:off x="7380360" y="2852640"/>
            <a:ext cx="57636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Line 14"/>
          <p:cNvSpPr/>
          <p:nvPr/>
        </p:nvSpPr>
        <p:spPr>
          <a:xfrm>
            <a:off x="7380360" y="4076640"/>
            <a:ext cx="57636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Line 15"/>
          <p:cNvSpPr/>
          <p:nvPr/>
        </p:nvSpPr>
        <p:spPr>
          <a:xfrm>
            <a:off x="7451640" y="5661000"/>
            <a:ext cx="57636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Line 16"/>
          <p:cNvSpPr/>
          <p:nvPr/>
        </p:nvSpPr>
        <p:spPr>
          <a:xfrm flipH="1">
            <a:off x="826560" y="2708280"/>
            <a:ext cx="358920" cy="289080"/>
          </a:xfrm>
          <a:prstGeom prst="line">
            <a:avLst/>
          </a:prstGeom>
          <a:ln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Line 17"/>
          <p:cNvSpPr/>
          <p:nvPr/>
        </p:nvSpPr>
        <p:spPr>
          <a:xfrm>
            <a:off x="826920" y="2708280"/>
            <a:ext cx="358920" cy="289080"/>
          </a:xfrm>
          <a:prstGeom prst="line">
            <a:avLst/>
          </a:prstGeom>
          <a:ln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Line 18"/>
          <p:cNvSpPr/>
          <p:nvPr/>
        </p:nvSpPr>
        <p:spPr>
          <a:xfrm>
            <a:off x="7524720" y="2708280"/>
            <a:ext cx="358920" cy="289080"/>
          </a:xfrm>
          <a:prstGeom prst="line">
            <a:avLst/>
          </a:prstGeom>
          <a:ln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Line 19"/>
          <p:cNvSpPr/>
          <p:nvPr/>
        </p:nvSpPr>
        <p:spPr>
          <a:xfrm>
            <a:off x="4356000" y="3933720"/>
            <a:ext cx="358920" cy="289080"/>
          </a:xfrm>
          <a:prstGeom prst="line">
            <a:avLst/>
          </a:prstGeom>
          <a:ln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Line 20"/>
          <p:cNvSpPr/>
          <p:nvPr/>
        </p:nvSpPr>
        <p:spPr>
          <a:xfrm flipH="1">
            <a:off x="7451280" y="2708280"/>
            <a:ext cx="358920" cy="289080"/>
          </a:xfrm>
          <a:prstGeom prst="line">
            <a:avLst/>
          </a:prstGeom>
          <a:ln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Line 21"/>
          <p:cNvSpPr/>
          <p:nvPr/>
        </p:nvSpPr>
        <p:spPr>
          <a:xfrm flipH="1">
            <a:off x="4284720" y="3933720"/>
            <a:ext cx="358560" cy="289080"/>
          </a:xfrm>
          <a:prstGeom prst="line">
            <a:avLst/>
          </a:prstGeom>
          <a:ln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Line 22"/>
          <p:cNvSpPr/>
          <p:nvPr/>
        </p:nvSpPr>
        <p:spPr>
          <a:xfrm flipH="1">
            <a:off x="826560" y="4076640"/>
            <a:ext cx="358920" cy="28908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Line 24"/>
          <p:cNvSpPr/>
          <p:nvPr/>
        </p:nvSpPr>
        <p:spPr>
          <a:xfrm>
            <a:off x="900000" y="4076640"/>
            <a:ext cx="358920" cy="28908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Oval 25"/>
          <p:cNvSpPr/>
          <p:nvPr/>
        </p:nvSpPr>
        <p:spPr>
          <a:xfrm>
            <a:off x="4140360" y="3716280"/>
            <a:ext cx="720720" cy="7923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Oval 26"/>
          <p:cNvSpPr/>
          <p:nvPr/>
        </p:nvSpPr>
        <p:spPr>
          <a:xfrm>
            <a:off x="7308720" y="2492280"/>
            <a:ext cx="720720" cy="7923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Oval 27"/>
          <p:cNvSpPr/>
          <p:nvPr/>
        </p:nvSpPr>
        <p:spPr>
          <a:xfrm>
            <a:off x="684360" y="3789360"/>
            <a:ext cx="720720" cy="792000"/>
          </a:xfrm>
          <a:prstGeom prst="ellipse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Oval 29"/>
          <p:cNvSpPr/>
          <p:nvPr/>
        </p:nvSpPr>
        <p:spPr>
          <a:xfrm>
            <a:off x="3995640" y="3573360"/>
            <a:ext cx="1008000" cy="1079640"/>
          </a:xfrm>
          <a:prstGeom prst="ellipse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 txBox="1"/>
          <p:nvPr/>
        </p:nvSpPr>
        <p:spPr>
          <a:xfrm>
            <a:off x="539640" y="9806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0000"/>
          </a:bodyPr>
          <a:p>
            <a:pPr marL="238320" indent="-238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ем «Прогностическая оценка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8320" indent="-238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ем «Задания-ловушки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8320" indent="-238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ем «Составление заданий с ловушками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8320" indent="-238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ем «Сопоставление своих действий и результата с образцом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8320" indent="-238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ем «Составление задачи, подобной данной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8320" indent="-238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ем «Классификация задач по способу их решения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8320" indent="-238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ем «Составление задачи по чертежу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8320" indent="-238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ем «Обнаружение причин ошибок и способы их устранения»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8320" indent="-238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8d3e"/>
                </a:solidFill>
                <a:latin typeface="Times New Roman"/>
              </a:rPr>
              <a:t>Приемы оценочной деятельности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 txBox="1"/>
          <p:nvPr/>
        </p:nvSpPr>
        <p:spPr>
          <a:xfrm>
            <a:off x="324000" y="-3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пешность оценивания определяется его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чностью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84" name="Picture 8" descr=""/>
          <p:cNvPicPr/>
          <p:nvPr/>
        </p:nvPicPr>
        <p:blipFill>
          <a:blip r:embed="rId1"/>
          <a:stretch/>
        </p:blipFill>
        <p:spPr>
          <a:xfrm>
            <a:off x="6286680" y="4076640"/>
            <a:ext cx="2857320" cy="23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 txBox="1"/>
          <p:nvPr/>
        </p:nvSpPr>
        <p:spPr>
          <a:xfrm>
            <a:off x="468360" y="-3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альное  самооценивание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станавливает связь между оценкой и индивидуальным прогрессом ученика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86" name="Picture 4" descr="https://ds02.infourok.ru/uploads/ex/0482/000484d9-0300a36c/hello_html_66661477.png"/>
          <p:cNvPicPr/>
          <p:nvPr/>
        </p:nvPicPr>
        <p:blipFill>
          <a:blip r:embed="rId1"/>
          <a:stretch/>
        </p:blipFill>
        <p:spPr>
          <a:xfrm>
            <a:off x="6588000" y="3213000"/>
            <a:ext cx="191304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 txBox="1"/>
          <p:nvPr/>
        </p:nvSpPr>
        <p:spPr>
          <a:xfrm>
            <a:off x="468360" y="620280"/>
            <a:ext cx="648000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1000"/>
          </a:bodyPr>
          <a:p>
            <a:pPr marL="240840" indent="-24084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… входя в состав универсальных учебных действий, оценка и контрольно-оценочная деятельность выступает и как самостоятельный элемент содержания образования, который необходимо формировать и развивать»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8" name="Picture 4" descr="http://i.zarizinz.ru/u/c3/8fcc8ca00411e4be64f54bf2c80d58/-/f_06950d5050957481.gif"/>
          <p:cNvPicPr/>
          <p:nvPr/>
        </p:nvPicPr>
        <p:blipFill>
          <a:blip r:embed="rId1"/>
          <a:stretch/>
        </p:blipFill>
        <p:spPr>
          <a:xfrm>
            <a:off x="6804000" y="4022640"/>
            <a:ext cx="177804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 txBox="1"/>
          <p:nvPr/>
        </p:nvSpPr>
        <p:spPr>
          <a:xfrm>
            <a:off x="503280" y="529920"/>
            <a:ext cx="8183520" cy="7219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ки рабо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 - правильность выполн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ий уровен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нет ошибок)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ше среднег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-2 ошибки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редн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3-4 ошибки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же среднег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много ошибок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овсем не справился с заданием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- красота, аккурат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ий уровен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не нравится, как написал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ше среднег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равится, но есть исправления, недочёты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чень красиво и правильно написал буквы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же среднег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не не нравится: грязно, плохо написано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писано плохо, нельзя прочитать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  индивидуальных  достижений  обучающегос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89" name="Picture 4" descr="5"/>
          <p:cNvPicPr/>
          <p:nvPr/>
        </p:nvPicPr>
        <p:blipFill>
          <a:blip r:embed="rId1"/>
          <a:stretch/>
        </p:blipFill>
        <p:spPr>
          <a:xfrm rot="1118400">
            <a:off x="4322520" y="3562200"/>
            <a:ext cx="1590480" cy="175608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5" descr="учебники 1"/>
          <p:cNvPicPr/>
          <p:nvPr/>
        </p:nvPicPr>
        <p:blipFill>
          <a:blip r:embed="rId2"/>
          <a:stretch/>
        </p:blipFill>
        <p:spPr>
          <a:xfrm>
            <a:off x="2700360" y="3357720"/>
            <a:ext cx="367200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1" name=""/>
          <p:cNvGraphicFramePr/>
          <p:nvPr/>
        </p:nvGraphicFramePr>
        <p:xfrm>
          <a:off x="1403280" y="1197000"/>
          <a:ext cx="6337440" cy="3886200"/>
        </p:xfrm>
        <a:graphic>
          <a:graphicData uri="http://schemas.openxmlformats.org/drawingml/2006/table">
            <a:tbl>
              <a:tblPr/>
              <a:tblGrid>
                <a:gridCol w="3165480"/>
                <a:gridCol w="936720"/>
                <a:gridCol w="754200"/>
                <a:gridCol w="753840"/>
                <a:gridCol w="727200"/>
              </a:tblGrid>
              <a:tr h="228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итерии оценивания знан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омощью каких букв мы обозначаем мягкость согласны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омощью каких букв мы обозначаем твёрдость согласны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е определять звонкие  и глухие согласны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е определять твёрдые и мягкие согласны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ись буквами  звуковой записи сл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е правильно и без ошибок списывать текс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е делить слова на слог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е ставит удар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е использовать правила на  написание жи-ши, ча-ща, чу-щ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исание разделительных Ъ и 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2" name="Oval 50"/>
          <p:cNvSpPr/>
          <p:nvPr/>
        </p:nvSpPr>
        <p:spPr>
          <a:xfrm>
            <a:off x="5796000" y="1989000"/>
            <a:ext cx="237960" cy="247680"/>
          </a:xfrm>
          <a:prstGeom prst="ellipse">
            <a:avLst/>
          </a:prstGeom>
          <a:solidFill>
            <a:srgbClr val="9bbb59"/>
          </a:solidFill>
          <a:ln w="0">
            <a:noFill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Rectangle 49"/>
          <p:cNvSpPr/>
          <p:nvPr/>
        </p:nvSpPr>
        <p:spPr>
          <a:xfrm>
            <a:off x="4859280" y="4869000"/>
            <a:ext cx="171360" cy="19980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Rectangle 47"/>
          <p:cNvSpPr/>
          <p:nvPr/>
        </p:nvSpPr>
        <p:spPr>
          <a:xfrm>
            <a:off x="4859280" y="4581360"/>
            <a:ext cx="171360" cy="20016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AutoShape 45"/>
          <p:cNvSpPr/>
          <p:nvPr/>
        </p:nvSpPr>
        <p:spPr>
          <a:xfrm>
            <a:off x="4859280" y="3284640"/>
            <a:ext cx="209520" cy="21888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AutoShape 43"/>
          <p:cNvSpPr/>
          <p:nvPr/>
        </p:nvSpPr>
        <p:spPr>
          <a:xfrm>
            <a:off x="5724360" y="4508640"/>
            <a:ext cx="257400" cy="247680"/>
          </a:xfrm>
          <a:custGeom>
            <a:avLst/>
            <a:gdLst>
              <a:gd name="textAreaLeft" fmla="*/ 79560 w 257400"/>
              <a:gd name="textAreaRight" fmla="*/ 177840 w 257400"/>
              <a:gd name="textAreaTop" fmla="*/ 94680 h 247680"/>
              <a:gd name="textAreaBottom" fmla="*/ 189360 h 247680"/>
            </a:gdLst>
            <a:ahLst/>
            <a:rect l="textAreaLeft" t="textAreaTop" r="textAreaRight" b="textAreaBottom"/>
            <a:pathLst>
              <a:path w="257175" h="247650">
                <a:moveTo>
                  <a:pt x="0" y="94594"/>
                </a:moveTo>
                <a:lnTo>
                  <a:pt x="98233" y="94594"/>
                </a:lnTo>
                <a:lnTo>
                  <a:pt x="128588" y="0"/>
                </a:lnTo>
                <a:lnTo>
                  <a:pt x="158942" y="94594"/>
                </a:lnTo>
                <a:lnTo>
                  <a:pt x="257175" y="94594"/>
                </a:lnTo>
                <a:lnTo>
                  <a:pt x="177703" y="153055"/>
                </a:lnTo>
                <a:lnTo>
                  <a:pt x="208059" y="247649"/>
                </a:lnTo>
                <a:lnTo>
                  <a:pt x="128588" y="189186"/>
                </a:lnTo>
                <a:lnTo>
                  <a:pt x="49116" y="247649"/>
                </a:lnTo>
                <a:lnTo>
                  <a:pt x="79472" y="153055"/>
                </a:lnTo>
                <a:close/>
              </a:path>
            </a:pathLst>
          </a:custGeom>
          <a:solidFill>
            <a:srgbClr val="9bbb59"/>
          </a:solidFill>
          <a:ln w="0">
            <a:noFill/>
          </a:ln>
          <a:effectLst>
            <a:outerShdw dist="28496" dir="3825519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AutoShape 39"/>
          <p:cNvSpPr/>
          <p:nvPr/>
        </p:nvSpPr>
        <p:spPr>
          <a:xfrm>
            <a:off x="5724360" y="3933720"/>
            <a:ext cx="257400" cy="247680"/>
          </a:xfrm>
          <a:custGeom>
            <a:avLst/>
            <a:gdLst>
              <a:gd name="textAreaLeft" fmla="*/ 79560 w 257400"/>
              <a:gd name="textAreaRight" fmla="*/ 177840 w 257400"/>
              <a:gd name="textAreaTop" fmla="*/ 94680 h 247680"/>
              <a:gd name="textAreaBottom" fmla="*/ 189360 h 247680"/>
            </a:gdLst>
            <a:ahLst/>
            <a:rect l="textAreaLeft" t="textAreaTop" r="textAreaRight" b="textAreaBottom"/>
            <a:pathLst>
              <a:path w="257175" h="247650">
                <a:moveTo>
                  <a:pt x="0" y="94594"/>
                </a:moveTo>
                <a:lnTo>
                  <a:pt x="98233" y="94594"/>
                </a:lnTo>
                <a:lnTo>
                  <a:pt x="128588" y="0"/>
                </a:lnTo>
                <a:lnTo>
                  <a:pt x="158942" y="94594"/>
                </a:lnTo>
                <a:lnTo>
                  <a:pt x="257175" y="94594"/>
                </a:lnTo>
                <a:lnTo>
                  <a:pt x="177703" y="153055"/>
                </a:lnTo>
                <a:lnTo>
                  <a:pt x="208059" y="247649"/>
                </a:lnTo>
                <a:lnTo>
                  <a:pt x="128588" y="189186"/>
                </a:lnTo>
                <a:lnTo>
                  <a:pt x="49116" y="247649"/>
                </a:lnTo>
                <a:lnTo>
                  <a:pt x="79472" y="153055"/>
                </a:lnTo>
                <a:close/>
              </a:path>
            </a:pathLst>
          </a:custGeom>
          <a:solidFill>
            <a:srgbClr val="9bbb59"/>
          </a:solidFill>
          <a:ln w="0">
            <a:noFill/>
          </a:ln>
          <a:effectLst>
            <a:outerShdw dist="28496" dir="3825519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AutoShape 34"/>
          <p:cNvSpPr/>
          <p:nvPr/>
        </p:nvSpPr>
        <p:spPr>
          <a:xfrm>
            <a:off x="5724360" y="3573360"/>
            <a:ext cx="257400" cy="247680"/>
          </a:xfrm>
          <a:custGeom>
            <a:avLst/>
            <a:gdLst>
              <a:gd name="textAreaLeft" fmla="*/ 79560 w 257400"/>
              <a:gd name="textAreaRight" fmla="*/ 177840 w 257400"/>
              <a:gd name="textAreaTop" fmla="*/ 94680 h 247680"/>
              <a:gd name="textAreaBottom" fmla="*/ 189360 h 247680"/>
            </a:gdLst>
            <a:ahLst/>
            <a:rect l="textAreaLeft" t="textAreaTop" r="textAreaRight" b="textAreaBottom"/>
            <a:pathLst>
              <a:path w="257175" h="247650">
                <a:moveTo>
                  <a:pt x="0" y="94594"/>
                </a:moveTo>
                <a:lnTo>
                  <a:pt x="98233" y="94594"/>
                </a:lnTo>
                <a:lnTo>
                  <a:pt x="128588" y="0"/>
                </a:lnTo>
                <a:lnTo>
                  <a:pt x="158942" y="94594"/>
                </a:lnTo>
                <a:lnTo>
                  <a:pt x="257175" y="94594"/>
                </a:lnTo>
                <a:lnTo>
                  <a:pt x="177703" y="153055"/>
                </a:lnTo>
                <a:lnTo>
                  <a:pt x="208059" y="247649"/>
                </a:lnTo>
                <a:lnTo>
                  <a:pt x="128588" y="189186"/>
                </a:lnTo>
                <a:lnTo>
                  <a:pt x="49116" y="247649"/>
                </a:lnTo>
                <a:lnTo>
                  <a:pt x="79472" y="153055"/>
                </a:lnTo>
                <a:close/>
              </a:path>
            </a:pathLst>
          </a:custGeom>
          <a:solidFill>
            <a:srgbClr val="9bbb59"/>
          </a:solidFill>
          <a:ln w="0">
            <a:noFill/>
          </a:ln>
          <a:effectLst>
            <a:outerShdw dist="28496" dir="3825519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Rectangle 46"/>
          <p:cNvSpPr/>
          <p:nvPr/>
        </p:nvSpPr>
        <p:spPr>
          <a:xfrm>
            <a:off x="5796000" y="3284640"/>
            <a:ext cx="171360" cy="19980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Rectangle 44"/>
          <p:cNvSpPr/>
          <p:nvPr/>
        </p:nvSpPr>
        <p:spPr>
          <a:xfrm>
            <a:off x="5796000" y="2997360"/>
            <a:ext cx="171360" cy="19980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Rectangle 35"/>
          <p:cNvSpPr/>
          <p:nvPr/>
        </p:nvSpPr>
        <p:spPr>
          <a:xfrm>
            <a:off x="4859280" y="2997360"/>
            <a:ext cx="171360" cy="19980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AutoShape 38"/>
          <p:cNvSpPr/>
          <p:nvPr/>
        </p:nvSpPr>
        <p:spPr>
          <a:xfrm>
            <a:off x="4788000" y="3573360"/>
            <a:ext cx="257040" cy="247680"/>
          </a:xfrm>
          <a:custGeom>
            <a:avLst/>
            <a:gdLst>
              <a:gd name="textAreaLeft" fmla="*/ 79200 w 257040"/>
              <a:gd name="textAreaRight" fmla="*/ 177840 w 257040"/>
              <a:gd name="textAreaTop" fmla="*/ 94680 h 247680"/>
              <a:gd name="textAreaBottom" fmla="*/ 189360 h 247680"/>
            </a:gdLst>
            <a:ahLst/>
            <a:rect l="textAreaLeft" t="textAreaTop" r="textAreaRight" b="textAreaBottom"/>
            <a:pathLst>
              <a:path w="257175" h="247650">
                <a:moveTo>
                  <a:pt x="0" y="94594"/>
                </a:moveTo>
                <a:lnTo>
                  <a:pt x="98233" y="94594"/>
                </a:lnTo>
                <a:lnTo>
                  <a:pt x="128588" y="0"/>
                </a:lnTo>
                <a:lnTo>
                  <a:pt x="158942" y="94594"/>
                </a:lnTo>
                <a:lnTo>
                  <a:pt x="257175" y="94594"/>
                </a:lnTo>
                <a:lnTo>
                  <a:pt x="177703" y="153055"/>
                </a:lnTo>
                <a:lnTo>
                  <a:pt x="208059" y="247649"/>
                </a:lnTo>
                <a:lnTo>
                  <a:pt x="128588" y="189186"/>
                </a:lnTo>
                <a:lnTo>
                  <a:pt x="49116" y="247649"/>
                </a:lnTo>
                <a:lnTo>
                  <a:pt x="79472" y="153055"/>
                </a:lnTo>
                <a:close/>
              </a:path>
            </a:pathLst>
          </a:custGeom>
          <a:solidFill>
            <a:srgbClr val="9bbb59"/>
          </a:solidFill>
          <a:ln w="0">
            <a:noFill/>
          </a:ln>
          <a:effectLst>
            <a:outerShdw dist="28496" dir="3825519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AutoShape 40"/>
          <p:cNvSpPr/>
          <p:nvPr/>
        </p:nvSpPr>
        <p:spPr>
          <a:xfrm>
            <a:off x="5724360" y="2492280"/>
            <a:ext cx="257400" cy="247680"/>
          </a:xfrm>
          <a:custGeom>
            <a:avLst/>
            <a:gdLst>
              <a:gd name="textAreaLeft" fmla="*/ 79560 w 257400"/>
              <a:gd name="textAreaRight" fmla="*/ 177840 w 257400"/>
              <a:gd name="textAreaTop" fmla="*/ 94680 h 247680"/>
              <a:gd name="textAreaBottom" fmla="*/ 189360 h 247680"/>
            </a:gdLst>
            <a:ahLst/>
            <a:rect l="textAreaLeft" t="textAreaTop" r="textAreaRight" b="textAreaBottom"/>
            <a:pathLst>
              <a:path w="257175" h="247650">
                <a:moveTo>
                  <a:pt x="0" y="94594"/>
                </a:moveTo>
                <a:lnTo>
                  <a:pt x="98233" y="94594"/>
                </a:lnTo>
                <a:lnTo>
                  <a:pt x="128588" y="0"/>
                </a:lnTo>
                <a:lnTo>
                  <a:pt x="158942" y="94594"/>
                </a:lnTo>
                <a:lnTo>
                  <a:pt x="257175" y="94594"/>
                </a:lnTo>
                <a:lnTo>
                  <a:pt x="177703" y="153055"/>
                </a:lnTo>
                <a:lnTo>
                  <a:pt x="208059" y="247649"/>
                </a:lnTo>
                <a:lnTo>
                  <a:pt x="128588" y="189186"/>
                </a:lnTo>
                <a:lnTo>
                  <a:pt x="49116" y="247649"/>
                </a:lnTo>
                <a:lnTo>
                  <a:pt x="79472" y="153055"/>
                </a:lnTo>
                <a:close/>
              </a:path>
            </a:pathLst>
          </a:custGeom>
          <a:solidFill>
            <a:srgbClr val="9bbb59"/>
          </a:solidFill>
          <a:ln w="0">
            <a:noFill/>
          </a:ln>
          <a:effectLst>
            <a:outerShdw dist="28496" dir="3825519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AutoShape 42"/>
          <p:cNvSpPr/>
          <p:nvPr/>
        </p:nvSpPr>
        <p:spPr>
          <a:xfrm>
            <a:off x="5724360" y="4869000"/>
            <a:ext cx="257400" cy="247680"/>
          </a:xfrm>
          <a:custGeom>
            <a:avLst/>
            <a:gdLst>
              <a:gd name="textAreaLeft" fmla="*/ 79560 w 257400"/>
              <a:gd name="textAreaRight" fmla="*/ 177840 w 257400"/>
              <a:gd name="textAreaTop" fmla="*/ 94680 h 247680"/>
              <a:gd name="textAreaBottom" fmla="*/ 189360 h 247680"/>
            </a:gdLst>
            <a:ahLst/>
            <a:rect l="textAreaLeft" t="textAreaTop" r="textAreaRight" b="textAreaBottom"/>
            <a:pathLst>
              <a:path w="257175" h="247650">
                <a:moveTo>
                  <a:pt x="0" y="94594"/>
                </a:moveTo>
                <a:lnTo>
                  <a:pt x="98233" y="94594"/>
                </a:lnTo>
                <a:lnTo>
                  <a:pt x="128588" y="0"/>
                </a:lnTo>
                <a:lnTo>
                  <a:pt x="158942" y="94594"/>
                </a:lnTo>
                <a:lnTo>
                  <a:pt x="257175" y="94594"/>
                </a:lnTo>
                <a:lnTo>
                  <a:pt x="177703" y="153055"/>
                </a:lnTo>
                <a:lnTo>
                  <a:pt x="208059" y="247649"/>
                </a:lnTo>
                <a:lnTo>
                  <a:pt x="128588" y="189186"/>
                </a:lnTo>
                <a:lnTo>
                  <a:pt x="49116" y="247649"/>
                </a:lnTo>
                <a:lnTo>
                  <a:pt x="79472" y="153055"/>
                </a:lnTo>
                <a:close/>
              </a:path>
            </a:pathLst>
          </a:custGeom>
          <a:solidFill>
            <a:srgbClr val="9bbb59"/>
          </a:solidFill>
          <a:ln w="0">
            <a:noFill/>
          </a:ln>
          <a:effectLst>
            <a:outerShdw dist="28496" dir="3825519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AutoShape 36"/>
          <p:cNvSpPr/>
          <p:nvPr/>
        </p:nvSpPr>
        <p:spPr>
          <a:xfrm>
            <a:off x="4788000" y="4149720"/>
            <a:ext cx="257040" cy="247680"/>
          </a:xfrm>
          <a:custGeom>
            <a:avLst/>
            <a:gdLst>
              <a:gd name="textAreaLeft" fmla="*/ 79200 w 257040"/>
              <a:gd name="textAreaRight" fmla="*/ 177840 w 257040"/>
              <a:gd name="textAreaTop" fmla="*/ 94680 h 247680"/>
              <a:gd name="textAreaBottom" fmla="*/ 189360 h 247680"/>
            </a:gdLst>
            <a:ahLst/>
            <a:rect l="textAreaLeft" t="textAreaTop" r="textAreaRight" b="textAreaBottom"/>
            <a:pathLst>
              <a:path w="257175" h="247650">
                <a:moveTo>
                  <a:pt x="0" y="94594"/>
                </a:moveTo>
                <a:lnTo>
                  <a:pt x="98233" y="94594"/>
                </a:lnTo>
                <a:lnTo>
                  <a:pt x="128588" y="0"/>
                </a:lnTo>
                <a:lnTo>
                  <a:pt x="158942" y="94594"/>
                </a:lnTo>
                <a:lnTo>
                  <a:pt x="257175" y="94594"/>
                </a:lnTo>
                <a:lnTo>
                  <a:pt x="177703" y="153055"/>
                </a:lnTo>
                <a:lnTo>
                  <a:pt x="208059" y="247649"/>
                </a:lnTo>
                <a:lnTo>
                  <a:pt x="128588" y="189186"/>
                </a:lnTo>
                <a:lnTo>
                  <a:pt x="49116" y="247649"/>
                </a:lnTo>
                <a:lnTo>
                  <a:pt x="79472" y="153055"/>
                </a:lnTo>
                <a:close/>
              </a:path>
            </a:pathLst>
          </a:custGeom>
          <a:solidFill>
            <a:srgbClr val="9bbb59"/>
          </a:solidFill>
          <a:ln w="0">
            <a:noFill/>
          </a:ln>
          <a:effectLst>
            <a:outerShdw dist="28496" dir="3825519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AutoShape 48"/>
          <p:cNvSpPr/>
          <p:nvPr/>
        </p:nvSpPr>
        <p:spPr>
          <a:xfrm>
            <a:off x="5724360" y="4221000"/>
            <a:ext cx="257400" cy="247680"/>
          </a:xfrm>
          <a:custGeom>
            <a:avLst/>
            <a:gdLst>
              <a:gd name="textAreaLeft" fmla="*/ 79560 w 257400"/>
              <a:gd name="textAreaRight" fmla="*/ 177840 w 257400"/>
              <a:gd name="textAreaTop" fmla="*/ 94680 h 247680"/>
              <a:gd name="textAreaBottom" fmla="*/ 189360 h 247680"/>
            </a:gdLst>
            <a:ahLst/>
            <a:rect l="textAreaLeft" t="textAreaTop" r="textAreaRight" b="textAreaBottom"/>
            <a:pathLst>
              <a:path w="257175" h="247650">
                <a:moveTo>
                  <a:pt x="0" y="94594"/>
                </a:moveTo>
                <a:lnTo>
                  <a:pt x="98233" y="94594"/>
                </a:lnTo>
                <a:lnTo>
                  <a:pt x="128588" y="0"/>
                </a:lnTo>
                <a:lnTo>
                  <a:pt x="158942" y="94594"/>
                </a:lnTo>
                <a:lnTo>
                  <a:pt x="257175" y="94594"/>
                </a:lnTo>
                <a:lnTo>
                  <a:pt x="177703" y="153055"/>
                </a:lnTo>
                <a:lnTo>
                  <a:pt x="208059" y="247649"/>
                </a:lnTo>
                <a:lnTo>
                  <a:pt x="128588" y="189186"/>
                </a:lnTo>
                <a:lnTo>
                  <a:pt x="49116" y="247649"/>
                </a:lnTo>
                <a:lnTo>
                  <a:pt x="79472" y="153055"/>
                </a:lnTo>
                <a:close/>
              </a:path>
            </a:pathLst>
          </a:custGeom>
          <a:solidFill>
            <a:srgbClr val="9bbb59"/>
          </a:solidFill>
          <a:ln w="0">
            <a:noFill/>
          </a:ln>
          <a:effectLst>
            <a:outerShdw dist="28496" dir="3825519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Oval 52"/>
          <p:cNvSpPr/>
          <p:nvPr/>
        </p:nvSpPr>
        <p:spPr>
          <a:xfrm>
            <a:off x="4859280" y="1557360"/>
            <a:ext cx="238320" cy="247680"/>
          </a:xfrm>
          <a:prstGeom prst="ellipse">
            <a:avLst/>
          </a:prstGeom>
          <a:solidFill>
            <a:srgbClr val="9bbb59"/>
          </a:solidFill>
          <a:ln w="0">
            <a:noFill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Oval 51"/>
          <p:cNvSpPr/>
          <p:nvPr/>
        </p:nvSpPr>
        <p:spPr>
          <a:xfrm>
            <a:off x="468360" y="5516640"/>
            <a:ext cx="237960" cy="228600"/>
          </a:xfrm>
          <a:prstGeom prst="ellipse">
            <a:avLst/>
          </a:prstGeom>
          <a:solidFill>
            <a:srgbClr val="c0504d"/>
          </a:solidFill>
          <a:ln w="0">
            <a:noFill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Rectangle 41"/>
          <p:cNvSpPr/>
          <p:nvPr/>
        </p:nvSpPr>
        <p:spPr>
          <a:xfrm>
            <a:off x="4859280" y="3933720"/>
            <a:ext cx="171360" cy="20016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Rectangle 37"/>
          <p:cNvSpPr/>
          <p:nvPr/>
        </p:nvSpPr>
        <p:spPr>
          <a:xfrm>
            <a:off x="2987640" y="5589720"/>
            <a:ext cx="171360" cy="19980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Rectangle 54"/>
          <p:cNvSpPr/>
          <p:nvPr/>
        </p:nvSpPr>
        <p:spPr>
          <a:xfrm>
            <a:off x="2103480" y="364320"/>
            <a:ext cx="493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детельство по русскому язык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__  __кла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Oval 58"/>
          <p:cNvSpPr/>
          <p:nvPr/>
        </p:nvSpPr>
        <p:spPr>
          <a:xfrm>
            <a:off x="468360" y="5229360"/>
            <a:ext cx="237960" cy="247680"/>
          </a:xfrm>
          <a:prstGeom prst="ellipse">
            <a:avLst/>
          </a:prstGeom>
          <a:solidFill>
            <a:srgbClr val="9bbb59"/>
          </a:solidFill>
          <a:ln w="0">
            <a:noFill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Rectangle 57"/>
          <p:cNvSpPr/>
          <p:nvPr/>
        </p:nvSpPr>
        <p:spPr>
          <a:xfrm>
            <a:off x="4859280" y="2492280"/>
            <a:ext cx="171360" cy="20016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AutoShape 55"/>
          <p:cNvSpPr/>
          <p:nvPr/>
        </p:nvSpPr>
        <p:spPr>
          <a:xfrm>
            <a:off x="2987640" y="5877000"/>
            <a:ext cx="209520" cy="21888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AutoShape 59"/>
          <p:cNvSpPr/>
          <p:nvPr/>
        </p:nvSpPr>
        <p:spPr>
          <a:xfrm>
            <a:off x="2916360" y="5229360"/>
            <a:ext cx="257040" cy="247680"/>
          </a:xfrm>
          <a:custGeom>
            <a:avLst/>
            <a:gdLst>
              <a:gd name="textAreaLeft" fmla="*/ 79200 w 257040"/>
              <a:gd name="textAreaRight" fmla="*/ 177840 w 257040"/>
              <a:gd name="textAreaTop" fmla="*/ 94680 h 247680"/>
              <a:gd name="textAreaBottom" fmla="*/ 189360 h 247680"/>
            </a:gdLst>
            <a:ahLst/>
            <a:rect l="textAreaLeft" t="textAreaTop" r="textAreaRight" b="textAreaBottom"/>
            <a:pathLst>
              <a:path w="257175" h="247650">
                <a:moveTo>
                  <a:pt x="0" y="94594"/>
                </a:moveTo>
                <a:lnTo>
                  <a:pt x="98233" y="94594"/>
                </a:lnTo>
                <a:lnTo>
                  <a:pt x="128588" y="0"/>
                </a:lnTo>
                <a:lnTo>
                  <a:pt x="158942" y="94594"/>
                </a:lnTo>
                <a:lnTo>
                  <a:pt x="257175" y="94594"/>
                </a:lnTo>
                <a:lnTo>
                  <a:pt x="177703" y="153055"/>
                </a:lnTo>
                <a:lnTo>
                  <a:pt x="208059" y="247649"/>
                </a:lnTo>
                <a:lnTo>
                  <a:pt x="128588" y="189186"/>
                </a:lnTo>
                <a:lnTo>
                  <a:pt x="49116" y="247649"/>
                </a:lnTo>
                <a:lnTo>
                  <a:pt x="79472" y="153055"/>
                </a:lnTo>
                <a:close/>
              </a:path>
            </a:pathLst>
          </a:custGeom>
          <a:solidFill>
            <a:srgbClr val="9bbb59"/>
          </a:solidFill>
          <a:ln w="0">
            <a:noFill/>
          </a:ln>
          <a:effectLst>
            <a:outerShdw dist="28496" dir="3825519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Oval 56"/>
          <p:cNvSpPr/>
          <p:nvPr/>
        </p:nvSpPr>
        <p:spPr>
          <a:xfrm>
            <a:off x="4859280" y="2060640"/>
            <a:ext cx="238320" cy="228600"/>
          </a:xfrm>
          <a:prstGeom prst="ellipse">
            <a:avLst/>
          </a:prstGeom>
          <a:solidFill>
            <a:srgbClr val="c0504d"/>
          </a:solidFill>
          <a:ln w="0">
            <a:noFill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Rectangle 60"/>
          <p:cNvSpPr/>
          <p:nvPr/>
        </p:nvSpPr>
        <p:spPr>
          <a:xfrm>
            <a:off x="179280" y="5607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Rectangle 61"/>
          <p:cNvSpPr/>
          <p:nvPr/>
        </p:nvSpPr>
        <p:spPr>
          <a:xfrm>
            <a:off x="337320" y="5177160"/>
            <a:ext cx="672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знаю                           -  вся работа  выполнена верн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Rectangle 63"/>
          <p:cNvSpPr/>
          <p:nvPr/>
        </p:nvSpPr>
        <p:spPr>
          <a:xfrm>
            <a:off x="-11880" y="1446480"/>
            <a:ext cx="249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Прямоугольник 65"/>
          <p:cNvSpPr/>
          <p:nvPr/>
        </p:nvSpPr>
        <p:spPr>
          <a:xfrm>
            <a:off x="684360" y="544500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 знаю                  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  выполнена  верн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Прямоугольник 66"/>
          <p:cNvSpPr/>
          <p:nvPr/>
        </p:nvSpPr>
        <p:spPr>
          <a:xfrm>
            <a:off x="3203640" y="5516640"/>
            <a:ext cx="450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ловина работы выполнена верн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Прямоугольник 67"/>
          <p:cNvSpPr/>
          <p:nvPr/>
        </p:nvSpPr>
        <p:spPr>
          <a:xfrm>
            <a:off x="3276720" y="580536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еньше половины работы  выполнено верн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Oval 52"/>
          <p:cNvSpPr/>
          <p:nvPr/>
        </p:nvSpPr>
        <p:spPr>
          <a:xfrm>
            <a:off x="5796000" y="1557360"/>
            <a:ext cx="237960" cy="247680"/>
          </a:xfrm>
          <a:prstGeom prst="ellipse">
            <a:avLst/>
          </a:prstGeom>
          <a:solidFill>
            <a:srgbClr val="9bbb59"/>
          </a:solidFill>
          <a:ln w="0">
            <a:noFill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WordArt 5"/>
          <p:cNvSpPr txBox="1"/>
          <p:nvPr/>
        </p:nvSpPr>
        <p:spPr>
          <a:xfrm>
            <a:off x="1116000" y="404640"/>
            <a:ext cx="734364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РТФОЛИО</a:t>
            </a:r>
            <a:endParaRPr b="1" lang="en-US" sz="32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ченика</a:t>
            </a:r>
            <a:endParaRPr b="1" lang="en-US" sz="32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25" name="Picture 5" descr=""/>
          <p:cNvPicPr/>
          <p:nvPr/>
        </p:nvPicPr>
        <p:blipFill>
          <a:blip r:embed="rId1"/>
          <a:stretch/>
        </p:blipFill>
        <p:spPr>
          <a:xfrm>
            <a:off x="2556000" y="2349360"/>
            <a:ext cx="424152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 txBox="1"/>
          <p:nvPr/>
        </p:nvSpPr>
        <p:spPr>
          <a:xfrm>
            <a:off x="539640" y="-360"/>
            <a:ext cx="8183520" cy="445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1000"/>
          </a:bodyPr>
          <a:p>
            <a:pPr marL="214560" indent="-2145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14560" indent="-2145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АК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4560" indent="-2145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оценивание должно начинаться с первого дня обучения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14560" indent="-2145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при оценивании необходимо опираться на успех ребенка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14560" indent="-2145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оценивание должно осуществляться последовательно от оценки организационной стороны деятельности к оценке ее содержания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14560" indent="-2145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оценка обязательно должна вырисовывать перспективы ребенку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14560" indent="-2145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оценка должна осуществляться на основе четких, понятных ребенку критериев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14560" indent="-2145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оценочная деятельность должна распространяться не только на предметные результаты, но и учебную деятельность, общеучебные навыки, познавательную активность ребенка, его прилежание и старание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14560" indent="-2145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 оценивание должно проводиться в системе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14560" indent="-214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7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7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7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7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7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7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68360" y="1125360"/>
            <a:ext cx="8291520" cy="36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Оценка – это правильное </a:t>
            </a:r>
            <a:br>
              <a:rPr sz="3600"/>
            </a:b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кровообращение,</a:t>
            </a:r>
            <a:br>
              <a:rPr sz="3600"/>
            </a:b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без нее неизбежны застой и </a:t>
            </a:r>
            <a:br>
              <a:rPr sz="3600"/>
            </a:b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болезненные явления.</a:t>
            </a: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ff8d3e"/>
                </a:solidFill>
                <a:latin typeface="Verdana"/>
              </a:rPr>
              <a:t>Н. Островский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p:transition spd="slow">
    <p:wheel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8d3e"/>
                </a:solidFill>
                <a:latin typeface="Verdana"/>
              </a:rPr>
              <a:t>Спасибо за внимание!</a:t>
            </a:r>
            <a:endParaRPr b="1" lang="en-US" sz="4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729" name="Picture 4" descr="http://vulka-obr.ivacevichi.edu.by/be/sm.aspx?guid=1973"/>
          <p:cNvPicPr/>
          <p:nvPr/>
        </p:nvPicPr>
        <p:blipFill>
          <a:blip r:embed="rId1"/>
          <a:stretch/>
        </p:blipFill>
        <p:spPr>
          <a:xfrm>
            <a:off x="2556000" y="2205000"/>
            <a:ext cx="409572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 txBox="1"/>
          <p:nvPr/>
        </p:nvSpPr>
        <p:spPr>
          <a:xfrm>
            <a:off x="468000" y="1196640"/>
            <a:ext cx="8218440" cy="4933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ва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определение позитивных и негативных моментов деятельност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ва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контроль качества образова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вани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инструмент, позволяющий определять развитие, прогресс в преподавательской деятельност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ва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способ коррекции деятельности обучаемых, с помощью которого учитель определяет уровень подготовленности ученик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ва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взгляд на свои действия и поступки, результаты своей деятельност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Что такое оценивание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1000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1000"/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1000"/>
                                        <p:tgtEl>
                                          <p:spTgt spid="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1000"/>
                                        <p:tgtEl>
                                          <p:spTgt spid="7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1000"/>
                                        <p:tgtEl>
                                          <p:spTgt spid="7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Способы осуществления оценивания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610920" y="1483920"/>
            <a:ext cx="393228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енный показатель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тк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 тестирования в баллах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4716000" y="1483920"/>
            <a:ext cx="393228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ественный показатель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есные высказывания о процессе и результате работы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ональная реакци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Принципы оценочной деятельности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250560" y="1267920"/>
            <a:ext cx="8569080" cy="4464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5000"/>
          </a:bodyPr>
          <a:p>
            <a:pPr marL="251640" indent="-25164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вание является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ым процессо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стественным образом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рованны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образовательную практику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1640" indent="-25164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вание может быть только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альны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1640" indent="-25164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ваться с помощью отметки могут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результаты деятель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ченика, но не его личные качеств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1640" indent="-25164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вать можно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то, чему уча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1640" indent="-25164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 и алгоритм выставления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тки заранее известн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педагогам, и обучающимся, и могут вырабатываться ими совместн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1640" indent="-25164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оценивания выстраивается таким образом, чтобы учащиеся включались в контрольно-оценочную деятельность, приобретая навыки и привычку к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оценк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1640" indent="-2516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1640" indent="-2516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1640" indent="-2516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В системе оценивания в начальной школе используются: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539640" y="1484280"/>
            <a:ext cx="8183520" cy="5113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енняя оценк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ъективные или экспертные и объективизированные методы оценивания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вание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игаемы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разовательных результатов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а их формирования и осознанности каждым обучающимся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обенностей собственного процесса обучения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образные  формы оценивания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льная и  дифференцированная оценк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анализ и самооценк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хс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8183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Times New Roman"/>
              </a:rPr>
              <a:t>Правила новой технологии оценивания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539640" y="105264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5000"/>
          </a:bodyPr>
          <a:p>
            <a:pPr marL="518040" indent="-51804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ценивается любо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особенн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спешное действ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иксируется отметкой только решение полноценной задач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т.е. умения по использованию знан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8040" indent="-51804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итель и ученик по возможност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пределяют оценку в диалог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внешняя оценка +самооценка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8040" indent="-51804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 каждую учебную задач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ли группу заданий, показывающих овладение отдельным умением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авится отдельная отметка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8040" indent="-51804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 задачи, решенные при изучении новой темы, отметка ставится только по желанию учени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так как в процессе овладения умениями и знаниями по теме он имеет право на ошибку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8040" indent="-51804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 каждую задачу проверочной (контрольной) работы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итогам темы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тметки ставятся всем ученикам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к как каждый должен показать, как он овладел умениями и знаниями по теме. Ученик не может отказаться от выставления этой отметки, но имеет право пересдать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8040" indent="-51804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ценка ученика определяется по универсальной шкале трех уровней успешности: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обходимый уровен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знания, соответствующие государственному стандарту, эт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хорошо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граммный уровен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–функциональной грамотности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отлично»; необязательны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максимальный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ровень- «превосходно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864216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а оценивания рассматривается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нтексте проблемы формирования 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но-оценочной самостоятельности младших школьников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основы учебной самостоятельности школьников (основы умения учиться).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596" name="Picture 4" descr="http://foneyes.ru/img/picture/Feb/18/5e242599f8d514218242092aa80f0116/2.jpg"/>
          <p:cNvPicPr/>
          <p:nvPr/>
        </p:nvPicPr>
        <p:blipFill>
          <a:blip r:embed="rId1"/>
          <a:stretch/>
        </p:blipFill>
        <p:spPr>
          <a:xfrm>
            <a:off x="3924360" y="4365720"/>
            <a:ext cx="1660320" cy="21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183520" cy="19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Этапы становления действий контроля и самооценки у младших школьников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395280" y="1773000"/>
            <a:ext cx="8399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этап (I класс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цель в части формирования контрольно-оценочной деятель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ь обучающихся сопоставлять свои действия с заданным образцо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адывается два вида оценк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етроспективная оценка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которой самооценка ученика предшествует учительской оценк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ефлексивная оценка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снове которой лежит способность видеть себя со стороны и способность анализировать собственные действия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 txBox="1"/>
          <p:nvPr/>
        </p:nvSpPr>
        <p:spPr>
          <a:xfrm>
            <a:off x="539640" y="40428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4000"/>
          </a:bodyPr>
          <a:p>
            <a:pPr marL="248760" indent="-248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8760" indent="-248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8760" indent="-24876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оде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го год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учения вводится еще один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ый принцип оценивания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ми и детьми оцениваются только достижения, предъявленные самим ребенком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ействует правило «добавлять, а не вычитать»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Итоги </a:t>
            </a: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I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этапа</a:t>
            </a: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формирования действий контроля и оценки у младших школьников 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Обучающиеся могут: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468360" y="22046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4000"/>
          </a:bodyPr>
          <a:p>
            <a:pPr marL="248760" indent="-2487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ить действие (отдельные операции) и результат с готовым образцом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8760" indent="-2487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заданным критериям оценить свои действия и соотнести свою оценку с оценкой учителя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8760" indent="-2487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ъявить на оценку свои достижения по заданному или назначенному самим ребенком критерию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8760" indent="-2487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ить известное от неизвестного в знаниях (способах действия с предметом), задать «умный» вопрос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8760" indent="-2487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8T17:50:22Z</dcterms:created>
  <dc:creator>777</dc:creator>
  <dc:description/>
  <dc:language>en-US</dc:language>
  <cp:lastModifiedBy>Ольга</cp:lastModifiedBy>
  <dcterms:modified xsi:type="dcterms:W3CDTF">2017-03-29T05:33:37Z</dcterms:modified>
  <cp:revision>314</cp:revision>
  <dc:subject/>
  <dc:title>Место планируемых результатов в общей системе федерального стандарта</dc:title>
</cp:coreProperties>
</file>