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gif" ContentType="image/gif"/>
  <Override PartName="/ppt/media/image6.jpeg" ContentType="image/jpeg"/>
  <Override PartName="/ppt/media/chimes.wav" ContentType="audio/x-wav"/>
  <Override PartName="/ppt/media/image5.jpeg" ContentType="image/jpeg"/>
  <Override PartName="/ppt/media/image7.gif" ContentType="image/gif"/>
  <Override PartName="/ppt/media/drumroll.wav" ContentType="audio/x-wav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7BE-9E3B-42AF-9DEB-686E15A7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2B4-A498-4303-9F13-41982157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A892-0699-418E-9D8B-C4488375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DC0-E8A4-4A75-8B51-B632BF66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7DEA-5256-4BBE-B984-956C9402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CAA7-05EE-431F-929F-34167066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811-C582-43BC-8ED3-E8868DD9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96F2-9D1E-48E2-8B88-349463C1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F1C-585C-4DDE-BC25-1E1F45E8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C20B-E379-460E-817D-B645471E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1F0-7CAB-4E00-A35C-C6039E07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749B-FAA4-4AF8-AFB5-8D4A71EE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5879-5AAD-41D6-9FF7-F4083E6B01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gif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audio" Target="../media/chimes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8"/>
          <p:cNvSpPr/>
          <p:nvPr/>
        </p:nvSpPr>
        <p:spPr>
          <a:xfrm>
            <a:off x="3143160" y="2928960"/>
            <a:ext cx="3286080" cy="1928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6"/>
          <p:cNvSpPr/>
          <p:nvPr/>
        </p:nvSpPr>
        <p:spPr>
          <a:xfrm>
            <a:off x="285840" y="357120"/>
            <a:ext cx="8572320" cy="614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72320" cy="7858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омогло бы перейти улицу героям сказк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«Марта и Чичи идут в парк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User\Downloads\16361498.gif"/>
          <p:cNvPicPr/>
          <p:nvPr/>
        </p:nvPicPr>
        <p:blipFill>
          <a:blip r:embed="rId1"/>
          <a:stretch/>
        </p:blipFill>
        <p:spPr>
          <a:xfrm>
            <a:off x="4857840" y="2928960"/>
            <a:ext cx="1514520" cy="1905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8" name="Picture 5" descr="C:\Users\User\Downloads\svetofor.png"/>
          <p:cNvPicPr/>
          <p:nvPr/>
        </p:nvPicPr>
        <p:blipFill>
          <a:blip r:embed="rId2"/>
          <a:stretch/>
        </p:blipFill>
        <p:spPr>
          <a:xfrm>
            <a:off x="2071800" y="1143000"/>
            <a:ext cx="1604880" cy="221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9" name="Picture 6" descr="C:\Users\User\Downloads\Движение-картинки-для-детей-познавательные-интересные-и-красивые-2.jpg"/>
          <p:cNvPicPr/>
          <p:nvPr/>
        </p:nvPicPr>
        <p:blipFill>
          <a:blip r:embed="rId3"/>
          <a:stretch/>
        </p:blipFill>
        <p:spPr>
          <a:xfrm>
            <a:off x="6572160" y="3571920"/>
            <a:ext cx="2152800" cy="2071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0" name="Picture 7" descr="C:\Users\User\Downloads\пешеходный переход.gif"/>
          <p:cNvPicPr/>
          <p:nvPr/>
        </p:nvPicPr>
        <p:blipFill>
          <a:blip r:embed="rId4"/>
          <a:stretch/>
        </p:blipFill>
        <p:spPr>
          <a:xfrm>
            <a:off x="3214800" y="5000760"/>
            <a:ext cx="2995560" cy="1522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" name="Picture 8" descr="C:\Users\User\Downloads\hello_html_m1fc25ea7.jpg"/>
          <p:cNvPicPr/>
          <p:nvPr/>
        </p:nvPicPr>
        <p:blipFill>
          <a:blip r:embed="rId5"/>
          <a:stretch/>
        </p:blipFill>
        <p:spPr>
          <a:xfrm>
            <a:off x="3000240" y="3000240"/>
            <a:ext cx="1933560" cy="171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User\Downloads\image002.jpg"/>
          <p:cNvPicPr/>
          <p:nvPr/>
        </p:nvPicPr>
        <p:blipFill>
          <a:blip r:embed="rId6"/>
          <a:stretch/>
        </p:blipFill>
        <p:spPr>
          <a:xfrm>
            <a:off x="500040" y="3714840"/>
            <a:ext cx="2357640" cy="1971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3" name="Блок-схема: узел 19"/>
          <p:cNvSpPr/>
          <p:nvPr/>
        </p:nvSpPr>
        <p:spPr>
          <a:xfrm>
            <a:off x="2571840" y="1857240"/>
            <a:ext cx="285840" cy="28584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Блок-схема: узел 20"/>
          <p:cNvSpPr/>
          <p:nvPr/>
        </p:nvSpPr>
        <p:spPr>
          <a:xfrm>
            <a:off x="2571840" y="2143080"/>
            <a:ext cx="285840" cy="28584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Блок-схема: узел 21"/>
          <p:cNvSpPr/>
          <p:nvPr/>
        </p:nvSpPr>
        <p:spPr>
          <a:xfrm>
            <a:off x="2571840" y="2428920"/>
            <a:ext cx="285840" cy="28584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User\Downloads\19436989.gif"/>
          <p:cNvPicPr/>
          <p:nvPr/>
        </p:nvPicPr>
        <p:blipFill>
          <a:blip r:embed="rId7"/>
          <a:stretch/>
        </p:blipFill>
        <p:spPr>
          <a:xfrm>
            <a:off x="5643720" y="1643040"/>
            <a:ext cx="896760" cy="1162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" name="Picture 24" descr="C:\Users\User\Downloads\hand-gesture-raising-the-index-finger_318-47175.jpg"/>
          <p:cNvPicPr/>
          <p:nvPr/>
        </p:nvPicPr>
        <p:blipFill>
          <a:blip r:embed="rId8"/>
          <a:stretch/>
        </p:blipFill>
        <p:spPr>
          <a:xfrm>
            <a:off x="3929040" y="1714680"/>
            <a:ext cx="428760" cy="428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8" name="Picture 24" descr="C:\Users\User\Downloads\hand-gesture-raising-the-index-finger_318-47175.jpg"/>
          <p:cNvPicPr/>
          <p:nvPr/>
        </p:nvPicPr>
        <p:blipFill>
          <a:blip r:embed="rId9"/>
          <a:stretch/>
        </p:blipFill>
        <p:spPr>
          <a:xfrm>
            <a:off x="3929040" y="2286000"/>
            <a:ext cx="428760" cy="428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animMotion origin="layout" path="M 0 0 C 0.00417 -0.00857 0.00296 -0.00463 0.00469 -0.01135 C 0.00712 -0.03241 0.00521 -0.05093 0.00278 -0.07176 C 0.00139 -0.08357 0.00035 -0.09815 -0.00486 -0.10811 C -0.00607 -0.11343 -0.00711 -0.11852 -0.00954 -0.12315 C -0.01059 -0.12755 -0.01145 -0.13079 -0.01336 -0.1345 C -0.01631 -0.14769 -0.02604 -0.16158 -0.03315 -0.17107 C -0.03576 -0.17454 -0.04166 -0.17987 -0.04166 -0.17987 C -0.04531 -0.18774 -0.05138 -0.18982 -0.05677 -0.19491 C -0.05781 -0.19584 -0.0585 -0.19769 -0.05954 -0.19862 C -0.06666 -0.2051 -0.08055 -0.20579 -0.08871 -0.2088 C -0.096 -0.20787 -0.10329 -0.20811 -0.11041 -0.20625 C -0.11336 -0.20556 -0.11805 -0.19422 -0.11996 -0.19121 C -0.1217 -0.18866 -0.13333 -0.17454 -0.13593 -0.17223 C -0.1368 -0.16713 -0.1375 -0.16389 -0.13975 -0.15973 C -0.14131 -0.15325 -0.14253 -0.14746 -0.1434 -0.14075 C -0.14305 -0.12894 -0.14444 -0.10811 -0.13975 -0.09561 C -0.13732 -0.08936 -0.13472 -0.08264 -0.13211 -0.07662 C -0.13107 -0.07408 -0.12829 -0.06922 -0.12829 -0.06922 C -0.12673 -0.06227 -0.12864 -0.06737 -0.12361 -0.06158 C -0.1217 -0.05926 -0.11944 -0.05718 -0.11805 -0.05417 C -0.11736 -0.05278 -0.11701 -0.05139 -0.11614 -0.05024 C -0.10729 -0.03959 -0.1125 -0.04792 -0.10486 -0.04028 C -0.08993 -0.02524 -0.07395 -0.01482 -0.05677 -0.0051 C -0.04878 -0.0007 -0.04149 0.00231 -0.03315 0.00509 C -0.03038 0.00601 -0.02743 0.00671 -0.02465 0.00763 C -0.02343 0.0081 -0.02083 0.00879 -0.02083 0.00879 C -0.01388 0.00833 -0.00694 0.00833 0 0.00763 C 0.00382 0.00717 0.00226 0.00601 0.00365 0.00254 C 0.00417 0.00115 0.0066 -0.00047 0.00556 -0.00116 C 0.00382 -0.00232 0.00191 -0.00047 0 0 Z">
                                      <p:cBhvr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animMotion origin="layout" path="M 0 0 C 0.00243 -0.00834 -0.00018 -0.01713 -0.00191 -0.02523 C -0.00538 -0.04121 -0.01163 -0.07292 -0.01875 -0.08542 C -0.02101 -0.09422 -0.02413 -0.10232 -0.0283 -0.10949 C -0.03073 -0.11968 -0.03472 -0.12616 -0.03959 -0.13449 C -0.04775 -0.14838 -0.05469 -0.16389 -0.06702 -0.17223 C -0.0717 -0.18287 -0.08768 -0.19653 -0.09705 -0.2 C -0.10243 -0.20463 -0.11059 -0.20486 -0.11702 -0.20625 C -0.13386 -0.20533 -0.13872 -0.20648 -0.15087 -0.1963 C -0.15469 -0.18843 -0.15191 -0.19329 -0.16129 -0.18357 C -0.16337 -0.18125 -0.16788 -0.17732 -0.16788 -0.17732 C -0.16858 -0.1757 -0.16893 -0.17361 -0.16979 -0.17223 C -0.17049 -0.17107 -0.17188 -0.17084 -0.17257 -0.16968 C -0.17413 -0.16667 -0.17518 -0.16297 -0.17639 -0.15973 C -0.17778 -0.15602 -0.18195 -0.14977 -0.18195 -0.14977 C -0.18525 -0.13727 -0.19167 -0.12685 -0.19531 -0.11435 C -0.19636 -0.11065 -0.1974 -0.10695 -0.19809 -0.10301 C -0.19879 -0.09931 -0.2 -0.0919 -0.2 -0.0919 C -0.19931 -0.07986 -0.19948 -0.06783 -0.19618 -0.05648 C -0.19479 -0.0463 -0.19045 -0.03565 -0.18577 -0.02755 C -0.18438 -0.0213 -0.18264 -0.0206 -0.17917 -0.01644 C -0.17292 -0.0088 -0.16302 0.00463 -0.15469 0.00764 C -0.14896 0.01296 -0.14254 0.01597 -0.13577 0.01759 C -0.11459 0.02824 -0.09375 0.02453 -0.07066 0.02523 C -0.05347 0.02731 -0.03733 0.02569 -0.02066 0.02152 C -0.0158 0.01921 -0.01163 0.01597 -0.0066 0.01389 C -0.00209 0.00995 -0.00174 0.00717 0 0 Z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Motion origin="layout" path="M 0 0 C -0.00156 -0.00648 -0.00295 -0.01065 -0.00556 -0.01644 C -0.00677 -0.01898 -0.00938 -0.02408 -0.00938 -0.02408 C -0.01094 -0.03056 -0.01406 -0.03403 -0.01684 -0.03912 C -0.025 -0.0544 -0.03559 -0.06644 -0.04705 -0.07801 C -0.04948 -0.08287 -0.05452 -0.08635 -0.05834 -0.08935 C -0.0658 -0.09537 -0.07639 -0.10116 -0.0849 -0.10324 C -0.09132 -0.10787 -0.09861 -0.10834 -0.10556 -0.11088 C -0.11042 -0.11065 -0.125 -0.11111 -0.13299 -0.10834 C -0.13611 -0.10718 -0.13837 -0.1044 -0.14149 -0.10324 C -0.14375 -0.10116 -0.14722 -0.10047 -0.14809 -0.09699 C -0.14931 -0.09144 -0.14809 -0.09375 -0.15278 -0.09074 C -0.15434 -0.08357 -0.15243 -0.08959 -0.1566 -0.0831 C -0.15868 -0.07986 -0.15938 -0.07547 -0.16129 -0.07176 C -0.16215 -0.06806 -0.1632 -0.06435 -0.16406 -0.06042 C -0.16372 -0.04792 -0.16389 -0.03519 -0.1632 -0.02269 C -0.16181 0.00393 -0.14948 0.02639 -0.13386 0.04143 C -0.13004 0.04514 -0.12726 0.04884 -0.12257 0.05023 C -0.11563 0.05671 -0.10816 0.05764 -0.1 0.06018 C -0.08941 0.05926 -0.08438 0.05879 -0.07535 0.05532 C -0.06754 0.04815 -0.05799 0.04838 -0.05 0.04259 C -0.04601 0.03958 -0.04271 0.03426 -0.03854 0.03264 C -0.03229 0.02685 -0.02813 0.02153 -0.02066 0.01875 C -0.00938 0.00833 -0.0257 0.02291 -0.01511 0.01504 C -0.01215 0.01273 -0.0099 0.00879 -0.0066 0.0074 C -0.00556 0.00694 -0.00452 0.00717 -0.00365 0.00625 C -0.00209 0.00463 -0.00122 0.00208 0 0 Z">
                                      <p:cBhvr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3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активизация и обогащение словаря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28440" y="1857240"/>
            <a:ext cx="70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проводится со всей группой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сказ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по содержанию сказ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ая иг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 чем «говорит» красный «глаз» светофор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 желтый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ой сигнал светофора разрешает переходить через улиц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чему через улицу нельзя бежать, а нужно идти спокойн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еще, кроме светофора, помогло перейти улицу героям сказк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чему пешеходный переход называют «зеброй»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чему переход называют «подземным»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ля чего нужно соблюдать ПДД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7T12:07:52Z</dcterms:created>
  <dc:creator>User</dc:creator>
  <dc:description/>
  <dc:language>en-US</dc:language>
  <cp:lastModifiedBy>User</cp:lastModifiedBy>
  <dcterms:modified xsi:type="dcterms:W3CDTF">2018-01-19T11:01:50Z</dcterms:modified>
  <cp:revision>4</cp:revision>
  <dc:subject/>
  <dc:title>Что помогло бы перейти улицу героям сказки  «Марта и Чичи идут в парк»?</dc:title>
</cp:coreProperties>
</file>