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drumroll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12F-6A19-4ECA-92FA-CB855A49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E43-1C09-442F-A159-2C04AB4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72B-B1C0-4C68-890F-4494EF4B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11F-F7E5-4ACB-81DA-2BA5B635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350-3D57-45F7-9FE9-DD2DDF5A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104-EC8B-4775-870A-05BF91B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2F8-7893-4F67-AD3D-863A0480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54A-7E97-4762-A6C5-755BB9B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D7A-46E0-4996-9FEA-3645308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716-CFD1-46D6-B104-D21CB2E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670-F1B4-4979-AE51-0B5770A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388-C87E-409B-B5DB-7F24DED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04A-AAE8-4C5F-BCD1-8D9DF33F6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audio" Target="../media/drumroll.wav"/><Relationship Id="rId15" Type="http://schemas.openxmlformats.org/officeDocument/2006/relationships/audio" Target="../media/chimes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drumroll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drumroll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29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Прямоугольник 29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летит ли к вам Муха – грязнуха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ownloads\animated-gifs-flies-035.gif"/>
          <p:cNvPicPr/>
          <p:nvPr/>
        </p:nvPicPr>
        <p:blipFill>
          <a:blip r:embed="rId2"/>
          <a:stretch/>
        </p:blipFill>
        <p:spPr>
          <a:xfrm>
            <a:off x="3139920" y="2620800"/>
            <a:ext cx="2889360" cy="266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User\Downloads\depositphotos_6331089-Eco-girl.jpg"/>
          <p:cNvPicPr/>
          <p:nvPr/>
        </p:nvPicPr>
        <p:blipFill>
          <a:blip r:embed="rId3"/>
          <a:stretch/>
        </p:blipFill>
        <p:spPr>
          <a:xfrm>
            <a:off x="142920" y="857160"/>
            <a:ext cx="1500120" cy="1932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9" descr="C:\Users\User\Downloads\img_56d57f3329124.jpg"/>
          <p:cNvPicPr/>
          <p:nvPr/>
        </p:nvPicPr>
        <p:blipFill>
          <a:blip r:embed="rId4"/>
          <a:stretch/>
        </p:blipFill>
        <p:spPr>
          <a:xfrm>
            <a:off x="7500960" y="857160"/>
            <a:ext cx="1500120" cy="19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10" descr="C:\Users\User\Downloads\img14.jpg"/>
          <p:cNvPicPr/>
          <p:nvPr/>
        </p:nvPicPr>
        <p:blipFill>
          <a:blip r:embed="rId5"/>
          <a:stretch/>
        </p:blipFill>
        <p:spPr>
          <a:xfrm>
            <a:off x="142920" y="5072040"/>
            <a:ext cx="235728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11" descr="C:\Users\User\Downloads\Untitled-21.jpg"/>
          <p:cNvPicPr/>
          <p:nvPr/>
        </p:nvPicPr>
        <p:blipFill>
          <a:blip r:embed="rId6"/>
          <a:stretch/>
        </p:blipFill>
        <p:spPr>
          <a:xfrm>
            <a:off x="3071880" y="5286240"/>
            <a:ext cx="1285920" cy="15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Picture 12" descr="C:\Users\User\Downloads\myite-detskoy-posudyi.jpg"/>
          <p:cNvPicPr/>
          <p:nvPr/>
        </p:nvPicPr>
        <p:blipFill>
          <a:blip r:embed="rId7"/>
          <a:stretch/>
        </p:blipFill>
        <p:spPr>
          <a:xfrm>
            <a:off x="6572160" y="3143160"/>
            <a:ext cx="2357640" cy="15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14" descr="C:\Users\User\Downloads\92856056_large_023346550.png"/>
          <p:cNvPicPr/>
          <p:nvPr/>
        </p:nvPicPr>
        <p:blipFill>
          <a:blip r:embed="rId8"/>
          <a:stretch/>
        </p:blipFill>
        <p:spPr>
          <a:xfrm>
            <a:off x="5857920" y="857160"/>
            <a:ext cx="1547640" cy="1935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"/>
          <p:cNvPicPr/>
          <p:nvPr/>
        </p:nvPicPr>
        <p:blipFill>
          <a:blip r:embed="rId9"/>
          <a:stretch/>
        </p:blipFill>
        <p:spPr>
          <a:xfrm>
            <a:off x="3357720" y="1071720"/>
            <a:ext cx="2357280" cy="15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Picture 27" descr="C:\Users\User\Downloads\skazkoterapiya-terapevticheskie-skazki-na-temu-uborki-igrushek-i-poryadka-v-dome.jpg"/>
          <p:cNvPicPr/>
          <p:nvPr/>
        </p:nvPicPr>
        <p:blipFill>
          <a:blip r:embed="rId10"/>
          <a:stretch/>
        </p:blipFill>
        <p:spPr>
          <a:xfrm>
            <a:off x="142920" y="3143160"/>
            <a:ext cx="2357280" cy="15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" name=""/>
          <p:cNvSpPr txBox="1"/>
          <p:nvPr/>
        </p:nvSpPr>
        <p:spPr>
          <a:xfrm>
            <a:off x="2857680" y="3714840"/>
            <a:ext cx="6984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6" descr="C:\Users\User\Downloads\51405798_w640_h640_moem_ruki.jpg"/>
          <p:cNvPicPr/>
          <p:nvPr/>
        </p:nvPicPr>
        <p:blipFill>
          <a:blip r:embed="rId11"/>
          <a:stretch/>
        </p:blipFill>
        <p:spPr>
          <a:xfrm>
            <a:off x="4714920" y="5286240"/>
            <a:ext cx="1285920" cy="15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3" descr="C:\Users\User\Downloads\18romanbook.ru.png"/>
          <p:cNvPicPr/>
          <p:nvPr/>
        </p:nvPicPr>
        <p:blipFill>
          <a:blip r:embed="rId12"/>
          <a:stretch/>
        </p:blipFill>
        <p:spPr>
          <a:xfrm>
            <a:off x="1500120" y="928800"/>
            <a:ext cx="1643040" cy="197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28" descr="C:\Users\User\Downloads\222-fakty-o-mukhakh-6.jpg"/>
          <p:cNvPicPr/>
          <p:nvPr/>
        </p:nvPicPr>
        <p:blipFill>
          <a:blip r:embed="rId13"/>
          <a:stretch/>
        </p:blipFill>
        <p:spPr>
          <a:xfrm>
            <a:off x="6572160" y="5143680"/>
            <a:ext cx="2349720" cy="15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Motion origin="layout" path="M -5.27778E-006 -7.03704E-006 C 0.02135 -0.01436 0.05017 -0.00279 0.07447 -0.0051 C 0.08402 -0.0088 0.09392 -0.0088 0.10381 -0.01019 C 0.11128 -0.0132 0.10381 -0.01042 0.11979 -0.0139 C 0.1335 -0.01691 0.14635 -0.02246 0.16041 -0.02385 C 0.17812 -0.02755 0.19305 -0.03519 0.20954 -0.04283 C 0.22065 -0.04816 0.23124 -0.05232 0.24149 -0.06042 C 0.25052 -0.0676 0.24982 -0.06737 0.25954 -0.07686 C 0.26093 -0.07825 0.26284 -0.07802 0.26423 -0.07917 C 0.27569 -0.08751 0.28593 -0.09816 0.29722 -0.10695 C 0.30364 -0.11204 0.3092 -0.11829 0.31614 -0.122 C 0.32187 -0.12964 0.32847 -0.13566 0.33593 -0.13959 C 0.34253 -0.14908 0.35104 -0.15417 0.3585 -0.16228 C 0.36249 -0.16667 0.36493 -0.17061 0.36979 -0.17246 C 0.37239 -0.17894 0.37552 -0.17987 0.3802 -0.18357 C 0.38506 -0.19376 0.3934 -0.2007 0.39913 -0.21019 C 0.40086 -0.21297 0.40225 -0.21598 0.40381 -0.21899 C 0.40468 -0.22061 0.40659 -0.22385 0.40659 -0.22385 C 0.40763 -0.22755 0.4085 -0.23149 0.40954 -0.23519 C 0.40989 -0.23913 0.41128 -0.25996 0.41128 -0.26297 C 0.41128 -0.3014 0.41128 -0.33936 0.40295 -0.37617 C 0.40104 -0.38473 0.40034 -0.39283 0.39618 -0.40001 C 0.39496 -0.41112 0.38767 -0.43172 0.37934 -0.43519 C 0.37395 -0.4463 0.36597 -0.45047 0.35659 -0.45279 C 0.34895 -0.45834 0.34079 -0.46482 0.33211 -0.46667 C 0.32552 -0.47269 0.33038 -0.46876 0.31614 -0.47431 C 0.30937 -0.47871 0.3026 -0.48311 0.29531 -0.48566 C 0.2868 -0.49237 0.27864 -0.49792 0.26892 -0.5007 C 0.25642 -0.50811 0.2434 -0.51297 0.2302 -0.51829 C 0.22274 -0.5213 0.21614 -0.52593 0.2085 -0.52825 C 0.20138 -0.53288 0.19704 -0.53404 0.18871 -0.53589 C 0.16666 -0.5507 0.13958 -0.55603 0.1151 -0.55857 C 0.1026 -0.55811 0.08993 -0.55788 0.07743 -0.55718 C 0.07413 -0.55695 0.071 -0.55441 0.06788 -0.55348 C 0.05711 -0.55024 0.04583 -0.54769 0.03489 -0.54584 C 0.01562 -0.54283 -0.00348 -0.53982 -0.02257 -0.53589 C -0.03143 -0.53195 -0.04341 -0.52894 -0.05278 -0.52709 C -0.07726 -0.51621 -0.10296 -0.5095 -0.1283 -0.50325 C -0.13959 -0.50047 -0.15001 -0.49422 -0.16129 -0.49191 C -0.16754 -0.48612 -0.16181 -0.49075 -0.17553 -0.48681 C -0.19046 -0.48265 -0.20487 -0.47547 -0.2198 -0.47177 C -0.22448 -0.46876 -0.22796 -0.46598 -0.23299 -0.46413 C -0.24948 -0.45117 -0.26476 -0.43566 -0.28108 -0.42269 C -0.28542 -0.41482 -0.29254 -0.41042 -0.2981 -0.40371 C -0.3073 -0.3926 -0.31441 -0.37709 -0.32448 -0.36737 C -0.32761 -0.35927 -0.3323 -0.35163 -0.33681 -0.34468 C -0.34011 -0.33959 -0.34167 -0.33427 -0.34532 -0.32964 C -0.34914 -0.31598 -0.35938 -0.30163 -0.36598 -0.28936 C -0.37136 -0.27941 -0.37448 -0.26667 -0.38108 -0.25788 C -0.38473 -0.24792 -0.38837 -0.24005 -0.39341 -0.23149 C -0.39566 -0.22269 -0.39896 -0.21691 -0.40191 -0.2088 C -0.4033 -0.20093 -0.40591 -0.19399 -0.40938 -0.18751 C -0.41112 -0.17871 -0.41303 -0.16992 -0.41702 -0.16228 C -0.41771 -0.15348 -0.41893 -0.14445 -0.42257 -0.13704 C -0.42414 -0.12316 -0.42674 -0.1095 -0.4283 -0.09561 C -0.429 -0.08936 -0.43021 -0.07686 -0.43021 -0.07686 C -0.43247 -0.03056 -0.43299 0.0155 -0.43681 0.06157 C -0.43629 0.10856 -0.43716 0.14328 -0.43212 0.1861 C -0.43091 0.19583 -0.43056 0.20601 -0.42726 0.21504 C -0.42535 0.22893 -0.42275 0.24629 -0.41511 0.25647 C -0.41355 0.26828 -0.40747 0.27962 -0.40087 0.28796 C -0.3974 0.29721 -0.39983 0.29189 -0.3915 0.30323 C -0.38369 0.31388 -0.37587 0.32661 -0.36598 0.33333 C -0.36216 0.34096 -0.36667 0.33356 -0.35938 0.33958 C -0.35209 0.34559 -0.34636 0.35208 -0.33768 0.35601 C -0.33421 0.35948 -0.3283 0.36411 -0.32448 0.36596 C -0.32171 0.36735 -0.31598 0.36851 -0.31598 0.36851 C -0.30955 0.3743 -0.30174 0.37638 -0.29428 0.3787 C -0.28455 0.38518 -0.27379 0.38772 -0.2632 0.3912 C -0.25573 0.39374 -0.24879 0.39768 -0.2415 0.40115 C -0.23525 0.40393 -0.22882 0.40485 -0.22257 0.40763 C -0.18073 0.42684 -0.13612 0.44397 -0.09237 0.45277 C -0.07171 0.45694 -0.04983 0.45578 -0.02917 0.45647 C 0.00624 0.4618 0.04184 0.46203 0.07743 0.4655 C 0.13142 0.46434 0.13958 0.46596 0.17934 0.45532 C 0.18628 0.45161 0.19444 0.44953 0.2019 0.44768 C 0.2085 0.44351 0.21371 0.4405 0.22083 0.43888 C 0.22604 0.43356 0.23107 0.43171 0.2368 0.42754 C 0.24427 0.42198 0.25156 0.41365 0.25954 0.40879 C 0.27239 0.40115 0.28906 0.39907 0.30104 0.38865 C 0.30833 0.3824 0.31493 0.37499 0.32274 0.3699 C 0.33038 0.3574 0.35121 0.33217 0.36423 0.32708 C 0.3651 0.32198 0.36614 0.31712 0.36701 0.31203 C 0.36927 0.28564 0.37083 0.25902 0.37274 0.23263 C 0.37343 0.21087 0.37725 0.16458 0.36701 0.14467 C 0.36458 0.13402 0.36319 0.12129 0.3585 0.11203 C 0.35746 0.10601 0.35711 0.10254 0.35381 0.09814 C 0.34895 0.08217 0.33993 0.07569 0.33124 0.06411 C 0.32395 0.05439 0.31649 0.04397 0.30763 0.03657 C 0.30121 0.02569 0.29253 0.01874 0.28402 0.01133 C 0.27899 0.00694 0.27552 0.00115 0.26979 -0.00117 C 0.2618 -0.00811 0.25381 -0.01367 0.24444 -0.01644 C 0.22899 -0.02663 0.19791 -0.02825 0.18107 -0.0301 C 0.16736 -0.03404 0.15277 -0.03496 0.13871 -0.03658 C 0.11319 -0.03519 0.0901 -0.03311 0.0651 -0.0301 C 0.05156 -0.02593 0.03819 -0.02223 0.02447 -0.01899 C 0.02065 -0.01714 0.01684 -0.01436 0.01319 -0.01251 C 0.00781 -0.00996 0.00173 -0.00973 -0.00382 -0.00765 C -0.00417 -0.00626 -0.004 -0.00464 -0.00469 -0.00371 C -0.00539 -0.00279 -0.00746 -0.00255 -0.00746 -0.00255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6d9f1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671508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ние связной реч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Ход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роводится с группой детей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ение сказки «Муха- грязнуха в гости пришл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по  содержанию сказк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терактивна иг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кажите, чем опасны мух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дом нужно содержать в чистоте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мотрите картинки и расскажите, в каких ситуациях к человеку может прилететь Муха- грязнух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необходимо делать, чтобы мухи не стали вашими «гостями»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в ваш дом прилетает эта мух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4T12:05:00Z</dcterms:created>
  <dc:creator>User</dc:creator>
  <dc:description/>
  <dc:language>en-US</dc:language>
  <cp:lastModifiedBy>User</cp:lastModifiedBy>
  <dcterms:modified xsi:type="dcterms:W3CDTF">2018-01-19T11:05:02Z</dcterms:modified>
  <cp:revision>23</cp:revision>
  <dc:subject/>
  <dc:title>Слайд 1</dc:title>
</cp:coreProperties>
</file>