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45A-4D15-4DEC-A637-86344C81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5BA-081A-46AE-92B8-D0B5B614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E31-FC86-4E4B-B65D-9FE36995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A35-DDBD-4765-A12E-3DA92C95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E4EE-590A-4C89-8726-14AA3462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064D-DB18-417A-BD26-A56DF64F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9839-0058-406E-B75D-AEDFE0B2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3027-EE03-4D0B-A4F1-2058170C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EE2F-8885-4E84-80D1-D056099E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34F9-63F3-411D-9BE8-EAA220A2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0FBD-CAA6-43EA-9C76-19AB4CE4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420-B9CE-4F19-9B1C-FC87ED54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BF59-A6A8-4FEA-979C-9F9ABFB3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8842-0531-4A50-AA2F-1D288329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D7D1-8834-4287-A984-652198AD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99C3-0483-4AAC-B5ED-7299E01A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EBC6-98CA-4CE4-96FF-84AA1961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FDD-580E-46A9-BB17-C82137A4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E99-C009-43AD-8BC4-D85345A1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39A-EF8C-432A-A9BC-5FDE1367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B46-F0CD-4AFA-B65A-72D9B449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79A-B69B-4DB2-B7DB-79E85A6A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06B-433C-4800-A4B4-681752C6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025-5FD5-4CFF-B35A-B013482A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257F-DD5F-43C5-B878-C62F80155C4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45CE-6966-44EF-920C-63FD69A720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589E-1C6C-4992-944B-95F37F6CF1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535760" y="1071720"/>
            <a:ext cx="725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84807"/>
                </a:solidFill>
                <a:latin typeface="Calibri"/>
              </a:rPr>
              <a:t>Урок русского язы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Б   класс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  те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«Правописание приставок пре- и при-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7" descr="kniga52.jpg"/>
          <p:cNvPicPr/>
          <p:nvPr/>
        </p:nvPicPr>
        <p:blipFill>
          <a:blip r:embed="rId1"/>
          <a:stretch/>
        </p:blipFill>
        <p:spPr>
          <a:xfrm>
            <a:off x="3203640" y="4005360"/>
            <a:ext cx="3076560" cy="2000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611280" y="60213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C773-6A51-44B0-8DE0-DB494DA48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ижний колонтитул 5"/>
          <p:cNvSpPr/>
          <p:nvPr/>
        </p:nvSpPr>
        <p:spPr>
          <a:xfrm>
            <a:off x="3124080" y="635652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Автор: Слаповская М.С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0D4C-70CC-4690-B097-BB38426CF2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1"/>
          <a:stretch/>
        </p:blipFill>
        <p:spPr>
          <a:xfrm>
            <a:off x="1427040" y="426960"/>
            <a:ext cx="6216840" cy="7732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928800" y="1714680"/>
            <a:ext cx="7643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46dfb"/>
                </a:solidFill>
                <a:latin typeface="Tahoma"/>
              </a:rPr>
              <a:t>Пре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скверны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46dfb"/>
                </a:solidFill>
                <a:latin typeface="Tahoma"/>
              </a:rPr>
              <a:t>пре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красны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3C5E-F40F-4B9B-BB67-1C42E6765E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360360"/>
            <a:ext cx="664524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1785960" y="1500120"/>
            <a:ext cx="6643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71ff7"/>
                </a:solidFill>
                <a:latin typeface="Tahoma"/>
              </a:rPr>
              <a:t>Пре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град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бес</a:t>
            </a:r>
            <a:r>
              <a:rPr b="1" lang="ru-RU" sz="7200" spc="-1" strike="noStrike">
                <a:solidFill>
                  <a:srgbClr val="671ff7"/>
                </a:solidFill>
                <a:latin typeface="Tahoma"/>
              </a:rPr>
              <a:t>пре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рывн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10A8-58DC-40AF-9CE0-5CF1DF15A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642960" y="150480"/>
            <a:ext cx="55008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? ПР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совсем не секр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одержание слова смотри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азу получишь отв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Calibri"/>
              </a:rPr>
              <a:t>Пр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ин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останет до крыши руко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Calibri"/>
              </a:rPr>
              <a:t>Пр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жад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даст вам конфе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</a:t>
            </a: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Calibri"/>
              </a:rPr>
              <a:t>очен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акой или </a:t>
            </a: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Calibri"/>
              </a:rPr>
              <a:t>очен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якой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Calibri"/>
              </a:rPr>
              <a:t>П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мы напишем об это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5"/>
          <p:cNvPicPr/>
          <p:nvPr/>
        </p:nvPicPr>
        <p:blipFill>
          <a:blip r:embed="rId1"/>
          <a:stretch/>
        </p:blipFill>
        <p:spPr>
          <a:xfrm>
            <a:off x="5572080" y="1500120"/>
            <a:ext cx="3143160" cy="31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575E-2D6F-4E2D-8EE1-8847CDF9D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2714760" y="453600"/>
            <a:ext cx="6080040" cy="51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? ПР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совсем не секр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одержание слова смотри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азу получишь отв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жд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</a:t>
            </a: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Calibri"/>
              </a:rPr>
              <a:t>пр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ыв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льют в октябр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грамотным дождь – не </a:t>
            </a: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Calibri"/>
              </a:rPr>
              <a:t>пр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а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очень похожи </a:t>
            </a: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Calibri"/>
              </a:rPr>
              <a:t>ПЕР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</a:t>
            </a: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Calibri"/>
              </a:rPr>
              <a:t>П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м только </a:t>
            </a: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Calibri"/>
              </a:rPr>
              <a:t>П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тавить над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AG00434_"/>
          <p:cNvPicPr/>
          <p:nvPr/>
        </p:nvPicPr>
        <p:blipFill>
          <a:blip r:embed="rId1"/>
          <a:stretch/>
        </p:blipFill>
        <p:spPr>
          <a:xfrm>
            <a:off x="0" y="2000160"/>
            <a:ext cx="327960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1F17-BF4A-4269-8269-C09C7DB12F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14240" y="1214280"/>
          <a:ext cx="8001000" cy="4786560"/>
        </p:xfrm>
        <a:graphic>
          <a:graphicData uri="http://schemas.openxmlformats.org/drawingml/2006/table">
            <a:tbl>
              <a:tblPr/>
              <a:tblGrid>
                <a:gridCol w="1962360"/>
                <a:gridCol w="2097000"/>
                <a:gridCol w="2087640"/>
                <a:gridCol w="1854000"/>
              </a:tblGrid>
              <a:tr h="15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Прибли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Присоеди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Нахождение     около чего-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Непол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действие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яз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р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ня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х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ко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ы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е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рож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с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6" name="TextBox 4"/>
          <p:cNvSpPr/>
          <p:nvPr/>
        </p:nvSpPr>
        <p:spPr>
          <a:xfrm>
            <a:off x="1428840" y="285840"/>
            <a:ext cx="60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ишите в справоч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DFBA-D2B7-4E78-BB0F-E7111CE329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42960" y="1500120"/>
          <a:ext cx="8001000" cy="4497480"/>
        </p:xfrm>
        <a:graphic>
          <a:graphicData uri="http://schemas.openxmlformats.org/drawingml/2006/table">
            <a:tbl>
              <a:tblPr/>
              <a:tblGrid>
                <a:gridCol w="3857760"/>
                <a:gridCol w="4143240"/>
              </a:tblGrid>
              <a:tr h="114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= «очен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= пер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50000"/>
                      </a:srgbClr>
                    </a:solidFill>
                  </a:tcPr>
                </a:tc>
              </a:tr>
              <a:tr h="162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46dfb"/>
                          </a:solidFill>
                          <a:latin typeface="Tahoma"/>
                        </a:rPr>
                        <a:t>пр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очень добры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46dfb"/>
                          </a:solidFill>
                          <a:latin typeface="Tahoma"/>
                        </a:rPr>
                        <a:t>пр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ад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перегородит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50000"/>
                      </a:srgbClr>
                    </a:solidFill>
                  </a:tcPr>
                </a:tc>
              </a:tr>
              <a:tr h="172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46dfb"/>
                          </a:solidFill>
                          <a:latin typeface="Tahoma"/>
                        </a:rPr>
                        <a:t>пр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а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очень жадны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</a:t>
                      </a:r>
                      <a:r>
                        <a:rPr b="1" lang="ru-RU" sz="2800" spc="-1" strike="noStrike">
                          <a:solidFill>
                            <a:srgbClr val="f46dfb"/>
                          </a:solidFill>
                          <a:latin typeface="Tahoma"/>
                        </a:rPr>
                        <a:t>пр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не перестае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AAE8-3426-4F3B-A2CA-C213E02B6A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1143000" y="21420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Запомнит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714240" y="1143000"/>
            <a:ext cx="392904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люч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яз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яга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рит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еж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ят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утствова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р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4357800" y="1214280"/>
            <a:ext cx="457200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лед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ятств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кнов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рат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бре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идиу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иде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огати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нз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1406-8FAA-4EBD-9F0A-9F01B96EEA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42960" y="928800"/>
          <a:ext cx="8064360" cy="5514840"/>
        </p:xfrm>
        <a:graphic>
          <a:graphicData uri="http://schemas.openxmlformats.org/drawingml/2006/table">
            <a:tbl>
              <a:tblPr/>
              <a:tblGrid>
                <a:gridCol w="4032360"/>
                <a:gridCol w="40320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-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ь, прибавит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отдать, изменить, выдат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ва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прийти, приехать.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ть на вокзал.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 увеличиться.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вать -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ься где-нибуд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в каком-нибудь состояни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ить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дступить или нача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и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самовольно наруши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тупить.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оняться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клоняться, пригибать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онятьс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чувствовать глубо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жение, восхищение.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Прямоугольник 4"/>
          <p:cNvSpPr/>
          <p:nvPr/>
        </p:nvSpPr>
        <p:spPr>
          <a:xfrm>
            <a:off x="3009960" y="285840"/>
            <a:ext cx="40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зличайте зна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ПРЕДЕЛИТЕЛЬНЫЙ ДИКТАН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пределите слова на две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80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с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ясным </a:t>
            </a: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значением пристав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373392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с </a:t>
            </a:r>
            <a:r>
              <a:rPr b="0" lang="ru-RU" sz="3600" spc="-1" strike="noStrike">
                <a:solidFill>
                  <a:srgbClr val="92d050"/>
                </a:solidFill>
                <a:latin typeface="Calibri"/>
              </a:rPr>
              <a:t>неясным </a:t>
            </a: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значением приставки</a:t>
            </a:r>
            <a:r>
              <a:rPr b="0" lang="ru-RU" sz="24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66920" y="1828800"/>
            <a:ext cx="460836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еодолеть, примечать, присмотреться, прельщать, прехорошенький, приоткрыть, причудливый.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ПРОВЕРЬ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828800"/>
            <a:ext cx="403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ясным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значением пристав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одолеть присмотреться прехорошенький приоткры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8320" y="1785960"/>
            <a:ext cx="4038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 </a:t>
            </a: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неясным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значением пристав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чать, прельщать, причудлив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3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3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050920" y="-17136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f6228"/>
                </a:solidFill>
                <a:latin typeface="Wingdings 2"/>
                <a:ea typeface="Wingdings 2"/>
              </a:rPr>
              <a:t></a:t>
            </a:r>
            <a:r>
              <a:rPr b="1" i="1" lang="ru-RU" sz="4400" spc="-1" strike="noStrike">
                <a:solidFill>
                  <a:srgbClr val="4f6228"/>
                </a:solidFill>
                <a:latin typeface="Book Antiqua"/>
              </a:rPr>
              <a:t>  </a:t>
            </a:r>
            <a:r>
              <a:rPr b="1" lang="ru-RU" sz="4400" spc="-1" strike="noStrike">
                <a:solidFill>
                  <a:srgbClr val="4f6228"/>
                </a:solidFill>
                <a:latin typeface="Book Antiqua"/>
              </a:rPr>
              <a:t>Цели урока</a:t>
            </a:r>
            <a:r>
              <a:rPr b="1" i="1" lang="ru-RU" sz="6000" spc="-1" strike="noStrike">
                <a:solidFill>
                  <a:srgbClr val="4f6228"/>
                </a:solidFill>
                <a:latin typeface="Book Antiqua"/>
              </a:rPr>
              <a:t> </a:t>
            </a:r>
            <a:r>
              <a:rPr b="1" lang="ru-RU" sz="4000" spc="-1" strike="noStrike">
                <a:solidFill>
                  <a:srgbClr val="4f6228"/>
                </a:solidFill>
                <a:latin typeface="Wingdings 2"/>
                <a:ea typeface="Wingdings 2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7" descr="kniga52.jpg"/>
          <p:cNvPicPr/>
          <p:nvPr/>
        </p:nvPicPr>
        <p:blipFill>
          <a:blip r:embed="rId1"/>
          <a:stretch/>
        </p:blipFill>
        <p:spPr>
          <a:xfrm>
            <a:off x="3276720" y="4437000"/>
            <a:ext cx="3076560" cy="2000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785880" y="785880"/>
            <a:ext cx="800568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Book Antiqua"/>
              </a:rPr>
              <a:t>Образовательны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атизировать знания о правописании приставок пре- и при-; углубить понимание условий правильного выбора букв е и и в приставках пре-, при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Book Antiqua"/>
              </a:rPr>
              <a:t>Развивающие</a:t>
            </a:r>
            <a:r>
              <a:rPr b="1" lang="ru-RU" sz="4000" spc="-1" strike="noStrike">
                <a:solidFill>
                  <a:srgbClr val="c0504d"/>
                </a:solidFill>
                <a:latin typeface="Book Antiqu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ть умения классифицировать факты, делать обобщающие выводы, развивать орфографическую зоркость, развивать умение творчески подходить к решению учебных задач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Book Antiqua"/>
              </a:rPr>
              <a:t>Воспитательны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ывать положительное отношение к знания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857160" y="714240"/>
            <a:ext cx="77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7">
            <a:hlinkClick r:id="rId2" action="ppaction://hlinksldjump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7618"/>
                </a:moveTo>
                <a:lnTo>
                  <a:pt x="7301" y="7618"/>
                </a:lnTo>
                <a:lnTo>
                  <a:pt x="7301" y="12953"/>
                </a:lnTo>
                <a:cubicBezTo>
                  <a:pt x="7301" y="13875"/>
                  <a:pt x="8102" y="14607"/>
                  <a:pt x="9138" y="14607"/>
                </a:cubicBezTo>
                <a:lnTo>
                  <a:pt x="10800" y="14607"/>
                </a:lnTo>
                <a:cubicBezTo>
                  <a:pt x="11836" y="14607"/>
                  <a:pt x="12636" y="13875"/>
                  <a:pt x="12636" y="12953"/>
                </a:cubicBezTo>
                <a:lnTo>
                  <a:pt x="12636" y="7618"/>
                </a:lnTo>
                <a:lnTo>
                  <a:pt x="10800" y="7618"/>
                </a:lnTo>
                <a:lnTo>
                  <a:pt x="14308" y="4110"/>
                </a:lnTo>
                <a:lnTo>
                  <a:pt x="17981" y="7618"/>
                </a:lnTo>
                <a:lnTo>
                  <a:pt x="16144" y="7618"/>
                </a:lnTo>
                <a:lnTo>
                  <a:pt x="16144" y="12953"/>
                </a:lnTo>
                <a:cubicBezTo>
                  <a:pt x="16144" y="15721"/>
                  <a:pt x="13568" y="18280"/>
                  <a:pt x="10800" y="18280"/>
                </a:cubicBezTo>
                <a:lnTo>
                  <a:pt x="9138" y="18280"/>
                </a:lnTo>
                <a:cubicBezTo>
                  <a:pt x="6370" y="18280"/>
                  <a:pt x="3794" y="15721"/>
                  <a:pt x="3794" y="12953"/>
                </a:cubicBez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6A08-F2E5-46E1-9A1B-5DD861D34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КОММЕНТИРОВАННОЕ ПИСЬМ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писать словосочетания, выделить приставку, объяснить ее напис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53596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..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интересный рассказ,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..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остановить движение,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..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рывать изложение,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..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дорожный цветок,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..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школьный участок,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..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однять стол,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..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землиться неудачно,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..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терпевать изменени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ПРОВЕРЬ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5694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нтересный рассказ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становить движение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ывать изложение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рожный цветок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школьный участок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днять стол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емлиться неудачно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терпевать изме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3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11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18"/>
          <p:cNvSpPr/>
          <p:nvPr/>
        </p:nvSpPr>
        <p:spPr>
          <a:xfrm>
            <a:off x="900000" y="0"/>
            <a:ext cx="2089440" cy="1773360"/>
          </a:xfrm>
          <a:prstGeom prst="cloudCallout">
            <a:avLst>
              <a:gd name="adj1" fmla="val -38148"/>
              <a:gd name="adj2" fmla="val 15888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2" descr="7"/>
          <p:cNvPicPr/>
          <p:nvPr/>
        </p:nvPicPr>
        <p:blipFill>
          <a:blip r:embed="rId2"/>
          <a:stretch/>
        </p:blipFill>
        <p:spPr>
          <a:xfrm>
            <a:off x="395280" y="1628640"/>
            <a:ext cx="2092320" cy="3889440"/>
          </a:xfrm>
          <a:prstGeom prst="rect">
            <a:avLst/>
          </a:prstGeom>
          <a:ln w="0">
            <a:noFill/>
          </a:ln>
        </p:spPr>
      </p:pic>
      <p:sp>
        <p:nvSpPr>
          <p:cNvPr id="173" name="WordArt 14"/>
          <p:cNvSpPr txBox="1"/>
          <p:nvPr/>
        </p:nvSpPr>
        <p:spPr>
          <a:xfrm>
            <a:off x="2843280" y="1628640"/>
            <a:ext cx="140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-</a:t>
            </a:r>
            <a:endParaRPr b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15"/>
          <p:cNvSpPr txBox="1"/>
          <p:nvPr/>
        </p:nvSpPr>
        <p:spPr>
          <a:xfrm>
            <a:off x="4572000" y="2637000"/>
            <a:ext cx="136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-</a:t>
            </a:r>
            <a:endParaRPr b="1" lang="en-US" sz="2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7"/>
          <p:cNvSpPr txBox="1"/>
          <p:nvPr/>
        </p:nvSpPr>
        <p:spPr>
          <a:xfrm>
            <a:off x="1547640" y="549360"/>
            <a:ext cx="57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3a0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46dfb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95640" y="290160"/>
            <a:ext cx="5400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Wingdings 2"/>
                <a:ea typeface="Wingdings 2"/>
              </a:rPr>
              <a:t></a:t>
            </a:r>
            <a:r>
              <a:rPr b="1" lang="ru-RU" sz="4400" spc="-1" strike="noStrike">
                <a:solidFill>
                  <a:srgbClr val="4f6228"/>
                </a:solidFill>
                <a:latin typeface="Book Antiqua"/>
              </a:rPr>
              <a:t> </a:t>
            </a:r>
            <a:r>
              <a:rPr b="1" lang="ru-RU" sz="4400" spc="-1" strike="noStrike">
                <a:solidFill>
                  <a:srgbClr val="4f6228"/>
                </a:solidFill>
                <a:latin typeface="Book Antiqua"/>
              </a:rPr>
              <a:t>Итоги урока </a:t>
            </a:r>
            <a:r>
              <a:rPr b="1" lang="ru-RU" sz="4000" spc="-1" strike="noStrike">
                <a:solidFill>
                  <a:srgbClr val="4f6228"/>
                </a:solidFill>
                <a:latin typeface="Wingdings 2"/>
                <a:ea typeface="Wingdings 2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1643040" y="1071720"/>
            <a:ext cx="714384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Book Antiqua"/>
              </a:rPr>
              <a:t>Что узнали нового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ные приставки пишутся по разным правилам. В зависимости от этого они разделяются на 3 групп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1. Пишутся всегда одинаково независимо от произношен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2.Приставки на –з , -с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3.Приставки пре- и при-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Book Antiqua"/>
              </a:rPr>
              <a:t>Чему научилис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бы раскрыть секрет правописания пре- и при- , придется сразу учиться различать разные смыслы приставок  по 6 правилам и стараться запоминать как можно больше слов,  которые не входят в эти правила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Рисунок 7" descr="kniga52.jpg"/>
          <p:cNvPicPr/>
          <p:nvPr/>
        </p:nvPicPr>
        <p:blipFill>
          <a:blip r:embed="rId1"/>
          <a:stretch/>
        </p:blipFill>
        <p:spPr>
          <a:xfrm>
            <a:off x="5857920" y="2286000"/>
            <a:ext cx="3076560" cy="2000160"/>
          </a:xfrm>
          <a:prstGeom prst="rect">
            <a:avLst/>
          </a:prstGeom>
          <a:ln w="0">
            <a:noFill/>
          </a:ln>
        </p:spPr>
      </p:pic>
      <p:sp>
        <p:nvSpPr>
          <p:cNvPr id="1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75A5-02A3-46B0-9FD3-8E2353C630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3840" y="290160"/>
            <a:ext cx="4681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Wingdings 2"/>
                <a:ea typeface="Wingdings 2"/>
              </a:rPr>
              <a:t></a:t>
            </a:r>
            <a:r>
              <a:rPr b="1" lang="ru-RU" sz="4400" spc="-1" strike="noStrike">
                <a:solidFill>
                  <a:srgbClr val="4f6228"/>
                </a:solidFill>
                <a:latin typeface="Book Antiqua"/>
              </a:rPr>
              <a:t> </a:t>
            </a:r>
            <a:r>
              <a:rPr b="1" lang="ru-RU" sz="4400" spc="-1" strike="noStrike">
                <a:solidFill>
                  <a:srgbClr val="4f6228"/>
                </a:solidFill>
                <a:latin typeface="Book Antiqua"/>
              </a:rPr>
              <a:t>Рефлексия </a:t>
            </a:r>
            <a:r>
              <a:rPr b="1" lang="ru-RU" sz="4000" spc="-1" strike="noStrike">
                <a:solidFill>
                  <a:srgbClr val="4f6228"/>
                </a:solidFill>
                <a:latin typeface="Wingdings 2"/>
                <a:ea typeface="Wingdings 2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1403280" y="1557360"/>
            <a:ext cx="756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Book Antiqua"/>
              </a:rPr>
              <a:t>Я оцениваю свою работ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Book Antiqua"/>
              </a:rPr>
              <a:t>на уроке как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Book Antiqua"/>
              </a:rPr>
              <a:t>Я  (не)доволен уроком, потому что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3BCF-AD99-448E-A61F-6AA5603873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7120" y="1143000"/>
            <a:ext cx="5500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пишите статью по опорным словам (8-9 предложений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14240" y="2642760"/>
            <a:ext cx="44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адка деревь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школьный, привезли, прибежали, приступили, предовольн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Скругленный прямоугольник 3"/>
          <p:cNvSpPr/>
          <p:nvPr/>
        </p:nvSpPr>
        <p:spPr>
          <a:xfrm>
            <a:off x="5000760" y="2286000"/>
            <a:ext cx="4143240" cy="4276800"/>
          </a:xfrm>
          <a:custGeom>
            <a:avLst/>
            <a:gdLst>
              <a:gd name="textAreaLeft" fmla="*/ 230760 w 4143240"/>
              <a:gd name="textAreaRight" fmla="*/ 3912480 w 4143240"/>
              <a:gd name="textAreaTop" fmla="*/ 230760 h 4276800"/>
              <a:gd name="textAreaBottom" fmla="*/ 4046040 h 4276800"/>
            </a:gdLst>
            <a:ahLst/>
            <a:rect l="textAreaLeft" t="textAreaTop" r="textAreaRight" b="textAreaBottom"/>
            <a:pathLst>
              <a:path w="21600" h="22296">
                <a:moveTo>
                  <a:pt x="4111" y="0"/>
                </a:moveTo>
                <a:arcTo wR="4111" hR="4111" stAng="16200000" swAng="-5400000"/>
                <a:lnTo>
                  <a:pt x="0" y="18185"/>
                </a:lnTo>
                <a:arcTo wR="4111" hR="4111" stAng="10800000" swAng="-5400000"/>
                <a:lnTo>
                  <a:pt x="17489" y="22296"/>
                </a:lnTo>
                <a:arcTo wR="4111" hR="4111" stAng="5400000" swAng="-5400000"/>
                <a:lnTo>
                  <a:pt x="21600" y="4111"/>
                </a:lnTo>
                <a:arcTo wR="4111" hR="4111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1940040" y="285840"/>
            <a:ext cx="604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Wingdings 2"/>
                <a:ea typeface="Wingdings 2"/>
              </a:rPr>
              <a:t></a:t>
            </a:r>
            <a:r>
              <a:rPr b="1" lang="ru-RU" sz="4000" spc="-1" strike="noStrike">
                <a:solidFill>
                  <a:srgbClr val="4f6228"/>
                </a:solidFill>
                <a:latin typeface="Book Antiqua"/>
              </a:rPr>
              <a:t> </a:t>
            </a:r>
            <a:r>
              <a:rPr b="1" lang="ru-RU" sz="4000" spc="-1" strike="noStrike">
                <a:solidFill>
                  <a:srgbClr val="71ff71"/>
                </a:solidFill>
                <a:latin typeface="Book Antiqua"/>
              </a:rPr>
              <a:t>Домашнее задание </a:t>
            </a:r>
            <a:r>
              <a:rPr b="1" lang="ru-RU" sz="4000" spc="-1" strike="noStrike">
                <a:solidFill>
                  <a:srgbClr val="4f6228"/>
                </a:solidFill>
                <a:latin typeface="Wingdings 2"/>
                <a:ea typeface="Wingdings 2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71680" y="333360"/>
            <a:ext cx="80326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f6228"/>
              </a:buClr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</a:rPr>
              <a:t>Тема урока:</a:t>
            </a:r>
            <a:r>
              <a:rPr b="1" i="1" lang="ru-RU" sz="6000" spc="-1" strike="noStrike">
                <a:solidFill>
                  <a:srgbClr val="4f6228"/>
                </a:solidFill>
                <a:latin typeface="Book Antiqua"/>
              </a:rPr>
              <a:t> </a:t>
            </a:r>
            <a:r>
              <a:rPr b="1" lang="ru-RU" sz="4000" spc="-1" strike="noStrike">
                <a:solidFill>
                  <a:srgbClr val="4f6228"/>
                </a:solidFill>
                <a:latin typeface="Wingdings 2"/>
                <a:ea typeface="Wingdings 2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 Antiqua"/>
              </a:rPr>
              <a:t>Правописание пристав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 Antiqua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Book Antiqua"/>
              </a:rPr>
              <a:t>пре- и при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571680" y="2492280"/>
            <a:ext cx="8215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f6228"/>
              </a:buClr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</a:rPr>
              <a:t>Цель урока:</a:t>
            </a:r>
            <a:r>
              <a:rPr b="1" i="1" lang="ru-RU" sz="6000" spc="-1" strike="noStrike">
                <a:solidFill>
                  <a:srgbClr val="4f6228"/>
                </a:solidFill>
                <a:latin typeface="Book Antiqua"/>
              </a:rPr>
              <a:t> </a:t>
            </a:r>
            <a:r>
              <a:rPr b="1" lang="ru-RU" sz="4000" spc="-1" strike="noStrike">
                <a:solidFill>
                  <a:srgbClr val="4f6228"/>
                </a:solidFill>
                <a:latin typeface="Wingdings 2"/>
                <a:ea typeface="Wingdings 2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тизировать знания о правописании приставок пре- и при-; углубить понимание условий правильного выбора букв е и и в приставках пре-, при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>
            <a:hlinkClick r:id="rId1" action="ppaction://hlinksldjump"/>
          </p:cNvPr>
          <p:cNvSpPr/>
          <p:nvPr/>
        </p:nvSpPr>
        <p:spPr>
          <a:xfrm>
            <a:off x="4211640" y="5877000"/>
            <a:ext cx="755640" cy="69192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23588" h="21600">
                <a:moveTo>
                  <a:pt x="0" y="0"/>
                </a:moveTo>
                <a:lnTo>
                  <a:pt x="23588" y="0"/>
                </a:lnTo>
                <a:lnTo>
                  <a:pt x="23588" y="21600"/>
                </a:lnTo>
                <a:lnTo>
                  <a:pt x="0" y="21600"/>
                </a:lnTo>
                <a:close/>
              </a:path>
              <a:path fill="lightenLess" w="23588" h="21600">
                <a:moveTo>
                  <a:pt x="0" y="0"/>
                </a:moveTo>
                <a:lnTo>
                  <a:pt x="23588" y="0"/>
                </a:lnTo>
                <a:lnTo>
                  <a:pt x="22188" y="1400"/>
                </a:lnTo>
                <a:lnTo>
                  <a:pt x="1400" y="1400"/>
                </a:lnTo>
                <a:close/>
              </a:path>
              <a:path fill="darken" w="23588" h="21600">
                <a:moveTo>
                  <a:pt x="23588" y="0"/>
                </a:moveTo>
                <a:lnTo>
                  <a:pt x="23588" y="21600"/>
                </a:lnTo>
                <a:lnTo>
                  <a:pt x="22188" y="20200"/>
                </a:lnTo>
                <a:lnTo>
                  <a:pt x="22188" y="1400"/>
                </a:lnTo>
                <a:close/>
              </a:path>
              <a:path fill="darkenLess" w="23588" h="21600">
                <a:moveTo>
                  <a:pt x="23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8" y="20200"/>
                </a:lnTo>
                <a:close/>
              </a:path>
              <a:path fill="lighten" w="23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88" h="21600">
                <a:moveTo>
                  <a:pt x="1179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588" h="21600">
                <a:moveTo>
                  <a:pt x="1179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588" h="21600">
                <a:moveTo>
                  <a:pt x="9218" y="8224"/>
                </a:moveTo>
                <a:lnTo>
                  <a:pt x="13082" y="8224"/>
                </a:lnTo>
                <a:lnTo>
                  <a:pt x="13082" y="15221"/>
                </a:lnTo>
                <a:lnTo>
                  <a:pt x="14370" y="15221"/>
                </a:lnTo>
                <a:lnTo>
                  <a:pt x="14370" y="16144"/>
                </a:lnTo>
                <a:lnTo>
                  <a:pt x="9218" y="16144"/>
                </a:lnTo>
                <a:lnTo>
                  <a:pt x="9218" y="15221"/>
                </a:lnTo>
                <a:lnTo>
                  <a:pt x="10506" y="15221"/>
                </a:lnTo>
                <a:lnTo>
                  <a:pt x="10506" y="9129"/>
                </a:lnTo>
                <a:lnTo>
                  <a:pt x="9218" y="9129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362760" y="5013360"/>
            <a:ext cx="239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Book Antiqua"/>
              </a:rPr>
              <a:t>Информ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Book Antiqua"/>
              </a:rPr>
              <a:t>для учи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312A-C46A-4387-8978-601B68299D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714240" y="28584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</a:rPr>
              <a:t>Начинаем веселый ур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785880" y="92880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ение приставки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р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785880" y="150012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06b2"/>
                </a:solidFill>
                <a:latin typeface="Times New Roman"/>
              </a:rPr>
              <a:t>Слова, обозначающие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приближение,</a:t>
            </a:r>
            <a:r>
              <a:rPr b="1" lang="ru-RU" sz="2400" spc="-1" strike="noStrike">
                <a:solidFill>
                  <a:srgbClr val="1f06b2"/>
                </a:solidFill>
                <a:latin typeface="Times New Roman"/>
              </a:rPr>
              <a:t>  пишутся с приставкой</a:t>
            </a:r>
            <a:r>
              <a:rPr b="1" lang="ru-RU" sz="2400" spc="-1" strike="noStrike">
                <a:solidFill>
                  <a:srgbClr val="ffff0b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5" descr="j0215086"/>
          <p:cNvPicPr/>
          <p:nvPr/>
        </p:nvPicPr>
        <p:blipFill>
          <a:blip r:embed="rId1"/>
          <a:stretch/>
        </p:blipFill>
        <p:spPr>
          <a:xfrm>
            <a:off x="928800" y="2357280"/>
            <a:ext cx="2892240" cy="385776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0AE5-B51E-44A0-832E-AB71DBDE82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radionyanya._pre-_i_pri-..mp3" descr=""/>
          <p:cNvPicPr/>
          <p:nvPr/>
        </p:nvPicPr>
        <p:blipFill>
          <a:blip r:embed="rId2"/>
          <a:stretch/>
        </p:blipFill>
        <p:spPr>
          <a:xfrm>
            <a:off x="7858080" y="585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4286160" y="2428920"/>
            <a:ext cx="442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ш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ха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ака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емлил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унил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2738-6BC9-479B-881E-4E999A5ED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857160" y="28584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06b2"/>
                </a:solidFill>
                <a:latin typeface="Times New Roman"/>
              </a:rPr>
              <a:t>Слова, обозначающие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соединение,</a:t>
            </a:r>
            <a:r>
              <a:rPr b="1" lang="ru-RU" sz="3600" spc="-1" strike="noStrike">
                <a:solidFill>
                  <a:srgbClr val="1f06b2"/>
                </a:solidFill>
                <a:latin typeface="Times New Roman"/>
              </a:rPr>
              <a:t>  пишутся с приставкой</a:t>
            </a:r>
            <a:r>
              <a:rPr b="1" lang="ru-RU" sz="3600" spc="-1" strike="noStrike">
                <a:solidFill>
                  <a:srgbClr val="ffff0b"/>
                </a:solidFill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1000080" y="264312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нимаю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клеиваю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рисовываю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5089-BE5A-41AA-B79B-56A6EFC0A0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928800" y="2858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</a:rPr>
              <a:t>При- = неполнота действ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857160" y="178596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екл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NA01069_"/>
          <p:cNvPicPr/>
          <p:nvPr/>
        </p:nvPicPr>
        <p:blipFill>
          <a:blip r:embed="rId1"/>
          <a:stretch/>
        </p:blipFill>
        <p:spPr>
          <a:xfrm>
            <a:off x="4143240" y="2143080"/>
            <a:ext cx="4802400" cy="43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d28e8c"/>
                </a:solidFill>
                <a:latin typeface="Calibri"/>
              </a:rPr>
              <a:t>Песенка о приставках ПРЕ и ПР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90A9-51F2-4E14-B8E7-51101AC2B2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928800" y="1093320"/>
            <a:ext cx="7643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?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совсем не секр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одержание слова смотр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азу получишь отв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ли поезд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ы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ароход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смонавт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те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з Вселенной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о всех, кт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ёт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тит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ывё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ш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есомнен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07DA-F910-4801-A5DB-6B08ECCE69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714240" y="1020240"/>
            <a:ext cx="75726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? ПР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совсем не секр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одержание слова смотри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азу получишь отв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нт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нтил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ути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ес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леил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ло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ни, что пишется ПРИ обо всё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добрые рук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ла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74FE-C4B4-4929-AC59-7530855F30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642960" y="592920"/>
            <a:ext cx="7572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л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? ПР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совсем не секр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одержание слова смотри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азу получишь отв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Язык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си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не совсем откусил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ел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не значит гори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ни – что сделано, но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не совсе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шут с приставкой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тон</dc:creator>
  <dc:description/>
  <dc:language>en-US</dc:language>
  <cp:lastModifiedBy>irbis</cp:lastModifiedBy>
  <dcterms:modified xsi:type="dcterms:W3CDTF">2020-08-20T05:47:02Z</dcterms:modified>
  <cp:revision>64</cp:revision>
  <dc:subject/>
  <dc:title>Слайд 1</dc:title>
</cp:coreProperties>
</file>