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304-D21D-467C-9D53-4119178B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9E1-7709-4221-BDEE-F6C707F1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C82-9962-4D89-ACEA-2A8C4D1E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60F-1F59-44C1-9690-EBA4005E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A60-3BB9-405E-BC20-47437F3A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223-4102-48D5-BBDE-738803D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DC3-4783-4050-9744-297967A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DC2-A498-479B-9F61-2262D894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FC6-BB95-4279-9EFE-960D58DF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6FD-E48A-461F-B480-EE836B1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95A-C504-4001-B27E-6C68389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9A6-23E2-4E90-B1E9-29B3DBF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9E9-A6D5-4120-902B-2816E8B6E7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спользование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ветового песочного стола в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оррекционно-образовательной работе в ДОУ</a:t>
            </a:r>
            <a:br>
              <a:rPr sz="32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Методические рекомендации для педагогов ДОУ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3933360"/>
            <a:ext cx="7561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</a:rPr>
              <a:t>Учитель- логопед: Теренко Н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</a:rPr>
              <a:t>МКДОУ «Детский сад № 24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</a:rPr>
              <a:t>2020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и по использованию светового стола без песка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олл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Объект 9" descr="kollazh-na-svetovom-stole"/>
          <p:cNvPicPr/>
          <p:nvPr/>
        </p:nvPicPr>
        <p:blipFill>
          <a:blip r:embed="rId1"/>
          <a:stretch/>
        </p:blipFill>
        <p:spPr>
          <a:xfrm>
            <a:off x="611280" y="270828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зучаем счё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Объект 14" descr="igry-collazg-na-svetovom-stole"/>
          <p:cNvPicPr/>
          <p:nvPr/>
        </p:nvPicPr>
        <p:blipFill>
          <a:blip r:embed="rId2"/>
          <a:stretch/>
        </p:blipFill>
        <p:spPr>
          <a:xfrm>
            <a:off x="4645080" y="2401920"/>
            <a:ext cx="4041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и по использованию светового стола без песка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зучаем счё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0" y="1534680"/>
            <a:ext cx="397044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гры с разноцветными пластиковыми стаканч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Объект 6" descr="izuchaem-schet-na-svetovom-stole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7" descr="zanyatiya-dlya-rebenka-na-svetovom-stole"/>
          <p:cNvPicPr/>
          <p:nvPr/>
        </p:nvPicPr>
        <p:blipFill>
          <a:blip r:embed="rId2"/>
          <a:stretch/>
        </p:blipFill>
        <p:spPr>
          <a:xfrm>
            <a:off x="4645080" y="2692440"/>
            <a:ext cx="40417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и по использованию светового стола без песка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южетные иг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еневой теа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Объект 6" descr="C:\Users\Admin\Desktop\песок1\unnamed (1)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7" descr="C:\Users\Admin\Desktop\песок1\unnamed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и по использованию светового стола без песка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на световом стол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сование на моло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Объект 6" descr="zanyatiya-dlya-detei-na-svetovom-stole"/>
          <p:cNvPicPr/>
          <p:nvPr/>
        </p:nvPicPr>
        <p:blipFill>
          <a:blip r:embed="rId1"/>
          <a:stretch/>
        </p:blipFill>
        <p:spPr>
          <a:xfrm>
            <a:off x="395280" y="2637000"/>
            <a:ext cx="4102200" cy="3098520"/>
          </a:xfrm>
          <a:prstGeom prst="rect">
            <a:avLst/>
          </a:prstGeom>
          <a:ln w="0">
            <a:noFill/>
          </a:ln>
        </p:spPr>
      </p:pic>
      <p:pic>
        <p:nvPicPr>
          <p:cNvPr id="83" name="Объект 7" descr="risovanie-na-moloke-na-svetovom-stole"/>
          <p:cNvPicPr/>
          <p:nvPr/>
        </p:nvPicPr>
        <p:blipFill>
          <a:blip r:embed="rId2"/>
          <a:stretch/>
        </p:blipFill>
        <p:spPr>
          <a:xfrm>
            <a:off x="4645080" y="2637000"/>
            <a:ext cx="4248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181080" y="404640"/>
            <a:ext cx="90741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Если бы меня попросили назв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ниверсальную всевозрастную игровую сред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то я бы, ни на секунду не сомневаясь, сказала: «Песок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Трифонова 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Содержимое 10" descr="DSC09540.JPG"/>
          <p:cNvPicPr/>
          <p:nvPr/>
        </p:nvPicPr>
        <p:blipFill>
          <a:blip r:embed="rId1"/>
          <a:stretch/>
        </p:blipFill>
        <p:spPr>
          <a:xfrm>
            <a:off x="1735200" y="2259000"/>
            <a:ext cx="55735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95640" y="333000"/>
            <a:ext cx="4897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едлагаемые методические рекомендации, позволя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сширить возможности светового песочного сто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ооружить педагогов ДОУ превосходной технологией сотворчества с деть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вить детям желание решать познавательные задач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еревести «взор» ребенка от плоскости электронного планшета на объемное пространство светового песочного сто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ешить множество коррекционных и образовательных задач в обучающем проце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95640" y="333000"/>
            <a:ext cx="4897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9280" y="404280"/>
            <a:ext cx="8569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ложительные эффекты использ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есочного ст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ущественно усиливается желание ребенка узнавать что-то новое, экспериментировать и работать самостоя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песочнице мощно развивается тактильная чувствительность как основа «ручного интеллект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играх с песком более гармонично и интенсивно развиваются все познавательные функции (восприятие, внимание, память, мышление), а также речь и мотор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овершенствуется предметно-игровая деятельность, что в дальнейшем способствует развитию сюжетно-ролевой игры и коммуникативных навыков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есок, как и вода, способен «заземлять» отрицательную энергию, что особенно актуально в работе с «особыми» деть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95640" y="333000"/>
            <a:ext cx="4897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476280"/>
            <a:ext cx="8569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словия работы с детьми на световом песочном ст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огласие и желание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пециальная подготовка воспитателя, его творческий подход к проведению зан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 детей не должно быть аллергии на пыль от сухого песка, кожных заболеваний и порезов на ру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3" descr="hello_html_m3d6da79b.jpg"/>
          <p:cNvPicPr/>
          <p:nvPr/>
        </p:nvPicPr>
        <p:blipFill>
          <a:blip r:embed="rId1"/>
          <a:stretch/>
        </p:blipFill>
        <p:spPr>
          <a:xfrm>
            <a:off x="1835280" y="3141720"/>
            <a:ext cx="5184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95640" y="333000"/>
            <a:ext cx="4897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476280"/>
            <a:ext cx="8569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авила для детей при работе с пес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 световом песочном ст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и игре с песком всегда должны быть чистые ручки и носик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Нельзя брать песок в рот - можешь подави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Нельзя бросать песок в лицо – можешь повредить глаз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Нельзя вдыхать песок - можешь задохну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сле игры с песком – помой рук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11280" y="3610080"/>
            <a:ext cx="4392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то можно делать на световом столе с песком?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1268280"/>
            <a:ext cx="8075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исовать на песке дыханием через трубочку для коктей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исовать на песке тонким предметом или пальчик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исовать на поверхности стола с помощью пес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существлять работу с помощью рук (посыпание, пересыпание из рук в рук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скать игрушки, картинки, спрятанные в пес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оздавать на песке композиции, используя различные игрушки, иллюстрировать свои ис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игр и упражнений </a:t>
            </a:r>
            <a:br>
              <a:rPr sz="20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использованием свето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го песочного сто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я на регуляцию мышечного тонуса,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ятия напряжения с мышц пальцев р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я на развитие дых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Упражнения на развитие межполушар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26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на развитие коммуникативных навыков, познавательных процессов,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и по использованию светового стола без песка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гра на световом столе с гидрогелевыми шарик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агнитный конструктор из прозрачного плас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Объект 6" descr="igra-s-gidrogelevimi-sharikami-na-svetovom-stole"/>
          <p:cNvPicPr/>
          <p:nvPr/>
        </p:nvPicPr>
        <p:blipFill>
          <a:blip r:embed="rId1"/>
          <a:stretch/>
        </p:blipFill>
        <p:spPr>
          <a:xfrm>
            <a:off x="457200" y="2803680"/>
            <a:ext cx="4040280" cy="269388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7" descr="igry-na-svetovom-stole-dlya-detei"/>
          <p:cNvPicPr/>
          <p:nvPr/>
        </p:nvPicPr>
        <p:blipFill>
          <a:blip r:embed="rId2"/>
          <a:stretch/>
        </p:blipFill>
        <p:spPr>
          <a:xfrm>
            <a:off x="4645080" y="2803680"/>
            <a:ext cx="4041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20-07-29T07:25:04Z</dcterms:modified>
  <cp:revision>39</cp:revision>
  <dc:subject/>
  <dc:title>Слайд 1</dc:title>
</cp:coreProperties>
</file>