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0.gif" ContentType="image/gi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9C71-827D-4328-BD16-E888F5DC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F08C-C326-4268-BC2A-1FB8AB9D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C29B-1040-4F9E-8382-9C2144E2C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A89-0C52-4A82-BF85-FAE02E22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27E92-60A1-42CD-899C-A6898F94D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5A89-AFA8-46C7-B9DE-44E3D3BF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D5CE-FB77-4256-9E7E-EC501BAB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BC31-1A30-4027-94D8-67B168F8C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8119-C67B-4606-B82C-A7C92F10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605-E33C-4C5B-854D-7CDDF322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4BF9-604E-4AB5-84B5-8C5191399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665B-1D7C-4DEF-ABEA-214E8916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12F4-E0D9-48E3-9BA8-5670EBEE9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4360" y="1197000"/>
            <a:ext cx="7991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особы передачи 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чужой речи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07880" y="3573360"/>
            <a:ext cx="2830680" cy="2951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7840" y="136440"/>
            <a:ext cx="822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24000" y="189000"/>
            <a:ext cx="84247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Ты когда-нибудь видел звероящера? - спросил режисс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Конечно. Он живёт у нас на даче, -  сказал Се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А разве звероящеры не вымерли? – честно удивился режиссё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Все вымерли, а один осталс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А почему он остал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тому что он попал в выгодные климатические условия, -  вывернулся Сев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 В.Токаре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24000" y="5013360"/>
            <a:ext cx="83516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7480" y="136440"/>
            <a:ext cx="880560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Предложения с косвенной речь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это сложные (сложноподчинённые) предложения, где первая часть слова автора (главное предложение), а вторая – косвенная (чужая) речь (придаточное предлож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СРАВНИ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Мне было сказано : «Так нельзя поступать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Мне было сказано, что так поступать нельз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Простые предложения в составе предложений с косвенной речью соединяются при помощи  союзов и союзных слов ЧТО, ЧТОБЫ, БУДТО, КАК БУДТО, КТО, КОТОРЫЙ, ГДЕ, ОТКУДА и др., частицей ЛИ в роли сою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58760" y="208080"/>
            <a:ext cx="8661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395280" y="620640"/>
          <a:ext cx="8424720" cy="434160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5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ям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свенная реч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4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Сегодня холодно,» - произнёс Борис задумчив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 строгим голосом приказал: «Приведите ко мне сержанта!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ис задумчиво произнёс, что сегодня холодно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мандир строгим голосом приказал, чтобы к нему привели сержанта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445000"/>
            <a:ext cx="799308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47628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Замените прямую речь косвен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«Вы будете дома вечером?»- полюбопытствовал мой знаком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н пробормотал : «Я принесу эту вещь для теб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148360" y="3716280"/>
            <a:ext cx="332568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71640" y="404640"/>
            <a:ext cx="7942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Расставьте знаки препинания в предло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. Простите меня пожалуйста заговорил Вадим позвольте я вам пом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Мама сказал Митя давай я грядку вскопаю я уже уме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Похолодало Катерина Ивановна бодро сказал Тихо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Я подумал тропинка куда-нибудь нас привед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24000" y="1197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4000" y="191628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24000" y="2637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5"/>
          <a:stretch/>
        </p:blipFill>
        <p:spPr>
          <a:xfrm>
            <a:off x="324000" y="3429000"/>
            <a:ext cx="342720" cy="333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6"/>
          <a:stretch/>
        </p:blipFill>
        <p:spPr>
          <a:xfrm>
            <a:off x="2484360" y="4221000"/>
            <a:ext cx="424836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900000" y="476280"/>
            <a:ext cx="712800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тат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2205000"/>
            <a:ext cx="87346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 это дословная выдержка из какого-либо устного или письменного высказывания, приводимая для подтверждения или разъяснения своей мыс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5364000" y="3789360"/>
            <a:ext cx="302436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404640"/>
            <a:ext cx="8734320" cy="61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1)Цитата может представлять собой прямую речь, сопровождаемую словами автора. При этом знаки препинания ставятся так же, как и в предложениях с прямой речь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Язык народа, - писал В.И.Даль, - бесспорно главнейший родник или рудник наш, сокровищница наше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2) Если цитата представляет собой часть предложения , она выделяется кавычками и пишется со строчной букв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вестный лингвист Л.И. Скворцов подчёркивает, что «чтение толковых, энциклопедических словарей – полезное и увлекательное занятие для каждого из нас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.Г. Белинского поражало «разнообразие картин, образов и чувств» в поэме «Мцыр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31840" y="208080"/>
            <a:ext cx="858816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3) Если предложение-цитата приводится не полностью, то на месте пропущенных слов ставится многоточ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хов справедливо полагал: «…для интеллигентного человека дурно говорить должно было бы считаться таким же неприличным, как не уметь читать или писать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4) Если цитируется стихотворное произведение или его часть с соблюдением стихотворной строки, то кавычки не ставя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ихотворение М.Цветаевой начинается так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эт – издалека заводи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эта – далеко заводит реч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79280" y="189000"/>
            <a:ext cx="87138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Найдите неправильный способ цитир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.Т.Твардовский писал: «У каждого из нас свой Пушкин, остающийся одним для всех. Он входит в нашу жизнь в самом начале её и уже не покидает нас до кон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А.Т.Твардовский писал о Пушкине, что « у каждого -  он свой, и он входит в нашу жизнь в самом начале её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) По словам А.Т.Твардовского, Пушкин «у каждого из нас свой», и он «не покидает нас до кон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) А.Т.Твардовский говорил, что Пушкин «входит в нашу жизнь…и уже не покидает нас…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476360" y="1125360"/>
            <a:ext cx="662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 нас всё получилось.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     </a:t>
            </a: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95280" y="2637000"/>
            <a:ext cx="33148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68360" y="549360"/>
            <a:ext cx="81360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Уважаемые ребята!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ы вместе изучим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новый материал,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и я помогу вам выполнить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актические зад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282888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9640" y="333360"/>
            <a:ext cx="8186760" cy="187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Чужая речь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может передаваться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 помощью :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00000" y="3141720"/>
            <a:ext cx="794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Прям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свенной реч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водных сл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 Дополнения с предлогом 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12000" y="2276640"/>
            <a:ext cx="295272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95280" y="260280"/>
            <a:ext cx="8516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Учитель сказал : «Ребята, быстрое чтение – очень важный навык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Учитель сообщил нам, что быстрое чтение – очень важный нав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По словам учителя, быстрое чтение – очень важный навы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Учитель сообщил нам о важности быстрого чт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84247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31840" y="208080"/>
            <a:ext cx="86612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Определите в предложениях способ передачи чужой реч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е рассказали о прилёте журав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на уроке объяснил, что журавли прилетают в середине вес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 мнению ребят, самая голосистая  птица – солов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«Птицы – помощники леса,» - прочитали мы в учебн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39640" y="5157720"/>
            <a:ext cx="813780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260280"/>
            <a:ext cx="815652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рямая реч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это точная передача чужого высказы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ложения с прямой речью состоят из двух частей : слов автора и собственно чуж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Косвенная реч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это передача чужого высказывания от лица говоря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свенная речь имеет форму сложноподчинённого предло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2637000"/>
            <a:ext cx="777528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42920" y="1341360"/>
            <a:ext cx="7489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: « П. »                             4) « П »,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А : « П! »                             5) « П !»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 : « П? »                            6) « П ?» - 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)   « П, - а, -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)   « П, - а. -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)   « П ? – а. –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) « П ! – а. – П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00000" y="115920"/>
            <a:ext cx="77724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формление прямой речи на письм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796000" y="4221000"/>
            <a:ext cx="305100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31840" y="136440"/>
            <a:ext cx="8661240" cy="63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Найдите предложения с прямой речью. Выпишите их, расставьте знаки препи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Что с вами приключилось, малыш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Стой,братцы,стой кричит Мартышка погоди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В.Г.Белинский писал о том что стих Пушкина благороден, изящно про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Учитель спросил ребят кто из них дежури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Сегодня спросил он начнётся олимпиад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Лесничий сказал видел я на озере сегодня лебед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По мнению многих Байкал самое красивое озеро в мир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Когда же мы виделись с тобой спросил Ван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8760" y="208080"/>
            <a:ext cx="866124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Arial"/>
              </a:rPr>
              <a:t>Какая пунктуационная схема соответствует предложению? (знаки не расставлен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Так я ж вам объявляю произнёс Иван Иванович что знать вас не хоч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«П!- а.- 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«П,- а,- 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 «П»,- а,- «п!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 «П,- а,- п»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95280" y="5300640"/>
            <a:ext cx="79916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6:09:46Z</dcterms:created>
  <dc:creator>Евгения</dc:creator>
  <dc:description/>
  <dc:language>en-US</dc:language>
  <cp:lastModifiedBy>1</cp:lastModifiedBy>
  <dcterms:modified xsi:type="dcterms:W3CDTF">2009-10-15T18:20:57Z</dcterms:modified>
  <cp:revision>23</cp:revision>
  <dc:subject/>
  <dc:title>Слайд 1</dc:title>
</cp:coreProperties>
</file>