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gif" ContentType="image/gi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53F-746A-4ECD-9504-F7B5E267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4A4-A6B1-4D5C-A15A-D9C64BA0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5E3-6381-4ED9-B78D-F8FF318A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C685-B0CA-411C-B6FA-0946E55F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B3B0-1519-46ED-AD63-86091CB5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A450-3A46-4D83-BD0E-165C0431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B49-655B-4119-A85B-9380FE4B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70C-AC5C-4928-BC36-E86B2423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DF46-68DE-4119-86EB-30ED7D16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3F9-1D51-45C5-B2BE-70A82916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8D2F-2F31-44AF-BDF7-D1FC3B1A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6769-3408-42BB-B8B4-5D7897C2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5626-1223-462C-AB6A-C69F4F70E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197000"/>
            <a:ext cx="7991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ы передач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ужой реч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07880" y="3573360"/>
            <a:ext cx="2830680" cy="2951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7840" y="136440"/>
            <a:ext cx="822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000" y="18900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Ты когда-нибудь видел звероящера? - спросил режиссё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онечно. Он живёт у нас на даче, -  сказал Се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А разве звероящеры не вымерли? – честно удивился режиссё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Все вымерли, а один оста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А почему он остал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тому что он попал в выгодные климатические условия, -  вывернулся Се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В.Токар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8351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7480" y="136440"/>
            <a:ext cx="8805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Предложения с косвенной речь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это сложные (сложноподчинённые) предложения, где первая часть слова автора (главное предложение), а вторая – косвенная (чужая) речь (придаточное предлож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СРАВ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Мне было сказано : «Так нельзя поступат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Мне было сказано, что так поступа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ростые предложения в составе предложений с косвенной речью соединяются при помощи  союзов и союзных слов ЧТО, ЧТОБЫ, БУДТО, КАК БУДТО, КТО, КОТОРЫЙ, ГДЕ, ОТКУДА и др., частицей ЛИ в роли сою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8760" y="208080"/>
            <a:ext cx="866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5280" y="620640"/>
          <a:ext cx="8424720" cy="434160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ямая реч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освенная реч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годня холодно,» - произнёс Борис задумчи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ир строгим голосом приказал: «Приведите ко мне сержанта!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ис задумчиво произнёс, что сегодня холодн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ир строгим голосом приказал, чтобы к нему привели сержант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5445000"/>
            <a:ext cx="79930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476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Замените прямую речь кос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Вы будете дома вечером?»- полюбопытствовал мой знаком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 пробормотал : «Я принесу эту вещь для теб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148360" y="3716280"/>
            <a:ext cx="33256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71640" y="404640"/>
            <a:ext cx="794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Расставьте знаки препинания в предло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. Простите меня пожалуйста заговорил Вадим позвольте я вам пом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Мама сказал Митя давай я грядку вскопаю я уже уме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Похолодало Катерина Ивановна бодро сказал Тих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 Я подумал тропинка куда-нибудь нас привед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42720" cy="333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342720" cy="333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24000" y="2637000"/>
            <a:ext cx="342720" cy="333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24000" y="3429000"/>
            <a:ext cx="342720" cy="333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2484360" y="4221000"/>
            <a:ext cx="424836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00000" y="476280"/>
            <a:ext cx="712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та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2205000"/>
            <a:ext cx="873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это дословная выдержка из какого-либо устного или письменного высказывания, приводимая для подтверждения или разъяснения своей мы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64000" y="3789360"/>
            <a:ext cx="30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0920" y="404640"/>
            <a:ext cx="8734320" cy="61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)Цитата может представлять собой прямую речь, сопровождаемую словами автора. При этом знаки препинания ставятся так же, как и в предложениях с прямой реч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Язык народа, - писал В.И.Даль, - бесспорно главнейший родник или рудник наш, сокровищница наше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) Если цитата представляет собой часть предложения , она выделяется кавычками и пишется со строчной бук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вестный лингвист Л.И. Скворцов подчёркивает, что «чтение толковых, энциклопедических словарей – полезное и увлекательное занятие для каждого из на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.Г. Белинского поражало «разнообразие картин, образов и чувств» в поэме «Мцыр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31840" y="208080"/>
            <a:ext cx="858816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) Если предложение-цитата приводится не полностью, то на месте пропущенных слов ставится многото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хов справедливо полагал: «…для интеллигентного человека дурно говорить должно было бы считаться таким же неприличным, как не уметь читать или писать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) Если цитируется стихотворное произведение или его часть с соблюдением стихотворной строки, то кавычки не ставя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хотворение М.Цветаевой начинается так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эт – издалека заводит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эта – далеко заводит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9280" y="18900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Найдите неправильный способ цит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Т.Твардовский писал: «У каждого из нас свой Пушкин, остающийся одним для всех. Он входит в нашу жизнь в самом начале её и уже не покидает нас до конц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А.Т.Твардовский писал о Пушкине, что « у каждого -  он свой, и он входит в нашу жизнь в самом начале её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По словам А.Т.Твардовского, Пушкин «у каждого из нас свой», и он «не покидает нас до конц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 А.Т.Твардовский говорил, что Пушкин «входит в нашу жизнь…и уже не покидает нас…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476360" y="1125360"/>
            <a:ext cx="66247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нас всё получилось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5280" y="2637000"/>
            <a:ext cx="331488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360" y="549360"/>
            <a:ext cx="81360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важаемые ребята!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 вместе изучим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вый материал,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я помогу вам выполнить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ктические задания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4076640"/>
            <a:ext cx="282888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9640" y="333360"/>
            <a:ext cx="81867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ужая реч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жет передаватьс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 помощью 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3141720"/>
            <a:ext cx="794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ямой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свенной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водных с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 Дополнения с предлогом 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9527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260280"/>
            <a:ext cx="8516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Учитель сказал : «Ребята, быстрое чтение – очень важный навы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Учитель сообщил нам, что быстрое чтение – очень важный нав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По словам учителя, быстрое чтение – очень важный нав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Учитель сообщил нам о важности быстрого ч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5516640"/>
            <a:ext cx="8424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1840" y="208080"/>
            <a:ext cx="8661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Определите в предложениях способ передачи чужой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е рассказали о прилёте журав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на уроке объяснил, что журавли прилетают в середине вес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мнению ребят, самая голосистая  птица – солов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«Птицы – помощники леса,» - прочитали мы в учебн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5157720"/>
            <a:ext cx="81378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260280"/>
            <a:ext cx="815652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Прямая реч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это точная передача чужого высказы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ложения с прямой речью состоят из двух частей : слов автора и собственно чуж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Косвенная реч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это передача чужого высказывания от лица говоря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свенная речь имеет форму сложноподчинённого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4360" y="2637000"/>
            <a:ext cx="7775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42920" y="1341360"/>
            <a:ext cx="7489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: « П. »                             4) « П », -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А : « П! »                             5) « П !» -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: « П? »                            6) « П ?» -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)   « П, - а, - п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)   « П, - а. - П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)   « П ? – а. – П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) « П ! – а. – П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00000" y="115920"/>
            <a:ext cx="77724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формление прямой речи на письм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796000" y="4221000"/>
            <a:ext cx="30510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31840" y="136440"/>
            <a:ext cx="86612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Найдите предложения с прямой речью. Выпишите их, расставьте знаки препи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Что с вами приключилось, малыш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Стой,братцы,стой кричит Мартышка погод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В.Г.Белинский писал о том что стих Пушкина благороден, изящно прос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Учитель спросил ребят кто из них дежу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Сегодня спросил он начнётся олимпиа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Лесничий сказал видел я на озере сегодня лебе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По мнению многих Байкал самое красивое озеро в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Когда же мы виделись с тобой спросил Ва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8760" y="208080"/>
            <a:ext cx="866124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Какая пунктуационная схема соответствует предложению? (знаки не расставле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Так я ж вам объявляю произнёс Иван Иванович что знать вас не хо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«П!- а.- П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«П,- а,- п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«П»,- а,- «п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 «П,- а,- п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5300640"/>
            <a:ext cx="7991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6:09:46Z</dcterms:created>
  <dc:creator>Евгения</dc:creator>
  <dc:description/>
  <dc:language>en-US</dc:language>
  <cp:lastModifiedBy>1</cp:lastModifiedBy>
  <dcterms:modified xsi:type="dcterms:W3CDTF">2009-10-15T18:20:57Z</dcterms:modified>
  <cp:revision>23</cp:revision>
  <dc:subject/>
  <dc:title>Слайд 1</dc:title>
</cp:coreProperties>
</file>