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EE4-0C2D-416E-8288-838FE5FB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063-5CF1-459E-ABFA-760A5790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2DF-14B7-4641-9454-46743352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43E-F227-41EC-9743-95A66102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A05-A234-4FE4-9005-DCCDCD8C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3B0-5901-4365-81AF-BEF2817C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DEE-AE3E-460E-A334-BFD92C3A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1C2-48A2-41CF-8356-5CDAE8E3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8BE-D3FC-41CE-89D9-02D71C27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079-5C59-42E0-A6A7-220CCF86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6C2-E259-4447-83BF-F10630AE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E4E-CE43-49A1-A541-CAD9322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6040-6BE7-4C1C-BBF2-C6195742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197000"/>
            <a:ext cx="7991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передач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жой реч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7880" y="3573360"/>
            <a:ext cx="2830680" cy="295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7840" y="136440"/>
            <a:ext cx="82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8900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ы когда-нибудь видел звероящера? - спросил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нечно. Он живёт у нас на даче, -  сказал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А разве звероящеры не вымерли? – честно удивился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Все вымерли, а один ост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А почему он оста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ому что он попал в выгодные климатические условия, -  вывернулся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В.Токар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835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7480" y="136440"/>
            <a:ext cx="880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Предложения с косвенной речь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это сложные (сложноподчинённые) предложения, где первая часть слова автора (главное предложение), а вторая – косвенная (чужая) речь (придаточное предлож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СРАВ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Мне было сказано : «Так нельзя поступ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Мне было сказано, что так поступ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ростые предложения в составе предложений с косвенной речью соединяются при помощи  союзов и союзных слов ЧТО, ЧТОБЫ, БУДТО, КАК БУДТО, КТО, КОТОРЫЙ, ГДЕ, ОТКУДА и др., частицей ЛИ в роли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8760" y="208080"/>
            <a:ext cx="86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620640"/>
          <a:ext cx="8424720" cy="434160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ям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свенн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годня холодно,» - произнёс Борис задумчи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: «Приведите ко мне сержанта!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 задумчиво произнёс, что сегодня холод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, чтобы к нему привели сержант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445000"/>
            <a:ext cx="79930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476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Замените прямую речь кос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Вы будете дома вечером?»- полюбопытствовал мой знаком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 пробормотал : «Я принесу эту вещь для теб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48360" y="3716280"/>
            <a:ext cx="3325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71640" y="404640"/>
            <a:ext cx="794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асставьте знаки препинания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. Простите меня пожалуйста заговорил Вадим позвольте я вам по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Мама сказал Митя давай я грядку вскопаю я уже ум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Похолодало Катерина Ивановна бодро сказал Тих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Я подумал тропинка куда-нибудь нас приве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4000" y="3429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484360" y="4221000"/>
            <a:ext cx="424836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00000" y="476280"/>
            <a:ext cx="712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та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2205000"/>
            <a:ext cx="873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это дословная выдержка из какого-либо устного или письменного высказывания, приводимая для подтверждения или разъяснения своей мы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0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404640"/>
            <a:ext cx="8734320" cy="61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)Цитата может представлять собой прямую речь, сопровождаемую словами автора. При этом знаки препинания ставятся так же, как и в предложениях с прямой ре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Язык народа, - писал В.И.Даль, - бесспорно главнейший родник или рудник наш, сокровищница наше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) Если цитата представляет собой часть предложения , она выделяется кавычками и пишется со строчной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вестный лингвист Л.И. Скворцов подчёркивает, что «чтение толковых, энциклопедических словарей – полезное и увлекательное занятие для каждого из на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Г. Белинского поражало «разнообразие картин, образов и чувств» в поэме «Мцы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1840" y="208080"/>
            <a:ext cx="858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) Если предложение-цитата приводится не полностью, то на месте пропущенных слов ставится многот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хов справедливо полагал: «…для интеллигентного человека дурно говорить должно было бы считаться таким же неприличным, как не уметь читать или писат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) Если цитируется стихотворное произведение или его часть с соблюдением стихотворной строки, то кавычки не став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хотворение М.Цветаевой начинается так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эт – издалека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эта – далеко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Найдите неправильный способ ци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Твардовский писал: «У каждого из нас свой Пушкин, остающийся одним для всех. Он входит в нашу жизнь в самом начале её и уже 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А.Т.Твардовский писал о Пушкине, что « у каждого -  он свой, и он входит в нашу жизнь в самом начале её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По словам А.Т.Твардовского, Пушкин «у каждого из нас свой», и он «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А.Т.Твардовский говорил, что Пушкин «входит в нашу жизнь…и уже не покидает нас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76360" y="1125360"/>
            <a:ext cx="662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с всё получилос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33148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549360"/>
            <a:ext cx="813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ажаемые ребята!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месте изучи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вый материал,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я помогу вам выполнить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еские зад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2828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9640" y="333360"/>
            <a:ext cx="8186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ужая реч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жет передавать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помощью 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3141720"/>
            <a:ext cx="794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ям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свен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водных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 Дополнения с предлогом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952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260280"/>
            <a:ext cx="851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Учитель сказал : «Ребята, быстрое чтение – очень важный навы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Учитель сообщил нам, что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По словам учителя,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Учитель сообщил нам о важности быстрог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8424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1840" y="208080"/>
            <a:ext cx="8661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Определите в предложениях способ передачи чуж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е рассказали о прилёте журав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на уроке объяснил, что журавли прилетают в середине в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мнению ребят, самая голосистая  птица – сол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Птицы – помощники леса,» - прочитали мы в учеб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8137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260280"/>
            <a:ext cx="815652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рямая реч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это точная передача чужого высказ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ения с прямой речью состоят из двух частей : слов автора и собственно чуж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Косвенная реч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это передача чужого высказывания от лица говоря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венная речь имеет форму сложноподчинённого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7775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1341360"/>
            <a:ext cx="748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: « П. »                             4) « П »,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А : « П! »                             5) « П !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: « П? »                            6) « П ?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)   « П, - а,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)   « П, - а.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)   « П ?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) « П !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00000" y="115920"/>
            <a:ext cx="7772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формление прямой речи на письм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3051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1840" y="136440"/>
            <a:ext cx="86612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Найдите предложения с прямой речью. Выпишите их, расставьте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Что с вами приключилось, малыш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Стой,братцы,стой кричит Мартышка погод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В.Г.Белинский писал о том что стих Пушкина благороден, изящно пр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Учитель спросил ребят кто из них дежу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Сегодня спросил он начнётся олимпиа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Лесничий сказал видел я на озере сегодня леб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По мнению многих Байкал самое красивое озеро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Когда же мы виделись с тобой спросил Ва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8760" y="208080"/>
            <a:ext cx="8661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Какая пунктуационная схема соответствует предложению? (знаки не расстав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Так я ж вам объявляю произнёс Иван Иванович что знать вас не хо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«П!- а.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«П,- а,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«П»,- а,- «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«П,- а,- п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300640"/>
            <a:ext cx="7991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6:09:46Z</dcterms:created>
  <dc:creator>Евгения</dc:creator>
  <dc:description/>
  <dc:language>en-US</dc:language>
  <cp:lastModifiedBy>1</cp:lastModifiedBy>
  <dcterms:modified xsi:type="dcterms:W3CDTF">2009-10-15T18:20:57Z</dcterms:modified>
  <cp:revision>23</cp:revision>
  <dc:subject/>
  <dc:title>Слайд 1</dc:title>
</cp:coreProperties>
</file>