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3.gif" ContentType="image/gif"/>
  <Override PartName="/ppt/media/image23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14.jpeg" ContentType="image/jpeg"/>
  <Override PartName="/ppt/media/image8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5.png" ContentType="image/png"/>
  <Override PartName="/ppt/media/image18.wmf" ContentType="image/x-wmf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B97-DA89-4704-818F-68BBD234F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077B-ED83-4E26-9503-F1506AC70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DD1-8BDD-4CDC-B03E-AF17CD65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484-7362-4139-8388-338F64E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53C-0CE1-4AEE-BE06-6F53145A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128-E1D6-44B3-BF82-6438EB1D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7851-FDEA-40BE-AD74-F3EED356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374B-55B2-4F57-BA51-375C6A4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544-7735-424C-9DA4-F653E6C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1C0-7306-47E0-8F73-D39D57BC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BE7-8410-4AF6-AA51-FD651A6A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EA06-9312-4B79-9F7B-E4A79F5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DBDC-20C7-4A95-BDFB-2ACF79A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EAC-13C8-433B-94AA-E769FF0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DD2F-EC90-4DEB-8E54-B86BBD0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3CFA-DF1C-413A-9B97-47119A3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E4AD-BDCE-4831-A0C9-BAFBFE9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EAC9-FA7C-476C-B45A-1337ECE8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A21E-5C4C-4174-B861-40FA71F3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623D-22E8-44F2-B8F8-3FD819FA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7159-3B15-46C3-824B-3E205CC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5581-76AF-4DE9-B1D8-ACCEC70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9F41-7EAC-4DE3-AC9A-7D7BFD8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3A09-DB1C-406C-BFD6-79B47AB4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6E5-9860-4105-8D18-484048B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6B8A-23F5-4E90-9232-5FBD57C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2EAF-7666-4360-A95E-AADAD46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251D-5127-48C8-8DC4-3D4806F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845C-B32D-4424-A5A8-4CB4F1E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0CD9-C40D-46F1-AF1C-1ACA3BB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2FFE-9B6D-4F29-B876-25A65FD6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54BC-7A01-4F8B-987B-A79D167B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DC14-DB23-411E-B46A-DFF2FD9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5BC0-10DA-4E30-95EF-D732B198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F28F-E974-4965-A05C-289C49A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FB5-E650-49AD-A265-068D3FA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ED5C-484B-40AA-884D-D5FAFE28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32A2-D787-4E80-B909-169D9CFA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6AAA-A40E-4856-9789-9576B30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78E0-44EE-479D-B0A2-67D566A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515D-16C9-4C61-B98A-0996427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20BB-F28A-4950-B69E-0D12F60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4143-7647-445F-A020-019BAFAD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A44A-8B94-4519-A84D-D41605F6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8CCC-609D-40DA-93B4-884EC7CD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CD522-A88E-4A67-B836-F703A11C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D53-A37B-431F-B9C4-DBADE4D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0C6A-E107-4DB8-8706-4A170DD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1DAB-B05F-4E98-BA84-EFFB0FB6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15724-6D3E-4620-A0CD-88E4771D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3176-B56D-45C1-A03A-853B53F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7F28-36A5-453F-B8AF-1A430730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4E125-1FD8-4943-9358-7D013DA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19C8C-F4CF-4242-9C24-37A26B6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C450-EA62-4AE0-A34F-4951BE33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F9FF-9956-4A10-9E8F-C9BE61D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22BC-14AC-427C-B232-353388CB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FB5-230D-4EB6-BD00-271890AA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0985-A121-4E77-ADD3-2E91F283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F950-0541-4E2F-A9EB-1379E167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295D-EB80-49C4-A431-065EFDA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EC92-0B61-4BC2-AA2C-CCBC581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9DFA-FF58-4F44-86CD-79BD0E75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1786-B18F-404C-8BDE-F63466A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68EA-870B-4FBA-B7D8-72802C24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4780-9427-40F5-8365-88AFD6F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F0AB-8598-4C2E-95A0-D59E04C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0DD5A-577C-407D-B7DD-73CBDC8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5D1-1040-4977-BD02-A90E6875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56EB-C682-4C49-8420-D5FB2FC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A9E1D-1DD4-468B-BD3B-807CE2A8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C4EB4-6093-4F1E-AA55-5CB1C73F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597-669E-466A-984D-FF14006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C78-F2D4-47DE-AF4B-2971E47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D845-9C10-49A7-B39A-B9A25B70C374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BCB-B803-460B-BA60-4B1F61777C84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B05-D00F-49C4-8E6D-2EB7A8AA022E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4CC-0638-4B3E-84DA-64E54529B151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427-301F-4A21-8717-1306E42B63E5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0093-358C-4342-91D6-EE8E8D386329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0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0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0.jpeg"/><Relationship Id="rId22" Type="http://schemas.openxmlformats.org/officeDocument/2006/relationships/image" Target="../media/image20.jpeg"/><Relationship Id="rId23" Type="http://schemas.openxmlformats.org/officeDocument/2006/relationships/image" Target="../media/image20.jpeg"/><Relationship Id="rId24" Type="http://schemas.openxmlformats.org/officeDocument/2006/relationships/image" Target="../media/image20.jpeg"/><Relationship Id="rId25" Type="http://schemas.openxmlformats.org/officeDocument/2006/relationships/image" Target="../media/image20.jpeg"/><Relationship Id="rId26" Type="http://schemas.openxmlformats.org/officeDocument/2006/relationships/image" Target="../media/image20.jpeg"/><Relationship Id="rId27" Type="http://schemas.openxmlformats.org/officeDocument/2006/relationships/image" Target="../media/image22.jpeg"/><Relationship Id="rId28" Type="http://schemas.openxmlformats.org/officeDocument/2006/relationships/image" Target="../media/image22.jpeg"/><Relationship Id="rId29" Type="http://schemas.openxmlformats.org/officeDocument/2006/relationships/image" Target="../media/image22.jpeg"/><Relationship Id="rId30" Type="http://schemas.openxmlformats.org/officeDocument/2006/relationships/image" Target="../media/image22.jpeg"/><Relationship Id="rId31" Type="http://schemas.openxmlformats.org/officeDocument/2006/relationships/image" Target="../media/image20.jpeg"/><Relationship Id="rId32" Type="http://schemas.openxmlformats.org/officeDocument/2006/relationships/image" Target="../media/image20.jpeg"/><Relationship Id="rId33" Type="http://schemas.openxmlformats.org/officeDocument/2006/relationships/image" Target="../media/image20.jpeg"/><Relationship Id="rId34" Type="http://schemas.openxmlformats.org/officeDocument/2006/relationships/image" Target="../media/image20.jpeg"/><Relationship Id="rId35" Type="http://schemas.openxmlformats.org/officeDocument/2006/relationships/image" Target="../media/image20.jpeg"/><Relationship Id="rId36" Type="http://schemas.openxmlformats.org/officeDocument/2006/relationships/image" Target="../media/image21.jpeg"/><Relationship Id="rId37" Type="http://schemas.openxmlformats.org/officeDocument/2006/relationships/image" Target="../media/image22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2.jpeg"/><Relationship Id="rId41" Type="http://schemas.openxmlformats.org/officeDocument/2006/relationships/image" Target="../media/image22.jpeg"/><Relationship Id="rId42" Type="http://schemas.openxmlformats.org/officeDocument/2006/relationships/image" Target="../media/image20.jpeg"/><Relationship Id="rId43" Type="http://schemas.openxmlformats.org/officeDocument/2006/relationships/image" Target="../media/image22.jpeg"/><Relationship Id="rId44" Type="http://schemas.openxmlformats.org/officeDocument/2006/relationships/image" Target="../media/image22.jpeg"/><Relationship Id="rId45" Type="http://schemas.openxmlformats.org/officeDocument/2006/relationships/image" Target="../media/image22.jpeg"/><Relationship Id="rId46" Type="http://schemas.openxmlformats.org/officeDocument/2006/relationships/image" Target="../media/image22.jpeg"/><Relationship Id="rId47" Type="http://schemas.openxmlformats.org/officeDocument/2006/relationships/image" Target="../media/image20.jpeg"/><Relationship Id="rId48" Type="http://schemas.openxmlformats.org/officeDocument/2006/relationships/image" Target="../media/image22.jpeg"/><Relationship Id="rId49" Type="http://schemas.openxmlformats.org/officeDocument/2006/relationships/image" Target="../media/image22.jpeg"/><Relationship Id="rId50" Type="http://schemas.openxmlformats.org/officeDocument/2006/relationships/image" Target="../media/image22.jpeg"/><Relationship Id="rId51" Type="http://schemas.openxmlformats.org/officeDocument/2006/relationships/image" Target="../media/image20.jpeg"/><Relationship Id="rId52" Type="http://schemas.openxmlformats.org/officeDocument/2006/relationships/image" Target="../media/image20.jpeg"/><Relationship Id="rId53" Type="http://schemas.openxmlformats.org/officeDocument/2006/relationships/image" Target="../media/image20.jpeg"/><Relationship Id="rId54" Type="http://schemas.openxmlformats.org/officeDocument/2006/relationships/image" Target="../media/image20.jpeg"/><Relationship Id="rId55" Type="http://schemas.openxmlformats.org/officeDocument/2006/relationships/image" Target="../media/image20.jpeg"/><Relationship Id="rId56" Type="http://schemas.openxmlformats.org/officeDocument/2006/relationships/image" Target="../media/image20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3.png"/><Relationship Id="rId62" Type="http://schemas.openxmlformats.org/officeDocument/2006/relationships/image" Target="../media/image21.jpeg"/><Relationship Id="rId63" Type="http://schemas.openxmlformats.org/officeDocument/2006/relationships/image" Target="../media/image21.jpeg"/><Relationship Id="rId64" Type="http://schemas.openxmlformats.org/officeDocument/2006/relationships/image" Target="../media/image24.png"/><Relationship Id="rId65" Type="http://schemas.openxmlformats.org/officeDocument/2006/relationships/image" Target="../media/image25.png"/><Relationship Id="rId66" Type="http://schemas.openxmlformats.org/officeDocument/2006/relationships/image" Target="../media/image25.png"/><Relationship Id="rId67" Type="http://schemas.openxmlformats.org/officeDocument/2006/relationships/image" Target="../media/image23.png"/><Relationship Id="rId68" Type="http://schemas.openxmlformats.org/officeDocument/2006/relationships/image" Target="../media/image21.jpeg"/><Relationship Id="rId69" Type="http://schemas.openxmlformats.org/officeDocument/2006/relationships/image" Target="../media/image21.jpeg"/><Relationship Id="rId70" Type="http://schemas.openxmlformats.org/officeDocument/2006/relationships/image" Target="../media/image21.jpeg"/><Relationship Id="rId71" Type="http://schemas.openxmlformats.org/officeDocument/2006/relationships/image" Target="../media/image21.jpeg"/><Relationship Id="rId72" Type="http://schemas.openxmlformats.org/officeDocument/2006/relationships/image" Target="../media/image21.jpeg"/><Relationship Id="rId73" Type="http://schemas.openxmlformats.org/officeDocument/2006/relationships/image" Target="../media/image21.jpeg"/><Relationship Id="rId74" Type="http://schemas.openxmlformats.org/officeDocument/2006/relationships/image" Target="../media/image21.jpeg"/><Relationship Id="rId75" Type="http://schemas.openxmlformats.org/officeDocument/2006/relationships/image" Target="../media/image21.jpeg"/><Relationship Id="rId76" Type="http://schemas.openxmlformats.org/officeDocument/2006/relationships/image" Target="../media/image21.jpeg"/><Relationship Id="rId77" Type="http://schemas.openxmlformats.org/officeDocument/2006/relationships/image" Target="../media/image21.jpeg"/><Relationship Id="rId78" Type="http://schemas.openxmlformats.org/officeDocument/2006/relationships/image" Target="../media/image21.jpeg"/><Relationship Id="rId79" Type="http://schemas.openxmlformats.org/officeDocument/2006/relationships/image" Target="../media/image21.jpeg"/><Relationship Id="rId80" Type="http://schemas.openxmlformats.org/officeDocument/2006/relationships/image" Target="../media/image21.jpeg"/><Relationship Id="rId81" Type="http://schemas.openxmlformats.org/officeDocument/2006/relationships/image" Target="../media/image21.jpeg"/><Relationship Id="rId82" Type="http://schemas.openxmlformats.org/officeDocument/2006/relationships/image" Target="../media/image21.jpeg"/><Relationship Id="rId83" Type="http://schemas.openxmlformats.org/officeDocument/2006/relationships/image" Target="../media/image21.jpeg"/><Relationship Id="rId84" Type="http://schemas.openxmlformats.org/officeDocument/2006/relationships/image" Target="../media/image21.jpeg"/><Relationship Id="rId85" Type="http://schemas.openxmlformats.org/officeDocument/2006/relationships/image" Target="../media/image21.jpeg"/><Relationship Id="rId86" Type="http://schemas.openxmlformats.org/officeDocument/2006/relationships/image" Target="../media/image21.jpeg"/><Relationship Id="rId87" Type="http://schemas.openxmlformats.org/officeDocument/2006/relationships/image" Target="../media/image21.jpeg"/><Relationship Id="rId88" Type="http://schemas.openxmlformats.org/officeDocument/2006/relationships/image" Target="../media/image21.jpeg"/><Relationship Id="rId89" Type="http://schemas.openxmlformats.org/officeDocument/2006/relationships/image" Target="../media/image21.jpeg"/><Relationship Id="rId90" Type="http://schemas.openxmlformats.org/officeDocument/2006/relationships/image" Target="../media/image20.jpeg"/><Relationship Id="rId91" Type="http://schemas.openxmlformats.org/officeDocument/2006/relationships/image" Target="../media/image20.jpeg"/><Relationship Id="rId92" Type="http://schemas.openxmlformats.org/officeDocument/2006/relationships/image" Target="../media/image26.png"/><Relationship Id="rId93" Type="http://schemas.openxmlformats.org/officeDocument/2006/relationships/image" Target="../media/image27.png"/><Relationship Id="rId94" Type="http://schemas.openxmlformats.org/officeDocument/2006/relationships/image" Target="../media/image28.png"/><Relationship Id="rId9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-savchen.ucoz.ru/load/13" TargetMode="External"/><Relationship Id="rId2" Type="http://schemas.openxmlformats.org/officeDocument/2006/relationships/hyperlink" Target="http://le-savchen.ucoz.ru/load/1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3440" y="4869000"/>
            <a:ext cx="6480000" cy="504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WordArt 6"/>
          <p:cNvGrpSpPr/>
          <p:nvPr/>
        </p:nvGrpSpPr>
        <p:grpSpPr>
          <a:xfrm>
            <a:off x="682560" y="1627200"/>
            <a:ext cx="6267600" cy="1805040"/>
            <a:chOff x="682560" y="1627200"/>
            <a:chExt cx="6267600" cy="1805040"/>
          </a:xfrm>
        </p:grpSpPr>
        <p:pic>
          <p:nvPicPr>
            <p:cNvPr id="263" name="WordArt 6" descr=""/>
            <p:cNvPicPr/>
            <p:nvPr/>
          </p:nvPicPr>
          <p:blipFill>
            <a:blip r:embed="rId1"/>
            <a:stretch/>
          </p:blipFill>
          <p:spPr>
            <a:xfrm>
              <a:off x="682560" y="1627200"/>
              <a:ext cx="62676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4360" y="1628640"/>
              <a:ext cx="626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Georgia"/>
                </a:rPr>
                <a:t>процен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WordArt 7"/>
          <p:cNvGrpSpPr/>
          <p:nvPr/>
        </p:nvGrpSpPr>
        <p:grpSpPr>
          <a:xfrm>
            <a:off x="1328760" y="3718080"/>
            <a:ext cx="2090880" cy="2017080"/>
            <a:chOff x="1328760" y="3718080"/>
            <a:chExt cx="2090880" cy="2017080"/>
          </a:xfrm>
        </p:grpSpPr>
        <p:pic>
          <p:nvPicPr>
            <p:cNvPr id="266" name="WordArt 7" descr=""/>
            <p:cNvPicPr/>
            <p:nvPr/>
          </p:nvPicPr>
          <p:blipFill>
            <a:blip r:embed="rId2"/>
            <a:stretch/>
          </p:blipFill>
          <p:spPr>
            <a:xfrm>
              <a:off x="1328760" y="3719520"/>
              <a:ext cx="209088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332000" y="3718080"/>
              <a:ext cx="20876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WordArt 8"/>
          <p:cNvGrpSpPr/>
          <p:nvPr/>
        </p:nvGrpSpPr>
        <p:grpSpPr>
          <a:xfrm>
            <a:off x="1328760" y="3718080"/>
            <a:ext cx="2090880" cy="2017080"/>
            <a:chOff x="1328760" y="3718080"/>
            <a:chExt cx="2090880" cy="2017080"/>
          </a:xfrm>
        </p:grpSpPr>
        <p:pic>
          <p:nvPicPr>
            <p:cNvPr id="269" name="WordArt 8" descr=""/>
            <p:cNvPicPr/>
            <p:nvPr/>
          </p:nvPicPr>
          <p:blipFill>
            <a:blip r:embed="rId3"/>
            <a:stretch/>
          </p:blipFill>
          <p:spPr>
            <a:xfrm>
              <a:off x="1328760" y="3719520"/>
              <a:ext cx="209088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332000" y="3718080"/>
              <a:ext cx="20876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2" descr="G:\Из школы\Коллекция картинок (Microsoft)\j0428261.wmf"/>
          <p:cNvPicPr/>
          <p:nvPr/>
        </p:nvPicPr>
        <p:blipFill>
          <a:blip r:embed="rId4"/>
          <a:stretch/>
        </p:blipFill>
        <p:spPr>
          <a:xfrm>
            <a:off x="7182000" y="71424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712800" y="620640"/>
            <a:ext cx="7719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Так как 1% равен сотой части величины, то вся величина равна </a:t>
            </a:r>
            <a:r>
              <a:rPr b="1" lang="ru-RU" sz="4400" spc="-1" strike="noStrike">
                <a:solidFill>
                  <a:srgbClr val="fa007d"/>
                </a:solidFill>
                <a:latin typeface="Arial"/>
              </a:rPr>
              <a:t>100%</a:t>
            </a: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5" descr="MCDD00758_0000[1]"/>
          <p:cNvPicPr/>
          <p:nvPr/>
        </p:nvPicPr>
        <p:blipFill>
          <a:blip r:embed="rId1"/>
          <a:stretch/>
        </p:blipFill>
        <p:spPr>
          <a:xfrm>
            <a:off x="2050920" y="2778120"/>
            <a:ext cx="3961080" cy="345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0"/>
          <p:cNvSpPr/>
          <p:nvPr/>
        </p:nvSpPr>
        <p:spPr>
          <a:xfrm>
            <a:off x="468360" y="349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 Rounded MT Bold"/>
              </a:rPr>
              <a:t>Чтобы обратить десятичную дроб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 Rounded MT Bold"/>
              </a:rPr>
              <a:t>в проценты, надо 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множить на 1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539640" y="2565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 Rounded MT Bold"/>
              </a:rPr>
              <a:t>Чтобы перевести проценты в десятичную дробь, 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азделить </a:t>
            </a:r>
            <a:r>
              <a:rPr b="1" lang="ru-RU" sz="2800" spc="-1" strike="noStrike">
                <a:solidFill>
                  <a:srgbClr val="4f271c"/>
                </a:solidFill>
                <a:latin typeface="Arial Rounded MT Bold"/>
              </a:rPr>
              <a:t>число проц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1116000" y="1557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0,45 = 0,45 · 100% = 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1913400" y="4005360"/>
            <a:ext cx="52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32% = 32 : 100 = 0,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2"/>
          <p:cNvGraphicFramePr/>
          <p:nvPr/>
        </p:nvGraphicFramePr>
        <p:xfrm>
          <a:off x="900000" y="4941720"/>
          <a:ext cx="51588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941720"/>
                    <a:ext cx="5158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25"/>
          <p:cNvSpPr/>
          <p:nvPr/>
        </p:nvSpPr>
        <p:spPr>
          <a:xfrm>
            <a:off x="1476360" y="5445000"/>
            <a:ext cx="40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3 : 5 = 0,6 = 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" descr="G:\Из школы\учебные предметы\39.wmf"/>
          <p:cNvPicPr/>
          <p:nvPr/>
        </p:nvPicPr>
        <p:blipFill>
          <a:blip r:embed="rId3"/>
          <a:stretch/>
        </p:blipFill>
        <p:spPr>
          <a:xfrm>
            <a:off x="7667640" y="5445000"/>
            <a:ext cx="12920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423" name="WordArt 27"/>
          <p:cNvGrpSpPr/>
          <p:nvPr/>
        </p:nvGrpSpPr>
        <p:grpSpPr>
          <a:xfrm>
            <a:off x="7954920" y="262080"/>
            <a:ext cx="1013040" cy="718920"/>
            <a:chOff x="7954920" y="262080"/>
            <a:chExt cx="1013040" cy="718920"/>
          </a:xfrm>
        </p:grpSpPr>
        <p:pic>
          <p:nvPicPr>
            <p:cNvPr id="424" name="WordArt 27" descr=""/>
            <p:cNvPicPr/>
            <p:nvPr/>
          </p:nvPicPr>
          <p:blipFill>
            <a:blip r:embed="rId4"/>
            <a:stretch/>
          </p:blipFill>
          <p:spPr>
            <a:xfrm>
              <a:off x="7954920" y="263520"/>
              <a:ext cx="101304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956720" y="262080"/>
              <a:ext cx="1008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Franklin Gothic Book"/>
              </a:rPr>
              <a:t>Запишите обыкновенные дроби в виде десятичных, а потом в виде %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1100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1100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1100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1042920" y="2276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0"/>
          <p:cNvSpPr/>
          <p:nvPr/>
        </p:nvSpPr>
        <p:spPr>
          <a:xfrm>
            <a:off x="104292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1"/>
          <p:cNvSpPr/>
          <p:nvPr/>
        </p:nvSpPr>
        <p:spPr>
          <a:xfrm>
            <a:off x="971640" y="5157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"/>
          <p:cNvSpPr/>
          <p:nvPr/>
        </p:nvSpPr>
        <p:spPr>
          <a:xfrm>
            <a:off x="1476360" y="2421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1476360" y="220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1403280" y="36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>
            <a:off x="1403280" y="3860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1403280" y="5013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1403280" y="5157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908000" y="18446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,5 = 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1835280" y="33577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,25 = 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1835280" y="4797360"/>
            <a:ext cx="32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,4 = 4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WordArt 21"/>
          <p:cNvGrpSpPr/>
          <p:nvPr/>
        </p:nvGrpSpPr>
        <p:grpSpPr>
          <a:xfrm>
            <a:off x="7954920" y="262080"/>
            <a:ext cx="1013040" cy="718920"/>
            <a:chOff x="7954920" y="262080"/>
            <a:chExt cx="1013040" cy="718920"/>
          </a:xfrm>
        </p:grpSpPr>
        <p:pic>
          <p:nvPicPr>
            <p:cNvPr id="441" name="WordArt 21" descr=""/>
            <p:cNvPicPr/>
            <p:nvPr/>
          </p:nvPicPr>
          <p:blipFill>
            <a:blip r:embed="rId1"/>
            <a:stretch/>
          </p:blipFill>
          <p:spPr>
            <a:xfrm>
              <a:off x="7954920" y="263520"/>
              <a:ext cx="101304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956720" y="262080"/>
              <a:ext cx="1008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1" descr="G:\Из школы\учебные предметы\39.wmf"/>
          <p:cNvPicPr/>
          <p:nvPr/>
        </p:nvPicPr>
        <p:blipFill>
          <a:blip r:embed="rId2"/>
          <a:stretch/>
        </p:blipFill>
        <p:spPr>
          <a:xfrm>
            <a:off x="7667640" y="5445000"/>
            <a:ext cx="129204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324000" y="620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5644"/>
                </a:solidFill>
                <a:latin typeface="Georgia"/>
              </a:rPr>
              <a:t>Два поезда одновременно, вышли навстречу друг другу из двух городов, расстояние между которыми 495 км. Через 3 часа они встретились. Какова скорость каждого поезда, если известно, что скорость одного из них  на 5 км/ч больше скорости друг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468360" y="314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096"/>
          <p:cNvGrpSpPr/>
          <p:nvPr/>
        </p:nvGrpSpPr>
        <p:grpSpPr>
          <a:xfrm>
            <a:off x="-25560" y="4854240"/>
            <a:ext cx="9188280" cy="959400"/>
            <a:chOff x="-25560" y="4854240"/>
            <a:chExt cx="9188280" cy="959400"/>
          </a:xfrm>
        </p:grpSpPr>
        <p:sp>
          <p:nvSpPr>
            <p:cNvPr id="447" name="Freeform 1097"/>
            <p:cNvSpPr/>
            <p:nvPr/>
          </p:nvSpPr>
          <p:spPr>
            <a:xfrm flipH="1" rot="21228600">
              <a:off x="456120" y="54133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8"/>
            <p:cNvSpPr/>
            <p:nvPr/>
          </p:nvSpPr>
          <p:spPr>
            <a:xfrm flipH="1" rot="21228600">
              <a:off x="7788960" y="49593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9"/>
            <p:cNvSpPr/>
            <p:nvPr/>
          </p:nvSpPr>
          <p:spPr>
            <a:xfrm flipH="1" rot="21228600">
              <a:off x="8076240" y="48826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0"/>
            <p:cNvSpPr/>
            <p:nvPr/>
          </p:nvSpPr>
          <p:spPr>
            <a:xfrm flipH="1" rot="21228600">
              <a:off x="8322840" y="48826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01"/>
            <p:cNvSpPr/>
            <p:nvPr/>
          </p:nvSpPr>
          <p:spPr>
            <a:xfrm flipH="1" rot="21228600">
              <a:off x="8703360" y="48765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02"/>
            <p:cNvSpPr/>
            <p:nvPr/>
          </p:nvSpPr>
          <p:spPr>
            <a:xfrm flipH="1" rot="21228600">
              <a:off x="989640" y="53431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103"/>
            <p:cNvSpPr/>
            <p:nvPr/>
          </p:nvSpPr>
          <p:spPr>
            <a:xfrm flipH="1" rot="21228600">
              <a:off x="-720" y="54133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104"/>
            <p:cNvSpPr/>
            <p:nvPr/>
          </p:nvSpPr>
          <p:spPr>
            <a:xfrm flipH="1" rot="21228600">
              <a:off x="227520" y="54133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05"/>
            <p:cNvSpPr/>
            <p:nvPr/>
          </p:nvSpPr>
          <p:spPr>
            <a:xfrm flipH="1" rot="21228600">
              <a:off x="761040" y="54133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06"/>
            <p:cNvSpPr/>
            <p:nvPr/>
          </p:nvSpPr>
          <p:spPr>
            <a:xfrm flipH="1" rot="21228600">
              <a:off x="7103160" y="49528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07"/>
            <p:cNvSpPr/>
            <p:nvPr/>
          </p:nvSpPr>
          <p:spPr>
            <a:xfrm flipH="1" rot="21228600">
              <a:off x="7467120" y="49528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8"/>
            <p:cNvSpPr/>
            <p:nvPr/>
          </p:nvSpPr>
          <p:spPr>
            <a:xfrm flipH="1" rot="21228600">
              <a:off x="6781320" y="49528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09"/>
            <p:cNvSpPr/>
            <p:nvPr/>
          </p:nvSpPr>
          <p:spPr>
            <a:xfrm flipH="1" rot="21228600">
              <a:off x="6476040" y="50299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10"/>
            <p:cNvSpPr/>
            <p:nvPr/>
          </p:nvSpPr>
          <p:spPr>
            <a:xfrm flipH="1" rot="21228600">
              <a:off x="6171120" y="50299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111"/>
            <p:cNvSpPr/>
            <p:nvPr/>
          </p:nvSpPr>
          <p:spPr>
            <a:xfrm flipH="1" rot="21228600">
              <a:off x="5866920" y="502992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12"/>
            <p:cNvSpPr/>
            <p:nvPr/>
          </p:nvSpPr>
          <p:spPr>
            <a:xfrm flipH="1" rot="21228600">
              <a:off x="5561640" y="510660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3"/>
            <p:cNvSpPr/>
            <p:nvPr/>
          </p:nvSpPr>
          <p:spPr>
            <a:xfrm flipH="1" rot="21228600">
              <a:off x="5256720" y="510660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14"/>
            <p:cNvSpPr/>
            <p:nvPr/>
          </p:nvSpPr>
          <p:spPr>
            <a:xfrm flipH="1" rot="21228600">
              <a:off x="4875840" y="510660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15"/>
            <p:cNvSpPr/>
            <p:nvPr/>
          </p:nvSpPr>
          <p:spPr>
            <a:xfrm flipH="1" rot="21228600">
              <a:off x="4570920" y="51897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16"/>
            <p:cNvSpPr/>
            <p:nvPr/>
          </p:nvSpPr>
          <p:spPr>
            <a:xfrm flipH="1" rot="21228600">
              <a:off x="4266720" y="51832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17"/>
            <p:cNvSpPr/>
            <p:nvPr/>
          </p:nvSpPr>
          <p:spPr>
            <a:xfrm flipH="1" rot="21228600">
              <a:off x="3961440" y="51832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18"/>
            <p:cNvSpPr/>
            <p:nvPr/>
          </p:nvSpPr>
          <p:spPr>
            <a:xfrm flipH="1" rot="21228600">
              <a:off x="3656520" y="51832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119"/>
            <p:cNvSpPr/>
            <p:nvPr/>
          </p:nvSpPr>
          <p:spPr>
            <a:xfrm flipH="1" rot="21228600">
              <a:off x="3352320" y="51832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120"/>
            <p:cNvSpPr/>
            <p:nvPr/>
          </p:nvSpPr>
          <p:spPr>
            <a:xfrm flipH="1" rot="21228600">
              <a:off x="2970720" y="517680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21"/>
            <p:cNvSpPr/>
            <p:nvPr/>
          </p:nvSpPr>
          <p:spPr>
            <a:xfrm flipH="1" rot="21228600">
              <a:off x="2683440" y="525348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22"/>
            <p:cNvSpPr/>
            <p:nvPr/>
          </p:nvSpPr>
          <p:spPr>
            <a:xfrm flipH="1" rot="21228600">
              <a:off x="2361240" y="525996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123"/>
            <p:cNvSpPr/>
            <p:nvPr/>
          </p:nvSpPr>
          <p:spPr>
            <a:xfrm flipH="1" rot="21228600">
              <a:off x="2056320" y="52599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24"/>
            <p:cNvSpPr/>
            <p:nvPr/>
          </p:nvSpPr>
          <p:spPr>
            <a:xfrm flipH="1" rot="21228600">
              <a:off x="1827720" y="533700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25"/>
            <p:cNvSpPr/>
            <p:nvPr/>
          </p:nvSpPr>
          <p:spPr>
            <a:xfrm flipH="1" rot="21228600">
              <a:off x="1523520" y="5337000"/>
              <a:ext cx="43992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6"/>
            <p:cNvSpPr/>
            <p:nvPr/>
          </p:nvSpPr>
          <p:spPr>
            <a:xfrm flipH="1" rot="21228600">
              <a:off x="1218240" y="533700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127"/>
            <p:cNvGrpSpPr/>
            <p:nvPr/>
          </p:nvGrpSpPr>
          <p:grpSpPr>
            <a:xfrm>
              <a:off x="-25560" y="4992840"/>
              <a:ext cx="9164520" cy="740160"/>
              <a:chOff x="-25560" y="4992840"/>
              <a:chExt cx="9164520" cy="740160"/>
            </a:xfrm>
          </p:grpSpPr>
          <p:sp>
            <p:nvSpPr>
              <p:cNvPr id="478" name="Line 1128"/>
              <p:cNvSpPr/>
              <p:nvPr/>
            </p:nvSpPr>
            <p:spPr>
              <a:xfrm flipV="1">
                <a:off x="19440" y="4992840"/>
                <a:ext cx="9119520" cy="589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129"/>
              <p:cNvSpPr/>
              <p:nvPr/>
            </p:nvSpPr>
            <p:spPr>
              <a:xfrm>
                <a:off x="-25560" y="5109840"/>
                <a:ext cx="9106200" cy="623160"/>
              </a:xfrm>
              <a:custGeom>
                <a:avLst/>
                <a:gdLst/>
                <a:ahLst/>
                <a:rect l="l" t="t" r="r" b="b"/>
                <a:pathLst>
                  <a:path w="5736" h="390">
                    <a:moveTo>
                      <a:pt x="0" y="390"/>
                    </a:moveTo>
                    <a:lnTo>
                      <a:pt x="5736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1130"/>
          <p:cNvGrpSpPr/>
          <p:nvPr/>
        </p:nvGrpSpPr>
        <p:grpSpPr>
          <a:xfrm>
            <a:off x="0" y="5711400"/>
            <a:ext cx="9188280" cy="959400"/>
            <a:chOff x="0" y="5711400"/>
            <a:chExt cx="9188280" cy="959400"/>
          </a:xfrm>
        </p:grpSpPr>
        <p:sp>
          <p:nvSpPr>
            <p:cNvPr id="481" name="Freeform 1131"/>
            <p:cNvSpPr/>
            <p:nvPr/>
          </p:nvSpPr>
          <p:spPr>
            <a:xfrm flipH="1" rot="21228600">
              <a:off x="481680" y="62704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32"/>
            <p:cNvSpPr/>
            <p:nvPr/>
          </p:nvSpPr>
          <p:spPr>
            <a:xfrm flipH="1" rot="21228600">
              <a:off x="7814520" y="58165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133"/>
            <p:cNvSpPr/>
            <p:nvPr/>
          </p:nvSpPr>
          <p:spPr>
            <a:xfrm flipH="1" rot="21228600">
              <a:off x="8101800" y="57398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34"/>
            <p:cNvSpPr/>
            <p:nvPr/>
          </p:nvSpPr>
          <p:spPr>
            <a:xfrm flipH="1" rot="21228600">
              <a:off x="8348400" y="573984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35"/>
            <p:cNvSpPr/>
            <p:nvPr/>
          </p:nvSpPr>
          <p:spPr>
            <a:xfrm flipH="1" rot="21228600">
              <a:off x="8728920" y="573372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36"/>
            <p:cNvSpPr/>
            <p:nvPr/>
          </p:nvSpPr>
          <p:spPr>
            <a:xfrm flipH="1" rot="21228600">
              <a:off x="1015200" y="62002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37"/>
            <p:cNvSpPr/>
            <p:nvPr/>
          </p:nvSpPr>
          <p:spPr>
            <a:xfrm flipH="1" rot="21228600">
              <a:off x="24480" y="62704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38"/>
            <p:cNvSpPr/>
            <p:nvPr/>
          </p:nvSpPr>
          <p:spPr>
            <a:xfrm flipH="1" rot="21228600">
              <a:off x="253080" y="62704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139"/>
            <p:cNvSpPr/>
            <p:nvPr/>
          </p:nvSpPr>
          <p:spPr>
            <a:xfrm flipH="1" rot="21228600">
              <a:off x="786600" y="62704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140"/>
            <p:cNvSpPr/>
            <p:nvPr/>
          </p:nvSpPr>
          <p:spPr>
            <a:xfrm flipH="1" rot="21228600">
              <a:off x="7128720" y="58100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141"/>
            <p:cNvSpPr/>
            <p:nvPr/>
          </p:nvSpPr>
          <p:spPr>
            <a:xfrm flipH="1" rot="21228600">
              <a:off x="7492680" y="581004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142"/>
            <p:cNvSpPr/>
            <p:nvPr/>
          </p:nvSpPr>
          <p:spPr>
            <a:xfrm flipH="1" rot="21228600">
              <a:off x="6806880" y="581004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43"/>
            <p:cNvSpPr/>
            <p:nvPr/>
          </p:nvSpPr>
          <p:spPr>
            <a:xfrm flipH="1" rot="21228600">
              <a:off x="6501600" y="58870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44"/>
            <p:cNvSpPr/>
            <p:nvPr/>
          </p:nvSpPr>
          <p:spPr>
            <a:xfrm flipH="1" rot="21228600">
              <a:off x="6196680" y="588708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145"/>
            <p:cNvSpPr/>
            <p:nvPr/>
          </p:nvSpPr>
          <p:spPr>
            <a:xfrm flipH="1" rot="21228600">
              <a:off x="5892480" y="588708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146"/>
            <p:cNvSpPr/>
            <p:nvPr/>
          </p:nvSpPr>
          <p:spPr>
            <a:xfrm flipH="1" rot="21228600">
              <a:off x="5587200" y="59637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47"/>
            <p:cNvSpPr/>
            <p:nvPr/>
          </p:nvSpPr>
          <p:spPr>
            <a:xfrm flipH="1" rot="21228600">
              <a:off x="5282280" y="59637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48"/>
            <p:cNvSpPr/>
            <p:nvPr/>
          </p:nvSpPr>
          <p:spPr>
            <a:xfrm flipH="1" rot="21228600">
              <a:off x="4901400" y="59637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49"/>
            <p:cNvSpPr/>
            <p:nvPr/>
          </p:nvSpPr>
          <p:spPr>
            <a:xfrm flipH="1" rot="21228600">
              <a:off x="4596480" y="60469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50"/>
            <p:cNvSpPr/>
            <p:nvPr/>
          </p:nvSpPr>
          <p:spPr>
            <a:xfrm flipH="1" rot="21228600">
              <a:off x="4292280" y="604044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51"/>
            <p:cNvSpPr/>
            <p:nvPr/>
          </p:nvSpPr>
          <p:spPr>
            <a:xfrm flipH="1" rot="21228600">
              <a:off x="3987000" y="60404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52"/>
            <p:cNvSpPr/>
            <p:nvPr/>
          </p:nvSpPr>
          <p:spPr>
            <a:xfrm flipH="1" rot="21228600">
              <a:off x="3682080" y="60404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53"/>
            <p:cNvSpPr/>
            <p:nvPr/>
          </p:nvSpPr>
          <p:spPr>
            <a:xfrm flipH="1" rot="21228600">
              <a:off x="3377880" y="604044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54"/>
            <p:cNvSpPr/>
            <p:nvPr/>
          </p:nvSpPr>
          <p:spPr>
            <a:xfrm flipH="1" rot="21228600">
              <a:off x="2996280" y="603396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55"/>
            <p:cNvSpPr/>
            <p:nvPr/>
          </p:nvSpPr>
          <p:spPr>
            <a:xfrm flipH="1" rot="21228600">
              <a:off x="2709000" y="611064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56"/>
            <p:cNvSpPr/>
            <p:nvPr/>
          </p:nvSpPr>
          <p:spPr>
            <a:xfrm flipH="1" rot="21228600">
              <a:off x="2386800" y="611712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7"/>
            <p:cNvSpPr/>
            <p:nvPr/>
          </p:nvSpPr>
          <p:spPr>
            <a:xfrm flipH="1" rot="21228600">
              <a:off x="2081880" y="611712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58"/>
            <p:cNvSpPr/>
            <p:nvPr/>
          </p:nvSpPr>
          <p:spPr>
            <a:xfrm flipH="1" rot="21228600">
              <a:off x="1853280" y="61941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59"/>
            <p:cNvSpPr/>
            <p:nvPr/>
          </p:nvSpPr>
          <p:spPr>
            <a:xfrm flipH="1" rot="21228600">
              <a:off x="1549080" y="6194160"/>
              <a:ext cx="43992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60"/>
            <p:cNvSpPr/>
            <p:nvPr/>
          </p:nvSpPr>
          <p:spPr>
            <a:xfrm flipH="1" rot="21228600">
              <a:off x="1243800" y="619416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161"/>
            <p:cNvGrpSpPr/>
            <p:nvPr/>
          </p:nvGrpSpPr>
          <p:grpSpPr>
            <a:xfrm>
              <a:off x="0" y="5850000"/>
              <a:ext cx="9164520" cy="740160"/>
              <a:chOff x="0" y="5850000"/>
              <a:chExt cx="9164520" cy="740160"/>
            </a:xfrm>
          </p:grpSpPr>
          <p:sp>
            <p:nvSpPr>
              <p:cNvPr id="512" name="Line 1162"/>
              <p:cNvSpPr/>
              <p:nvPr/>
            </p:nvSpPr>
            <p:spPr>
              <a:xfrm flipV="1">
                <a:off x="45000" y="5850000"/>
                <a:ext cx="9119520" cy="589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163"/>
              <p:cNvSpPr/>
              <p:nvPr/>
            </p:nvSpPr>
            <p:spPr>
              <a:xfrm>
                <a:off x="0" y="5967000"/>
                <a:ext cx="9106200" cy="623160"/>
              </a:xfrm>
              <a:custGeom>
                <a:avLst/>
                <a:gdLst/>
                <a:ahLst/>
                <a:rect l="l" t="t" r="r" b="b"/>
                <a:pathLst>
                  <a:path w="5736" h="390">
                    <a:moveTo>
                      <a:pt x="0" y="390"/>
                    </a:moveTo>
                    <a:lnTo>
                      <a:pt x="5736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1165"/>
          <p:cNvGrpSpPr/>
          <p:nvPr/>
        </p:nvGrpSpPr>
        <p:grpSpPr>
          <a:xfrm>
            <a:off x="-3868200" y="5535720"/>
            <a:ext cx="5726880" cy="1368360"/>
            <a:chOff x="-3868200" y="5535720"/>
            <a:chExt cx="5726880" cy="1368360"/>
          </a:xfrm>
        </p:grpSpPr>
        <p:grpSp>
          <p:nvGrpSpPr>
            <p:cNvPr id="515" name="Group 1166"/>
            <p:cNvGrpSpPr/>
            <p:nvPr/>
          </p:nvGrpSpPr>
          <p:grpSpPr>
            <a:xfrm>
              <a:off x="-3868200" y="6383880"/>
              <a:ext cx="1279800" cy="520200"/>
              <a:chOff x="-3868200" y="6383880"/>
              <a:chExt cx="1279800" cy="520200"/>
            </a:xfrm>
          </p:grpSpPr>
          <p:grpSp>
            <p:nvGrpSpPr>
              <p:cNvPr id="516" name="Group 1167"/>
              <p:cNvGrpSpPr/>
              <p:nvPr/>
            </p:nvGrpSpPr>
            <p:grpSpPr>
              <a:xfrm>
                <a:off x="-3787560" y="6645600"/>
                <a:ext cx="271080" cy="258480"/>
                <a:chOff x="-3787560" y="6645600"/>
                <a:chExt cx="271080" cy="258480"/>
              </a:xfrm>
            </p:grpSpPr>
            <p:grpSp>
              <p:nvGrpSpPr>
                <p:cNvPr id="517" name="Group 1168"/>
                <p:cNvGrpSpPr/>
                <p:nvPr/>
              </p:nvGrpSpPr>
              <p:grpSpPr>
                <a:xfrm>
                  <a:off x="-3787560" y="6645600"/>
                  <a:ext cx="271080" cy="258480"/>
                  <a:chOff x="-3787560" y="6645600"/>
                  <a:chExt cx="271080" cy="258480"/>
                </a:xfrm>
              </p:grpSpPr>
              <p:grpSp>
                <p:nvGrpSpPr>
                  <p:cNvPr id="518" name="Group 1169"/>
                  <p:cNvGrpSpPr/>
                  <p:nvPr/>
                </p:nvGrpSpPr>
                <p:grpSpPr>
                  <a:xfrm>
                    <a:off x="-3787560" y="6645600"/>
                    <a:ext cx="271080" cy="258480"/>
                    <a:chOff x="-3787560" y="6645600"/>
                    <a:chExt cx="271080" cy="258480"/>
                  </a:xfrm>
                </p:grpSpPr>
                <p:sp>
                  <p:nvSpPr>
                    <p:cNvPr id="519" name="Oval 1170"/>
                    <p:cNvSpPr/>
                    <p:nvPr/>
                  </p:nvSpPr>
                  <p:spPr>
                    <a:xfrm rot="21316800">
                      <a:off x="-3777840" y="6655320"/>
                      <a:ext cx="25236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1171"/>
                    <p:cNvSpPr/>
                    <p:nvPr/>
                  </p:nvSpPr>
                  <p:spPr>
                    <a:xfrm rot="21316800">
                      <a:off x="-3777840" y="6655320"/>
                      <a:ext cx="25236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1172"/>
                  <p:cNvGrpSpPr/>
                  <p:nvPr/>
                </p:nvGrpSpPr>
                <p:grpSpPr>
                  <a:xfrm>
                    <a:off x="-3765240" y="6667560"/>
                    <a:ext cx="225360" cy="214200"/>
                    <a:chOff x="-3765240" y="6667560"/>
                    <a:chExt cx="225360" cy="214200"/>
                  </a:xfrm>
                </p:grpSpPr>
                <p:sp>
                  <p:nvSpPr>
                    <p:cNvPr id="522" name="Oval 1173"/>
                    <p:cNvSpPr/>
                    <p:nvPr/>
                  </p:nvSpPr>
                  <p:spPr>
                    <a:xfrm rot="21316800">
                      <a:off x="-3757320" y="6675840"/>
                      <a:ext cx="2098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Oval 1174"/>
                    <p:cNvSpPr/>
                    <p:nvPr/>
                  </p:nvSpPr>
                  <p:spPr>
                    <a:xfrm rot="21316800">
                      <a:off x="-3757320" y="6675840"/>
                      <a:ext cx="2098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4" name="Group 1175"/>
                <p:cNvGrpSpPr/>
                <p:nvPr/>
              </p:nvGrpSpPr>
              <p:grpSpPr>
                <a:xfrm>
                  <a:off x="-3765240" y="6667560"/>
                  <a:ext cx="225720" cy="214200"/>
                  <a:chOff x="-3765240" y="6667560"/>
                  <a:chExt cx="225720" cy="214200"/>
                </a:xfrm>
              </p:grpSpPr>
              <p:sp>
                <p:nvSpPr>
                  <p:cNvPr id="525" name="Freeform 1176"/>
                  <p:cNvSpPr/>
                  <p:nvPr/>
                </p:nvSpPr>
                <p:spPr>
                  <a:xfrm rot="21316800">
                    <a:off x="-3757320" y="6675480"/>
                    <a:ext cx="21024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1177"/>
                  <p:cNvSpPr/>
                  <p:nvPr/>
                </p:nvSpPr>
                <p:spPr>
                  <a:xfrm rot="21316800">
                    <a:off x="-3757320" y="6675480"/>
                    <a:ext cx="21024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7" name="Group 1178"/>
              <p:cNvGrpSpPr/>
              <p:nvPr/>
            </p:nvGrpSpPr>
            <p:grpSpPr>
              <a:xfrm>
                <a:off x="-3089520" y="6588000"/>
                <a:ext cx="273240" cy="258480"/>
                <a:chOff x="-3089520" y="6588000"/>
                <a:chExt cx="273240" cy="258480"/>
              </a:xfrm>
            </p:grpSpPr>
            <p:grpSp>
              <p:nvGrpSpPr>
                <p:cNvPr id="528" name="Group 1179"/>
                <p:cNvGrpSpPr/>
                <p:nvPr/>
              </p:nvGrpSpPr>
              <p:grpSpPr>
                <a:xfrm>
                  <a:off x="-3089520" y="6588000"/>
                  <a:ext cx="273240" cy="258480"/>
                  <a:chOff x="-3089520" y="6588000"/>
                  <a:chExt cx="273240" cy="258480"/>
                </a:xfrm>
              </p:grpSpPr>
              <p:grpSp>
                <p:nvGrpSpPr>
                  <p:cNvPr id="529" name="Group 1180"/>
                  <p:cNvGrpSpPr/>
                  <p:nvPr/>
                </p:nvGrpSpPr>
                <p:grpSpPr>
                  <a:xfrm>
                    <a:off x="-3089520" y="6588000"/>
                    <a:ext cx="273240" cy="258480"/>
                    <a:chOff x="-3089520" y="6588000"/>
                    <a:chExt cx="273240" cy="258480"/>
                  </a:xfrm>
                </p:grpSpPr>
                <p:sp>
                  <p:nvSpPr>
                    <p:cNvPr id="530" name="Oval 1181"/>
                    <p:cNvSpPr/>
                    <p:nvPr/>
                  </p:nvSpPr>
                  <p:spPr>
                    <a:xfrm rot="21316800">
                      <a:off x="-3079800" y="6597720"/>
                      <a:ext cx="25452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1182"/>
                    <p:cNvSpPr/>
                    <p:nvPr/>
                  </p:nvSpPr>
                  <p:spPr>
                    <a:xfrm rot="21316800">
                      <a:off x="-3079800" y="6597720"/>
                      <a:ext cx="25452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183"/>
                  <p:cNvGrpSpPr/>
                  <p:nvPr/>
                </p:nvGrpSpPr>
                <p:grpSpPr>
                  <a:xfrm>
                    <a:off x="-3066840" y="6609960"/>
                    <a:ext cx="226800" cy="214200"/>
                    <a:chOff x="-3066840" y="6609960"/>
                    <a:chExt cx="226800" cy="214200"/>
                  </a:xfrm>
                </p:grpSpPr>
                <p:sp>
                  <p:nvSpPr>
                    <p:cNvPr id="533" name="Oval 1184"/>
                    <p:cNvSpPr/>
                    <p:nvPr/>
                  </p:nvSpPr>
                  <p:spPr>
                    <a:xfrm rot="21316800">
                      <a:off x="-3058920" y="6617880"/>
                      <a:ext cx="2113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1185"/>
                    <p:cNvSpPr/>
                    <p:nvPr/>
                  </p:nvSpPr>
                  <p:spPr>
                    <a:xfrm rot="21316800">
                      <a:off x="-3058920" y="6617880"/>
                      <a:ext cx="2113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5" name="Group 1186"/>
                <p:cNvGrpSpPr/>
                <p:nvPr/>
              </p:nvGrpSpPr>
              <p:grpSpPr>
                <a:xfrm>
                  <a:off x="-3066840" y="6609960"/>
                  <a:ext cx="227160" cy="214200"/>
                  <a:chOff x="-3066840" y="6609960"/>
                  <a:chExt cx="227160" cy="214200"/>
                </a:xfrm>
              </p:grpSpPr>
              <p:sp>
                <p:nvSpPr>
                  <p:cNvPr id="536" name="Freeform 1187"/>
                  <p:cNvSpPr/>
                  <p:nvPr/>
                </p:nvSpPr>
                <p:spPr>
                  <a:xfrm rot="21316800">
                    <a:off x="-3058920" y="6617880"/>
                    <a:ext cx="2116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1188"/>
                  <p:cNvSpPr/>
                  <p:nvPr/>
                </p:nvSpPr>
                <p:spPr>
                  <a:xfrm rot="21316800">
                    <a:off x="-3058920" y="6617880"/>
                    <a:ext cx="2116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8" name="Group 1189"/>
              <p:cNvGrpSpPr/>
              <p:nvPr/>
            </p:nvGrpSpPr>
            <p:grpSpPr>
              <a:xfrm>
                <a:off x="-3787560" y="6645600"/>
                <a:ext cx="271440" cy="258480"/>
                <a:chOff x="-3787560" y="6645600"/>
                <a:chExt cx="271440" cy="258480"/>
              </a:xfrm>
            </p:grpSpPr>
            <p:grpSp>
              <p:nvGrpSpPr>
                <p:cNvPr id="539" name="Group 1190"/>
                <p:cNvGrpSpPr/>
                <p:nvPr/>
              </p:nvGrpSpPr>
              <p:grpSpPr>
                <a:xfrm>
                  <a:off x="-3787560" y="6645600"/>
                  <a:ext cx="271440" cy="258480"/>
                  <a:chOff x="-3787560" y="6645600"/>
                  <a:chExt cx="271440" cy="258480"/>
                </a:xfrm>
              </p:grpSpPr>
              <p:sp>
                <p:nvSpPr>
                  <p:cNvPr id="540" name="Oval 1191"/>
                  <p:cNvSpPr/>
                  <p:nvPr/>
                </p:nvSpPr>
                <p:spPr>
                  <a:xfrm rot="21316800">
                    <a:off x="-3777840" y="6655320"/>
                    <a:ext cx="25272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1192"/>
                  <p:cNvSpPr/>
                  <p:nvPr/>
                </p:nvSpPr>
                <p:spPr>
                  <a:xfrm rot="21316800">
                    <a:off x="-3777840" y="6655320"/>
                    <a:ext cx="25272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Group 1193"/>
                <p:cNvGrpSpPr/>
                <p:nvPr/>
              </p:nvGrpSpPr>
              <p:grpSpPr>
                <a:xfrm>
                  <a:off x="-3765240" y="6667560"/>
                  <a:ext cx="225720" cy="214200"/>
                  <a:chOff x="-3765240" y="6667560"/>
                  <a:chExt cx="225720" cy="214200"/>
                </a:xfrm>
              </p:grpSpPr>
              <p:sp>
                <p:nvSpPr>
                  <p:cNvPr id="543" name="Oval 1194"/>
                  <p:cNvSpPr/>
                  <p:nvPr/>
                </p:nvSpPr>
                <p:spPr>
                  <a:xfrm rot="21316800">
                    <a:off x="-3757320" y="6675480"/>
                    <a:ext cx="210240" cy="19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Oval 1195"/>
                  <p:cNvSpPr/>
                  <p:nvPr/>
                </p:nvSpPr>
                <p:spPr>
                  <a:xfrm rot="21316800">
                    <a:off x="-3757320" y="6675480"/>
                    <a:ext cx="210240" cy="197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Group 1196"/>
              <p:cNvGrpSpPr/>
              <p:nvPr/>
            </p:nvGrpSpPr>
            <p:grpSpPr>
              <a:xfrm>
                <a:off x="-3765960" y="6667920"/>
                <a:ext cx="225000" cy="213840"/>
                <a:chOff x="-3765960" y="6667920"/>
                <a:chExt cx="225000" cy="213840"/>
              </a:xfrm>
            </p:grpSpPr>
            <p:sp>
              <p:nvSpPr>
                <p:cNvPr id="546" name="Freeform 1197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98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1199"/>
              <p:cNvGrpSpPr/>
              <p:nvPr/>
            </p:nvGrpSpPr>
            <p:grpSpPr>
              <a:xfrm>
                <a:off x="-3787560" y="6645600"/>
                <a:ext cx="271800" cy="258480"/>
                <a:chOff x="-3787560" y="6645600"/>
                <a:chExt cx="271800" cy="258480"/>
              </a:xfrm>
            </p:grpSpPr>
            <p:sp>
              <p:nvSpPr>
                <p:cNvPr id="549" name="Oval 1200"/>
                <p:cNvSpPr/>
                <p:nvPr/>
              </p:nvSpPr>
              <p:spPr>
                <a:xfrm rot="21316800">
                  <a:off x="-3777840" y="6655320"/>
                  <a:ext cx="25308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1201"/>
                <p:cNvSpPr/>
                <p:nvPr/>
              </p:nvSpPr>
              <p:spPr>
                <a:xfrm rot="21316800">
                  <a:off x="-3777840" y="6655320"/>
                  <a:ext cx="25308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1202"/>
              <p:cNvGrpSpPr/>
              <p:nvPr/>
            </p:nvGrpSpPr>
            <p:grpSpPr>
              <a:xfrm>
                <a:off x="-3765960" y="6667920"/>
                <a:ext cx="225000" cy="213840"/>
                <a:chOff x="-3765960" y="6667920"/>
                <a:chExt cx="225000" cy="213840"/>
              </a:xfrm>
            </p:grpSpPr>
            <p:sp>
              <p:nvSpPr>
                <p:cNvPr id="552" name="Oval 1203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1204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205"/>
              <p:cNvGrpSpPr/>
              <p:nvPr/>
            </p:nvGrpSpPr>
            <p:grpSpPr>
              <a:xfrm>
                <a:off x="-3787560" y="6645600"/>
                <a:ext cx="271800" cy="258480"/>
                <a:chOff x="-3787560" y="6645600"/>
                <a:chExt cx="271800" cy="258480"/>
              </a:xfrm>
            </p:grpSpPr>
            <p:sp>
              <p:nvSpPr>
                <p:cNvPr id="555" name="Oval 1206"/>
                <p:cNvSpPr/>
                <p:nvPr/>
              </p:nvSpPr>
              <p:spPr>
                <a:xfrm rot="21316800">
                  <a:off x="-3777840" y="6655320"/>
                  <a:ext cx="25308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1207"/>
                <p:cNvSpPr/>
                <p:nvPr/>
              </p:nvSpPr>
              <p:spPr>
                <a:xfrm rot="21316800">
                  <a:off x="-3777840" y="6655320"/>
                  <a:ext cx="25308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1208"/>
              <p:cNvGrpSpPr/>
              <p:nvPr/>
            </p:nvGrpSpPr>
            <p:grpSpPr>
              <a:xfrm>
                <a:off x="-3765960" y="6667920"/>
                <a:ext cx="225000" cy="213840"/>
                <a:chOff x="-3765960" y="6667920"/>
                <a:chExt cx="225000" cy="213840"/>
              </a:xfrm>
            </p:grpSpPr>
            <p:sp>
              <p:nvSpPr>
                <p:cNvPr id="558" name="Oval 1209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Oval 1210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1211"/>
              <p:cNvGrpSpPr/>
              <p:nvPr/>
            </p:nvGrpSpPr>
            <p:grpSpPr>
              <a:xfrm>
                <a:off x="-3765960" y="6667920"/>
                <a:ext cx="225000" cy="213840"/>
                <a:chOff x="-3765960" y="6667920"/>
                <a:chExt cx="225000" cy="213840"/>
              </a:xfrm>
            </p:grpSpPr>
            <p:sp>
              <p:nvSpPr>
                <p:cNvPr id="561" name="Freeform 1212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213"/>
                <p:cNvSpPr/>
                <p:nvPr/>
              </p:nvSpPr>
              <p:spPr>
                <a:xfrm rot="21316800">
                  <a:off x="-3758040" y="6676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1214"/>
              <p:cNvGrpSpPr/>
              <p:nvPr/>
            </p:nvGrpSpPr>
            <p:grpSpPr>
              <a:xfrm>
                <a:off x="-3089520" y="6588000"/>
                <a:ext cx="273600" cy="258480"/>
                <a:chOff x="-3089520" y="6588000"/>
                <a:chExt cx="273600" cy="258480"/>
              </a:xfrm>
            </p:grpSpPr>
            <p:grpSp>
              <p:nvGrpSpPr>
                <p:cNvPr id="564" name="Group 1215"/>
                <p:cNvGrpSpPr/>
                <p:nvPr/>
              </p:nvGrpSpPr>
              <p:grpSpPr>
                <a:xfrm>
                  <a:off x="-3089520" y="6588000"/>
                  <a:ext cx="273600" cy="258480"/>
                  <a:chOff x="-3089520" y="6588000"/>
                  <a:chExt cx="273600" cy="258480"/>
                </a:xfrm>
              </p:grpSpPr>
              <p:sp>
                <p:nvSpPr>
                  <p:cNvPr id="565" name="Oval 1216"/>
                  <p:cNvSpPr/>
                  <p:nvPr/>
                </p:nvSpPr>
                <p:spPr>
                  <a:xfrm rot="21316800">
                    <a:off x="-3079800" y="6597720"/>
                    <a:ext cx="2548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Oval 1217"/>
                  <p:cNvSpPr/>
                  <p:nvPr/>
                </p:nvSpPr>
                <p:spPr>
                  <a:xfrm rot="21316800">
                    <a:off x="-3079800" y="6597720"/>
                    <a:ext cx="2548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Group 1218"/>
                <p:cNvGrpSpPr/>
                <p:nvPr/>
              </p:nvGrpSpPr>
              <p:grpSpPr>
                <a:xfrm>
                  <a:off x="-3066840" y="6609960"/>
                  <a:ext cx="227160" cy="214200"/>
                  <a:chOff x="-3066840" y="6609960"/>
                  <a:chExt cx="227160" cy="214200"/>
                </a:xfrm>
              </p:grpSpPr>
              <p:sp>
                <p:nvSpPr>
                  <p:cNvPr id="568" name="Oval 1219"/>
                  <p:cNvSpPr/>
                  <p:nvPr/>
                </p:nvSpPr>
                <p:spPr>
                  <a:xfrm rot="21316800">
                    <a:off x="-3058920" y="6617880"/>
                    <a:ext cx="211680" cy="19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Oval 1220"/>
                  <p:cNvSpPr/>
                  <p:nvPr/>
                </p:nvSpPr>
                <p:spPr>
                  <a:xfrm rot="21316800">
                    <a:off x="-3058920" y="6617880"/>
                    <a:ext cx="211680" cy="197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Group 1221"/>
              <p:cNvGrpSpPr/>
              <p:nvPr/>
            </p:nvGrpSpPr>
            <p:grpSpPr>
              <a:xfrm>
                <a:off x="-3066480" y="6610320"/>
                <a:ext cx="227160" cy="213840"/>
                <a:chOff x="-3066480" y="6610320"/>
                <a:chExt cx="227160" cy="213840"/>
              </a:xfrm>
            </p:grpSpPr>
            <p:sp>
              <p:nvSpPr>
                <p:cNvPr id="571" name="Freeform 1222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223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1224"/>
              <p:cNvGrpSpPr/>
              <p:nvPr/>
            </p:nvGrpSpPr>
            <p:grpSpPr>
              <a:xfrm>
                <a:off x="-3089520" y="6588000"/>
                <a:ext cx="273960" cy="258480"/>
                <a:chOff x="-3089520" y="6588000"/>
                <a:chExt cx="273960" cy="258480"/>
              </a:xfrm>
            </p:grpSpPr>
            <p:sp>
              <p:nvSpPr>
                <p:cNvPr id="574" name="Oval 1225"/>
                <p:cNvSpPr/>
                <p:nvPr/>
              </p:nvSpPr>
              <p:spPr>
                <a:xfrm rot="21316800">
                  <a:off x="-3079800" y="6597720"/>
                  <a:ext cx="25524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1226"/>
                <p:cNvSpPr/>
                <p:nvPr/>
              </p:nvSpPr>
              <p:spPr>
                <a:xfrm rot="21316800">
                  <a:off x="-3079800" y="6597720"/>
                  <a:ext cx="25524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1227"/>
              <p:cNvGrpSpPr/>
              <p:nvPr/>
            </p:nvGrpSpPr>
            <p:grpSpPr>
              <a:xfrm>
                <a:off x="-3066480" y="6610320"/>
                <a:ext cx="227160" cy="213840"/>
                <a:chOff x="-3066480" y="6610320"/>
                <a:chExt cx="227160" cy="213840"/>
              </a:xfrm>
            </p:grpSpPr>
            <p:sp>
              <p:nvSpPr>
                <p:cNvPr id="577" name="Oval 1228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229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1230"/>
              <p:cNvGrpSpPr/>
              <p:nvPr/>
            </p:nvGrpSpPr>
            <p:grpSpPr>
              <a:xfrm>
                <a:off x="-3089520" y="6588000"/>
                <a:ext cx="273960" cy="258480"/>
                <a:chOff x="-3089520" y="6588000"/>
                <a:chExt cx="273960" cy="258480"/>
              </a:xfrm>
            </p:grpSpPr>
            <p:sp>
              <p:nvSpPr>
                <p:cNvPr id="580" name="Oval 1231"/>
                <p:cNvSpPr/>
                <p:nvPr/>
              </p:nvSpPr>
              <p:spPr>
                <a:xfrm rot="21316800">
                  <a:off x="-3079800" y="6597720"/>
                  <a:ext cx="25524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Oval 1232"/>
                <p:cNvSpPr/>
                <p:nvPr/>
              </p:nvSpPr>
              <p:spPr>
                <a:xfrm rot="21316800">
                  <a:off x="-3079800" y="6597720"/>
                  <a:ext cx="25524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1233"/>
              <p:cNvGrpSpPr/>
              <p:nvPr/>
            </p:nvGrpSpPr>
            <p:grpSpPr>
              <a:xfrm>
                <a:off x="-3066480" y="6610320"/>
                <a:ext cx="227160" cy="213840"/>
                <a:chOff x="-3066480" y="6610320"/>
                <a:chExt cx="227160" cy="213840"/>
              </a:xfrm>
            </p:grpSpPr>
            <p:sp>
              <p:nvSpPr>
                <p:cNvPr id="583" name="Oval 1234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235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1236"/>
              <p:cNvGrpSpPr/>
              <p:nvPr/>
            </p:nvGrpSpPr>
            <p:grpSpPr>
              <a:xfrm>
                <a:off x="-3066480" y="6610320"/>
                <a:ext cx="227160" cy="213840"/>
                <a:chOff x="-3066480" y="6610320"/>
                <a:chExt cx="227160" cy="213840"/>
              </a:xfrm>
            </p:grpSpPr>
            <p:sp>
              <p:nvSpPr>
                <p:cNvPr id="586" name="Freeform 1237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1238"/>
                <p:cNvSpPr/>
                <p:nvPr/>
              </p:nvSpPr>
              <p:spPr>
                <a:xfrm rot="21316800">
                  <a:off x="-3058560" y="6618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1239"/>
              <p:cNvGrpSpPr/>
              <p:nvPr/>
            </p:nvGrpSpPr>
            <p:grpSpPr>
              <a:xfrm>
                <a:off x="-3857760" y="6521400"/>
                <a:ext cx="1091880" cy="208440"/>
                <a:chOff x="-3857760" y="6521400"/>
                <a:chExt cx="1091880" cy="208440"/>
              </a:xfrm>
            </p:grpSpPr>
            <p:pic>
              <p:nvPicPr>
                <p:cNvPr id="589" name="Picture 1240" descr=""/>
                <p:cNvPicPr/>
                <p:nvPr/>
              </p:nvPicPr>
              <p:blipFill>
                <a:blip r:embed="rId61"/>
                <a:stretch/>
              </p:blipFill>
              <p:spPr>
                <a:xfrm rot="21316200">
                  <a:off x="-3854520" y="6566040"/>
                  <a:ext cx="1085760" cy="11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0" name="Rectangle 1241"/>
                <p:cNvSpPr/>
                <p:nvPr/>
              </p:nvSpPr>
              <p:spPr>
                <a:xfrm rot="21316800">
                  <a:off x="-3854520" y="6566760"/>
                  <a:ext cx="1085760" cy="1184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Freeform 1242"/>
              <p:cNvSpPr/>
              <p:nvPr/>
            </p:nvSpPr>
            <p:spPr>
              <a:xfrm rot="21317400">
                <a:off x="-3864960" y="6433560"/>
                <a:ext cx="1217880" cy="127800"/>
              </a:xfrm>
              <a:custGeom>
                <a:avLst/>
                <a:gdLst/>
                <a:ahLst/>
                <a:rect l="l" t="t" r="r" b="b"/>
                <a:pathLst>
                  <a:path w="1200" h="144">
                    <a:moveTo>
                      <a:pt x="0" y="144"/>
                    </a:moveTo>
                    <a:lnTo>
                      <a:pt x="208" y="0"/>
                    </a:lnTo>
                    <a:lnTo>
                      <a:pt x="1200" y="0"/>
                    </a:lnTo>
                    <a:lnTo>
                      <a:pt x="1056" y="144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243"/>
              <p:cNvSpPr/>
              <p:nvPr/>
            </p:nvSpPr>
            <p:spPr>
              <a:xfrm rot="21317400">
                <a:off x="-2790000" y="6389280"/>
                <a:ext cx="146160" cy="241920"/>
              </a:xfrm>
              <a:custGeom>
                <a:avLst/>
                <a:gdLst/>
                <a:ahLst/>
                <a:rect l="l" t="t" r="r" b="b"/>
                <a:pathLst>
                  <a:path w="144" h="272">
                    <a:moveTo>
                      <a:pt x="144" y="0"/>
                    </a:moveTo>
                    <a:lnTo>
                      <a:pt x="144" y="144"/>
                    </a:lnTo>
                    <a:lnTo>
                      <a:pt x="0" y="272"/>
                    </a:lnTo>
                    <a:lnTo>
                      <a:pt x="0" y="144"/>
                    </a:lnTo>
                    <a:lnTo>
                      <a:pt x="144" y="0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" name="Group 1244"/>
              <p:cNvGrpSpPr/>
              <p:nvPr/>
            </p:nvGrpSpPr>
            <p:grpSpPr>
              <a:xfrm>
                <a:off x="-2739600" y="6469560"/>
                <a:ext cx="151200" cy="145080"/>
                <a:chOff x="-2739600" y="6469560"/>
                <a:chExt cx="151200" cy="145080"/>
              </a:xfrm>
            </p:grpSpPr>
            <p:sp>
              <p:nvSpPr>
                <p:cNvPr id="594" name="Line 1245"/>
                <p:cNvSpPr/>
                <p:nvPr/>
              </p:nvSpPr>
              <p:spPr>
                <a:xfrm>
                  <a:off x="-2687400" y="6472080"/>
                  <a:ext cx="122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46"/>
                <p:cNvSpPr/>
                <p:nvPr/>
              </p:nvSpPr>
              <p:spPr>
                <a:xfrm>
                  <a:off x="-2656080" y="6469560"/>
                  <a:ext cx="1260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47"/>
                <p:cNvSpPr/>
                <p:nvPr/>
              </p:nvSpPr>
              <p:spPr>
                <a:xfrm>
                  <a:off x="-2687400" y="6472080"/>
                  <a:ext cx="122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48"/>
                <p:cNvSpPr/>
                <p:nvPr/>
              </p:nvSpPr>
              <p:spPr>
                <a:xfrm>
                  <a:off x="-2656080" y="6469560"/>
                  <a:ext cx="1260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249"/>
                <p:cNvSpPr/>
                <p:nvPr/>
              </p:nvSpPr>
              <p:spPr>
                <a:xfrm rot="21316800">
                  <a:off x="-2738160" y="6527880"/>
                  <a:ext cx="149040" cy="3384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Group 1250"/>
            <p:cNvGrpSpPr/>
            <p:nvPr/>
          </p:nvGrpSpPr>
          <p:grpSpPr>
            <a:xfrm>
              <a:off x="-1312920" y="5838840"/>
              <a:ext cx="1533960" cy="807480"/>
              <a:chOff x="-1312920" y="5838840"/>
              <a:chExt cx="1533960" cy="807480"/>
            </a:xfrm>
          </p:grpSpPr>
          <p:grpSp>
            <p:nvGrpSpPr>
              <p:cNvPr id="600" name="Group 1251"/>
              <p:cNvGrpSpPr/>
              <p:nvPr/>
            </p:nvGrpSpPr>
            <p:grpSpPr>
              <a:xfrm>
                <a:off x="-1312920" y="5838840"/>
                <a:ext cx="1396080" cy="807480"/>
                <a:chOff x="-1312920" y="5838840"/>
                <a:chExt cx="1396080" cy="807480"/>
              </a:xfrm>
            </p:grpSpPr>
            <p:sp>
              <p:nvSpPr>
                <p:cNvPr id="601" name="Oval 1252"/>
                <p:cNvSpPr/>
                <p:nvPr/>
              </p:nvSpPr>
              <p:spPr>
                <a:xfrm rot="21317400">
                  <a:off x="-1293480" y="6024240"/>
                  <a:ext cx="137520" cy="47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dec9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Group 1253"/>
                <p:cNvGrpSpPr/>
                <p:nvPr/>
              </p:nvGrpSpPr>
              <p:grpSpPr>
                <a:xfrm>
                  <a:off x="-1135080" y="6440040"/>
                  <a:ext cx="210960" cy="206280"/>
                  <a:chOff x="-1135080" y="6440040"/>
                  <a:chExt cx="210960" cy="206280"/>
                </a:xfrm>
              </p:grpSpPr>
              <p:sp>
                <p:nvSpPr>
                  <p:cNvPr id="603" name="Oval 1254"/>
                  <p:cNvSpPr/>
                  <p:nvPr/>
                </p:nvSpPr>
                <p:spPr>
                  <a:xfrm rot="21317400">
                    <a:off x="-1127520" y="6447600"/>
                    <a:ext cx="195840" cy="190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1255"/>
                  <p:cNvSpPr/>
                  <p:nvPr/>
                </p:nvSpPr>
                <p:spPr>
                  <a:xfrm rot="21317400">
                    <a:off x="-1127160" y="6454440"/>
                    <a:ext cx="195840" cy="183960"/>
                  </a:xfrm>
                  <a:custGeom>
                    <a:avLst/>
                    <a:gdLst>
                      <a:gd name="textAreaLeft" fmla="*/ 90000 w 195840"/>
                      <a:gd name="textAreaRight" fmla="*/ 105840 w 195840"/>
                      <a:gd name="textAreaTop" fmla="*/ 84600 h 183960"/>
                      <a:gd name="textAreaBottom" fmla="*/ 99360 h 18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Group 1256"/>
                <p:cNvGrpSpPr/>
                <p:nvPr/>
              </p:nvGrpSpPr>
              <p:grpSpPr>
                <a:xfrm>
                  <a:off x="-299160" y="6364080"/>
                  <a:ext cx="211320" cy="207000"/>
                  <a:chOff x="-299160" y="6364080"/>
                  <a:chExt cx="211320" cy="207000"/>
                </a:xfrm>
              </p:grpSpPr>
              <p:sp>
                <p:nvSpPr>
                  <p:cNvPr id="606" name="Oval 1257"/>
                  <p:cNvSpPr/>
                  <p:nvPr/>
                </p:nvSpPr>
                <p:spPr>
                  <a:xfrm rot="21317400">
                    <a:off x="-291600" y="6371640"/>
                    <a:ext cx="196200" cy="19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1258"/>
                  <p:cNvSpPr/>
                  <p:nvPr/>
                </p:nvSpPr>
                <p:spPr>
                  <a:xfrm rot="21317400">
                    <a:off x="-290880" y="6378480"/>
                    <a:ext cx="196200" cy="184680"/>
                  </a:xfrm>
                  <a:custGeom>
                    <a:avLst/>
                    <a:gdLst>
                      <a:gd name="textAreaLeft" fmla="*/ 90360 w 196200"/>
                      <a:gd name="textAreaRight" fmla="*/ 105840 w 196200"/>
                      <a:gd name="textAreaTop" fmla="*/ 84960 h 184680"/>
                      <a:gd name="textAreaBottom" fmla="*/ 99720 h 184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Freeform 1259"/>
                <p:cNvSpPr/>
                <p:nvPr/>
              </p:nvSpPr>
              <p:spPr>
                <a:xfrm rot="21317400">
                  <a:off x="-1288080" y="5982840"/>
                  <a:ext cx="1294200" cy="463680"/>
                </a:xfrm>
                <a:custGeom>
                  <a:avLst/>
                  <a:gdLst/>
                  <a:ahLst/>
                  <a:rect l="l" t="t" r="r" b="b"/>
                  <a:pathLst>
                    <a:path w="2848" h="1048">
                      <a:moveTo>
                        <a:pt x="136" y="32"/>
                      </a:moveTo>
                      <a:lnTo>
                        <a:pt x="2720" y="0"/>
                      </a:lnTo>
                      <a:lnTo>
                        <a:pt x="2781" y="139"/>
                      </a:lnTo>
                      <a:lnTo>
                        <a:pt x="2832" y="312"/>
                      </a:lnTo>
                      <a:lnTo>
                        <a:pt x="2847" y="499"/>
                      </a:lnTo>
                      <a:lnTo>
                        <a:pt x="2848" y="632"/>
                      </a:lnTo>
                      <a:lnTo>
                        <a:pt x="2816" y="824"/>
                      </a:lnTo>
                      <a:lnTo>
                        <a:pt x="2768" y="936"/>
                      </a:lnTo>
                      <a:lnTo>
                        <a:pt x="2800" y="1008"/>
                      </a:lnTo>
                      <a:lnTo>
                        <a:pt x="176" y="1048"/>
                      </a:lnTo>
                      <a:lnTo>
                        <a:pt x="80" y="920"/>
                      </a:lnTo>
                      <a:lnTo>
                        <a:pt x="16" y="760"/>
                      </a:lnTo>
                      <a:lnTo>
                        <a:pt x="0" y="624"/>
                      </a:lnTo>
                      <a:lnTo>
                        <a:pt x="0" y="504"/>
                      </a:lnTo>
                      <a:lnTo>
                        <a:pt x="8" y="320"/>
                      </a:lnTo>
                      <a:lnTo>
                        <a:pt x="40" y="176"/>
                      </a:lnTo>
                      <a:lnTo>
                        <a:pt x="104" y="32"/>
                      </a:lnTo>
                    </a:path>
                  </a:pathLst>
                </a:custGeom>
                <a:blipFill rotWithShape="0">
                  <a:blip r:embed="rId6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  <a:effectLst>
                  <a:outerShdw dist="99192" dir="18581945" blurRad="0" rotWithShape="0">
                    <a:srgbClr val="4f27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1260"/>
                <p:cNvGrpSpPr/>
                <p:nvPr/>
              </p:nvGrpSpPr>
              <p:grpSpPr>
                <a:xfrm>
                  <a:off x="-363240" y="5838840"/>
                  <a:ext cx="212400" cy="137160"/>
                  <a:chOff x="-363240" y="5838840"/>
                  <a:chExt cx="212400" cy="137160"/>
                </a:xfrm>
              </p:grpSpPr>
              <p:sp>
                <p:nvSpPr>
                  <p:cNvPr id="610" name="Oval 1261"/>
                  <p:cNvSpPr/>
                  <p:nvPr/>
                </p:nvSpPr>
                <p:spPr>
                  <a:xfrm rot="21317400">
                    <a:off x="-356040" y="5907600"/>
                    <a:ext cx="200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Freeform 1262"/>
                  <p:cNvSpPr/>
                  <p:nvPr/>
                </p:nvSpPr>
                <p:spPr>
                  <a:xfrm rot="21317400">
                    <a:off x="-350280" y="5877360"/>
                    <a:ext cx="1839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65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1263"/>
                  <p:cNvSpPr/>
                  <p:nvPr/>
                </p:nvSpPr>
                <p:spPr>
                  <a:xfrm rot="21317400">
                    <a:off x="-361080" y="5847120"/>
                    <a:ext cx="20880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Oval 1264"/>
                <p:cNvSpPr/>
                <p:nvPr/>
              </p:nvSpPr>
              <p:spPr>
                <a:xfrm rot="21317400">
                  <a:off x="-73800" y="5905080"/>
                  <a:ext cx="137880" cy="47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dec9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Group 1265"/>
                <p:cNvGrpSpPr/>
                <p:nvPr/>
              </p:nvGrpSpPr>
              <p:grpSpPr>
                <a:xfrm>
                  <a:off x="-1097640" y="5906160"/>
                  <a:ext cx="212400" cy="136800"/>
                  <a:chOff x="-1097640" y="5906160"/>
                  <a:chExt cx="212400" cy="136800"/>
                </a:xfrm>
              </p:grpSpPr>
              <p:sp>
                <p:nvSpPr>
                  <p:cNvPr id="615" name="Oval 1266"/>
                  <p:cNvSpPr/>
                  <p:nvPr/>
                </p:nvSpPr>
                <p:spPr>
                  <a:xfrm rot="21317400">
                    <a:off x="-1090800" y="5974560"/>
                    <a:ext cx="200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Freeform 1267"/>
                  <p:cNvSpPr/>
                  <p:nvPr/>
                </p:nvSpPr>
                <p:spPr>
                  <a:xfrm rot="21317400">
                    <a:off x="-1085040" y="5944320"/>
                    <a:ext cx="1839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66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Oval 1268"/>
                  <p:cNvSpPr/>
                  <p:nvPr/>
                </p:nvSpPr>
                <p:spPr>
                  <a:xfrm rot="21317400">
                    <a:off x="-1095480" y="5914440"/>
                    <a:ext cx="20880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7dec9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8" name="Group 1269"/>
              <p:cNvGrpSpPr/>
              <p:nvPr/>
            </p:nvGrpSpPr>
            <p:grpSpPr>
              <a:xfrm>
                <a:off x="25200" y="6201720"/>
                <a:ext cx="195840" cy="130320"/>
                <a:chOff x="25200" y="6201720"/>
                <a:chExt cx="195840" cy="130320"/>
              </a:xfrm>
            </p:grpSpPr>
            <p:sp>
              <p:nvSpPr>
                <p:cNvPr id="619" name="Line 1270"/>
                <p:cNvSpPr/>
                <p:nvPr/>
              </p:nvSpPr>
              <p:spPr>
                <a:xfrm>
                  <a:off x="86040" y="6205320"/>
                  <a:ext cx="11520" cy="126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71"/>
                <p:cNvSpPr/>
                <p:nvPr/>
              </p:nvSpPr>
              <p:spPr>
                <a:xfrm>
                  <a:off x="122400" y="6201720"/>
                  <a:ext cx="11880" cy="126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72"/>
                <p:cNvSpPr/>
                <p:nvPr/>
              </p:nvSpPr>
              <p:spPr>
                <a:xfrm>
                  <a:off x="86040" y="6205320"/>
                  <a:ext cx="11520" cy="126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73"/>
                <p:cNvSpPr/>
                <p:nvPr/>
              </p:nvSpPr>
              <p:spPr>
                <a:xfrm>
                  <a:off x="122400" y="6201720"/>
                  <a:ext cx="11880" cy="126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274"/>
                <p:cNvSpPr/>
                <p:nvPr/>
              </p:nvSpPr>
              <p:spPr>
                <a:xfrm rot="21316800">
                  <a:off x="25560" y="6254280"/>
                  <a:ext cx="194760" cy="190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1275"/>
            <p:cNvGrpSpPr/>
            <p:nvPr/>
          </p:nvGrpSpPr>
          <p:grpSpPr>
            <a:xfrm>
              <a:off x="-2556720" y="6275880"/>
              <a:ext cx="1279800" cy="520200"/>
              <a:chOff x="-2556720" y="6275880"/>
              <a:chExt cx="1279800" cy="520200"/>
            </a:xfrm>
          </p:grpSpPr>
          <p:grpSp>
            <p:nvGrpSpPr>
              <p:cNvPr id="625" name="Group 1276"/>
              <p:cNvGrpSpPr/>
              <p:nvPr/>
            </p:nvGrpSpPr>
            <p:grpSpPr>
              <a:xfrm>
                <a:off x="-2476080" y="6537600"/>
                <a:ext cx="271080" cy="258480"/>
                <a:chOff x="-2476080" y="6537600"/>
                <a:chExt cx="271080" cy="258480"/>
              </a:xfrm>
            </p:grpSpPr>
            <p:grpSp>
              <p:nvGrpSpPr>
                <p:cNvPr id="626" name="Group 1277"/>
                <p:cNvGrpSpPr/>
                <p:nvPr/>
              </p:nvGrpSpPr>
              <p:grpSpPr>
                <a:xfrm>
                  <a:off x="-2476080" y="6537600"/>
                  <a:ext cx="271080" cy="258480"/>
                  <a:chOff x="-2476080" y="6537600"/>
                  <a:chExt cx="271080" cy="258480"/>
                </a:xfrm>
              </p:grpSpPr>
              <p:grpSp>
                <p:nvGrpSpPr>
                  <p:cNvPr id="627" name="Group 1278"/>
                  <p:cNvGrpSpPr/>
                  <p:nvPr/>
                </p:nvGrpSpPr>
                <p:grpSpPr>
                  <a:xfrm>
                    <a:off x="-2476080" y="6537600"/>
                    <a:ext cx="271080" cy="258480"/>
                    <a:chOff x="-2476080" y="6537600"/>
                    <a:chExt cx="271080" cy="258480"/>
                  </a:xfrm>
                </p:grpSpPr>
                <p:sp>
                  <p:nvSpPr>
                    <p:cNvPr id="628" name="Oval 1279"/>
                    <p:cNvSpPr/>
                    <p:nvPr/>
                  </p:nvSpPr>
                  <p:spPr>
                    <a:xfrm rot="21316800">
                      <a:off x="-2466360" y="6547320"/>
                      <a:ext cx="25236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Oval 1280"/>
                    <p:cNvSpPr/>
                    <p:nvPr/>
                  </p:nvSpPr>
                  <p:spPr>
                    <a:xfrm rot="21316800">
                      <a:off x="-2466360" y="6547320"/>
                      <a:ext cx="25236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Group 1281"/>
                  <p:cNvGrpSpPr/>
                  <p:nvPr/>
                </p:nvGrpSpPr>
                <p:grpSpPr>
                  <a:xfrm>
                    <a:off x="-2453760" y="6559560"/>
                    <a:ext cx="225360" cy="214200"/>
                    <a:chOff x="-2453760" y="6559560"/>
                    <a:chExt cx="225360" cy="214200"/>
                  </a:xfrm>
                </p:grpSpPr>
                <p:sp>
                  <p:nvSpPr>
                    <p:cNvPr id="631" name="Oval 1282"/>
                    <p:cNvSpPr/>
                    <p:nvPr/>
                  </p:nvSpPr>
                  <p:spPr>
                    <a:xfrm rot="21316800">
                      <a:off x="-2445840" y="6567840"/>
                      <a:ext cx="2098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Oval 1283"/>
                    <p:cNvSpPr/>
                    <p:nvPr/>
                  </p:nvSpPr>
                  <p:spPr>
                    <a:xfrm rot="21316800">
                      <a:off x="-2445840" y="6567840"/>
                      <a:ext cx="2098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3" name="Group 1284"/>
                <p:cNvGrpSpPr/>
                <p:nvPr/>
              </p:nvGrpSpPr>
              <p:grpSpPr>
                <a:xfrm>
                  <a:off x="-2453760" y="6559560"/>
                  <a:ext cx="225720" cy="214200"/>
                  <a:chOff x="-2453760" y="6559560"/>
                  <a:chExt cx="225720" cy="214200"/>
                </a:xfrm>
              </p:grpSpPr>
              <p:sp>
                <p:nvSpPr>
                  <p:cNvPr id="634" name="Freeform 1285"/>
                  <p:cNvSpPr/>
                  <p:nvPr/>
                </p:nvSpPr>
                <p:spPr>
                  <a:xfrm rot="21316800">
                    <a:off x="-2445840" y="6567480"/>
                    <a:ext cx="21024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Freeform 1286"/>
                  <p:cNvSpPr/>
                  <p:nvPr/>
                </p:nvSpPr>
                <p:spPr>
                  <a:xfrm rot="21316800">
                    <a:off x="-2445840" y="6567480"/>
                    <a:ext cx="21024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6" name="Group 1287"/>
              <p:cNvGrpSpPr/>
              <p:nvPr/>
            </p:nvGrpSpPr>
            <p:grpSpPr>
              <a:xfrm>
                <a:off x="-1778040" y="6480000"/>
                <a:ext cx="273240" cy="258480"/>
                <a:chOff x="-1778040" y="6480000"/>
                <a:chExt cx="273240" cy="258480"/>
              </a:xfrm>
            </p:grpSpPr>
            <p:grpSp>
              <p:nvGrpSpPr>
                <p:cNvPr id="637" name="Group 1288"/>
                <p:cNvGrpSpPr/>
                <p:nvPr/>
              </p:nvGrpSpPr>
              <p:grpSpPr>
                <a:xfrm>
                  <a:off x="-1778040" y="6480000"/>
                  <a:ext cx="273240" cy="258480"/>
                  <a:chOff x="-1778040" y="6480000"/>
                  <a:chExt cx="273240" cy="258480"/>
                </a:xfrm>
              </p:grpSpPr>
              <p:grpSp>
                <p:nvGrpSpPr>
                  <p:cNvPr id="638" name="Group 1289"/>
                  <p:cNvGrpSpPr/>
                  <p:nvPr/>
                </p:nvGrpSpPr>
                <p:grpSpPr>
                  <a:xfrm>
                    <a:off x="-1778040" y="6480000"/>
                    <a:ext cx="273240" cy="258480"/>
                    <a:chOff x="-1778040" y="6480000"/>
                    <a:chExt cx="273240" cy="258480"/>
                  </a:xfrm>
                </p:grpSpPr>
                <p:sp>
                  <p:nvSpPr>
                    <p:cNvPr id="639" name="Oval 1290"/>
                    <p:cNvSpPr/>
                    <p:nvPr/>
                  </p:nvSpPr>
                  <p:spPr>
                    <a:xfrm rot="21316800">
                      <a:off x="-1768320" y="6489720"/>
                      <a:ext cx="25452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Oval 1291"/>
                    <p:cNvSpPr/>
                    <p:nvPr/>
                  </p:nvSpPr>
                  <p:spPr>
                    <a:xfrm rot="21316800">
                      <a:off x="-1768320" y="6489720"/>
                      <a:ext cx="25452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Group 1292"/>
                  <p:cNvGrpSpPr/>
                  <p:nvPr/>
                </p:nvGrpSpPr>
                <p:grpSpPr>
                  <a:xfrm>
                    <a:off x="-1755360" y="6501960"/>
                    <a:ext cx="226800" cy="214200"/>
                    <a:chOff x="-1755360" y="6501960"/>
                    <a:chExt cx="226800" cy="214200"/>
                  </a:xfrm>
                </p:grpSpPr>
                <p:sp>
                  <p:nvSpPr>
                    <p:cNvPr id="642" name="Oval 1293"/>
                    <p:cNvSpPr/>
                    <p:nvPr/>
                  </p:nvSpPr>
                  <p:spPr>
                    <a:xfrm rot="21316800">
                      <a:off x="-1747440" y="6509880"/>
                      <a:ext cx="2113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Oval 1294"/>
                    <p:cNvSpPr/>
                    <p:nvPr/>
                  </p:nvSpPr>
                  <p:spPr>
                    <a:xfrm rot="21316800">
                      <a:off x="-1747440" y="6509880"/>
                      <a:ext cx="2113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4" name="Group 1295"/>
                <p:cNvGrpSpPr/>
                <p:nvPr/>
              </p:nvGrpSpPr>
              <p:grpSpPr>
                <a:xfrm>
                  <a:off x="-1755360" y="6501960"/>
                  <a:ext cx="227160" cy="214200"/>
                  <a:chOff x="-1755360" y="6501960"/>
                  <a:chExt cx="227160" cy="214200"/>
                </a:xfrm>
              </p:grpSpPr>
              <p:sp>
                <p:nvSpPr>
                  <p:cNvPr id="645" name="Freeform 1296"/>
                  <p:cNvSpPr/>
                  <p:nvPr/>
                </p:nvSpPr>
                <p:spPr>
                  <a:xfrm rot="21316800">
                    <a:off x="-1747440" y="6509880"/>
                    <a:ext cx="2116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Freeform 1297"/>
                  <p:cNvSpPr/>
                  <p:nvPr/>
                </p:nvSpPr>
                <p:spPr>
                  <a:xfrm rot="21316800">
                    <a:off x="-1747440" y="6509880"/>
                    <a:ext cx="2116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Group 1298"/>
              <p:cNvGrpSpPr/>
              <p:nvPr/>
            </p:nvGrpSpPr>
            <p:grpSpPr>
              <a:xfrm>
                <a:off x="-2476080" y="6537600"/>
                <a:ext cx="271440" cy="258480"/>
                <a:chOff x="-2476080" y="6537600"/>
                <a:chExt cx="271440" cy="258480"/>
              </a:xfrm>
            </p:grpSpPr>
            <p:grpSp>
              <p:nvGrpSpPr>
                <p:cNvPr id="648" name="Group 1299"/>
                <p:cNvGrpSpPr/>
                <p:nvPr/>
              </p:nvGrpSpPr>
              <p:grpSpPr>
                <a:xfrm>
                  <a:off x="-2476080" y="6537600"/>
                  <a:ext cx="271440" cy="258480"/>
                  <a:chOff x="-2476080" y="6537600"/>
                  <a:chExt cx="271440" cy="258480"/>
                </a:xfrm>
              </p:grpSpPr>
              <p:sp>
                <p:nvSpPr>
                  <p:cNvPr id="649" name="Oval 1300"/>
                  <p:cNvSpPr/>
                  <p:nvPr/>
                </p:nvSpPr>
                <p:spPr>
                  <a:xfrm rot="21316800">
                    <a:off x="-2466360" y="6547320"/>
                    <a:ext cx="25272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1301"/>
                  <p:cNvSpPr/>
                  <p:nvPr/>
                </p:nvSpPr>
                <p:spPr>
                  <a:xfrm rot="21316800">
                    <a:off x="-2466360" y="6547320"/>
                    <a:ext cx="25272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Group 1302"/>
                <p:cNvGrpSpPr/>
                <p:nvPr/>
              </p:nvGrpSpPr>
              <p:grpSpPr>
                <a:xfrm>
                  <a:off x="-2453760" y="6559560"/>
                  <a:ext cx="225720" cy="214200"/>
                  <a:chOff x="-2453760" y="6559560"/>
                  <a:chExt cx="225720" cy="214200"/>
                </a:xfrm>
              </p:grpSpPr>
              <p:sp>
                <p:nvSpPr>
                  <p:cNvPr id="652" name="Oval 1303"/>
                  <p:cNvSpPr/>
                  <p:nvPr/>
                </p:nvSpPr>
                <p:spPr>
                  <a:xfrm rot="21316800">
                    <a:off x="-2445840" y="6567480"/>
                    <a:ext cx="210240" cy="19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Oval 1304"/>
                  <p:cNvSpPr/>
                  <p:nvPr/>
                </p:nvSpPr>
                <p:spPr>
                  <a:xfrm rot="21316800">
                    <a:off x="-2445840" y="6567480"/>
                    <a:ext cx="210240" cy="197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4" name="Group 1305"/>
              <p:cNvGrpSpPr/>
              <p:nvPr/>
            </p:nvGrpSpPr>
            <p:grpSpPr>
              <a:xfrm>
                <a:off x="-2454480" y="6559920"/>
                <a:ext cx="225000" cy="213840"/>
                <a:chOff x="-2454480" y="6559920"/>
                <a:chExt cx="225000" cy="213840"/>
              </a:xfrm>
            </p:grpSpPr>
            <p:sp>
              <p:nvSpPr>
                <p:cNvPr id="655" name="Freeform 1306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307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1308"/>
              <p:cNvGrpSpPr/>
              <p:nvPr/>
            </p:nvGrpSpPr>
            <p:grpSpPr>
              <a:xfrm>
                <a:off x="-2476080" y="6537600"/>
                <a:ext cx="271800" cy="258480"/>
                <a:chOff x="-2476080" y="6537600"/>
                <a:chExt cx="271800" cy="258480"/>
              </a:xfrm>
            </p:grpSpPr>
            <p:sp>
              <p:nvSpPr>
                <p:cNvPr id="658" name="Oval 1309"/>
                <p:cNvSpPr/>
                <p:nvPr/>
              </p:nvSpPr>
              <p:spPr>
                <a:xfrm rot="21316800">
                  <a:off x="-2466360" y="6547320"/>
                  <a:ext cx="25308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1310"/>
                <p:cNvSpPr/>
                <p:nvPr/>
              </p:nvSpPr>
              <p:spPr>
                <a:xfrm rot="21316800">
                  <a:off x="-2466360" y="6547320"/>
                  <a:ext cx="25308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Group 1311"/>
              <p:cNvGrpSpPr/>
              <p:nvPr/>
            </p:nvGrpSpPr>
            <p:grpSpPr>
              <a:xfrm>
                <a:off x="-2454480" y="6559920"/>
                <a:ext cx="225000" cy="213840"/>
                <a:chOff x="-2454480" y="6559920"/>
                <a:chExt cx="225000" cy="213840"/>
              </a:xfrm>
            </p:grpSpPr>
            <p:sp>
              <p:nvSpPr>
                <p:cNvPr id="661" name="Oval 1312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1313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1314"/>
              <p:cNvGrpSpPr/>
              <p:nvPr/>
            </p:nvGrpSpPr>
            <p:grpSpPr>
              <a:xfrm>
                <a:off x="-2476080" y="6537600"/>
                <a:ext cx="271800" cy="258480"/>
                <a:chOff x="-2476080" y="6537600"/>
                <a:chExt cx="271800" cy="258480"/>
              </a:xfrm>
            </p:grpSpPr>
            <p:sp>
              <p:nvSpPr>
                <p:cNvPr id="664" name="Oval 1315"/>
                <p:cNvSpPr/>
                <p:nvPr/>
              </p:nvSpPr>
              <p:spPr>
                <a:xfrm rot="21316800">
                  <a:off x="-2466360" y="6547320"/>
                  <a:ext cx="25308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Oval 1316"/>
                <p:cNvSpPr/>
                <p:nvPr/>
              </p:nvSpPr>
              <p:spPr>
                <a:xfrm rot="21316800">
                  <a:off x="-2466360" y="6547320"/>
                  <a:ext cx="25308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317"/>
              <p:cNvGrpSpPr/>
              <p:nvPr/>
            </p:nvGrpSpPr>
            <p:grpSpPr>
              <a:xfrm>
                <a:off x="-2454480" y="6559920"/>
                <a:ext cx="225000" cy="213840"/>
                <a:chOff x="-2454480" y="6559920"/>
                <a:chExt cx="225000" cy="213840"/>
              </a:xfrm>
            </p:grpSpPr>
            <p:sp>
              <p:nvSpPr>
                <p:cNvPr id="667" name="Oval 1318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Oval 1319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20"/>
              <p:cNvGrpSpPr/>
              <p:nvPr/>
            </p:nvGrpSpPr>
            <p:grpSpPr>
              <a:xfrm>
                <a:off x="-2454480" y="6559920"/>
                <a:ext cx="225000" cy="213840"/>
                <a:chOff x="-2454480" y="6559920"/>
                <a:chExt cx="225000" cy="213840"/>
              </a:xfrm>
            </p:grpSpPr>
            <p:sp>
              <p:nvSpPr>
                <p:cNvPr id="670" name="Freeform 1321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322"/>
                <p:cNvSpPr/>
                <p:nvPr/>
              </p:nvSpPr>
              <p:spPr>
                <a:xfrm rot="21316800">
                  <a:off x="-2446560" y="6568200"/>
                  <a:ext cx="20952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Group 1323"/>
              <p:cNvGrpSpPr/>
              <p:nvPr/>
            </p:nvGrpSpPr>
            <p:grpSpPr>
              <a:xfrm>
                <a:off x="-1778040" y="6480000"/>
                <a:ext cx="273600" cy="258480"/>
                <a:chOff x="-1778040" y="6480000"/>
                <a:chExt cx="273600" cy="258480"/>
              </a:xfrm>
            </p:grpSpPr>
            <p:grpSp>
              <p:nvGrpSpPr>
                <p:cNvPr id="673" name="Group 1324"/>
                <p:cNvGrpSpPr/>
                <p:nvPr/>
              </p:nvGrpSpPr>
              <p:grpSpPr>
                <a:xfrm>
                  <a:off x="-1778040" y="6480000"/>
                  <a:ext cx="273600" cy="258480"/>
                  <a:chOff x="-1778040" y="6480000"/>
                  <a:chExt cx="273600" cy="258480"/>
                </a:xfrm>
              </p:grpSpPr>
              <p:sp>
                <p:nvSpPr>
                  <p:cNvPr id="674" name="Oval 1325"/>
                  <p:cNvSpPr/>
                  <p:nvPr/>
                </p:nvSpPr>
                <p:spPr>
                  <a:xfrm rot="21316800">
                    <a:off x="-1768320" y="6489720"/>
                    <a:ext cx="2548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Oval 1326"/>
                  <p:cNvSpPr/>
                  <p:nvPr/>
                </p:nvSpPr>
                <p:spPr>
                  <a:xfrm rot="21316800">
                    <a:off x="-1768320" y="6489720"/>
                    <a:ext cx="2548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Group 1327"/>
                <p:cNvGrpSpPr/>
                <p:nvPr/>
              </p:nvGrpSpPr>
              <p:grpSpPr>
                <a:xfrm>
                  <a:off x="-1755360" y="6501960"/>
                  <a:ext cx="227160" cy="214200"/>
                  <a:chOff x="-1755360" y="6501960"/>
                  <a:chExt cx="227160" cy="214200"/>
                </a:xfrm>
              </p:grpSpPr>
              <p:sp>
                <p:nvSpPr>
                  <p:cNvPr id="677" name="Oval 1328"/>
                  <p:cNvSpPr/>
                  <p:nvPr/>
                </p:nvSpPr>
                <p:spPr>
                  <a:xfrm rot="21316800">
                    <a:off x="-1747440" y="6509880"/>
                    <a:ext cx="211680" cy="19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1329"/>
                  <p:cNvSpPr/>
                  <p:nvPr/>
                </p:nvSpPr>
                <p:spPr>
                  <a:xfrm rot="21316800">
                    <a:off x="-1747440" y="6509880"/>
                    <a:ext cx="211680" cy="197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9" name="Group 1330"/>
              <p:cNvGrpSpPr/>
              <p:nvPr/>
            </p:nvGrpSpPr>
            <p:grpSpPr>
              <a:xfrm>
                <a:off x="-1755000" y="6502320"/>
                <a:ext cx="227160" cy="213840"/>
                <a:chOff x="-1755000" y="6502320"/>
                <a:chExt cx="227160" cy="213840"/>
              </a:xfrm>
            </p:grpSpPr>
            <p:sp>
              <p:nvSpPr>
                <p:cNvPr id="680" name="Freeform 1331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332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1333"/>
              <p:cNvGrpSpPr/>
              <p:nvPr/>
            </p:nvGrpSpPr>
            <p:grpSpPr>
              <a:xfrm>
                <a:off x="-1778040" y="6480000"/>
                <a:ext cx="273960" cy="258480"/>
                <a:chOff x="-1778040" y="6480000"/>
                <a:chExt cx="273960" cy="258480"/>
              </a:xfrm>
            </p:grpSpPr>
            <p:sp>
              <p:nvSpPr>
                <p:cNvPr id="683" name="Oval 1334"/>
                <p:cNvSpPr/>
                <p:nvPr/>
              </p:nvSpPr>
              <p:spPr>
                <a:xfrm rot="21316800">
                  <a:off x="-1768320" y="6489720"/>
                  <a:ext cx="25524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Oval 1335"/>
                <p:cNvSpPr/>
                <p:nvPr/>
              </p:nvSpPr>
              <p:spPr>
                <a:xfrm rot="21316800">
                  <a:off x="-1768320" y="6489720"/>
                  <a:ext cx="25524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1336"/>
              <p:cNvGrpSpPr/>
              <p:nvPr/>
            </p:nvGrpSpPr>
            <p:grpSpPr>
              <a:xfrm>
                <a:off x="-1755000" y="6502320"/>
                <a:ext cx="227160" cy="213840"/>
                <a:chOff x="-1755000" y="6502320"/>
                <a:chExt cx="227160" cy="213840"/>
              </a:xfrm>
            </p:grpSpPr>
            <p:sp>
              <p:nvSpPr>
                <p:cNvPr id="686" name="Oval 1337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Oval 1338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1339"/>
              <p:cNvGrpSpPr/>
              <p:nvPr/>
            </p:nvGrpSpPr>
            <p:grpSpPr>
              <a:xfrm>
                <a:off x="-1778040" y="6480000"/>
                <a:ext cx="273960" cy="258480"/>
                <a:chOff x="-1778040" y="6480000"/>
                <a:chExt cx="273960" cy="258480"/>
              </a:xfrm>
            </p:grpSpPr>
            <p:sp>
              <p:nvSpPr>
                <p:cNvPr id="689" name="Oval 1340"/>
                <p:cNvSpPr/>
                <p:nvPr/>
              </p:nvSpPr>
              <p:spPr>
                <a:xfrm rot="21316800">
                  <a:off x="-1768320" y="6489720"/>
                  <a:ext cx="255240" cy="238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Oval 1341"/>
                <p:cNvSpPr/>
                <p:nvPr/>
              </p:nvSpPr>
              <p:spPr>
                <a:xfrm rot="21316800">
                  <a:off x="-1768320" y="6489720"/>
                  <a:ext cx="255240" cy="2383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1342"/>
              <p:cNvGrpSpPr/>
              <p:nvPr/>
            </p:nvGrpSpPr>
            <p:grpSpPr>
              <a:xfrm>
                <a:off x="-1755000" y="6502320"/>
                <a:ext cx="227160" cy="213840"/>
                <a:chOff x="-1755000" y="6502320"/>
                <a:chExt cx="227160" cy="213840"/>
              </a:xfrm>
            </p:grpSpPr>
            <p:sp>
              <p:nvSpPr>
                <p:cNvPr id="692" name="Oval 1343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Oval 1344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1345"/>
              <p:cNvGrpSpPr/>
              <p:nvPr/>
            </p:nvGrpSpPr>
            <p:grpSpPr>
              <a:xfrm>
                <a:off x="-1755000" y="6502320"/>
                <a:ext cx="227160" cy="213840"/>
                <a:chOff x="-1755000" y="6502320"/>
                <a:chExt cx="227160" cy="213840"/>
              </a:xfrm>
            </p:grpSpPr>
            <p:sp>
              <p:nvSpPr>
                <p:cNvPr id="695" name="Freeform 1346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1347"/>
                <p:cNvSpPr/>
                <p:nvPr/>
              </p:nvSpPr>
              <p:spPr>
                <a:xfrm rot="21316800">
                  <a:off x="-1747080" y="6510240"/>
                  <a:ext cx="211680" cy="19728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1348"/>
              <p:cNvGrpSpPr/>
              <p:nvPr/>
            </p:nvGrpSpPr>
            <p:grpSpPr>
              <a:xfrm>
                <a:off x="-2546280" y="6413400"/>
                <a:ext cx="1091880" cy="208440"/>
                <a:chOff x="-2546280" y="6413400"/>
                <a:chExt cx="1091880" cy="208440"/>
              </a:xfrm>
            </p:grpSpPr>
            <p:pic>
              <p:nvPicPr>
                <p:cNvPr id="698" name="Picture 1349" descr=""/>
                <p:cNvPicPr/>
                <p:nvPr/>
              </p:nvPicPr>
              <p:blipFill>
                <a:blip r:embed="rId67"/>
                <a:stretch/>
              </p:blipFill>
              <p:spPr>
                <a:xfrm rot="21316200">
                  <a:off x="-2543040" y="6458040"/>
                  <a:ext cx="1085760" cy="11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9" name="Rectangle 1350"/>
                <p:cNvSpPr/>
                <p:nvPr/>
              </p:nvSpPr>
              <p:spPr>
                <a:xfrm rot="21316800">
                  <a:off x="-2543040" y="6458760"/>
                  <a:ext cx="1085760" cy="1184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Freeform 1351"/>
              <p:cNvSpPr/>
              <p:nvPr/>
            </p:nvSpPr>
            <p:spPr>
              <a:xfrm rot="21317400">
                <a:off x="-2553480" y="6325560"/>
                <a:ext cx="1217880" cy="127800"/>
              </a:xfrm>
              <a:custGeom>
                <a:avLst/>
                <a:gdLst/>
                <a:ahLst/>
                <a:rect l="l" t="t" r="r" b="b"/>
                <a:pathLst>
                  <a:path w="1200" h="144">
                    <a:moveTo>
                      <a:pt x="0" y="144"/>
                    </a:moveTo>
                    <a:lnTo>
                      <a:pt x="208" y="0"/>
                    </a:lnTo>
                    <a:lnTo>
                      <a:pt x="1200" y="0"/>
                    </a:lnTo>
                    <a:lnTo>
                      <a:pt x="1056" y="144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352"/>
              <p:cNvSpPr/>
              <p:nvPr/>
            </p:nvSpPr>
            <p:spPr>
              <a:xfrm rot="21317400">
                <a:off x="-1478520" y="6281280"/>
                <a:ext cx="146160" cy="241920"/>
              </a:xfrm>
              <a:custGeom>
                <a:avLst/>
                <a:gdLst/>
                <a:ahLst/>
                <a:rect l="l" t="t" r="r" b="b"/>
                <a:pathLst>
                  <a:path w="144" h="272">
                    <a:moveTo>
                      <a:pt x="144" y="0"/>
                    </a:moveTo>
                    <a:lnTo>
                      <a:pt x="144" y="144"/>
                    </a:lnTo>
                    <a:lnTo>
                      <a:pt x="0" y="272"/>
                    </a:lnTo>
                    <a:lnTo>
                      <a:pt x="0" y="144"/>
                    </a:lnTo>
                    <a:lnTo>
                      <a:pt x="144" y="0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Group 1353"/>
              <p:cNvGrpSpPr/>
              <p:nvPr/>
            </p:nvGrpSpPr>
            <p:grpSpPr>
              <a:xfrm>
                <a:off x="-1428120" y="6361560"/>
                <a:ext cx="151200" cy="145080"/>
                <a:chOff x="-1428120" y="6361560"/>
                <a:chExt cx="151200" cy="145080"/>
              </a:xfrm>
            </p:grpSpPr>
            <p:sp>
              <p:nvSpPr>
                <p:cNvPr id="703" name="Line 1354"/>
                <p:cNvSpPr/>
                <p:nvPr/>
              </p:nvSpPr>
              <p:spPr>
                <a:xfrm>
                  <a:off x="-1375920" y="6364080"/>
                  <a:ext cx="122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55"/>
                <p:cNvSpPr/>
                <p:nvPr/>
              </p:nvSpPr>
              <p:spPr>
                <a:xfrm>
                  <a:off x="-1344600" y="6361560"/>
                  <a:ext cx="1260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56"/>
                <p:cNvSpPr/>
                <p:nvPr/>
              </p:nvSpPr>
              <p:spPr>
                <a:xfrm>
                  <a:off x="-1375920" y="6364080"/>
                  <a:ext cx="122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57"/>
                <p:cNvSpPr/>
                <p:nvPr/>
              </p:nvSpPr>
              <p:spPr>
                <a:xfrm>
                  <a:off x="-1344600" y="6361560"/>
                  <a:ext cx="1260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1358"/>
                <p:cNvSpPr/>
                <p:nvPr/>
              </p:nvSpPr>
              <p:spPr>
                <a:xfrm rot="21316800">
                  <a:off x="-1426680" y="6419880"/>
                  <a:ext cx="149040" cy="3384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Group 1359"/>
            <p:cNvGrpSpPr/>
            <p:nvPr/>
          </p:nvGrpSpPr>
          <p:grpSpPr>
            <a:xfrm>
              <a:off x="-2599920" y="5677560"/>
              <a:ext cx="1331280" cy="1148040"/>
              <a:chOff x="-2599920" y="5677560"/>
              <a:chExt cx="1331280" cy="1148040"/>
            </a:xfrm>
          </p:grpSpPr>
          <p:sp>
            <p:nvSpPr>
              <p:cNvPr id="709" name="Rectangle 1360"/>
              <p:cNvSpPr/>
              <p:nvPr/>
            </p:nvSpPr>
            <p:spPr>
              <a:xfrm rot="21317400">
                <a:off x="-1989000" y="625968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1361"/>
              <p:cNvGrpSpPr/>
              <p:nvPr/>
            </p:nvGrpSpPr>
            <p:grpSpPr>
              <a:xfrm>
                <a:off x="-2390760" y="5891400"/>
                <a:ext cx="1122120" cy="807480"/>
                <a:chOff x="-2390760" y="5891400"/>
                <a:chExt cx="1122120" cy="807480"/>
              </a:xfrm>
            </p:grpSpPr>
            <p:sp>
              <p:nvSpPr>
                <p:cNvPr id="711" name="Freeform 1362"/>
                <p:cNvSpPr/>
                <p:nvPr/>
              </p:nvSpPr>
              <p:spPr>
                <a:xfrm flipH="1" rot="20004000">
                  <a:off x="-2365560" y="611172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1363"/>
                <p:cNvSpPr/>
                <p:nvPr/>
              </p:nvSpPr>
              <p:spPr>
                <a:xfrm flipH="1" rot="20004000">
                  <a:off x="-1522440" y="6212160"/>
                  <a:ext cx="156600" cy="67680"/>
                </a:xfrm>
                <a:prstGeom prst="ellipse">
                  <a:avLst/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Oval 1364"/>
                <p:cNvSpPr/>
                <p:nvPr/>
              </p:nvSpPr>
              <p:spPr>
                <a:xfrm flipH="1" rot="20004000">
                  <a:off x="-1487520" y="622008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Oval 1365"/>
                <p:cNvSpPr/>
                <p:nvPr/>
              </p:nvSpPr>
              <p:spPr>
                <a:xfrm flipH="1" rot="20004000">
                  <a:off x="-1476000" y="622764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Oval 1366"/>
                <p:cNvSpPr/>
                <p:nvPr/>
              </p:nvSpPr>
              <p:spPr>
                <a:xfrm flipH="1" rot="20004000">
                  <a:off x="-1464480" y="623412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Group 1367"/>
              <p:cNvGrpSpPr/>
              <p:nvPr/>
            </p:nvGrpSpPr>
            <p:grpSpPr>
              <a:xfrm>
                <a:off x="-2477880" y="6018120"/>
                <a:ext cx="1122120" cy="807480"/>
                <a:chOff x="-2477880" y="6018120"/>
                <a:chExt cx="1122120" cy="807480"/>
              </a:xfrm>
            </p:grpSpPr>
            <p:sp>
              <p:nvSpPr>
                <p:cNvPr id="717" name="Freeform 1368"/>
                <p:cNvSpPr/>
                <p:nvPr/>
              </p:nvSpPr>
              <p:spPr>
                <a:xfrm flipH="1" rot="20004000">
                  <a:off x="-2452680" y="623844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Oval 1369"/>
                <p:cNvSpPr/>
                <p:nvPr/>
              </p:nvSpPr>
              <p:spPr>
                <a:xfrm flipH="1" rot="20004000">
                  <a:off x="-1609560" y="6338880"/>
                  <a:ext cx="156600" cy="67680"/>
                </a:xfrm>
                <a:prstGeom prst="ellipse">
                  <a:avLst/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Oval 1370"/>
                <p:cNvSpPr/>
                <p:nvPr/>
              </p:nvSpPr>
              <p:spPr>
                <a:xfrm flipH="1" rot="20004000">
                  <a:off x="-1574640" y="634680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71"/>
                <p:cNvSpPr/>
                <p:nvPr/>
              </p:nvSpPr>
              <p:spPr>
                <a:xfrm flipH="1" rot="20004000">
                  <a:off x="-1563120" y="635436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372"/>
                <p:cNvSpPr/>
                <p:nvPr/>
              </p:nvSpPr>
              <p:spPr>
                <a:xfrm flipH="1" rot="20004000">
                  <a:off x="-1551600" y="636084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1373"/>
              <p:cNvGrpSpPr/>
              <p:nvPr/>
            </p:nvGrpSpPr>
            <p:grpSpPr>
              <a:xfrm>
                <a:off x="-2436840" y="5929200"/>
                <a:ext cx="1121760" cy="807120"/>
                <a:chOff x="-2436840" y="5929200"/>
                <a:chExt cx="1121760" cy="807120"/>
              </a:xfrm>
            </p:grpSpPr>
            <p:sp>
              <p:nvSpPr>
                <p:cNvPr id="723" name="Freeform 1374"/>
                <p:cNvSpPr/>
                <p:nvPr/>
              </p:nvSpPr>
              <p:spPr>
                <a:xfrm flipH="1" rot="20004000">
                  <a:off x="-2411640" y="6149520"/>
                  <a:ext cx="1071360" cy="36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1375"/>
                <p:cNvSpPr/>
                <p:nvPr/>
              </p:nvSpPr>
              <p:spPr>
                <a:xfrm flipH="1" rot="20004000">
                  <a:off x="-1568880" y="6249600"/>
                  <a:ext cx="156600" cy="67680"/>
                </a:xfrm>
                <a:prstGeom prst="ellipse">
                  <a:avLst/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376"/>
                <p:cNvSpPr/>
                <p:nvPr/>
              </p:nvSpPr>
              <p:spPr>
                <a:xfrm flipH="1" rot="20004000">
                  <a:off x="-1533600" y="625788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Oval 1377"/>
                <p:cNvSpPr/>
                <p:nvPr/>
              </p:nvSpPr>
              <p:spPr>
                <a:xfrm flipH="1" rot="20004000">
                  <a:off x="-1521720" y="6265440"/>
                  <a:ext cx="69480" cy="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1378"/>
                <p:cNvSpPr/>
                <p:nvPr/>
              </p:nvSpPr>
              <p:spPr>
                <a:xfrm flipH="1" rot="20004000">
                  <a:off x="-1510560" y="627156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1379"/>
              <p:cNvGrpSpPr/>
              <p:nvPr/>
            </p:nvGrpSpPr>
            <p:grpSpPr>
              <a:xfrm>
                <a:off x="-2579040" y="5983560"/>
                <a:ext cx="1122120" cy="807480"/>
                <a:chOff x="-2579040" y="5983560"/>
                <a:chExt cx="1122120" cy="807480"/>
              </a:xfrm>
            </p:grpSpPr>
            <p:sp>
              <p:nvSpPr>
                <p:cNvPr id="729" name="Freeform 1380"/>
                <p:cNvSpPr/>
                <p:nvPr/>
              </p:nvSpPr>
              <p:spPr>
                <a:xfrm flipH="1" rot="20004000">
                  <a:off x="-2553840" y="620388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1381"/>
                <p:cNvSpPr/>
                <p:nvPr/>
              </p:nvSpPr>
              <p:spPr>
                <a:xfrm flipH="1" rot="20004000">
                  <a:off x="-1710720" y="6304320"/>
                  <a:ext cx="156600" cy="67680"/>
                </a:xfrm>
                <a:prstGeom prst="ellipse">
                  <a:avLst/>
                </a:pr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1382"/>
                <p:cNvSpPr/>
                <p:nvPr/>
              </p:nvSpPr>
              <p:spPr>
                <a:xfrm flipH="1" rot="20004000">
                  <a:off x="-1675800" y="631224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1383"/>
                <p:cNvSpPr/>
                <p:nvPr/>
              </p:nvSpPr>
              <p:spPr>
                <a:xfrm flipH="1" rot="20004000">
                  <a:off x="-1664280" y="631980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1384"/>
                <p:cNvSpPr/>
                <p:nvPr/>
              </p:nvSpPr>
              <p:spPr>
                <a:xfrm flipH="1" rot="20004000">
                  <a:off x="-1652760" y="632628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1385"/>
              <p:cNvGrpSpPr/>
              <p:nvPr/>
            </p:nvGrpSpPr>
            <p:grpSpPr>
              <a:xfrm>
                <a:off x="-2445840" y="5819040"/>
                <a:ext cx="1122120" cy="807480"/>
                <a:chOff x="-2445840" y="5819040"/>
                <a:chExt cx="1122120" cy="807480"/>
              </a:xfrm>
            </p:grpSpPr>
            <p:sp>
              <p:nvSpPr>
                <p:cNvPr id="735" name="Freeform 1386"/>
                <p:cNvSpPr/>
                <p:nvPr/>
              </p:nvSpPr>
              <p:spPr>
                <a:xfrm flipH="1" rot="20004000">
                  <a:off x="-2420640" y="603936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1387"/>
                <p:cNvSpPr/>
                <p:nvPr/>
              </p:nvSpPr>
              <p:spPr>
                <a:xfrm flipH="1" rot="20004000">
                  <a:off x="-1577520" y="6139800"/>
                  <a:ext cx="156600" cy="67680"/>
                </a:xfrm>
                <a:prstGeom prst="ellipse">
                  <a:avLst/>
                </a:pr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Oval 1388"/>
                <p:cNvSpPr/>
                <p:nvPr/>
              </p:nvSpPr>
              <p:spPr>
                <a:xfrm flipH="1" rot="20004000">
                  <a:off x="-1542600" y="614772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Oval 1389"/>
                <p:cNvSpPr/>
                <p:nvPr/>
              </p:nvSpPr>
              <p:spPr>
                <a:xfrm flipH="1" rot="20004000">
                  <a:off x="-1531080" y="615528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1390"/>
                <p:cNvSpPr/>
                <p:nvPr/>
              </p:nvSpPr>
              <p:spPr>
                <a:xfrm flipH="1" rot="20004000">
                  <a:off x="-1519560" y="616176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Group 1391"/>
              <p:cNvGrpSpPr/>
              <p:nvPr/>
            </p:nvGrpSpPr>
            <p:grpSpPr>
              <a:xfrm>
                <a:off x="-2537280" y="5894280"/>
                <a:ext cx="1122120" cy="807480"/>
                <a:chOff x="-2537280" y="5894280"/>
                <a:chExt cx="1122120" cy="807480"/>
              </a:xfrm>
            </p:grpSpPr>
            <p:sp>
              <p:nvSpPr>
                <p:cNvPr id="741" name="Freeform 1392"/>
                <p:cNvSpPr/>
                <p:nvPr/>
              </p:nvSpPr>
              <p:spPr>
                <a:xfrm flipH="1" rot="20004000">
                  <a:off x="-2512080" y="611460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Oval 1393"/>
                <p:cNvSpPr/>
                <p:nvPr/>
              </p:nvSpPr>
              <p:spPr>
                <a:xfrm flipH="1" rot="20004000">
                  <a:off x="-1668960" y="6215400"/>
                  <a:ext cx="156600" cy="67680"/>
                </a:xfrm>
                <a:prstGeom prst="ellips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1394"/>
                <p:cNvSpPr/>
                <p:nvPr/>
              </p:nvSpPr>
              <p:spPr>
                <a:xfrm flipH="1" rot="20004000">
                  <a:off x="-1634040" y="622296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Oval 1395"/>
                <p:cNvSpPr/>
                <p:nvPr/>
              </p:nvSpPr>
              <p:spPr>
                <a:xfrm flipH="1" rot="20004000">
                  <a:off x="-1622520" y="623088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Oval 1396"/>
                <p:cNvSpPr/>
                <p:nvPr/>
              </p:nvSpPr>
              <p:spPr>
                <a:xfrm flipH="1" rot="20004000">
                  <a:off x="-1611000" y="623736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Group 1397"/>
              <p:cNvGrpSpPr/>
              <p:nvPr/>
            </p:nvGrpSpPr>
            <p:grpSpPr>
              <a:xfrm>
                <a:off x="-2585880" y="5898600"/>
                <a:ext cx="1122120" cy="807480"/>
                <a:chOff x="-2585880" y="5898600"/>
                <a:chExt cx="1122120" cy="807480"/>
              </a:xfrm>
            </p:grpSpPr>
            <p:sp>
              <p:nvSpPr>
                <p:cNvPr id="747" name="Freeform 1398"/>
                <p:cNvSpPr/>
                <p:nvPr/>
              </p:nvSpPr>
              <p:spPr>
                <a:xfrm flipH="1" rot="20004000">
                  <a:off x="-2560680" y="611892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99"/>
                <p:cNvSpPr/>
                <p:nvPr/>
              </p:nvSpPr>
              <p:spPr>
                <a:xfrm flipH="1" rot="20004000">
                  <a:off x="-1717560" y="6219360"/>
                  <a:ext cx="156600" cy="67680"/>
                </a:xfrm>
                <a:prstGeom prst="ellips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00"/>
                <p:cNvSpPr/>
                <p:nvPr/>
              </p:nvSpPr>
              <p:spPr>
                <a:xfrm flipH="1" rot="20004000">
                  <a:off x="-1682640" y="622728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Oval 1401"/>
                <p:cNvSpPr/>
                <p:nvPr/>
              </p:nvSpPr>
              <p:spPr>
                <a:xfrm flipH="1" rot="20004000">
                  <a:off x="-1671120" y="623484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Oval 1402"/>
                <p:cNvSpPr/>
                <p:nvPr/>
              </p:nvSpPr>
              <p:spPr>
                <a:xfrm flipH="1" rot="20004000">
                  <a:off x="-1659600" y="624132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403"/>
              <p:cNvGrpSpPr/>
              <p:nvPr/>
            </p:nvGrpSpPr>
            <p:grpSpPr>
              <a:xfrm>
                <a:off x="-2498760" y="5762520"/>
                <a:ext cx="1122120" cy="807480"/>
                <a:chOff x="-2498760" y="5762520"/>
                <a:chExt cx="1122120" cy="807480"/>
              </a:xfrm>
            </p:grpSpPr>
            <p:sp>
              <p:nvSpPr>
                <p:cNvPr id="753" name="Freeform 1404"/>
                <p:cNvSpPr/>
                <p:nvPr/>
              </p:nvSpPr>
              <p:spPr>
                <a:xfrm flipH="1" rot="20004000">
                  <a:off x="-2473560" y="598284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Oval 1405"/>
                <p:cNvSpPr/>
                <p:nvPr/>
              </p:nvSpPr>
              <p:spPr>
                <a:xfrm flipH="1" rot="20004000">
                  <a:off x="-1630800" y="6083640"/>
                  <a:ext cx="156600" cy="67680"/>
                </a:xfrm>
                <a:prstGeom prst="ellipse">
                  <a:avLst/>
                </a:prstGeom>
                <a:blipFill rotWithShape="0">
                  <a:blip r:embed="rId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1406"/>
                <p:cNvSpPr/>
                <p:nvPr/>
              </p:nvSpPr>
              <p:spPr>
                <a:xfrm flipH="1" rot="20004000">
                  <a:off x="-1595880" y="609156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1407"/>
                <p:cNvSpPr/>
                <p:nvPr/>
              </p:nvSpPr>
              <p:spPr>
                <a:xfrm flipH="1" rot="20004000">
                  <a:off x="-1584000" y="609912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1408"/>
                <p:cNvSpPr/>
                <p:nvPr/>
              </p:nvSpPr>
              <p:spPr>
                <a:xfrm flipH="1" rot="20004000">
                  <a:off x="-1572480" y="610560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1409"/>
              <p:cNvGrpSpPr/>
              <p:nvPr/>
            </p:nvGrpSpPr>
            <p:grpSpPr>
              <a:xfrm>
                <a:off x="-2505960" y="5677560"/>
                <a:ext cx="1121760" cy="807120"/>
                <a:chOff x="-2505960" y="5677560"/>
                <a:chExt cx="1121760" cy="807120"/>
              </a:xfrm>
            </p:grpSpPr>
            <p:sp>
              <p:nvSpPr>
                <p:cNvPr id="759" name="Freeform 1410"/>
                <p:cNvSpPr/>
                <p:nvPr/>
              </p:nvSpPr>
              <p:spPr>
                <a:xfrm flipH="1" rot="20004000">
                  <a:off x="-2480760" y="5897880"/>
                  <a:ext cx="1071360" cy="36612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Oval 1411"/>
                <p:cNvSpPr/>
                <p:nvPr/>
              </p:nvSpPr>
              <p:spPr>
                <a:xfrm flipH="1" rot="20004000">
                  <a:off x="-1638000" y="5998320"/>
                  <a:ext cx="156600" cy="67680"/>
                </a:xfrm>
                <a:prstGeom prst="ellipse">
                  <a:avLst/>
                </a:pr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412"/>
                <p:cNvSpPr/>
                <p:nvPr/>
              </p:nvSpPr>
              <p:spPr>
                <a:xfrm flipH="1" rot="20004000">
                  <a:off x="-1602720" y="600624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13"/>
                <p:cNvSpPr/>
                <p:nvPr/>
              </p:nvSpPr>
              <p:spPr>
                <a:xfrm flipH="1" rot="20004000">
                  <a:off x="-1590840" y="6013800"/>
                  <a:ext cx="69480" cy="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1414"/>
                <p:cNvSpPr/>
                <p:nvPr/>
              </p:nvSpPr>
              <p:spPr>
                <a:xfrm flipH="1" rot="20004000">
                  <a:off x="-1579680" y="601992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415"/>
              <p:cNvGrpSpPr/>
              <p:nvPr/>
            </p:nvGrpSpPr>
            <p:grpSpPr>
              <a:xfrm>
                <a:off x="-2599920" y="5727960"/>
                <a:ext cx="1122120" cy="807480"/>
                <a:chOff x="-2599920" y="5727960"/>
                <a:chExt cx="1122120" cy="807480"/>
              </a:xfrm>
            </p:grpSpPr>
            <p:sp>
              <p:nvSpPr>
                <p:cNvPr id="765" name="Freeform 1416"/>
                <p:cNvSpPr/>
                <p:nvPr/>
              </p:nvSpPr>
              <p:spPr>
                <a:xfrm flipH="1" rot="20004000">
                  <a:off x="-2574720" y="5948280"/>
                  <a:ext cx="1071360" cy="366480"/>
                </a:xfrm>
                <a:custGeom>
                  <a:avLst/>
                  <a:gdLst/>
                  <a:ahLst/>
                  <a:rect l="l" t="t" r="r" b="b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417"/>
                <p:cNvSpPr/>
                <p:nvPr/>
              </p:nvSpPr>
              <p:spPr>
                <a:xfrm flipH="1" rot="20004000">
                  <a:off x="-1731600" y="6049080"/>
                  <a:ext cx="156600" cy="67680"/>
                </a:xfrm>
                <a:prstGeom prst="ellipse">
                  <a:avLst/>
                </a:prstGeom>
                <a:blipFill rotWithShape="0">
                  <a:blip r:embed="rId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1418"/>
                <p:cNvSpPr/>
                <p:nvPr/>
              </p:nvSpPr>
              <p:spPr>
                <a:xfrm flipH="1" rot="20004000">
                  <a:off x="-1696680" y="6056640"/>
                  <a:ext cx="98640" cy="4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1419"/>
                <p:cNvSpPr/>
                <p:nvPr/>
              </p:nvSpPr>
              <p:spPr>
                <a:xfrm flipH="1" rot="20004000">
                  <a:off x="-1685160" y="6064200"/>
                  <a:ext cx="69480" cy="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Oval 1420"/>
                <p:cNvSpPr/>
                <p:nvPr/>
              </p:nvSpPr>
              <p:spPr>
                <a:xfrm flipH="1" rot="20004000">
                  <a:off x="-1673640" y="6070680"/>
                  <a:ext cx="40320" cy="21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Freeform 1421"/>
              <p:cNvSpPr/>
              <p:nvPr/>
            </p:nvSpPr>
            <p:spPr>
              <a:xfrm rot="21317400">
                <a:off x="-1928160" y="6011280"/>
                <a:ext cx="336600" cy="432360"/>
              </a:xfrm>
              <a:custGeom>
                <a:avLst/>
                <a:gdLst/>
                <a:ahLst/>
                <a:rect l="l" t="t" r="r" b="b"/>
                <a:pathLst>
                  <a:path w="332" h="486">
                    <a:moveTo>
                      <a:pt x="302" y="0"/>
                    </a:moveTo>
                    <a:lnTo>
                      <a:pt x="60" y="126"/>
                    </a:lnTo>
                    <a:lnTo>
                      <a:pt x="0" y="486"/>
                    </a:lnTo>
                    <a:lnTo>
                      <a:pt x="36" y="486"/>
                    </a:lnTo>
                    <a:lnTo>
                      <a:pt x="97" y="150"/>
                    </a:lnTo>
                    <a:lnTo>
                      <a:pt x="157" y="106"/>
                    </a:lnTo>
                    <a:lnTo>
                      <a:pt x="332" y="15"/>
                    </a:lnTo>
                    <a:lnTo>
                      <a:pt x="302" y="0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422"/>
              <p:cNvSpPr/>
              <p:nvPr/>
            </p:nvSpPr>
            <p:spPr>
              <a:xfrm rot="21317400">
                <a:off x="-2418120" y="6051600"/>
                <a:ext cx="336600" cy="432360"/>
              </a:xfrm>
              <a:custGeom>
                <a:avLst/>
                <a:gdLst/>
                <a:ahLst/>
                <a:rect l="l" t="t" r="r" b="b"/>
                <a:pathLst>
                  <a:path w="332" h="486">
                    <a:moveTo>
                      <a:pt x="302" y="0"/>
                    </a:moveTo>
                    <a:lnTo>
                      <a:pt x="60" y="126"/>
                    </a:lnTo>
                    <a:lnTo>
                      <a:pt x="0" y="486"/>
                    </a:lnTo>
                    <a:lnTo>
                      <a:pt x="36" y="486"/>
                    </a:lnTo>
                    <a:lnTo>
                      <a:pt x="97" y="150"/>
                    </a:lnTo>
                    <a:lnTo>
                      <a:pt x="157" y="106"/>
                    </a:lnTo>
                    <a:lnTo>
                      <a:pt x="332" y="15"/>
                    </a:lnTo>
                    <a:lnTo>
                      <a:pt x="302" y="0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1423"/>
            <p:cNvGrpSpPr/>
            <p:nvPr/>
          </p:nvGrpSpPr>
          <p:grpSpPr>
            <a:xfrm>
              <a:off x="90720" y="5535720"/>
              <a:ext cx="1767960" cy="1026720"/>
              <a:chOff x="90720" y="5535720"/>
              <a:chExt cx="1767960" cy="1026720"/>
            </a:xfrm>
          </p:grpSpPr>
          <p:grpSp>
            <p:nvGrpSpPr>
              <p:cNvPr id="773" name="Group 1424"/>
              <p:cNvGrpSpPr/>
              <p:nvPr/>
            </p:nvGrpSpPr>
            <p:grpSpPr>
              <a:xfrm>
                <a:off x="1104120" y="6184440"/>
                <a:ext cx="325800" cy="316800"/>
                <a:chOff x="1104120" y="6184440"/>
                <a:chExt cx="325800" cy="316800"/>
              </a:xfrm>
            </p:grpSpPr>
            <p:grpSp>
              <p:nvGrpSpPr>
                <p:cNvPr id="774" name="Group 1425"/>
                <p:cNvGrpSpPr/>
                <p:nvPr/>
              </p:nvGrpSpPr>
              <p:grpSpPr>
                <a:xfrm>
                  <a:off x="1104120" y="6184440"/>
                  <a:ext cx="325080" cy="316080"/>
                  <a:chOff x="1104120" y="6184440"/>
                  <a:chExt cx="325080" cy="316080"/>
                </a:xfrm>
              </p:grpSpPr>
              <p:grpSp>
                <p:nvGrpSpPr>
                  <p:cNvPr id="775" name="Group 1426"/>
                  <p:cNvGrpSpPr/>
                  <p:nvPr/>
                </p:nvGrpSpPr>
                <p:grpSpPr>
                  <a:xfrm>
                    <a:off x="1104120" y="6184440"/>
                    <a:ext cx="325080" cy="316080"/>
                    <a:chOff x="1104120" y="6184440"/>
                    <a:chExt cx="325080" cy="316080"/>
                  </a:xfrm>
                </p:grpSpPr>
                <p:grpSp>
                  <p:nvGrpSpPr>
                    <p:cNvPr id="776" name="Group 1427"/>
                    <p:cNvGrpSpPr/>
                    <p:nvPr/>
                  </p:nvGrpSpPr>
                  <p:grpSpPr>
                    <a:xfrm>
                      <a:off x="1104120" y="6184440"/>
                      <a:ext cx="325080" cy="316080"/>
                      <a:chOff x="1104120" y="6184440"/>
                      <a:chExt cx="325080" cy="316080"/>
                    </a:xfrm>
                  </p:grpSpPr>
                  <p:sp>
                    <p:nvSpPr>
                      <p:cNvPr id="777" name="Oval 1428"/>
                      <p:cNvSpPr/>
                      <p:nvPr/>
                    </p:nvSpPr>
                    <p:spPr>
                      <a:xfrm rot="21317400">
                        <a:off x="1115280" y="6196320"/>
                        <a:ext cx="302040" cy="292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Oval 1429"/>
                      <p:cNvSpPr/>
                      <p:nvPr/>
                    </p:nvSpPr>
                    <p:spPr>
                      <a:xfrm rot="21317400">
                        <a:off x="1115280" y="6196320"/>
                        <a:ext cx="302040" cy="292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9" name="Group 1430"/>
                    <p:cNvGrpSpPr/>
                    <p:nvPr/>
                  </p:nvGrpSpPr>
                  <p:grpSpPr>
                    <a:xfrm>
                      <a:off x="1130400" y="6211440"/>
                      <a:ext cx="269640" cy="262440"/>
                      <a:chOff x="1130400" y="6211440"/>
                      <a:chExt cx="269640" cy="262440"/>
                    </a:xfrm>
                  </p:grpSpPr>
                  <p:sp>
                    <p:nvSpPr>
                      <p:cNvPr id="780" name="Oval 1431"/>
                      <p:cNvSpPr/>
                      <p:nvPr/>
                    </p:nvSpPr>
                    <p:spPr>
                      <a:xfrm rot="21317400">
                        <a:off x="1139760" y="6221160"/>
                        <a:ext cx="250560" cy="242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1" name="Oval 1432"/>
                      <p:cNvSpPr/>
                      <p:nvPr/>
                    </p:nvSpPr>
                    <p:spPr>
                      <a:xfrm rot="21317400">
                        <a:off x="1139760" y="6221160"/>
                        <a:ext cx="250560" cy="242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82" name="Group 1433"/>
                  <p:cNvGrpSpPr/>
                  <p:nvPr/>
                </p:nvGrpSpPr>
                <p:grpSpPr>
                  <a:xfrm>
                    <a:off x="1130400" y="6211440"/>
                    <a:ext cx="270000" cy="262800"/>
                    <a:chOff x="1130400" y="6211440"/>
                    <a:chExt cx="270000" cy="262800"/>
                  </a:xfrm>
                </p:grpSpPr>
                <p:sp>
                  <p:nvSpPr>
                    <p:cNvPr id="783" name="Freeform 1434"/>
                    <p:cNvSpPr/>
                    <p:nvPr/>
                  </p:nvSpPr>
                  <p:spPr>
                    <a:xfrm rot="21317400">
                      <a:off x="1139760" y="6221160"/>
                      <a:ext cx="2509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Freeform 1435"/>
                    <p:cNvSpPr/>
                    <p:nvPr/>
                  </p:nvSpPr>
                  <p:spPr>
                    <a:xfrm rot="21317400">
                      <a:off x="1139760" y="6221160"/>
                      <a:ext cx="2509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5" name="Group 1436"/>
                <p:cNvGrpSpPr/>
                <p:nvPr/>
              </p:nvGrpSpPr>
              <p:grpSpPr>
                <a:xfrm>
                  <a:off x="1104120" y="6184440"/>
                  <a:ext cx="325440" cy="316440"/>
                  <a:chOff x="1104120" y="6184440"/>
                  <a:chExt cx="325440" cy="316440"/>
                </a:xfrm>
              </p:grpSpPr>
              <p:grpSp>
                <p:nvGrpSpPr>
                  <p:cNvPr id="786" name="Group 1437"/>
                  <p:cNvGrpSpPr/>
                  <p:nvPr/>
                </p:nvGrpSpPr>
                <p:grpSpPr>
                  <a:xfrm>
                    <a:off x="1104120" y="6184440"/>
                    <a:ext cx="325440" cy="316440"/>
                    <a:chOff x="1104120" y="6184440"/>
                    <a:chExt cx="325440" cy="316440"/>
                  </a:xfrm>
                </p:grpSpPr>
                <p:sp>
                  <p:nvSpPr>
                    <p:cNvPr id="787" name="Oval 1438"/>
                    <p:cNvSpPr/>
                    <p:nvPr/>
                  </p:nvSpPr>
                  <p:spPr>
                    <a:xfrm rot="21317400">
                      <a:off x="1115280" y="6196320"/>
                      <a:ext cx="302400" cy="292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Oval 1439"/>
                    <p:cNvSpPr/>
                    <p:nvPr/>
                  </p:nvSpPr>
                  <p:spPr>
                    <a:xfrm rot="21317400">
                      <a:off x="1115280" y="6196320"/>
                      <a:ext cx="302400" cy="292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1440"/>
                  <p:cNvGrpSpPr/>
                  <p:nvPr/>
                </p:nvGrpSpPr>
                <p:grpSpPr>
                  <a:xfrm>
                    <a:off x="1130400" y="6211440"/>
                    <a:ext cx="270000" cy="262800"/>
                    <a:chOff x="1130400" y="6211440"/>
                    <a:chExt cx="270000" cy="262800"/>
                  </a:xfrm>
                </p:grpSpPr>
                <p:sp>
                  <p:nvSpPr>
                    <p:cNvPr id="790" name="Oval 1441"/>
                    <p:cNvSpPr/>
                    <p:nvPr/>
                  </p:nvSpPr>
                  <p:spPr>
                    <a:xfrm rot="21317400">
                      <a:off x="1139760" y="6221160"/>
                      <a:ext cx="250920" cy="24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Oval 1442"/>
                    <p:cNvSpPr/>
                    <p:nvPr/>
                  </p:nvSpPr>
                  <p:spPr>
                    <a:xfrm rot="21317400">
                      <a:off x="1139760" y="6221160"/>
                      <a:ext cx="250920" cy="24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2" name="Group 1443"/>
                <p:cNvGrpSpPr/>
                <p:nvPr/>
              </p:nvGrpSpPr>
              <p:grpSpPr>
                <a:xfrm>
                  <a:off x="1129320" y="6212160"/>
                  <a:ext cx="270720" cy="261720"/>
                  <a:chOff x="1129320" y="6212160"/>
                  <a:chExt cx="270720" cy="261720"/>
                </a:xfrm>
              </p:grpSpPr>
              <p:sp>
                <p:nvSpPr>
                  <p:cNvPr id="793" name="Freeform 1444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445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Group 1446"/>
                <p:cNvGrpSpPr/>
                <p:nvPr/>
              </p:nvGrpSpPr>
              <p:grpSpPr>
                <a:xfrm>
                  <a:off x="1104120" y="6184440"/>
                  <a:ext cx="325800" cy="316800"/>
                  <a:chOff x="1104120" y="6184440"/>
                  <a:chExt cx="325800" cy="316800"/>
                </a:xfrm>
              </p:grpSpPr>
              <p:sp>
                <p:nvSpPr>
                  <p:cNvPr id="796" name="Oval 1447"/>
                  <p:cNvSpPr/>
                  <p:nvPr/>
                </p:nvSpPr>
                <p:spPr>
                  <a:xfrm rot="21317400">
                    <a:off x="1115280" y="6196320"/>
                    <a:ext cx="302760" cy="29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Oval 1448"/>
                  <p:cNvSpPr/>
                  <p:nvPr/>
                </p:nvSpPr>
                <p:spPr>
                  <a:xfrm rot="21317400">
                    <a:off x="1115280" y="6196320"/>
                    <a:ext cx="302760" cy="293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1449"/>
                <p:cNvGrpSpPr/>
                <p:nvPr/>
              </p:nvGrpSpPr>
              <p:grpSpPr>
                <a:xfrm>
                  <a:off x="1129320" y="6212160"/>
                  <a:ext cx="270720" cy="261720"/>
                  <a:chOff x="1129320" y="6212160"/>
                  <a:chExt cx="270720" cy="261720"/>
                </a:xfrm>
              </p:grpSpPr>
              <p:sp>
                <p:nvSpPr>
                  <p:cNvPr id="799" name="Oval 1450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Oval 1451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Group 1452"/>
                <p:cNvGrpSpPr/>
                <p:nvPr/>
              </p:nvGrpSpPr>
              <p:grpSpPr>
                <a:xfrm>
                  <a:off x="1104120" y="6184440"/>
                  <a:ext cx="325800" cy="316800"/>
                  <a:chOff x="1104120" y="6184440"/>
                  <a:chExt cx="325800" cy="316800"/>
                </a:xfrm>
              </p:grpSpPr>
              <p:sp>
                <p:nvSpPr>
                  <p:cNvPr id="802" name="Oval 1453"/>
                  <p:cNvSpPr/>
                  <p:nvPr/>
                </p:nvSpPr>
                <p:spPr>
                  <a:xfrm rot="21317400">
                    <a:off x="1115280" y="6196320"/>
                    <a:ext cx="302760" cy="29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Oval 1454"/>
                  <p:cNvSpPr/>
                  <p:nvPr/>
                </p:nvSpPr>
                <p:spPr>
                  <a:xfrm rot="21317400">
                    <a:off x="1115280" y="6196320"/>
                    <a:ext cx="302760" cy="293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Group 1455"/>
                <p:cNvGrpSpPr/>
                <p:nvPr/>
              </p:nvGrpSpPr>
              <p:grpSpPr>
                <a:xfrm>
                  <a:off x="1129320" y="6212160"/>
                  <a:ext cx="270720" cy="261720"/>
                  <a:chOff x="1129320" y="6212160"/>
                  <a:chExt cx="270720" cy="261720"/>
                </a:xfrm>
              </p:grpSpPr>
              <p:sp>
                <p:nvSpPr>
                  <p:cNvPr id="805" name="Oval 1456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Oval 1457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Group 1458"/>
                <p:cNvGrpSpPr/>
                <p:nvPr/>
              </p:nvGrpSpPr>
              <p:grpSpPr>
                <a:xfrm>
                  <a:off x="1129320" y="6212160"/>
                  <a:ext cx="270720" cy="261720"/>
                  <a:chOff x="1129320" y="6212160"/>
                  <a:chExt cx="270720" cy="261720"/>
                </a:xfrm>
              </p:grpSpPr>
              <p:sp>
                <p:nvSpPr>
                  <p:cNvPr id="808" name="Freeform 1459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Freeform 1460"/>
                  <p:cNvSpPr/>
                  <p:nvPr/>
                </p:nvSpPr>
                <p:spPr>
                  <a:xfrm rot="21317400">
                    <a:off x="1138680" y="622188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Group 1461"/>
              <p:cNvGrpSpPr/>
              <p:nvPr/>
            </p:nvGrpSpPr>
            <p:grpSpPr>
              <a:xfrm>
                <a:off x="678600" y="6219360"/>
                <a:ext cx="325800" cy="316800"/>
                <a:chOff x="678600" y="6219360"/>
                <a:chExt cx="325800" cy="316800"/>
              </a:xfrm>
            </p:grpSpPr>
            <p:grpSp>
              <p:nvGrpSpPr>
                <p:cNvPr id="811" name="Group 1462"/>
                <p:cNvGrpSpPr/>
                <p:nvPr/>
              </p:nvGrpSpPr>
              <p:grpSpPr>
                <a:xfrm>
                  <a:off x="678600" y="6219360"/>
                  <a:ext cx="325080" cy="316080"/>
                  <a:chOff x="678600" y="6219360"/>
                  <a:chExt cx="325080" cy="316080"/>
                </a:xfrm>
              </p:grpSpPr>
              <p:grpSp>
                <p:nvGrpSpPr>
                  <p:cNvPr id="812" name="Group 1463"/>
                  <p:cNvGrpSpPr/>
                  <p:nvPr/>
                </p:nvGrpSpPr>
                <p:grpSpPr>
                  <a:xfrm>
                    <a:off x="678600" y="6219360"/>
                    <a:ext cx="325080" cy="316080"/>
                    <a:chOff x="678600" y="6219360"/>
                    <a:chExt cx="325080" cy="316080"/>
                  </a:xfrm>
                </p:grpSpPr>
                <p:grpSp>
                  <p:nvGrpSpPr>
                    <p:cNvPr id="813" name="Group 1464"/>
                    <p:cNvGrpSpPr/>
                    <p:nvPr/>
                  </p:nvGrpSpPr>
                  <p:grpSpPr>
                    <a:xfrm>
                      <a:off x="678600" y="6219360"/>
                      <a:ext cx="325080" cy="316080"/>
                      <a:chOff x="678600" y="6219360"/>
                      <a:chExt cx="325080" cy="316080"/>
                    </a:xfrm>
                  </p:grpSpPr>
                  <p:sp>
                    <p:nvSpPr>
                      <p:cNvPr id="814" name="Oval 1465"/>
                      <p:cNvSpPr/>
                      <p:nvPr/>
                    </p:nvSpPr>
                    <p:spPr>
                      <a:xfrm rot="21317400">
                        <a:off x="689760" y="6231240"/>
                        <a:ext cx="302040" cy="292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1466"/>
                      <p:cNvSpPr/>
                      <p:nvPr/>
                    </p:nvSpPr>
                    <p:spPr>
                      <a:xfrm rot="21317400">
                        <a:off x="689760" y="6231240"/>
                        <a:ext cx="302040" cy="292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1467"/>
                    <p:cNvGrpSpPr/>
                    <p:nvPr/>
                  </p:nvGrpSpPr>
                  <p:grpSpPr>
                    <a:xfrm>
                      <a:off x="704880" y="6246360"/>
                      <a:ext cx="269640" cy="262440"/>
                      <a:chOff x="704880" y="6246360"/>
                      <a:chExt cx="269640" cy="262440"/>
                    </a:xfrm>
                  </p:grpSpPr>
                  <p:sp>
                    <p:nvSpPr>
                      <p:cNvPr id="817" name="Oval 1468"/>
                      <p:cNvSpPr/>
                      <p:nvPr/>
                    </p:nvSpPr>
                    <p:spPr>
                      <a:xfrm rot="21317400">
                        <a:off x="714240" y="6256080"/>
                        <a:ext cx="250560" cy="242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Oval 1469"/>
                      <p:cNvSpPr/>
                      <p:nvPr/>
                    </p:nvSpPr>
                    <p:spPr>
                      <a:xfrm rot="21317400">
                        <a:off x="714240" y="6256080"/>
                        <a:ext cx="250560" cy="242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19" name="Group 1470"/>
                  <p:cNvGrpSpPr/>
                  <p:nvPr/>
                </p:nvGrpSpPr>
                <p:grpSpPr>
                  <a:xfrm>
                    <a:off x="704880" y="6246360"/>
                    <a:ext cx="270000" cy="262800"/>
                    <a:chOff x="704880" y="6246360"/>
                    <a:chExt cx="270000" cy="262800"/>
                  </a:xfrm>
                </p:grpSpPr>
                <p:sp>
                  <p:nvSpPr>
                    <p:cNvPr id="820" name="Freeform 1471"/>
                    <p:cNvSpPr/>
                    <p:nvPr/>
                  </p:nvSpPr>
                  <p:spPr>
                    <a:xfrm rot="21317400">
                      <a:off x="714240" y="6256080"/>
                      <a:ext cx="2509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Freeform 1472"/>
                    <p:cNvSpPr/>
                    <p:nvPr/>
                  </p:nvSpPr>
                  <p:spPr>
                    <a:xfrm rot="21317400">
                      <a:off x="714240" y="6256080"/>
                      <a:ext cx="2509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2" name="Group 1473"/>
                <p:cNvGrpSpPr/>
                <p:nvPr/>
              </p:nvGrpSpPr>
              <p:grpSpPr>
                <a:xfrm>
                  <a:off x="678600" y="6219360"/>
                  <a:ext cx="325440" cy="316440"/>
                  <a:chOff x="678600" y="6219360"/>
                  <a:chExt cx="325440" cy="316440"/>
                </a:xfrm>
              </p:grpSpPr>
              <p:grpSp>
                <p:nvGrpSpPr>
                  <p:cNvPr id="823" name="Group 1474"/>
                  <p:cNvGrpSpPr/>
                  <p:nvPr/>
                </p:nvGrpSpPr>
                <p:grpSpPr>
                  <a:xfrm>
                    <a:off x="678600" y="6219360"/>
                    <a:ext cx="325440" cy="316440"/>
                    <a:chOff x="678600" y="6219360"/>
                    <a:chExt cx="325440" cy="316440"/>
                  </a:xfrm>
                </p:grpSpPr>
                <p:sp>
                  <p:nvSpPr>
                    <p:cNvPr id="824" name="Oval 1475"/>
                    <p:cNvSpPr/>
                    <p:nvPr/>
                  </p:nvSpPr>
                  <p:spPr>
                    <a:xfrm rot="21317400">
                      <a:off x="689760" y="6231240"/>
                      <a:ext cx="302400" cy="292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Oval 1476"/>
                    <p:cNvSpPr/>
                    <p:nvPr/>
                  </p:nvSpPr>
                  <p:spPr>
                    <a:xfrm rot="21317400">
                      <a:off x="689760" y="6231240"/>
                      <a:ext cx="302400" cy="292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1477"/>
                  <p:cNvGrpSpPr/>
                  <p:nvPr/>
                </p:nvGrpSpPr>
                <p:grpSpPr>
                  <a:xfrm>
                    <a:off x="704880" y="6246360"/>
                    <a:ext cx="270000" cy="262800"/>
                    <a:chOff x="704880" y="6246360"/>
                    <a:chExt cx="270000" cy="262800"/>
                  </a:xfrm>
                </p:grpSpPr>
                <p:sp>
                  <p:nvSpPr>
                    <p:cNvPr id="827" name="Oval 1478"/>
                    <p:cNvSpPr/>
                    <p:nvPr/>
                  </p:nvSpPr>
                  <p:spPr>
                    <a:xfrm rot="21317400">
                      <a:off x="714240" y="6256080"/>
                      <a:ext cx="250920" cy="24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Oval 1479"/>
                    <p:cNvSpPr/>
                    <p:nvPr/>
                  </p:nvSpPr>
                  <p:spPr>
                    <a:xfrm rot="21317400">
                      <a:off x="714240" y="6256080"/>
                      <a:ext cx="250920" cy="24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9" name="Group 1480"/>
                <p:cNvGrpSpPr/>
                <p:nvPr/>
              </p:nvGrpSpPr>
              <p:grpSpPr>
                <a:xfrm>
                  <a:off x="703800" y="6247440"/>
                  <a:ext cx="270720" cy="261720"/>
                  <a:chOff x="703800" y="6247440"/>
                  <a:chExt cx="270720" cy="261720"/>
                </a:xfrm>
              </p:grpSpPr>
              <p:sp>
                <p:nvSpPr>
                  <p:cNvPr id="830" name="Freeform 1481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Freeform 1482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Group 1483"/>
                <p:cNvGrpSpPr/>
                <p:nvPr/>
              </p:nvGrpSpPr>
              <p:grpSpPr>
                <a:xfrm>
                  <a:off x="678600" y="6219360"/>
                  <a:ext cx="325800" cy="316800"/>
                  <a:chOff x="678600" y="6219360"/>
                  <a:chExt cx="325800" cy="316800"/>
                </a:xfrm>
              </p:grpSpPr>
              <p:sp>
                <p:nvSpPr>
                  <p:cNvPr id="833" name="Oval 1484"/>
                  <p:cNvSpPr/>
                  <p:nvPr/>
                </p:nvSpPr>
                <p:spPr>
                  <a:xfrm rot="21317400">
                    <a:off x="689760" y="6231240"/>
                    <a:ext cx="302760" cy="29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Oval 1485"/>
                  <p:cNvSpPr/>
                  <p:nvPr/>
                </p:nvSpPr>
                <p:spPr>
                  <a:xfrm rot="21317400">
                    <a:off x="689760" y="6231240"/>
                    <a:ext cx="302760" cy="293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1486"/>
                <p:cNvGrpSpPr/>
                <p:nvPr/>
              </p:nvGrpSpPr>
              <p:grpSpPr>
                <a:xfrm>
                  <a:off x="703800" y="6247440"/>
                  <a:ext cx="270720" cy="261720"/>
                  <a:chOff x="703800" y="6247440"/>
                  <a:chExt cx="270720" cy="261720"/>
                </a:xfrm>
              </p:grpSpPr>
              <p:sp>
                <p:nvSpPr>
                  <p:cNvPr id="836" name="Oval 1487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Oval 1488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1489"/>
                <p:cNvGrpSpPr/>
                <p:nvPr/>
              </p:nvGrpSpPr>
              <p:grpSpPr>
                <a:xfrm>
                  <a:off x="678600" y="6219360"/>
                  <a:ext cx="325800" cy="316800"/>
                  <a:chOff x="678600" y="6219360"/>
                  <a:chExt cx="325800" cy="316800"/>
                </a:xfrm>
              </p:grpSpPr>
              <p:sp>
                <p:nvSpPr>
                  <p:cNvPr id="839" name="Oval 1490"/>
                  <p:cNvSpPr/>
                  <p:nvPr/>
                </p:nvSpPr>
                <p:spPr>
                  <a:xfrm rot="21317400">
                    <a:off x="689760" y="6231240"/>
                    <a:ext cx="302760" cy="29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Oval 1491"/>
                  <p:cNvSpPr/>
                  <p:nvPr/>
                </p:nvSpPr>
                <p:spPr>
                  <a:xfrm rot="21317400">
                    <a:off x="689760" y="6231240"/>
                    <a:ext cx="302760" cy="293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492"/>
                <p:cNvGrpSpPr/>
                <p:nvPr/>
              </p:nvGrpSpPr>
              <p:grpSpPr>
                <a:xfrm>
                  <a:off x="703800" y="6247440"/>
                  <a:ext cx="270720" cy="261720"/>
                  <a:chOff x="703800" y="6247440"/>
                  <a:chExt cx="270720" cy="261720"/>
                </a:xfrm>
              </p:grpSpPr>
              <p:sp>
                <p:nvSpPr>
                  <p:cNvPr id="842" name="Oval 1493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Oval 1494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495"/>
                <p:cNvGrpSpPr/>
                <p:nvPr/>
              </p:nvGrpSpPr>
              <p:grpSpPr>
                <a:xfrm>
                  <a:off x="703800" y="6247440"/>
                  <a:ext cx="270720" cy="261720"/>
                  <a:chOff x="703800" y="6247440"/>
                  <a:chExt cx="270720" cy="261720"/>
                </a:xfrm>
              </p:grpSpPr>
              <p:sp>
                <p:nvSpPr>
                  <p:cNvPr id="845" name="Freeform 1496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Freeform 1497"/>
                  <p:cNvSpPr/>
                  <p:nvPr/>
                </p:nvSpPr>
                <p:spPr>
                  <a:xfrm rot="21317400">
                    <a:off x="713160" y="6257160"/>
                    <a:ext cx="2516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Group 1498"/>
              <p:cNvGrpSpPr/>
              <p:nvPr/>
            </p:nvGrpSpPr>
            <p:grpSpPr>
              <a:xfrm>
                <a:off x="1619640" y="6011280"/>
                <a:ext cx="239040" cy="216000"/>
                <a:chOff x="1619640" y="6011280"/>
                <a:chExt cx="239040" cy="216000"/>
              </a:xfrm>
            </p:grpSpPr>
            <p:sp>
              <p:nvSpPr>
                <p:cNvPr id="848" name="Line 1499"/>
                <p:cNvSpPr/>
                <p:nvPr/>
              </p:nvSpPr>
              <p:spPr>
                <a:xfrm>
                  <a:off x="1728360" y="6011280"/>
                  <a:ext cx="20160" cy="216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500"/>
                <p:cNvSpPr/>
                <p:nvPr/>
              </p:nvSpPr>
              <p:spPr>
                <a:xfrm rot="21317400">
                  <a:off x="1620720" y="6083280"/>
                  <a:ext cx="236880" cy="3636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Group 1501"/>
              <p:cNvGrpSpPr/>
              <p:nvPr/>
            </p:nvGrpSpPr>
            <p:grpSpPr>
              <a:xfrm>
                <a:off x="342360" y="6246360"/>
                <a:ext cx="322920" cy="316080"/>
                <a:chOff x="342360" y="6246360"/>
                <a:chExt cx="322920" cy="316080"/>
              </a:xfrm>
            </p:grpSpPr>
            <p:grpSp>
              <p:nvGrpSpPr>
                <p:cNvPr id="851" name="Group 1502"/>
                <p:cNvGrpSpPr/>
                <p:nvPr/>
              </p:nvGrpSpPr>
              <p:grpSpPr>
                <a:xfrm>
                  <a:off x="342360" y="6246360"/>
                  <a:ext cx="322200" cy="315360"/>
                  <a:chOff x="342360" y="6246360"/>
                  <a:chExt cx="322200" cy="315360"/>
                </a:xfrm>
              </p:grpSpPr>
              <p:grpSp>
                <p:nvGrpSpPr>
                  <p:cNvPr id="852" name="Group 1503"/>
                  <p:cNvGrpSpPr/>
                  <p:nvPr/>
                </p:nvGrpSpPr>
                <p:grpSpPr>
                  <a:xfrm>
                    <a:off x="342360" y="6246360"/>
                    <a:ext cx="322200" cy="315360"/>
                    <a:chOff x="342360" y="6246360"/>
                    <a:chExt cx="322200" cy="315360"/>
                  </a:xfrm>
                </p:grpSpPr>
                <p:grpSp>
                  <p:nvGrpSpPr>
                    <p:cNvPr id="853" name="Group 1504"/>
                    <p:cNvGrpSpPr/>
                    <p:nvPr/>
                  </p:nvGrpSpPr>
                  <p:grpSpPr>
                    <a:xfrm>
                      <a:off x="342360" y="6246360"/>
                      <a:ext cx="322200" cy="315360"/>
                      <a:chOff x="342360" y="6246360"/>
                      <a:chExt cx="322200" cy="315360"/>
                    </a:xfrm>
                  </p:grpSpPr>
                  <p:sp>
                    <p:nvSpPr>
                      <p:cNvPr id="854" name="Oval 1505"/>
                      <p:cNvSpPr/>
                      <p:nvPr/>
                    </p:nvSpPr>
                    <p:spPr>
                      <a:xfrm rot="21317400">
                        <a:off x="353520" y="6257880"/>
                        <a:ext cx="299160" cy="291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Oval 1506"/>
                      <p:cNvSpPr/>
                      <p:nvPr/>
                    </p:nvSpPr>
                    <p:spPr>
                      <a:xfrm rot="21317400">
                        <a:off x="353520" y="6257880"/>
                        <a:ext cx="299160" cy="291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6" name="Group 1507"/>
                    <p:cNvGrpSpPr/>
                    <p:nvPr/>
                  </p:nvGrpSpPr>
                  <p:grpSpPr>
                    <a:xfrm>
                      <a:off x="368280" y="6273000"/>
                      <a:ext cx="267840" cy="262080"/>
                      <a:chOff x="368280" y="6273000"/>
                      <a:chExt cx="267840" cy="262080"/>
                    </a:xfrm>
                  </p:grpSpPr>
                  <p:sp>
                    <p:nvSpPr>
                      <p:cNvPr id="857" name="Oval 1508"/>
                      <p:cNvSpPr/>
                      <p:nvPr/>
                    </p:nvSpPr>
                    <p:spPr>
                      <a:xfrm rot="21317400">
                        <a:off x="377640" y="6282720"/>
                        <a:ext cx="248760" cy="24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Oval 1509"/>
                      <p:cNvSpPr/>
                      <p:nvPr/>
                    </p:nvSpPr>
                    <p:spPr>
                      <a:xfrm rot="21317400">
                        <a:off x="377640" y="6282720"/>
                        <a:ext cx="248760" cy="2422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59" name="Group 1510"/>
                  <p:cNvGrpSpPr/>
                  <p:nvPr/>
                </p:nvGrpSpPr>
                <p:grpSpPr>
                  <a:xfrm>
                    <a:off x="368280" y="6273000"/>
                    <a:ext cx="268200" cy="262440"/>
                    <a:chOff x="368280" y="6273000"/>
                    <a:chExt cx="268200" cy="262440"/>
                  </a:xfrm>
                </p:grpSpPr>
                <p:sp>
                  <p:nvSpPr>
                    <p:cNvPr id="860" name="Freeform 1511"/>
                    <p:cNvSpPr/>
                    <p:nvPr/>
                  </p:nvSpPr>
                  <p:spPr>
                    <a:xfrm rot="21317400">
                      <a:off x="377640" y="6282720"/>
                      <a:ext cx="24912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Freeform 1512"/>
                    <p:cNvSpPr/>
                    <p:nvPr/>
                  </p:nvSpPr>
                  <p:spPr>
                    <a:xfrm rot="21317400">
                      <a:off x="377640" y="6282720"/>
                      <a:ext cx="24912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2" name="Group 1513"/>
                <p:cNvGrpSpPr/>
                <p:nvPr/>
              </p:nvGrpSpPr>
              <p:grpSpPr>
                <a:xfrm>
                  <a:off x="342360" y="6246360"/>
                  <a:ext cx="322560" cy="315720"/>
                  <a:chOff x="342360" y="6246360"/>
                  <a:chExt cx="322560" cy="315720"/>
                </a:xfrm>
              </p:grpSpPr>
              <p:grpSp>
                <p:nvGrpSpPr>
                  <p:cNvPr id="863" name="Group 1514"/>
                  <p:cNvGrpSpPr/>
                  <p:nvPr/>
                </p:nvGrpSpPr>
                <p:grpSpPr>
                  <a:xfrm>
                    <a:off x="342360" y="6246360"/>
                    <a:ext cx="322560" cy="315720"/>
                    <a:chOff x="342360" y="6246360"/>
                    <a:chExt cx="322560" cy="315720"/>
                  </a:xfrm>
                </p:grpSpPr>
                <p:sp>
                  <p:nvSpPr>
                    <p:cNvPr id="864" name="Oval 1515"/>
                    <p:cNvSpPr/>
                    <p:nvPr/>
                  </p:nvSpPr>
                  <p:spPr>
                    <a:xfrm rot="21317400">
                      <a:off x="353520" y="6257880"/>
                      <a:ext cx="299520" cy="292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Oval 1516"/>
                    <p:cNvSpPr/>
                    <p:nvPr/>
                  </p:nvSpPr>
                  <p:spPr>
                    <a:xfrm rot="21317400">
                      <a:off x="353520" y="6257880"/>
                      <a:ext cx="299520" cy="292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517"/>
                  <p:cNvGrpSpPr/>
                  <p:nvPr/>
                </p:nvGrpSpPr>
                <p:grpSpPr>
                  <a:xfrm>
                    <a:off x="368280" y="6273000"/>
                    <a:ext cx="268200" cy="262440"/>
                    <a:chOff x="368280" y="6273000"/>
                    <a:chExt cx="268200" cy="262440"/>
                  </a:xfrm>
                </p:grpSpPr>
                <p:sp>
                  <p:nvSpPr>
                    <p:cNvPr id="867" name="Oval 1518"/>
                    <p:cNvSpPr/>
                    <p:nvPr/>
                  </p:nvSpPr>
                  <p:spPr>
                    <a:xfrm rot="21317400">
                      <a:off x="377640" y="6282720"/>
                      <a:ext cx="249120" cy="24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Oval 1519"/>
                    <p:cNvSpPr/>
                    <p:nvPr/>
                  </p:nvSpPr>
                  <p:spPr>
                    <a:xfrm rot="21317400">
                      <a:off x="377640" y="6282720"/>
                      <a:ext cx="249120" cy="242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9" name="Group 1520"/>
                <p:cNvGrpSpPr/>
                <p:nvPr/>
              </p:nvGrpSpPr>
              <p:grpSpPr>
                <a:xfrm>
                  <a:off x="368640" y="6273720"/>
                  <a:ext cx="268560" cy="261360"/>
                  <a:chOff x="368640" y="6273720"/>
                  <a:chExt cx="268560" cy="261360"/>
                </a:xfrm>
              </p:grpSpPr>
              <p:sp>
                <p:nvSpPr>
                  <p:cNvPr id="870" name="Freeform 1521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522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Group 1523"/>
                <p:cNvGrpSpPr/>
                <p:nvPr/>
              </p:nvGrpSpPr>
              <p:grpSpPr>
                <a:xfrm>
                  <a:off x="342360" y="6246360"/>
                  <a:ext cx="322920" cy="316080"/>
                  <a:chOff x="342360" y="6246360"/>
                  <a:chExt cx="322920" cy="316080"/>
                </a:xfrm>
              </p:grpSpPr>
              <p:sp>
                <p:nvSpPr>
                  <p:cNvPr id="873" name="Oval 1524"/>
                  <p:cNvSpPr/>
                  <p:nvPr/>
                </p:nvSpPr>
                <p:spPr>
                  <a:xfrm rot="21317400">
                    <a:off x="353520" y="6257880"/>
                    <a:ext cx="299880" cy="29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Oval 1525"/>
                  <p:cNvSpPr/>
                  <p:nvPr/>
                </p:nvSpPr>
                <p:spPr>
                  <a:xfrm rot="21317400">
                    <a:off x="353520" y="6257880"/>
                    <a:ext cx="299880" cy="292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Group 1526"/>
                <p:cNvGrpSpPr/>
                <p:nvPr/>
              </p:nvGrpSpPr>
              <p:grpSpPr>
                <a:xfrm>
                  <a:off x="368640" y="6273720"/>
                  <a:ext cx="268560" cy="261360"/>
                  <a:chOff x="368640" y="6273720"/>
                  <a:chExt cx="268560" cy="261360"/>
                </a:xfrm>
              </p:grpSpPr>
              <p:sp>
                <p:nvSpPr>
                  <p:cNvPr id="876" name="Oval 1527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Oval 1528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Group 1529"/>
                <p:cNvGrpSpPr/>
                <p:nvPr/>
              </p:nvGrpSpPr>
              <p:grpSpPr>
                <a:xfrm>
                  <a:off x="342360" y="6246360"/>
                  <a:ext cx="322920" cy="316080"/>
                  <a:chOff x="342360" y="6246360"/>
                  <a:chExt cx="322920" cy="316080"/>
                </a:xfrm>
              </p:grpSpPr>
              <p:sp>
                <p:nvSpPr>
                  <p:cNvPr id="879" name="Oval 1530"/>
                  <p:cNvSpPr/>
                  <p:nvPr/>
                </p:nvSpPr>
                <p:spPr>
                  <a:xfrm rot="21317400">
                    <a:off x="353520" y="6257880"/>
                    <a:ext cx="299880" cy="29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Oval 1531"/>
                  <p:cNvSpPr/>
                  <p:nvPr/>
                </p:nvSpPr>
                <p:spPr>
                  <a:xfrm rot="21317400">
                    <a:off x="353520" y="6257880"/>
                    <a:ext cx="299880" cy="292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Group 1532"/>
                <p:cNvGrpSpPr/>
                <p:nvPr/>
              </p:nvGrpSpPr>
              <p:grpSpPr>
                <a:xfrm>
                  <a:off x="368640" y="6273720"/>
                  <a:ext cx="268560" cy="261360"/>
                  <a:chOff x="368640" y="6273720"/>
                  <a:chExt cx="268560" cy="261360"/>
                </a:xfrm>
              </p:grpSpPr>
              <p:sp>
                <p:nvSpPr>
                  <p:cNvPr id="882" name="Oval 1533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Oval 1534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Group 1535"/>
                <p:cNvGrpSpPr/>
                <p:nvPr/>
              </p:nvGrpSpPr>
              <p:grpSpPr>
                <a:xfrm>
                  <a:off x="368640" y="6273720"/>
                  <a:ext cx="268560" cy="261360"/>
                  <a:chOff x="368640" y="6273720"/>
                  <a:chExt cx="268560" cy="261360"/>
                </a:xfrm>
              </p:grpSpPr>
              <p:sp>
                <p:nvSpPr>
                  <p:cNvPr id="885" name="Freeform 1536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Freeform 1537"/>
                  <p:cNvSpPr/>
                  <p:nvPr/>
                </p:nvSpPr>
                <p:spPr>
                  <a:xfrm rot="21317400">
                    <a:off x="378000" y="6283440"/>
                    <a:ext cx="24948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Group 1538"/>
              <p:cNvGrpSpPr/>
              <p:nvPr/>
            </p:nvGrpSpPr>
            <p:grpSpPr>
              <a:xfrm>
                <a:off x="1423080" y="6157080"/>
                <a:ext cx="325800" cy="316440"/>
                <a:chOff x="1423080" y="6157080"/>
                <a:chExt cx="325800" cy="316440"/>
              </a:xfrm>
            </p:grpSpPr>
            <p:grpSp>
              <p:nvGrpSpPr>
                <p:cNvPr id="888" name="Group 1539"/>
                <p:cNvGrpSpPr/>
                <p:nvPr/>
              </p:nvGrpSpPr>
              <p:grpSpPr>
                <a:xfrm>
                  <a:off x="1423080" y="6157080"/>
                  <a:ext cx="325080" cy="315720"/>
                  <a:chOff x="1423080" y="6157080"/>
                  <a:chExt cx="325080" cy="315720"/>
                </a:xfrm>
              </p:grpSpPr>
              <p:grpSp>
                <p:nvGrpSpPr>
                  <p:cNvPr id="889" name="Group 1540"/>
                  <p:cNvGrpSpPr/>
                  <p:nvPr/>
                </p:nvGrpSpPr>
                <p:grpSpPr>
                  <a:xfrm>
                    <a:off x="1423080" y="6157080"/>
                    <a:ext cx="325080" cy="315720"/>
                    <a:chOff x="1423080" y="6157080"/>
                    <a:chExt cx="325080" cy="315720"/>
                  </a:xfrm>
                </p:grpSpPr>
                <p:grpSp>
                  <p:nvGrpSpPr>
                    <p:cNvPr id="890" name="Group 1541"/>
                    <p:cNvGrpSpPr/>
                    <p:nvPr/>
                  </p:nvGrpSpPr>
                  <p:grpSpPr>
                    <a:xfrm>
                      <a:off x="1423080" y="6157080"/>
                      <a:ext cx="325080" cy="315720"/>
                      <a:chOff x="1423080" y="6157080"/>
                      <a:chExt cx="325080" cy="315720"/>
                    </a:xfrm>
                  </p:grpSpPr>
                  <p:sp>
                    <p:nvSpPr>
                      <p:cNvPr id="891" name="Oval 1542"/>
                      <p:cNvSpPr/>
                      <p:nvPr/>
                    </p:nvSpPr>
                    <p:spPr>
                      <a:xfrm rot="21317400">
                        <a:off x="1434240" y="6168960"/>
                        <a:ext cx="302040" cy="291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2" name="Oval 1543"/>
                      <p:cNvSpPr/>
                      <p:nvPr/>
                    </p:nvSpPr>
                    <p:spPr>
                      <a:xfrm rot="21317400">
                        <a:off x="1434240" y="6168960"/>
                        <a:ext cx="302040" cy="291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93" name="Group 1544"/>
                    <p:cNvGrpSpPr/>
                    <p:nvPr/>
                  </p:nvGrpSpPr>
                  <p:grpSpPr>
                    <a:xfrm>
                      <a:off x="1449720" y="6184080"/>
                      <a:ext cx="269640" cy="262080"/>
                      <a:chOff x="1449720" y="6184080"/>
                      <a:chExt cx="269640" cy="262080"/>
                    </a:xfrm>
                  </p:grpSpPr>
                  <p:sp>
                    <p:nvSpPr>
                      <p:cNvPr id="894" name="Oval 1545"/>
                      <p:cNvSpPr/>
                      <p:nvPr/>
                    </p:nvSpPr>
                    <p:spPr>
                      <a:xfrm rot="21317400">
                        <a:off x="1459080" y="6193800"/>
                        <a:ext cx="250560" cy="242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5" name="Oval 1546"/>
                      <p:cNvSpPr/>
                      <p:nvPr/>
                    </p:nvSpPr>
                    <p:spPr>
                      <a:xfrm rot="21317400">
                        <a:off x="1459080" y="6193800"/>
                        <a:ext cx="250560" cy="2422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96" name="Group 1547"/>
                  <p:cNvGrpSpPr/>
                  <p:nvPr/>
                </p:nvGrpSpPr>
                <p:grpSpPr>
                  <a:xfrm>
                    <a:off x="1449720" y="6184080"/>
                    <a:ext cx="270000" cy="262440"/>
                    <a:chOff x="1449720" y="6184080"/>
                    <a:chExt cx="270000" cy="262440"/>
                  </a:xfrm>
                </p:grpSpPr>
                <p:sp>
                  <p:nvSpPr>
                    <p:cNvPr id="897" name="Freeform 1548"/>
                    <p:cNvSpPr/>
                    <p:nvPr/>
                  </p:nvSpPr>
                  <p:spPr>
                    <a:xfrm rot="21317400">
                      <a:off x="1459080" y="6193800"/>
                      <a:ext cx="25092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Freeform 1549"/>
                    <p:cNvSpPr/>
                    <p:nvPr/>
                  </p:nvSpPr>
                  <p:spPr>
                    <a:xfrm rot="21317400">
                      <a:off x="1459080" y="6193800"/>
                      <a:ext cx="25092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99" name="Group 1550"/>
                <p:cNvGrpSpPr/>
                <p:nvPr/>
              </p:nvGrpSpPr>
              <p:grpSpPr>
                <a:xfrm>
                  <a:off x="1423080" y="6157080"/>
                  <a:ext cx="325440" cy="316080"/>
                  <a:chOff x="1423080" y="6157080"/>
                  <a:chExt cx="325440" cy="316080"/>
                </a:xfrm>
              </p:grpSpPr>
              <p:grpSp>
                <p:nvGrpSpPr>
                  <p:cNvPr id="900" name="Group 1551"/>
                  <p:cNvGrpSpPr/>
                  <p:nvPr/>
                </p:nvGrpSpPr>
                <p:grpSpPr>
                  <a:xfrm>
                    <a:off x="1423080" y="6157080"/>
                    <a:ext cx="325440" cy="316080"/>
                    <a:chOff x="1423080" y="6157080"/>
                    <a:chExt cx="325440" cy="316080"/>
                  </a:xfrm>
                </p:grpSpPr>
                <p:sp>
                  <p:nvSpPr>
                    <p:cNvPr id="901" name="Oval 1552"/>
                    <p:cNvSpPr/>
                    <p:nvPr/>
                  </p:nvSpPr>
                  <p:spPr>
                    <a:xfrm rot="21317400">
                      <a:off x="1434240" y="6168960"/>
                      <a:ext cx="302400" cy="292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Oval 1553"/>
                    <p:cNvSpPr/>
                    <p:nvPr/>
                  </p:nvSpPr>
                  <p:spPr>
                    <a:xfrm rot="21317400">
                      <a:off x="1434240" y="6168960"/>
                      <a:ext cx="302400" cy="292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3" name="Group 1554"/>
                  <p:cNvGrpSpPr/>
                  <p:nvPr/>
                </p:nvGrpSpPr>
                <p:grpSpPr>
                  <a:xfrm>
                    <a:off x="1449720" y="6184080"/>
                    <a:ext cx="270000" cy="262440"/>
                    <a:chOff x="1449720" y="6184080"/>
                    <a:chExt cx="270000" cy="262440"/>
                  </a:xfrm>
                </p:grpSpPr>
                <p:sp>
                  <p:nvSpPr>
                    <p:cNvPr id="904" name="Oval 1555"/>
                    <p:cNvSpPr/>
                    <p:nvPr/>
                  </p:nvSpPr>
                  <p:spPr>
                    <a:xfrm rot="21317400">
                      <a:off x="1459080" y="6193800"/>
                      <a:ext cx="250920" cy="24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Oval 1556"/>
                    <p:cNvSpPr/>
                    <p:nvPr/>
                  </p:nvSpPr>
                  <p:spPr>
                    <a:xfrm rot="21317400">
                      <a:off x="1459080" y="6193800"/>
                      <a:ext cx="250920" cy="242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6" name="Group 1557"/>
                <p:cNvGrpSpPr/>
                <p:nvPr/>
              </p:nvGrpSpPr>
              <p:grpSpPr>
                <a:xfrm>
                  <a:off x="1448640" y="6184800"/>
                  <a:ext cx="270720" cy="261360"/>
                  <a:chOff x="1448640" y="6184800"/>
                  <a:chExt cx="270720" cy="261360"/>
                </a:xfrm>
              </p:grpSpPr>
              <p:sp>
                <p:nvSpPr>
                  <p:cNvPr id="907" name="Freeform 1558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1559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1560"/>
                <p:cNvGrpSpPr/>
                <p:nvPr/>
              </p:nvGrpSpPr>
              <p:grpSpPr>
                <a:xfrm>
                  <a:off x="1423080" y="6157080"/>
                  <a:ext cx="325800" cy="316440"/>
                  <a:chOff x="1423080" y="6157080"/>
                  <a:chExt cx="325800" cy="316440"/>
                </a:xfrm>
              </p:grpSpPr>
              <p:sp>
                <p:nvSpPr>
                  <p:cNvPr id="910" name="Oval 1561"/>
                  <p:cNvSpPr/>
                  <p:nvPr/>
                </p:nvSpPr>
                <p:spPr>
                  <a:xfrm rot="21317400">
                    <a:off x="1434240" y="6168960"/>
                    <a:ext cx="302760" cy="29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Oval 1562"/>
                  <p:cNvSpPr/>
                  <p:nvPr/>
                </p:nvSpPr>
                <p:spPr>
                  <a:xfrm rot="21317400">
                    <a:off x="1434240" y="6168960"/>
                    <a:ext cx="302760" cy="292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Group 1563"/>
                <p:cNvGrpSpPr/>
                <p:nvPr/>
              </p:nvGrpSpPr>
              <p:grpSpPr>
                <a:xfrm>
                  <a:off x="1448640" y="6184800"/>
                  <a:ext cx="270720" cy="261360"/>
                  <a:chOff x="1448640" y="6184800"/>
                  <a:chExt cx="270720" cy="261360"/>
                </a:xfrm>
              </p:grpSpPr>
              <p:sp>
                <p:nvSpPr>
                  <p:cNvPr id="913" name="Oval 1564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Oval 1565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Group 1566"/>
                <p:cNvGrpSpPr/>
                <p:nvPr/>
              </p:nvGrpSpPr>
              <p:grpSpPr>
                <a:xfrm>
                  <a:off x="1423080" y="6157080"/>
                  <a:ext cx="325800" cy="316440"/>
                  <a:chOff x="1423080" y="6157080"/>
                  <a:chExt cx="325800" cy="316440"/>
                </a:xfrm>
              </p:grpSpPr>
              <p:sp>
                <p:nvSpPr>
                  <p:cNvPr id="916" name="Oval 1567"/>
                  <p:cNvSpPr/>
                  <p:nvPr/>
                </p:nvSpPr>
                <p:spPr>
                  <a:xfrm rot="21317400">
                    <a:off x="1434240" y="6168960"/>
                    <a:ext cx="302760" cy="29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Oval 1568"/>
                  <p:cNvSpPr/>
                  <p:nvPr/>
                </p:nvSpPr>
                <p:spPr>
                  <a:xfrm rot="21317400">
                    <a:off x="1434240" y="6168960"/>
                    <a:ext cx="302760" cy="292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Group 1569"/>
                <p:cNvGrpSpPr/>
                <p:nvPr/>
              </p:nvGrpSpPr>
              <p:grpSpPr>
                <a:xfrm>
                  <a:off x="1448640" y="6184800"/>
                  <a:ext cx="270720" cy="261360"/>
                  <a:chOff x="1448640" y="6184800"/>
                  <a:chExt cx="270720" cy="261360"/>
                </a:xfrm>
              </p:grpSpPr>
              <p:sp>
                <p:nvSpPr>
                  <p:cNvPr id="919" name="Oval 1570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Oval 1571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Group 1572"/>
                <p:cNvGrpSpPr/>
                <p:nvPr/>
              </p:nvGrpSpPr>
              <p:grpSpPr>
                <a:xfrm>
                  <a:off x="1448640" y="6184800"/>
                  <a:ext cx="270720" cy="261360"/>
                  <a:chOff x="1448640" y="6184800"/>
                  <a:chExt cx="270720" cy="261360"/>
                </a:xfrm>
              </p:grpSpPr>
              <p:sp>
                <p:nvSpPr>
                  <p:cNvPr id="922" name="Freeform 1573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Freeform 1574"/>
                  <p:cNvSpPr/>
                  <p:nvPr/>
                </p:nvSpPr>
                <p:spPr>
                  <a:xfrm rot="21317400">
                    <a:off x="1458000" y="6194520"/>
                    <a:ext cx="251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4" name="Freeform 1575"/>
              <p:cNvSpPr/>
              <p:nvPr/>
            </p:nvSpPr>
            <p:spPr>
              <a:xfrm rot="21317400">
                <a:off x="207000" y="6136560"/>
                <a:ext cx="2880" cy="17640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5" name="Group 1576"/>
              <p:cNvGrpSpPr/>
              <p:nvPr/>
            </p:nvGrpSpPr>
            <p:grpSpPr>
              <a:xfrm>
                <a:off x="90720" y="6137280"/>
                <a:ext cx="239040" cy="216000"/>
                <a:chOff x="90720" y="6137280"/>
                <a:chExt cx="239040" cy="216000"/>
              </a:xfrm>
            </p:grpSpPr>
            <p:sp>
              <p:nvSpPr>
                <p:cNvPr id="926" name="Line 1577"/>
                <p:cNvSpPr/>
                <p:nvPr/>
              </p:nvSpPr>
              <p:spPr>
                <a:xfrm>
                  <a:off x="199440" y="6137280"/>
                  <a:ext cx="19800" cy="216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1578"/>
                <p:cNvSpPr/>
                <p:nvPr/>
              </p:nvSpPr>
              <p:spPr>
                <a:xfrm rot="21317400">
                  <a:off x="91800" y="6209280"/>
                  <a:ext cx="236880" cy="3636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Freeform 1579"/>
              <p:cNvSpPr/>
              <p:nvPr/>
            </p:nvSpPr>
            <p:spPr>
              <a:xfrm rot="21317400">
                <a:off x="276480" y="5720400"/>
                <a:ext cx="1547640" cy="60228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580"/>
              <p:cNvSpPr/>
              <p:nvPr/>
            </p:nvSpPr>
            <p:spPr>
              <a:xfrm rot="21317400">
                <a:off x="351360" y="5954400"/>
                <a:ext cx="137520" cy="178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1581"/>
              <p:cNvSpPr/>
              <p:nvPr/>
            </p:nvSpPr>
            <p:spPr>
              <a:xfrm rot="21317400">
                <a:off x="671040" y="5928120"/>
                <a:ext cx="137520" cy="178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1582"/>
              <p:cNvSpPr/>
              <p:nvPr/>
            </p:nvSpPr>
            <p:spPr>
              <a:xfrm rot="21317400">
                <a:off x="1324440" y="5872680"/>
                <a:ext cx="171720" cy="2127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2" name="Group 1583"/>
              <p:cNvGrpSpPr/>
              <p:nvPr/>
            </p:nvGrpSpPr>
            <p:grpSpPr>
              <a:xfrm>
                <a:off x="508680" y="5660280"/>
                <a:ext cx="152280" cy="138240"/>
                <a:chOff x="508680" y="5660280"/>
                <a:chExt cx="152280" cy="138240"/>
              </a:xfrm>
            </p:grpSpPr>
            <p:sp>
              <p:nvSpPr>
                <p:cNvPr id="933" name="Oval 1584"/>
                <p:cNvSpPr/>
                <p:nvPr/>
              </p:nvSpPr>
              <p:spPr>
                <a:xfrm rot="21317400">
                  <a:off x="509760" y="5666040"/>
                  <a:ext cx="1497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1585"/>
                <p:cNvSpPr/>
                <p:nvPr/>
              </p:nvSpPr>
              <p:spPr>
                <a:xfrm rot="21317400">
                  <a:off x="550800" y="5665680"/>
                  <a:ext cx="74880" cy="12960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1586"/>
              <p:cNvSpPr/>
              <p:nvPr/>
            </p:nvSpPr>
            <p:spPr>
              <a:xfrm rot="21317400">
                <a:off x="333000" y="6253560"/>
                <a:ext cx="1347480" cy="72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587"/>
              <p:cNvSpPr/>
              <p:nvPr/>
            </p:nvSpPr>
            <p:spPr>
              <a:xfrm rot="21317400">
                <a:off x="271080" y="5817600"/>
                <a:ext cx="1374120" cy="36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Group 1588"/>
              <p:cNvGrpSpPr/>
              <p:nvPr/>
            </p:nvGrpSpPr>
            <p:grpSpPr>
              <a:xfrm>
                <a:off x="1217160" y="5601600"/>
                <a:ext cx="152280" cy="138600"/>
                <a:chOff x="1217160" y="5601600"/>
                <a:chExt cx="152280" cy="138600"/>
              </a:xfrm>
            </p:grpSpPr>
            <p:sp>
              <p:nvSpPr>
                <p:cNvPr id="938" name="Oval 1589"/>
                <p:cNvSpPr/>
                <p:nvPr/>
              </p:nvSpPr>
              <p:spPr>
                <a:xfrm rot="21317400">
                  <a:off x="1218240" y="5607360"/>
                  <a:ext cx="1497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1590"/>
                <p:cNvSpPr/>
                <p:nvPr/>
              </p:nvSpPr>
              <p:spPr>
                <a:xfrm rot="21317400">
                  <a:off x="1259640" y="5607360"/>
                  <a:ext cx="74880" cy="12960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Freeform 1591"/>
              <p:cNvSpPr/>
              <p:nvPr/>
            </p:nvSpPr>
            <p:spPr>
              <a:xfrm rot="21317400">
                <a:off x="473760" y="6150600"/>
                <a:ext cx="12600" cy="234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3891a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592"/>
              <p:cNvSpPr/>
              <p:nvPr/>
            </p:nvSpPr>
            <p:spPr>
              <a:xfrm rot="21317400">
                <a:off x="338760" y="5899680"/>
                <a:ext cx="166680" cy="40140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593"/>
              <p:cNvSpPr/>
              <p:nvPr/>
            </p:nvSpPr>
            <p:spPr>
              <a:xfrm rot="21317400">
                <a:off x="1509840" y="5739840"/>
                <a:ext cx="320040" cy="351360"/>
              </a:xfrm>
              <a:custGeom>
                <a:avLst/>
                <a:gdLst/>
                <a:ahLst/>
                <a:rect l="l" t="t" r="r" b="b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9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594"/>
              <p:cNvSpPr/>
              <p:nvPr/>
            </p:nvSpPr>
            <p:spPr>
              <a:xfrm rot="21317400">
                <a:off x="1111680" y="5890320"/>
                <a:ext cx="171720" cy="2127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95"/>
              <p:cNvSpPr/>
              <p:nvPr/>
            </p:nvSpPr>
            <p:spPr>
              <a:xfrm rot="21317400">
                <a:off x="871200" y="5559120"/>
                <a:ext cx="581040" cy="221760"/>
              </a:xfrm>
              <a:custGeom>
                <a:avLst/>
                <a:gdLst/>
                <a:ahLst/>
                <a:rect l="l" t="t" r="r" b="b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596"/>
              <p:cNvSpPr/>
              <p:nvPr/>
            </p:nvSpPr>
            <p:spPr>
              <a:xfrm rot="21317400">
                <a:off x="892800" y="5908320"/>
                <a:ext cx="171720" cy="2127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6" name="Picture 1599" descr="Рисунок28"/>
          <p:cNvPicPr/>
          <p:nvPr/>
        </p:nvPicPr>
        <p:blipFill>
          <a:blip r:embed="rId93"/>
          <a:stretch/>
        </p:blipFill>
        <p:spPr>
          <a:xfrm>
            <a:off x="6659640" y="4052880"/>
            <a:ext cx="1800000" cy="596880"/>
          </a:xfrm>
          <a:prstGeom prst="rect">
            <a:avLst/>
          </a:prstGeom>
          <a:ln w="0">
            <a:noFill/>
          </a:ln>
        </p:spPr>
      </p:pic>
      <p:grpSp>
        <p:nvGrpSpPr>
          <p:cNvPr id="947" name="Group 1600"/>
          <p:cNvGrpSpPr/>
          <p:nvPr/>
        </p:nvGrpSpPr>
        <p:grpSpPr>
          <a:xfrm>
            <a:off x="7745040" y="3765600"/>
            <a:ext cx="8456400" cy="1401120"/>
            <a:chOff x="7745040" y="3765600"/>
            <a:chExt cx="8456400" cy="1401120"/>
          </a:xfrm>
        </p:grpSpPr>
        <p:grpSp>
          <p:nvGrpSpPr>
            <p:cNvPr id="948" name="Group 1601"/>
            <p:cNvGrpSpPr/>
            <p:nvPr/>
          </p:nvGrpSpPr>
          <p:grpSpPr>
            <a:xfrm>
              <a:off x="9575280" y="3765600"/>
              <a:ext cx="6626160" cy="1287360"/>
              <a:chOff x="9575280" y="3765600"/>
              <a:chExt cx="6626160" cy="1287360"/>
            </a:xfrm>
          </p:grpSpPr>
          <p:grpSp>
            <p:nvGrpSpPr>
              <p:cNvPr id="949" name="Group 1602"/>
              <p:cNvGrpSpPr/>
              <p:nvPr/>
            </p:nvGrpSpPr>
            <p:grpSpPr>
              <a:xfrm>
                <a:off x="12822840" y="3765600"/>
                <a:ext cx="3378600" cy="1094400"/>
                <a:chOff x="12822840" y="3765600"/>
                <a:chExt cx="3378600" cy="1094400"/>
              </a:xfrm>
            </p:grpSpPr>
            <p:grpSp>
              <p:nvGrpSpPr>
                <p:cNvPr id="950" name="Group 1603"/>
                <p:cNvGrpSpPr/>
                <p:nvPr/>
              </p:nvGrpSpPr>
              <p:grpSpPr>
                <a:xfrm>
                  <a:off x="12822840" y="4401000"/>
                  <a:ext cx="165960" cy="232200"/>
                  <a:chOff x="12822840" y="4401000"/>
                  <a:chExt cx="165960" cy="232200"/>
                </a:xfrm>
              </p:grpSpPr>
              <p:sp>
                <p:nvSpPr>
                  <p:cNvPr id="951" name="Line 1604"/>
                  <p:cNvSpPr/>
                  <p:nvPr/>
                </p:nvSpPr>
                <p:spPr>
                  <a:xfrm>
                    <a:off x="12902400" y="4401000"/>
                    <a:ext cx="1224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1605"/>
                  <p:cNvSpPr/>
                  <p:nvPr/>
                </p:nvSpPr>
                <p:spPr>
                  <a:xfrm flipH="1" rot="21396000">
                    <a:off x="12823560" y="4479120"/>
                    <a:ext cx="1638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Group 1606"/>
                <p:cNvGrpSpPr/>
                <p:nvPr/>
              </p:nvGrpSpPr>
              <p:grpSpPr>
                <a:xfrm>
                  <a:off x="14372280" y="4306680"/>
                  <a:ext cx="241560" cy="232200"/>
                  <a:chOff x="14372280" y="4306680"/>
                  <a:chExt cx="241560" cy="232200"/>
                </a:xfrm>
              </p:grpSpPr>
              <p:sp>
                <p:nvSpPr>
                  <p:cNvPr id="954" name="Line 1607"/>
                  <p:cNvSpPr/>
                  <p:nvPr/>
                </p:nvSpPr>
                <p:spPr>
                  <a:xfrm>
                    <a:off x="14490720" y="4306680"/>
                    <a:ext cx="1152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Freeform 1608"/>
                  <p:cNvSpPr/>
                  <p:nvPr/>
                </p:nvSpPr>
                <p:spPr>
                  <a:xfrm flipH="1" rot="21396000">
                    <a:off x="14372640" y="4384800"/>
                    <a:ext cx="23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Group 1609"/>
                <p:cNvGrpSpPr/>
                <p:nvPr/>
              </p:nvGrpSpPr>
              <p:grpSpPr>
                <a:xfrm>
                  <a:off x="14529960" y="3765600"/>
                  <a:ext cx="1634040" cy="1000080"/>
                  <a:chOff x="14529960" y="3765600"/>
                  <a:chExt cx="1634040" cy="1000080"/>
                </a:xfrm>
              </p:grpSpPr>
              <p:grpSp>
                <p:nvGrpSpPr>
                  <p:cNvPr id="957" name="Group 1610"/>
                  <p:cNvGrpSpPr/>
                  <p:nvPr/>
                </p:nvGrpSpPr>
                <p:grpSpPr>
                  <a:xfrm>
                    <a:off x="15524280" y="4383360"/>
                    <a:ext cx="320400" cy="331560"/>
                    <a:chOff x="15524280" y="4383360"/>
                    <a:chExt cx="320400" cy="331560"/>
                  </a:xfrm>
                </p:grpSpPr>
                <p:grpSp>
                  <p:nvGrpSpPr>
                    <p:cNvPr id="958" name="Group 1611"/>
                    <p:cNvGrpSpPr/>
                    <p:nvPr/>
                  </p:nvGrpSpPr>
                  <p:grpSpPr>
                    <a:xfrm>
                      <a:off x="15524280" y="4383360"/>
                      <a:ext cx="320400" cy="331560"/>
                      <a:chOff x="15524280" y="4383360"/>
                      <a:chExt cx="320400" cy="331560"/>
                    </a:xfrm>
                  </p:grpSpPr>
                  <p:grpSp>
                    <p:nvGrpSpPr>
                      <p:cNvPr id="959" name="Group 1612"/>
                      <p:cNvGrpSpPr/>
                      <p:nvPr/>
                    </p:nvGrpSpPr>
                    <p:grpSpPr>
                      <a:xfrm>
                        <a:off x="15524280" y="4383360"/>
                        <a:ext cx="320400" cy="331560"/>
                        <a:chOff x="15524280" y="4383360"/>
                        <a:chExt cx="320400" cy="331560"/>
                      </a:xfrm>
                    </p:grpSpPr>
                    <p:sp>
                      <p:nvSpPr>
                        <p:cNvPr id="960" name="Oval 1613"/>
                        <p:cNvSpPr/>
                        <p:nvPr/>
                      </p:nvSpPr>
                      <p:spPr>
                        <a:xfrm flipH="1" rot="21396000">
                          <a:off x="15532920" y="4392000"/>
                          <a:ext cx="30240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Oval 1614"/>
                        <p:cNvSpPr/>
                        <p:nvPr/>
                      </p:nvSpPr>
                      <p:spPr>
                        <a:xfrm flipH="1" rot="21396000">
                          <a:off x="15532920" y="4392000"/>
                          <a:ext cx="30240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62" name="Group 1615"/>
                      <p:cNvGrpSpPr/>
                      <p:nvPr/>
                    </p:nvGrpSpPr>
                    <p:grpSpPr>
                      <a:xfrm>
                        <a:off x="15552720" y="4411440"/>
                        <a:ext cx="266040" cy="275040"/>
                        <a:chOff x="15552720" y="4411440"/>
                        <a:chExt cx="266040" cy="275040"/>
                      </a:xfrm>
                    </p:grpSpPr>
                    <p:sp>
                      <p:nvSpPr>
                        <p:cNvPr id="963" name="Oval 1616"/>
                        <p:cNvSpPr/>
                        <p:nvPr/>
                      </p:nvSpPr>
                      <p:spPr>
                        <a:xfrm flipH="1" rot="21396000">
                          <a:off x="15559560" y="4418280"/>
                          <a:ext cx="25128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Oval 1617"/>
                        <p:cNvSpPr/>
                        <p:nvPr/>
                      </p:nvSpPr>
                      <p:spPr>
                        <a:xfrm flipH="1" rot="21396000">
                          <a:off x="15559560" y="4418280"/>
                          <a:ext cx="25128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5" name="Group 1618"/>
                    <p:cNvGrpSpPr/>
                    <p:nvPr/>
                  </p:nvGrpSpPr>
                  <p:grpSpPr>
                    <a:xfrm>
                      <a:off x="15552360" y="4411440"/>
                      <a:ext cx="266400" cy="275400"/>
                      <a:chOff x="15552360" y="4411440"/>
                      <a:chExt cx="266400" cy="275400"/>
                    </a:xfrm>
                  </p:grpSpPr>
                  <p:sp>
                    <p:nvSpPr>
                      <p:cNvPr id="966" name="Freeform 1619"/>
                      <p:cNvSpPr/>
                      <p:nvPr/>
                    </p:nvSpPr>
                    <p:spPr>
                      <a:xfrm flipH="1" rot="21396000">
                        <a:off x="15559560" y="441828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Freeform 1620"/>
                      <p:cNvSpPr/>
                      <p:nvPr/>
                    </p:nvSpPr>
                    <p:spPr>
                      <a:xfrm flipH="1" rot="21396000">
                        <a:off x="15559560" y="441828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8" name="Group 1621"/>
                  <p:cNvGrpSpPr/>
                  <p:nvPr/>
                </p:nvGrpSpPr>
                <p:grpSpPr>
                  <a:xfrm>
                    <a:off x="14682240" y="4433040"/>
                    <a:ext cx="323640" cy="331920"/>
                    <a:chOff x="14682240" y="4433040"/>
                    <a:chExt cx="323640" cy="331920"/>
                  </a:xfrm>
                </p:grpSpPr>
                <p:grpSp>
                  <p:nvGrpSpPr>
                    <p:cNvPr id="969" name="Group 1622"/>
                    <p:cNvGrpSpPr/>
                    <p:nvPr/>
                  </p:nvGrpSpPr>
                  <p:grpSpPr>
                    <a:xfrm>
                      <a:off x="14682240" y="4433040"/>
                      <a:ext cx="323640" cy="331920"/>
                      <a:chOff x="14682240" y="4433040"/>
                      <a:chExt cx="323640" cy="331920"/>
                    </a:xfrm>
                  </p:grpSpPr>
                  <p:grpSp>
                    <p:nvGrpSpPr>
                      <p:cNvPr id="970" name="Group 1623"/>
                      <p:cNvGrpSpPr/>
                      <p:nvPr/>
                    </p:nvGrpSpPr>
                    <p:grpSpPr>
                      <a:xfrm>
                        <a:off x="14682240" y="4433040"/>
                        <a:ext cx="323640" cy="331920"/>
                        <a:chOff x="14682240" y="4433040"/>
                        <a:chExt cx="323640" cy="331920"/>
                      </a:xfrm>
                    </p:grpSpPr>
                    <p:sp>
                      <p:nvSpPr>
                        <p:cNvPr id="971" name="Oval 1624"/>
                        <p:cNvSpPr/>
                        <p:nvPr/>
                      </p:nvSpPr>
                      <p:spPr>
                        <a:xfrm flipH="1" rot="21396000">
                          <a:off x="14690520" y="4441680"/>
                          <a:ext cx="30564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2" name="Oval 1625"/>
                        <p:cNvSpPr/>
                        <p:nvPr/>
                      </p:nvSpPr>
                      <p:spPr>
                        <a:xfrm flipH="1" rot="21396000">
                          <a:off x="14690520" y="4441680"/>
                          <a:ext cx="30564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73" name="Group 1626"/>
                      <p:cNvGrpSpPr/>
                      <p:nvPr/>
                    </p:nvGrpSpPr>
                    <p:grpSpPr>
                      <a:xfrm>
                        <a:off x="14711040" y="4461480"/>
                        <a:ext cx="268920" cy="275400"/>
                        <a:chOff x="14711040" y="4461480"/>
                        <a:chExt cx="268920" cy="275400"/>
                      </a:xfrm>
                    </p:grpSpPr>
                    <p:sp>
                      <p:nvSpPr>
                        <p:cNvPr id="974" name="Oval 1627"/>
                        <p:cNvSpPr/>
                        <p:nvPr/>
                      </p:nvSpPr>
                      <p:spPr>
                        <a:xfrm flipH="1" rot="21396000">
                          <a:off x="14717880" y="446868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5" name="Oval 1628"/>
                        <p:cNvSpPr/>
                        <p:nvPr/>
                      </p:nvSpPr>
                      <p:spPr>
                        <a:xfrm flipH="1" rot="21396000">
                          <a:off x="14717880" y="446868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76" name="Group 1629"/>
                    <p:cNvGrpSpPr/>
                    <p:nvPr/>
                  </p:nvGrpSpPr>
                  <p:grpSpPr>
                    <a:xfrm>
                      <a:off x="14711040" y="4461480"/>
                      <a:ext cx="268920" cy="275760"/>
                      <a:chOff x="14711040" y="4461480"/>
                      <a:chExt cx="268920" cy="275760"/>
                    </a:xfrm>
                  </p:grpSpPr>
                  <p:sp>
                    <p:nvSpPr>
                      <p:cNvPr id="977" name="Freeform 1630"/>
                      <p:cNvSpPr/>
                      <p:nvPr/>
                    </p:nvSpPr>
                    <p:spPr>
                      <a:xfrm flipH="1" rot="21396000">
                        <a:off x="14717880" y="446868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Freeform 1631"/>
                      <p:cNvSpPr/>
                      <p:nvPr/>
                    </p:nvSpPr>
                    <p:spPr>
                      <a:xfrm flipH="1" rot="21396000">
                        <a:off x="14717880" y="446868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9" name="Group 1632"/>
                  <p:cNvGrpSpPr/>
                  <p:nvPr/>
                </p:nvGrpSpPr>
                <p:grpSpPr>
                  <a:xfrm>
                    <a:off x="15523920" y="4383360"/>
                    <a:ext cx="320760" cy="331920"/>
                    <a:chOff x="15523920" y="4383360"/>
                    <a:chExt cx="320760" cy="331920"/>
                  </a:xfrm>
                </p:grpSpPr>
                <p:grpSp>
                  <p:nvGrpSpPr>
                    <p:cNvPr id="980" name="Group 1633"/>
                    <p:cNvGrpSpPr/>
                    <p:nvPr/>
                  </p:nvGrpSpPr>
                  <p:grpSpPr>
                    <a:xfrm>
                      <a:off x="15523920" y="4383360"/>
                      <a:ext cx="320760" cy="331920"/>
                      <a:chOff x="15523920" y="4383360"/>
                      <a:chExt cx="320760" cy="331920"/>
                    </a:xfrm>
                  </p:grpSpPr>
                  <p:sp>
                    <p:nvSpPr>
                      <p:cNvPr id="981" name="Oval 1634"/>
                      <p:cNvSpPr/>
                      <p:nvPr/>
                    </p:nvSpPr>
                    <p:spPr>
                      <a:xfrm flipH="1" rot="21396000">
                        <a:off x="15532200" y="4392000"/>
                        <a:ext cx="30276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2" name="Oval 1635"/>
                      <p:cNvSpPr/>
                      <p:nvPr/>
                    </p:nvSpPr>
                    <p:spPr>
                      <a:xfrm flipH="1" rot="21396000">
                        <a:off x="15532200" y="4392000"/>
                        <a:ext cx="30276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3" name="Group 1636"/>
                    <p:cNvGrpSpPr/>
                    <p:nvPr/>
                  </p:nvGrpSpPr>
                  <p:grpSpPr>
                    <a:xfrm>
                      <a:off x="15552360" y="4411440"/>
                      <a:ext cx="266400" cy="275400"/>
                      <a:chOff x="15552360" y="4411440"/>
                      <a:chExt cx="266400" cy="275400"/>
                    </a:xfrm>
                  </p:grpSpPr>
                  <p:sp>
                    <p:nvSpPr>
                      <p:cNvPr id="984" name="Oval 1637"/>
                      <p:cNvSpPr/>
                      <p:nvPr/>
                    </p:nvSpPr>
                    <p:spPr>
                      <a:xfrm flipH="1" rot="21396000">
                        <a:off x="15559560" y="4418280"/>
                        <a:ext cx="25164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Oval 1638"/>
                      <p:cNvSpPr/>
                      <p:nvPr/>
                    </p:nvSpPr>
                    <p:spPr>
                      <a:xfrm flipH="1" rot="21396000">
                        <a:off x="15559560" y="4418280"/>
                        <a:ext cx="25164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86" name="Group 1639"/>
                  <p:cNvGrpSpPr/>
                  <p:nvPr/>
                </p:nvGrpSpPr>
                <p:grpSpPr>
                  <a:xfrm>
                    <a:off x="15552000" y="4411800"/>
                    <a:ext cx="267120" cy="273960"/>
                    <a:chOff x="15552000" y="4411800"/>
                    <a:chExt cx="267120" cy="273960"/>
                  </a:xfrm>
                </p:grpSpPr>
                <p:sp>
                  <p:nvSpPr>
                    <p:cNvPr id="987" name="Freeform 1640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Freeform 1641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Group 1642"/>
                  <p:cNvGrpSpPr/>
                  <p:nvPr/>
                </p:nvGrpSpPr>
                <p:grpSpPr>
                  <a:xfrm>
                    <a:off x="15523560" y="4383360"/>
                    <a:ext cx="321120" cy="332280"/>
                    <a:chOff x="15523560" y="4383360"/>
                    <a:chExt cx="321120" cy="332280"/>
                  </a:xfrm>
                </p:grpSpPr>
                <p:sp>
                  <p:nvSpPr>
                    <p:cNvPr id="990" name="Oval 1643"/>
                    <p:cNvSpPr/>
                    <p:nvPr/>
                  </p:nvSpPr>
                  <p:spPr>
                    <a:xfrm flipH="1" rot="21396000">
                      <a:off x="15532200" y="439200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Oval 1644"/>
                    <p:cNvSpPr/>
                    <p:nvPr/>
                  </p:nvSpPr>
                  <p:spPr>
                    <a:xfrm flipH="1" rot="21396000">
                      <a:off x="15532200" y="439200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Group 1645"/>
                  <p:cNvGrpSpPr/>
                  <p:nvPr/>
                </p:nvGrpSpPr>
                <p:grpSpPr>
                  <a:xfrm>
                    <a:off x="15552000" y="4411800"/>
                    <a:ext cx="267120" cy="273960"/>
                    <a:chOff x="15552000" y="4411800"/>
                    <a:chExt cx="267120" cy="273960"/>
                  </a:xfrm>
                </p:grpSpPr>
                <p:sp>
                  <p:nvSpPr>
                    <p:cNvPr id="993" name="Oval 1646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Oval 1647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Group 1648"/>
                  <p:cNvGrpSpPr/>
                  <p:nvPr/>
                </p:nvGrpSpPr>
                <p:grpSpPr>
                  <a:xfrm>
                    <a:off x="15523560" y="4383360"/>
                    <a:ext cx="321120" cy="332280"/>
                    <a:chOff x="15523560" y="4383360"/>
                    <a:chExt cx="321120" cy="332280"/>
                  </a:xfrm>
                </p:grpSpPr>
                <p:sp>
                  <p:nvSpPr>
                    <p:cNvPr id="996" name="Oval 1649"/>
                    <p:cNvSpPr/>
                    <p:nvPr/>
                  </p:nvSpPr>
                  <p:spPr>
                    <a:xfrm flipH="1" rot="21396000">
                      <a:off x="15532200" y="439200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Oval 1650"/>
                    <p:cNvSpPr/>
                    <p:nvPr/>
                  </p:nvSpPr>
                  <p:spPr>
                    <a:xfrm flipH="1" rot="21396000">
                      <a:off x="15532200" y="439200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Group 1651"/>
                  <p:cNvGrpSpPr/>
                  <p:nvPr/>
                </p:nvGrpSpPr>
                <p:grpSpPr>
                  <a:xfrm>
                    <a:off x="15552000" y="4411800"/>
                    <a:ext cx="267120" cy="273960"/>
                    <a:chOff x="15552000" y="4411800"/>
                    <a:chExt cx="267120" cy="273960"/>
                  </a:xfrm>
                </p:grpSpPr>
                <p:sp>
                  <p:nvSpPr>
                    <p:cNvPr id="999" name="Oval 1652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Oval 1653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Group 1654"/>
                  <p:cNvGrpSpPr/>
                  <p:nvPr/>
                </p:nvGrpSpPr>
                <p:grpSpPr>
                  <a:xfrm>
                    <a:off x="15552000" y="4411800"/>
                    <a:ext cx="267120" cy="273960"/>
                    <a:chOff x="15552000" y="4411800"/>
                    <a:chExt cx="267120" cy="273960"/>
                  </a:xfrm>
                </p:grpSpPr>
                <p:sp>
                  <p:nvSpPr>
                    <p:cNvPr id="1002" name="Freeform 1655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Freeform 1656"/>
                    <p:cNvSpPr/>
                    <p:nvPr/>
                  </p:nvSpPr>
                  <p:spPr>
                    <a:xfrm flipH="1" rot="21396000">
                      <a:off x="15559200" y="441900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Group 1657"/>
                  <p:cNvGrpSpPr/>
                  <p:nvPr/>
                </p:nvGrpSpPr>
                <p:grpSpPr>
                  <a:xfrm>
                    <a:off x="14681880" y="4433040"/>
                    <a:ext cx="324000" cy="332280"/>
                    <a:chOff x="14681880" y="4433040"/>
                    <a:chExt cx="324000" cy="332280"/>
                  </a:xfrm>
                </p:grpSpPr>
                <p:grpSp>
                  <p:nvGrpSpPr>
                    <p:cNvPr id="1005" name="Group 1658"/>
                    <p:cNvGrpSpPr/>
                    <p:nvPr/>
                  </p:nvGrpSpPr>
                  <p:grpSpPr>
                    <a:xfrm>
                      <a:off x="14681880" y="4433040"/>
                      <a:ext cx="324000" cy="332280"/>
                      <a:chOff x="14681880" y="4433040"/>
                      <a:chExt cx="324000" cy="332280"/>
                    </a:xfrm>
                  </p:grpSpPr>
                  <p:sp>
                    <p:nvSpPr>
                      <p:cNvPr id="1006" name="Oval 1659"/>
                      <p:cNvSpPr/>
                      <p:nvPr/>
                    </p:nvSpPr>
                    <p:spPr>
                      <a:xfrm flipH="1" rot="21396000">
                        <a:off x="14690520" y="4441680"/>
                        <a:ext cx="30600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7" name="Oval 1660"/>
                      <p:cNvSpPr/>
                      <p:nvPr/>
                    </p:nvSpPr>
                    <p:spPr>
                      <a:xfrm flipH="1" rot="21396000">
                        <a:off x="14690520" y="4441680"/>
                        <a:ext cx="30600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8" name="Group 1661"/>
                    <p:cNvGrpSpPr/>
                    <p:nvPr/>
                  </p:nvGrpSpPr>
                  <p:grpSpPr>
                    <a:xfrm>
                      <a:off x="14711040" y="4461480"/>
                      <a:ext cx="268920" cy="275760"/>
                      <a:chOff x="14711040" y="4461480"/>
                      <a:chExt cx="268920" cy="275760"/>
                    </a:xfrm>
                  </p:grpSpPr>
                  <p:sp>
                    <p:nvSpPr>
                      <p:cNvPr id="1009" name="Oval 1662"/>
                      <p:cNvSpPr/>
                      <p:nvPr/>
                    </p:nvSpPr>
                    <p:spPr>
                      <a:xfrm flipH="1" rot="21396000">
                        <a:off x="14717880" y="4468680"/>
                        <a:ext cx="25380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Oval 1663"/>
                      <p:cNvSpPr/>
                      <p:nvPr/>
                    </p:nvSpPr>
                    <p:spPr>
                      <a:xfrm flipH="1" rot="21396000">
                        <a:off x="14717880" y="4468680"/>
                        <a:ext cx="25380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11" name="Group 1664"/>
                  <p:cNvGrpSpPr/>
                  <p:nvPr/>
                </p:nvGrpSpPr>
                <p:grpSpPr>
                  <a:xfrm>
                    <a:off x="14711040" y="4461840"/>
                    <a:ext cx="269280" cy="274320"/>
                    <a:chOff x="14711040" y="4461840"/>
                    <a:chExt cx="269280" cy="274320"/>
                  </a:xfrm>
                </p:grpSpPr>
                <p:sp>
                  <p:nvSpPr>
                    <p:cNvPr id="1012" name="Freeform 1665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Freeform 1666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Group 1667"/>
                  <p:cNvGrpSpPr/>
                  <p:nvPr/>
                </p:nvGrpSpPr>
                <p:grpSpPr>
                  <a:xfrm>
                    <a:off x="14681520" y="4433040"/>
                    <a:ext cx="324360" cy="332640"/>
                    <a:chOff x="14681520" y="4433040"/>
                    <a:chExt cx="324360" cy="332640"/>
                  </a:xfrm>
                </p:grpSpPr>
                <p:sp>
                  <p:nvSpPr>
                    <p:cNvPr id="1015" name="Oval 1668"/>
                    <p:cNvSpPr/>
                    <p:nvPr/>
                  </p:nvSpPr>
                  <p:spPr>
                    <a:xfrm flipH="1" rot="21396000">
                      <a:off x="14689800" y="444168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Oval 1669"/>
                    <p:cNvSpPr/>
                    <p:nvPr/>
                  </p:nvSpPr>
                  <p:spPr>
                    <a:xfrm flipH="1" rot="21396000">
                      <a:off x="14689800" y="444168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1670"/>
                  <p:cNvGrpSpPr/>
                  <p:nvPr/>
                </p:nvGrpSpPr>
                <p:grpSpPr>
                  <a:xfrm>
                    <a:off x="14711040" y="4461840"/>
                    <a:ext cx="269280" cy="274320"/>
                    <a:chOff x="14711040" y="4461840"/>
                    <a:chExt cx="269280" cy="274320"/>
                  </a:xfrm>
                </p:grpSpPr>
                <p:sp>
                  <p:nvSpPr>
                    <p:cNvPr id="1018" name="Oval 1671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Oval 1672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0" name="Group 1673"/>
                  <p:cNvGrpSpPr/>
                  <p:nvPr/>
                </p:nvGrpSpPr>
                <p:grpSpPr>
                  <a:xfrm>
                    <a:off x="14681520" y="4433040"/>
                    <a:ext cx="324360" cy="332640"/>
                    <a:chOff x="14681520" y="4433040"/>
                    <a:chExt cx="324360" cy="332640"/>
                  </a:xfrm>
                </p:grpSpPr>
                <p:sp>
                  <p:nvSpPr>
                    <p:cNvPr id="1021" name="Oval 1674"/>
                    <p:cNvSpPr/>
                    <p:nvPr/>
                  </p:nvSpPr>
                  <p:spPr>
                    <a:xfrm flipH="1" rot="21396000">
                      <a:off x="14689800" y="444168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Oval 1675"/>
                    <p:cNvSpPr/>
                    <p:nvPr/>
                  </p:nvSpPr>
                  <p:spPr>
                    <a:xfrm flipH="1" rot="21396000">
                      <a:off x="14689800" y="444168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3" name="Group 1676"/>
                  <p:cNvGrpSpPr/>
                  <p:nvPr/>
                </p:nvGrpSpPr>
                <p:grpSpPr>
                  <a:xfrm>
                    <a:off x="14711040" y="4461840"/>
                    <a:ext cx="269280" cy="274320"/>
                    <a:chOff x="14711040" y="4461840"/>
                    <a:chExt cx="269280" cy="274320"/>
                  </a:xfrm>
                </p:grpSpPr>
                <p:sp>
                  <p:nvSpPr>
                    <p:cNvPr id="1024" name="Oval 1677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Oval 1678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6" name="Group 1679"/>
                  <p:cNvGrpSpPr/>
                  <p:nvPr/>
                </p:nvGrpSpPr>
                <p:grpSpPr>
                  <a:xfrm>
                    <a:off x="14711040" y="4461840"/>
                    <a:ext cx="269280" cy="274320"/>
                    <a:chOff x="14711040" y="4461840"/>
                    <a:chExt cx="269280" cy="274320"/>
                  </a:xfrm>
                </p:grpSpPr>
                <p:sp>
                  <p:nvSpPr>
                    <p:cNvPr id="1027" name="Freeform 1680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Freeform 1681"/>
                    <p:cNvSpPr/>
                    <p:nvPr/>
                  </p:nvSpPr>
                  <p:spPr>
                    <a:xfrm flipH="1" rot="21396000">
                      <a:off x="14718240" y="446904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9" name="Freeform 1682"/>
                  <p:cNvSpPr/>
                  <p:nvPr/>
                </p:nvSpPr>
                <p:spPr>
                  <a:xfrm flipH="1" rot="21396000">
                    <a:off x="16037640" y="4214520"/>
                    <a:ext cx="288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0" name="Group 1683"/>
                  <p:cNvGrpSpPr/>
                  <p:nvPr/>
                </p:nvGrpSpPr>
                <p:grpSpPr>
                  <a:xfrm>
                    <a:off x="15922440" y="4214520"/>
                    <a:ext cx="241560" cy="232560"/>
                    <a:chOff x="15922440" y="4214520"/>
                    <a:chExt cx="241560" cy="232560"/>
                  </a:xfrm>
                </p:grpSpPr>
                <p:sp>
                  <p:nvSpPr>
                    <p:cNvPr id="1031" name="Line 1684"/>
                    <p:cNvSpPr/>
                    <p:nvPr/>
                  </p:nvSpPr>
                  <p:spPr>
                    <a:xfrm>
                      <a:off x="16040520" y="4214520"/>
                      <a:ext cx="11880" cy="2325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Freeform 1685"/>
                    <p:cNvSpPr/>
                    <p:nvPr/>
                  </p:nvSpPr>
                  <p:spPr>
                    <a:xfrm flipH="1" rot="21396000">
                      <a:off x="15922800" y="429264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3" name="Freeform 1686"/>
                  <p:cNvSpPr/>
                  <p:nvPr/>
                </p:nvSpPr>
                <p:spPr>
                  <a:xfrm flipH="1" rot="21396000">
                    <a:off x="14547600" y="3888720"/>
                    <a:ext cx="1405800" cy="64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Group 1687"/>
                  <p:cNvGrpSpPr/>
                  <p:nvPr/>
                </p:nvGrpSpPr>
                <p:grpSpPr>
                  <a:xfrm>
                    <a:off x="14585040" y="4048200"/>
                    <a:ext cx="1296000" cy="267480"/>
                    <a:chOff x="14585040" y="4048200"/>
                    <a:chExt cx="1296000" cy="267480"/>
                  </a:xfrm>
                </p:grpSpPr>
                <p:sp>
                  <p:nvSpPr>
                    <p:cNvPr id="1035" name="Rectangle 1688"/>
                    <p:cNvSpPr/>
                    <p:nvPr/>
                  </p:nvSpPr>
                  <p:spPr>
                    <a:xfrm flipH="1" rot="21396000">
                      <a:off x="15736680" y="405216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Rectangle 1689"/>
                    <p:cNvSpPr/>
                    <p:nvPr/>
                  </p:nvSpPr>
                  <p:spPr>
                    <a:xfrm flipH="1" rot="21396000">
                      <a:off x="15574680" y="406188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Rectangle 1690"/>
                    <p:cNvSpPr/>
                    <p:nvPr/>
                  </p:nvSpPr>
                  <p:spPr>
                    <a:xfrm flipH="1" rot="21396000">
                      <a:off x="15412680" y="407124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Rectangle 1691"/>
                    <p:cNvSpPr/>
                    <p:nvPr/>
                  </p:nvSpPr>
                  <p:spPr>
                    <a:xfrm flipH="1" rot="21396000">
                      <a:off x="15244560" y="408132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Rectangle 1692"/>
                    <p:cNvSpPr/>
                    <p:nvPr/>
                  </p:nvSpPr>
                  <p:spPr>
                    <a:xfrm flipH="1" rot="21396000">
                      <a:off x="15076440" y="409140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Rectangle 1693"/>
                    <p:cNvSpPr/>
                    <p:nvPr/>
                  </p:nvSpPr>
                  <p:spPr>
                    <a:xfrm flipH="1" rot="21396000">
                      <a:off x="14914440" y="410076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Rectangle 1694"/>
                    <p:cNvSpPr/>
                    <p:nvPr/>
                  </p:nvSpPr>
                  <p:spPr>
                    <a:xfrm flipH="1" rot="21396000">
                      <a:off x="14590440" y="412020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Rectangle 1695"/>
                    <p:cNvSpPr/>
                    <p:nvPr/>
                  </p:nvSpPr>
                  <p:spPr>
                    <a:xfrm flipH="1" rot="21396000">
                      <a:off x="14752440" y="411048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Group 1696"/>
                  <p:cNvGrpSpPr/>
                  <p:nvPr/>
                </p:nvGrpSpPr>
                <p:grpSpPr>
                  <a:xfrm>
                    <a:off x="15512400" y="3765600"/>
                    <a:ext cx="153360" cy="146520"/>
                    <a:chOff x="15512400" y="3765600"/>
                    <a:chExt cx="153360" cy="146520"/>
                  </a:xfrm>
                </p:grpSpPr>
                <p:sp>
                  <p:nvSpPr>
                    <p:cNvPr id="1044" name="Oval 1697"/>
                    <p:cNvSpPr/>
                    <p:nvPr/>
                  </p:nvSpPr>
                  <p:spPr>
                    <a:xfrm flipH="1" rot="21396000">
                      <a:off x="15513480" y="376992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Freeform 1698"/>
                    <p:cNvSpPr/>
                    <p:nvPr/>
                  </p:nvSpPr>
                  <p:spPr>
                    <a:xfrm flipH="1" rot="21396000">
                      <a:off x="15553440" y="376992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6" name="Freeform 1699"/>
                  <p:cNvSpPr/>
                  <p:nvPr/>
                </p:nvSpPr>
                <p:spPr>
                  <a:xfrm flipH="1" rot="21396000">
                    <a:off x="14567040" y="4458240"/>
                    <a:ext cx="1363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Freeform 1700"/>
                  <p:cNvSpPr/>
                  <p:nvPr/>
                </p:nvSpPr>
                <p:spPr>
                  <a:xfrm flipH="1" rot="21396000">
                    <a:off x="14539320" y="3986640"/>
                    <a:ext cx="13899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8" name="Group 1701"/>
                  <p:cNvGrpSpPr/>
                  <p:nvPr/>
                </p:nvGrpSpPr>
                <p:grpSpPr>
                  <a:xfrm>
                    <a:off x="14793840" y="3808440"/>
                    <a:ext cx="153360" cy="146160"/>
                    <a:chOff x="14793840" y="3808440"/>
                    <a:chExt cx="153360" cy="146160"/>
                  </a:xfrm>
                </p:grpSpPr>
                <p:sp>
                  <p:nvSpPr>
                    <p:cNvPr id="1049" name="Oval 1702"/>
                    <p:cNvSpPr/>
                    <p:nvPr/>
                  </p:nvSpPr>
                  <p:spPr>
                    <a:xfrm flipH="1" rot="21396000">
                      <a:off x="14794920" y="381276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Freeform 1703"/>
                    <p:cNvSpPr/>
                    <p:nvPr/>
                  </p:nvSpPr>
                  <p:spPr>
                    <a:xfrm flipH="1" rot="21396000">
                      <a:off x="14834880" y="381240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1" name="Freeform 1704"/>
                  <p:cNvSpPr/>
                  <p:nvPr/>
                </p:nvSpPr>
                <p:spPr>
                  <a:xfrm flipH="1" rot="21396000">
                    <a:off x="15756480" y="4269960"/>
                    <a:ext cx="12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3891a7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1705"/>
                  <p:cNvSpPr/>
                  <p:nvPr/>
                </p:nvSpPr>
                <p:spPr>
                  <a:xfrm flipH="1" rot="21396000">
                    <a:off x="15727320" y="3992400"/>
                    <a:ext cx="16884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Group 1706"/>
                <p:cNvGrpSpPr/>
                <p:nvPr/>
              </p:nvGrpSpPr>
              <p:grpSpPr>
                <a:xfrm>
                  <a:off x="12942360" y="3859920"/>
                  <a:ext cx="1633680" cy="1000080"/>
                  <a:chOff x="12942360" y="3859920"/>
                  <a:chExt cx="1633680" cy="1000080"/>
                </a:xfrm>
              </p:grpSpPr>
              <p:grpSp>
                <p:nvGrpSpPr>
                  <p:cNvPr id="1054" name="Group 1707"/>
                  <p:cNvGrpSpPr/>
                  <p:nvPr/>
                </p:nvGrpSpPr>
                <p:grpSpPr>
                  <a:xfrm>
                    <a:off x="13936680" y="4477680"/>
                    <a:ext cx="320400" cy="331560"/>
                    <a:chOff x="13936680" y="4477680"/>
                    <a:chExt cx="320400" cy="331560"/>
                  </a:xfrm>
                </p:grpSpPr>
                <p:grpSp>
                  <p:nvGrpSpPr>
                    <p:cNvPr id="1055" name="Group 1708"/>
                    <p:cNvGrpSpPr/>
                    <p:nvPr/>
                  </p:nvGrpSpPr>
                  <p:grpSpPr>
                    <a:xfrm>
                      <a:off x="13936680" y="4477680"/>
                      <a:ext cx="320400" cy="331560"/>
                      <a:chOff x="13936680" y="4477680"/>
                      <a:chExt cx="320400" cy="331560"/>
                    </a:xfrm>
                  </p:grpSpPr>
                  <p:grpSp>
                    <p:nvGrpSpPr>
                      <p:cNvPr id="1056" name="Group 1709"/>
                      <p:cNvGrpSpPr/>
                      <p:nvPr/>
                    </p:nvGrpSpPr>
                    <p:grpSpPr>
                      <a:xfrm>
                        <a:off x="13936680" y="4477680"/>
                        <a:ext cx="320400" cy="331560"/>
                        <a:chOff x="13936680" y="4477680"/>
                        <a:chExt cx="320400" cy="331560"/>
                      </a:xfrm>
                    </p:grpSpPr>
                    <p:sp>
                      <p:nvSpPr>
                        <p:cNvPr id="1057" name="Oval 1710"/>
                        <p:cNvSpPr/>
                        <p:nvPr/>
                      </p:nvSpPr>
                      <p:spPr>
                        <a:xfrm flipH="1" rot="21396000">
                          <a:off x="13945320" y="4486320"/>
                          <a:ext cx="30240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8" name="Oval 1711"/>
                        <p:cNvSpPr/>
                        <p:nvPr/>
                      </p:nvSpPr>
                      <p:spPr>
                        <a:xfrm flipH="1" rot="21396000">
                          <a:off x="13945320" y="4486320"/>
                          <a:ext cx="30240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9" name="Group 1712"/>
                      <p:cNvGrpSpPr/>
                      <p:nvPr/>
                    </p:nvGrpSpPr>
                    <p:grpSpPr>
                      <a:xfrm>
                        <a:off x="13964760" y="4506120"/>
                        <a:ext cx="266040" cy="275040"/>
                        <a:chOff x="13964760" y="4506120"/>
                        <a:chExt cx="266040" cy="275040"/>
                      </a:xfrm>
                    </p:grpSpPr>
                    <p:sp>
                      <p:nvSpPr>
                        <p:cNvPr id="1060" name="Oval 1713"/>
                        <p:cNvSpPr/>
                        <p:nvPr/>
                      </p:nvSpPr>
                      <p:spPr>
                        <a:xfrm flipH="1" rot="21396000">
                          <a:off x="13971600" y="4512960"/>
                          <a:ext cx="25128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Oval 1714"/>
                        <p:cNvSpPr/>
                        <p:nvPr/>
                      </p:nvSpPr>
                      <p:spPr>
                        <a:xfrm flipH="1" rot="21396000">
                          <a:off x="13971600" y="4512960"/>
                          <a:ext cx="25128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62" name="Group 1715"/>
                    <p:cNvGrpSpPr/>
                    <p:nvPr/>
                  </p:nvGrpSpPr>
                  <p:grpSpPr>
                    <a:xfrm>
                      <a:off x="13964400" y="4506120"/>
                      <a:ext cx="266400" cy="275400"/>
                      <a:chOff x="13964400" y="4506120"/>
                      <a:chExt cx="266400" cy="275400"/>
                    </a:xfrm>
                  </p:grpSpPr>
                  <p:sp>
                    <p:nvSpPr>
                      <p:cNvPr id="1063" name="Freeform 1716"/>
                      <p:cNvSpPr/>
                      <p:nvPr/>
                    </p:nvSpPr>
                    <p:spPr>
                      <a:xfrm flipH="1" rot="21396000">
                        <a:off x="13971600" y="451296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4" name="Freeform 1717"/>
                      <p:cNvSpPr/>
                      <p:nvPr/>
                    </p:nvSpPr>
                    <p:spPr>
                      <a:xfrm flipH="1" rot="21396000">
                        <a:off x="13971600" y="451296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5" name="Group 1718"/>
                  <p:cNvGrpSpPr/>
                  <p:nvPr/>
                </p:nvGrpSpPr>
                <p:grpSpPr>
                  <a:xfrm>
                    <a:off x="13094640" y="4527360"/>
                    <a:ext cx="323640" cy="331920"/>
                    <a:chOff x="13094640" y="4527360"/>
                    <a:chExt cx="323640" cy="331920"/>
                  </a:xfrm>
                </p:grpSpPr>
                <p:grpSp>
                  <p:nvGrpSpPr>
                    <p:cNvPr id="1066" name="Group 1719"/>
                    <p:cNvGrpSpPr/>
                    <p:nvPr/>
                  </p:nvGrpSpPr>
                  <p:grpSpPr>
                    <a:xfrm>
                      <a:off x="13094640" y="4527360"/>
                      <a:ext cx="323640" cy="331920"/>
                      <a:chOff x="13094640" y="4527360"/>
                      <a:chExt cx="323640" cy="331920"/>
                    </a:xfrm>
                  </p:grpSpPr>
                  <p:grpSp>
                    <p:nvGrpSpPr>
                      <p:cNvPr id="1067" name="Group 1720"/>
                      <p:cNvGrpSpPr/>
                      <p:nvPr/>
                    </p:nvGrpSpPr>
                    <p:grpSpPr>
                      <a:xfrm>
                        <a:off x="13094640" y="4527360"/>
                        <a:ext cx="323640" cy="331920"/>
                        <a:chOff x="13094640" y="4527360"/>
                        <a:chExt cx="323640" cy="331920"/>
                      </a:xfrm>
                    </p:grpSpPr>
                    <p:sp>
                      <p:nvSpPr>
                        <p:cNvPr id="1068" name="Oval 1721"/>
                        <p:cNvSpPr/>
                        <p:nvPr/>
                      </p:nvSpPr>
                      <p:spPr>
                        <a:xfrm flipH="1" rot="21396000">
                          <a:off x="13102920" y="4536000"/>
                          <a:ext cx="30564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9" name="Oval 1722"/>
                        <p:cNvSpPr/>
                        <p:nvPr/>
                      </p:nvSpPr>
                      <p:spPr>
                        <a:xfrm flipH="1" rot="21396000">
                          <a:off x="13102920" y="4536000"/>
                          <a:ext cx="30564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0" name="Group 1723"/>
                      <p:cNvGrpSpPr/>
                      <p:nvPr/>
                    </p:nvGrpSpPr>
                    <p:grpSpPr>
                      <a:xfrm>
                        <a:off x="13123440" y="4555800"/>
                        <a:ext cx="268920" cy="275400"/>
                        <a:chOff x="13123440" y="4555800"/>
                        <a:chExt cx="268920" cy="275400"/>
                      </a:xfrm>
                    </p:grpSpPr>
                    <p:sp>
                      <p:nvSpPr>
                        <p:cNvPr id="1071" name="Oval 1724"/>
                        <p:cNvSpPr/>
                        <p:nvPr/>
                      </p:nvSpPr>
                      <p:spPr>
                        <a:xfrm flipH="1" rot="21396000">
                          <a:off x="13130280" y="456300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Oval 1725"/>
                        <p:cNvSpPr/>
                        <p:nvPr/>
                      </p:nvSpPr>
                      <p:spPr>
                        <a:xfrm flipH="1" rot="21396000">
                          <a:off x="13130280" y="456300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3" name="Group 1726"/>
                    <p:cNvGrpSpPr/>
                    <p:nvPr/>
                  </p:nvGrpSpPr>
                  <p:grpSpPr>
                    <a:xfrm>
                      <a:off x="13123440" y="4555800"/>
                      <a:ext cx="268920" cy="275760"/>
                      <a:chOff x="13123440" y="4555800"/>
                      <a:chExt cx="268920" cy="275760"/>
                    </a:xfrm>
                  </p:grpSpPr>
                  <p:sp>
                    <p:nvSpPr>
                      <p:cNvPr id="1074" name="Freeform 1727"/>
                      <p:cNvSpPr/>
                      <p:nvPr/>
                    </p:nvSpPr>
                    <p:spPr>
                      <a:xfrm flipH="1" rot="21396000">
                        <a:off x="13130280" y="456300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Freeform 1728"/>
                      <p:cNvSpPr/>
                      <p:nvPr/>
                    </p:nvSpPr>
                    <p:spPr>
                      <a:xfrm flipH="1" rot="21396000">
                        <a:off x="13130280" y="456300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76" name="Group 1729"/>
                  <p:cNvGrpSpPr/>
                  <p:nvPr/>
                </p:nvGrpSpPr>
                <p:grpSpPr>
                  <a:xfrm>
                    <a:off x="13936320" y="4477680"/>
                    <a:ext cx="320760" cy="331920"/>
                    <a:chOff x="13936320" y="4477680"/>
                    <a:chExt cx="320760" cy="331920"/>
                  </a:xfrm>
                </p:grpSpPr>
                <p:grpSp>
                  <p:nvGrpSpPr>
                    <p:cNvPr id="1077" name="Group 1730"/>
                    <p:cNvGrpSpPr/>
                    <p:nvPr/>
                  </p:nvGrpSpPr>
                  <p:grpSpPr>
                    <a:xfrm>
                      <a:off x="13936320" y="4477680"/>
                      <a:ext cx="320760" cy="331920"/>
                      <a:chOff x="13936320" y="4477680"/>
                      <a:chExt cx="320760" cy="331920"/>
                    </a:xfrm>
                  </p:grpSpPr>
                  <p:sp>
                    <p:nvSpPr>
                      <p:cNvPr id="1078" name="Oval 1731"/>
                      <p:cNvSpPr/>
                      <p:nvPr/>
                    </p:nvSpPr>
                    <p:spPr>
                      <a:xfrm flipH="1" rot="21396000">
                        <a:off x="13944600" y="4486320"/>
                        <a:ext cx="30276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9" name="Oval 1732"/>
                      <p:cNvSpPr/>
                      <p:nvPr/>
                    </p:nvSpPr>
                    <p:spPr>
                      <a:xfrm flipH="1" rot="21396000">
                        <a:off x="13944600" y="4486320"/>
                        <a:ext cx="30276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0" name="Group 1733"/>
                    <p:cNvGrpSpPr/>
                    <p:nvPr/>
                  </p:nvGrpSpPr>
                  <p:grpSpPr>
                    <a:xfrm>
                      <a:off x="13964400" y="4506120"/>
                      <a:ext cx="266400" cy="275400"/>
                      <a:chOff x="13964400" y="4506120"/>
                      <a:chExt cx="266400" cy="275400"/>
                    </a:xfrm>
                  </p:grpSpPr>
                  <p:sp>
                    <p:nvSpPr>
                      <p:cNvPr id="1081" name="Oval 1734"/>
                      <p:cNvSpPr/>
                      <p:nvPr/>
                    </p:nvSpPr>
                    <p:spPr>
                      <a:xfrm flipH="1" rot="21396000">
                        <a:off x="13971600" y="4512960"/>
                        <a:ext cx="25164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Oval 1735"/>
                      <p:cNvSpPr/>
                      <p:nvPr/>
                    </p:nvSpPr>
                    <p:spPr>
                      <a:xfrm flipH="1" rot="21396000">
                        <a:off x="13971600" y="4512960"/>
                        <a:ext cx="25164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83" name="Group 1736"/>
                  <p:cNvGrpSpPr/>
                  <p:nvPr/>
                </p:nvGrpSpPr>
                <p:grpSpPr>
                  <a:xfrm>
                    <a:off x="13964040" y="4506480"/>
                    <a:ext cx="267120" cy="273960"/>
                    <a:chOff x="13964040" y="4506480"/>
                    <a:chExt cx="267120" cy="273960"/>
                  </a:xfrm>
                </p:grpSpPr>
                <p:sp>
                  <p:nvSpPr>
                    <p:cNvPr id="1084" name="Freeform 1737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1738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6" name="Group 1739"/>
                  <p:cNvGrpSpPr/>
                  <p:nvPr/>
                </p:nvGrpSpPr>
                <p:grpSpPr>
                  <a:xfrm>
                    <a:off x="13935960" y="4477680"/>
                    <a:ext cx="321120" cy="332280"/>
                    <a:chOff x="13935960" y="4477680"/>
                    <a:chExt cx="321120" cy="332280"/>
                  </a:xfrm>
                </p:grpSpPr>
                <p:sp>
                  <p:nvSpPr>
                    <p:cNvPr id="1087" name="Oval 1740"/>
                    <p:cNvSpPr/>
                    <p:nvPr/>
                  </p:nvSpPr>
                  <p:spPr>
                    <a:xfrm flipH="1" rot="21396000">
                      <a:off x="13944600" y="448632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Oval 1741"/>
                    <p:cNvSpPr/>
                    <p:nvPr/>
                  </p:nvSpPr>
                  <p:spPr>
                    <a:xfrm flipH="1" rot="21396000">
                      <a:off x="13944600" y="448632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1742"/>
                  <p:cNvGrpSpPr/>
                  <p:nvPr/>
                </p:nvGrpSpPr>
                <p:grpSpPr>
                  <a:xfrm>
                    <a:off x="13964040" y="4506480"/>
                    <a:ext cx="267120" cy="273960"/>
                    <a:chOff x="13964040" y="4506480"/>
                    <a:chExt cx="267120" cy="273960"/>
                  </a:xfrm>
                </p:grpSpPr>
                <p:sp>
                  <p:nvSpPr>
                    <p:cNvPr id="1090" name="Oval 1743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Oval 1744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Group 1745"/>
                  <p:cNvGrpSpPr/>
                  <p:nvPr/>
                </p:nvGrpSpPr>
                <p:grpSpPr>
                  <a:xfrm>
                    <a:off x="13935960" y="4477680"/>
                    <a:ext cx="321120" cy="332280"/>
                    <a:chOff x="13935960" y="4477680"/>
                    <a:chExt cx="321120" cy="332280"/>
                  </a:xfrm>
                </p:grpSpPr>
                <p:sp>
                  <p:nvSpPr>
                    <p:cNvPr id="1093" name="Oval 1746"/>
                    <p:cNvSpPr/>
                    <p:nvPr/>
                  </p:nvSpPr>
                  <p:spPr>
                    <a:xfrm flipH="1" rot="21396000">
                      <a:off x="13944600" y="448632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Oval 1747"/>
                    <p:cNvSpPr/>
                    <p:nvPr/>
                  </p:nvSpPr>
                  <p:spPr>
                    <a:xfrm flipH="1" rot="21396000">
                      <a:off x="13944600" y="448632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5" name="Group 1748"/>
                  <p:cNvGrpSpPr/>
                  <p:nvPr/>
                </p:nvGrpSpPr>
                <p:grpSpPr>
                  <a:xfrm>
                    <a:off x="13964040" y="4506480"/>
                    <a:ext cx="267120" cy="273960"/>
                    <a:chOff x="13964040" y="4506480"/>
                    <a:chExt cx="267120" cy="273960"/>
                  </a:xfrm>
                </p:grpSpPr>
                <p:sp>
                  <p:nvSpPr>
                    <p:cNvPr id="1096" name="Oval 1749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Oval 1750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8" name="Group 1751"/>
                  <p:cNvGrpSpPr/>
                  <p:nvPr/>
                </p:nvGrpSpPr>
                <p:grpSpPr>
                  <a:xfrm>
                    <a:off x="13964040" y="4506480"/>
                    <a:ext cx="267120" cy="273960"/>
                    <a:chOff x="13964040" y="4506480"/>
                    <a:chExt cx="267120" cy="273960"/>
                  </a:xfrm>
                </p:grpSpPr>
                <p:sp>
                  <p:nvSpPr>
                    <p:cNvPr id="1099" name="Freeform 1752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Freeform 1753"/>
                    <p:cNvSpPr/>
                    <p:nvPr/>
                  </p:nvSpPr>
                  <p:spPr>
                    <a:xfrm flipH="1" rot="21396000">
                      <a:off x="13971240" y="45136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1" name="Group 1754"/>
                  <p:cNvGrpSpPr/>
                  <p:nvPr/>
                </p:nvGrpSpPr>
                <p:grpSpPr>
                  <a:xfrm>
                    <a:off x="13094280" y="4527360"/>
                    <a:ext cx="324000" cy="332280"/>
                    <a:chOff x="13094280" y="4527360"/>
                    <a:chExt cx="324000" cy="332280"/>
                  </a:xfrm>
                </p:grpSpPr>
                <p:grpSp>
                  <p:nvGrpSpPr>
                    <p:cNvPr id="1102" name="Group 1755"/>
                    <p:cNvGrpSpPr/>
                    <p:nvPr/>
                  </p:nvGrpSpPr>
                  <p:grpSpPr>
                    <a:xfrm>
                      <a:off x="13094280" y="4527360"/>
                      <a:ext cx="324000" cy="332280"/>
                      <a:chOff x="13094280" y="4527360"/>
                      <a:chExt cx="324000" cy="332280"/>
                    </a:xfrm>
                  </p:grpSpPr>
                  <p:sp>
                    <p:nvSpPr>
                      <p:cNvPr id="1103" name="Oval 1756"/>
                      <p:cNvSpPr/>
                      <p:nvPr/>
                    </p:nvSpPr>
                    <p:spPr>
                      <a:xfrm flipH="1" rot="21396000">
                        <a:off x="13102920" y="4536000"/>
                        <a:ext cx="30600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Oval 1757"/>
                      <p:cNvSpPr/>
                      <p:nvPr/>
                    </p:nvSpPr>
                    <p:spPr>
                      <a:xfrm flipH="1" rot="21396000">
                        <a:off x="13102920" y="4536000"/>
                        <a:ext cx="30600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5" name="Group 1758"/>
                    <p:cNvGrpSpPr/>
                    <p:nvPr/>
                  </p:nvGrpSpPr>
                  <p:grpSpPr>
                    <a:xfrm>
                      <a:off x="13123440" y="4555800"/>
                      <a:ext cx="268920" cy="275760"/>
                      <a:chOff x="13123440" y="4555800"/>
                      <a:chExt cx="268920" cy="275760"/>
                    </a:xfrm>
                  </p:grpSpPr>
                  <p:sp>
                    <p:nvSpPr>
                      <p:cNvPr id="1106" name="Oval 1759"/>
                      <p:cNvSpPr/>
                      <p:nvPr/>
                    </p:nvSpPr>
                    <p:spPr>
                      <a:xfrm flipH="1" rot="21396000">
                        <a:off x="13130280" y="4563000"/>
                        <a:ext cx="25380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7" name="Oval 1760"/>
                      <p:cNvSpPr/>
                      <p:nvPr/>
                    </p:nvSpPr>
                    <p:spPr>
                      <a:xfrm flipH="1" rot="21396000">
                        <a:off x="13130280" y="4563000"/>
                        <a:ext cx="25380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08" name="Group 1761"/>
                  <p:cNvGrpSpPr/>
                  <p:nvPr/>
                </p:nvGrpSpPr>
                <p:grpSpPr>
                  <a:xfrm>
                    <a:off x="13123440" y="4556160"/>
                    <a:ext cx="269280" cy="274320"/>
                    <a:chOff x="13123440" y="4556160"/>
                    <a:chExt cx="269280" cy="274320"/>
                  </a:xfrm>
                </p:grpSpPr>
                <p:sp>
                  <p:nvSpPr>
                    <p:cNvPr id="1109" name="Freeform 1762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Freeform 1763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Group 1764"/>
                  <p:cNvGrpSpPr/>
                  <p:nvPr/>
                </p:nvGrpSpPr>
                <p:grpSpPr>
                  <a:xfrm>
                    <a:off x="13093920" y="4527360"/>
                    <a:ext cx="324360" cy="332640"/>
                    <a:chOff x="13093920" y="4527360"/>
                    <a:chExt cx="324360" cy="332640"/>
                  </a:xfrm>
                </p:grpSpPr>
                <p:sp>
                  <p:nvSpPr>
                    <p:cNvPr id="1112" name="Oval 1765"/>
                    <p:cNvSpPr/>
                    <p:nvPr/>
                  </p:nvSpPr>
                  <p:spPr>
                    <a:xfrm flipH="1" rot="21396000">
                      <a:off x="13102200" y="453600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Oval 1766"/>
                    <p:cNvSpPr/>
                    <p:nvPr/>
                  </p:nvSpPr>
                  <p:spPr>
                    <a:xfrm flipH="1" rot="21396000">
                      <a:off x="13102200" y="453600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Group 1767"/>
                  <p:cNvGrpSpPr/>
                  <p:nvPr/>
                </p:nvGrpSpPr>
                <p:grpSpPr>
                  <a:xfrm>
                    <a:off x="13123440" y="4556160"/>
                    <a:ext cx="269280" cy="274320"/>
                    <a:chOff x="13123440" y="4556160"/>
                    <a:chExt cx="269280" cy="274320"/>
                  </a:xfrm>
                </p:grpSpPr>
                <p:sp>
                  <p:nvSpPr>
                    <p:cNvPr id="1115" name="Oval 1768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Oval 1769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7" name="Group 1770"/>
                  <p:cNvGrpSpPr/>
                  <p:nvPr/>
                </p:nvGrpSpPr>
                <p:grpSpPr>
                  <a:xfrm>
                    <a:off x="13093920" y="4527360"/>
                    <a:ext cx="324360" cy="332640"/>
                    <a:chOff x="13093920" y="4527360"/>
                    <a:chExt cx="324360" cy="332640"/>
                  </a:xfrm>
                </p:grpSpPr>
                <p:sp>
                  <p:nvSpPr>
                    <p:cNvPr id="1118" name="Oval 1771"/>
                    <p:cNvSpPr/>
                    <p:nvPr/>
                  </p:nvSpPr>
                  <p:spPr>
                    <a:xfrm flipH="1" rot="21396000">
                      <a:off x="13102200" y="453600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Oval 1772"/>
                    <p:cNvSpPr/>
                    <p:nvPr/>
                  </p:nvSpPr>
                  <p:spPr>
                    <a:xfrm flipH="1" rot="21396000">
                      <a:off x="13102200" y="453600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0" name="Group 1773"/>
                  <p:cNvGrpSpPr/>
                  <p:nvPr/>
                </p:nvGrpSpPr>
                <p:grpSpPr>
                  <a:xfrm>
                    <a:off x="13123440" y="4556160"/>
                    <a:ext cx="269280" cy="274320"/>
                    <a:chOff x="13123440" y="4556160"/>
                    <a:chExt cx="269280" cy="274320"/>
                  </a:xfrm>
                </p:grpSpPr>
                <p:sp>
                  <p:nvSpPr>
                    <p:cNvPr id="1121" name="Oval 1774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Oval 1775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Group 1776"/>
                  <p:cNvGrpSpPr/>
                  <p:nvPr/>
                </p:nvGrpSpPr>
                <p:grpSpPr>
                  <a:xfrm>
                    <a:off x="13123440" y="4556160"/>
                    <a:ext cx="269280" cy="274320"/>
                    <a:chOff x="13123440" y="4556160"/>
                    <a:chExt cx="269280" cy="274320"/>
                  </a:xfrm>
                </p:grpSpPr>
                <p:sp>
                  <p:nvSpPr>
                    <p:cNvPr id="1124" name="Freeform 1777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Freeform 1778"/>
                    <p:cNvSpPr/>
                    <p:nvPr/>
                  </p:nvSpPr>
                  <p:spPr>
                    <a:xfrm flipH="1" rot="21396000">
                      <a:off x="13130640" y="456336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6" name="Freeform 1779"/>
                  <p:cNvSpPr/>
                  <p:nvPr/>
                </p:nvSpPr>
                <p:spPr>
                  <a:xfrm flipH="1" rot="21396000">
                    <a:off x="14450040" y="4308840"/>
                    <a:ext cx="288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7" name="Group 1780"/>
                  <p:cNvGrpSpPr/>
                  <p:nvPr/>
                </p:nvGrpSpPr>
                <p:grpSpPr>
                  <a:xfrm>
                    <a:off x="14334480" y="4308840"/>
                    <a:ext cx="241560" cy="232560"/>
                    <a:chOff x="14334480" y="4308840"/>
                    <a:chExt cx="241560" cy="232560"/>
                  </a:xfrm>
                </p:grpSpPr>
                <p:sp>
                  <p:nvSpPr>
                    <p:cNvPr id="1128" name="Line 1781"/>
                    <p:cNvSpPr/>
                    <p:nvPr/>
                  </p:nvSpPr>
                  <p:spPr>
                    <a:xfrm>
                      <a:off x="14452920" y="4308840"/>
                      <a:ext cx="11520" cy="2325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Freeform 1782"/>
                    <p:cNvSpPr/>
                    <p:nvPr/>
                  </p:nvSpPr>
                  <p:spPr>
                    <a:xfrm flipH="1" rot="21396000">
                      <a:off x="14334840" y="438696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Freeform 1783"/>
                  <p:cNvSpPr/>
                  <p:nvPr/>
                </p:nvSpPr>
                <p:spPr>
                  <a:xfrm flipH="1" rot="21396000">
                    <a:off x="12960000" y="3983040"/>
                    <a:ext cx="1405800" cy="64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1" name="Group 1784"/>
                  <p:cNvGrpSpPr/>
                  <p:nvPr/>
                </p:nvGrpSpPr>
                <p:grpSpPr>
                  <a:xfrm>
                    <a:off x="12997080" y="4142520"/>
                    <a:ext cx="1296360" cy="267480"/>
                    <a:chOff x="12997080" y="4142520"/>
                    <a:chExt cx="1296360" cy="267480"/>
                  </a:xfrm>
                </p:grpSpPr>
                <p:sp>
                  <p:nvSpPr>
                    <p:cNvPr id="1132" name="Rectangle 1785"/>
                    <p:cNvSpPr/>
                    <p:nvPr/>
                  </p:nvSpPr>
                  <p:spPr>
                    <a:xfrm flipH="1" rot="21396000">
                      <a:off x="14149080" y="414648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Rectangle 1786"/>
                    <p:cNvSpPr/>
                    <p:nvPr/>
                  </p:nvSpPr>
                  <p:spPr>
                    <a:xfrm flipH="1" rot="21396000">
                      <a:off x="13987080" y="415620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Rectangle 1787"/>
                    <p:cNvSpPr/>
                    <p:nvPr/>
                  </p:nvSpPr>
                  <p:spPr>
                    <a:xfrm flipH="1" rot="21396000">
                      <a:off x="13824720" y="416556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Rectangle 1788"/>
                    <p:cNvSpPr/>
                    <p:nvPr/>
                  </p:nvSpPr>
                  <p:spPr>
                    <a:xfrm flipH="1" rot="21396000">
                      <a:off x="13656960" y="417564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Rectangle 1789"/>
                    <p:cNvSpPr/>
                    <p:nvPr/>
                  </p:nvSpPr>
                  <p:spPr>
                    <a:xfrm flipH="1" rot="21396000">
                      <a:off x="13488840" y="418572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Rectangle 1790"/>
                    <p:cNvSpPr/>
                    <p:nvPr/>
                  </p:nvSpPr>
                  <p:spPr>
                    <a:xfrm flipH="1" rot="21396000">
                      <a:off x="13326840" y="419508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Rectangle 1791"/>
                    <p:cNvSpPr/>
                    <p:nvPr/>
                  </p:nvSpPr>
                  <p:spPr>
                    <a:xfrm flipH="1" rot="21396000">
                      <a:off x="13002480" y="421452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Rectangle 1792"/>
                    <p:cNvSpPr/>
                    <p:nvPr/>
                  </p:nvSpPr>
                  <p:spPr>
                    <a:xfrm flipH="1" rot="21396000">
                      <a:off x="13164840" y="420480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0" name="Group 1793"/>
                  <p:cNvGrpSpPr/>
                  <p:nvPr/>
                </p:nvGrpSpPr>
                <p:grpSpPr>
                  <a:xfrm>
                    <a:off x="13924440" y="3859920"/>
                    <a:ext cx="153360" cy="146520"/>
                    <a:chOff x="13924440" y="3859920"/>
                    <a:chExt cx="153360" cy="146520"/>
                  </a:xfrm>
                </p:grpSpPr>
                <p:sp>
                  <p:nvSpPr>
                    <p:cNvPr id="1141" name="Oval 1794"/>
                    <p:cNvSpPr/>
                    <p:nvPr/>
                  </p:nvSpPr>
                  <p:spPr>
                    <a:xfrm flipH="1" rot="21396000">
                      <a:off x="13925520" y="386424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Freeform 1795"/>
                    <p:cNvSpPr/>
                    <p:nvPr/>
                  </p:nvSpPr>
                  <p:spPr>
                    <a:xfrm flipH="1" rot="21396000">
                      <a:off x="13965480" y="386424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3" name="Freeform 1796"/>
                  <p:cNvSpPr/>
                  <p:nvPr/>
                </p:nvSpPr>
                <p:spPr>
                  <a:xfrm flipH="1" rot="21396000">
                    <a:off x="12979440" y="4552560"/>
                    <a:ext cx="1363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1797"/>
                  <p:cNvSpPr/>
                  <p:nvPr/>
                </p:nvSpPr>
                <p:spPr>
                  <a:xfrm flipH="1" rot="21396000">
                    <a:off x="12951720" y="4080960"/>
                    <a:ext cx="13899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5" name="Group 1798"/>
                  <p:cNvGrpSpPr/>
                  <p:nvPr/>
                </p:nvGrpSpPr>
                <p:grpSpPr>
                  <a:xfrm>
                    <a:off x="13206240" y="3902760"/>
                    <a:ext cx="153360" cy="146160"/>
                    <a:chOff x="13206240" y="3902760"/>
                    <a:chExt cx="153360" cy="146160"/>
                  </a:xfrm>
                </p:grpSpPr>
                <p:sp>
                  <p:nvSpPr>
                    <p:cNvPr id="1146" name="Oval 1799"/>
                    <p:cNvSpPr/>
                    <p:nvPr/>
                  </p:nvSpPr>
                  <p:spPr>
                    <a:xfrm flipH="1" rot="21396000">
                      <a:off x="13207320" y="390708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Freeform 1800"/>
                    <p:cNvSpPr/>
                    <p:nvPr/>
                  </p:nvSpPr>
                  <p:spPr>
                    <a:xfrm flipH="1" rot="21396000">
                      <a:off x="13247280" y="390672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8" name="Freeform 1801"/>
                  <p:cNvSpPr/>
                  <p:nvPr/>
                </p:nvSpPr>
                <p:spPr>
                  <a:xfrm flipH="1" rot="21396000">
                    <a:off x="14168880" y="4364280"/>
                    <a:ext cx="12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3891a7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Freeform 1802"/>
                  <p:cNvSpPr/>
                  <p:nvPr/>
                </p:nvSpPr>
                <p:spPr>
                  <a:xfrm flipH="1" rot="21396000">
                    <a:off x="14139720" y="4086720"/>
                    <a:ext cx="16884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" name="Group 1803"/>
                <p:cNvGrpSpPr/>
                <p:nvPr/>
              </p:nvGrpSpPr>
              <p:grpSpPr>
                <a:xfrm>
                  <a:off x="15959880" y="4212360"/>
                  <a:ext cx="241560" cy="232200"/>
                  <a:chOff x="15959880" y="4212360"/>
                  <a:chExt cx="241560" cy="232200"/>
                </a:xfrm>
              </p:grpSpPr>
              <p:sp>
                <p:nvSpPr>
                  <p:cNvPr id="1151" name="Line 1804"/>
                  <p:cNvSpPr/>
                  <p:nvPr/>
                </p:nvSpPr>
                <p:spPr>
                  <a:xfrm>
                    <a:off x="16078320" y="4212360"/>
                    <a:ext cx="1152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Freeform 1805"/>
                  <p:cNvSpPr/>
                  <p:nvPr/>
                </p:nvSpPr>
                <p:spPr>
                  <a:xfrm flipH="1" rot="21396000">
                    <a:off x="15960240" y="4290480"/>
                    <a:ext cx="23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3" name="Group 1806"/>
              <p:cNvGrpSpPr/>
              <p:nvPr/>
            </p:nvGrpSpPr>
            <p:grpSpPr>
              <a:xfrm>
                <a:off x="9575280" y="3958560"/>
                <a:ext cx="3378960" cy="1094400"/>
                <a:chOff x="9575280" y="3958560"/>
                <a:chExt cx="3378960" cy="1094400"/>
              </a:xfrm>
            </p:grpSpPr>
            <p:grpSp>
              <p:nvGrpSpPr>
                <p:cNvPr id="1154" name="Group 1807"/>
                <p:cNvGrpSpPr/>
                <p:nvPr/>
              </p:nvGrpSpPr>
              <p:grpSpPr>
                <a:xfrm>
                  <a:off x="9575280" y="4593960"/>
                  <a:ext cx="165960" cy="232200"/>
                  <a:chOff x="9575280" y="4593960"/>
                  <a:chExt cx="165960" cy="232200"/>
                </a:xfrm>
              </p:grpSpPr>
              <p:sp>
                <p:nvSpPr>
                  <p:cNvPr id="1155" name="Line 1808"/>
                  <p:cNvSpPr/>
                  <p:nvPr/>
                </p:nvSpPr>
                <p:spPr>
                  <a:xfrm>
                    <a:off x="9654840" y="4593960"/>
                    <a:ext cx="1224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Freeform 1809"/>
                  <p:cNvSpPr/>
                  <p:nvPr/>
                </p:nvSpPr>
                <p:spPr>
                  <a:xfrm flipH="1" rot="21396000">
                    <a:off x="9576000" y="4672080"/>
                    <a:ext cx="1638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7" name="Group 1810"/>
                <p:cNvGrpSpPr/>
                <p:nvPr/>
              </p:nvGrpSpPr>
              <p:grpSpPr>
                <a:xfrm>
                  <a:off x="11125080" y="4499640"/>
                  <a:ext cx="241560" cy="232200"/>
                  <a:chOff x="11125080" y="4499640"/>
                  <a:chExt cx="241560" cy="232200"/>
                </a:xfrm>
              </p:grpSpPr>
              <p:sp>
                <p:nvSpPr>
                  <p:cNvPr id="1158" name="Line 1811"/>
                  <p:cNvSpPr/>
                  <p:nvPr/>
                </p:nvSpPr>
                <p:spPr>
                  <a:xfrm>
                    <a:off x="11243520" y="4499640"/>
                    <a:ext cx="1152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Freeform 1812"/>
                  <p:cNvSpPr/>
                  <p:nvPr/>
                </p:nvSpPr>
                <p:spPr>
                  <a:xfrm flipH="1" rot="21396000">
                    <a:off x="11125440" y="4577760"/>
                    <a:ext cx="23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1813"/>
                <p:cNvGrpSpPr/>
                <p:nvPr/>
              </p:nvGrpSpPr>
              <p:grpSpPr>
                <a:xfrm>
                  <a:off x="11282760" y="3958560"/>
                  <a:ext cx="1634040" cy="1000080"/>
                  <a:chOff x="11282760" y="3958560"/>
                  <a:chExt cx="1634040" cy="1000080"/>
                </a:xfrm>
              </p:grpSpPr>
              <p:grpSp>
                <p:nvGrpSpPr>
                  <p:cNvPr id="1161" name="Group 1814"/>
                  <p:cNvGrpSpPr/>
                  <p:nvPr/>
                </p:nvGrpSpPr>
                <p:grpSpPr>
                  <a:xfrm>
                    <a:off x="12277080" y="4575960"/>
                    <a:ext cx="320400" cy="331560"/>
                    <a:chOff x="12277080" y="4575960"/>
                    <a:chExt cx="320400" cy="331560"/>
                  </a:xfrm>
                </p:grpSpPr>
                <p:grpSp>
                  <p:nvGrpSpPr>
                    <p:cNvPr id="1162" name="Group 1815"/>
                    <p:cNvGrpSpPr/>
                    <p:nvPr/>
                  </p:nvGrpSpPr>
                  <p:grpSpPr>
                    <a:xfrm>
                      <a:off x="12277080" y="4575960"/>
                      <a:ext cx="320400" cy="331560"/>
                      <a:chOff x="12277080" y="4575960"/>
                      <a:chExt cx="320400" cy="331560"/>
                    </a:xfrm>
                  </p:grpSpPr>
                  <p:grpSp>
                    <p:nvGrpSpPr>
                      <p:cNvPr id="1163" name="Group 1816"/>
                      <p:cNvGrpSpPr/>
                      <p:nvPr/>
                    </p:nvGrpSpPr>
                    <p:grpSpPr>
                      <a:xfrm>
                        <a:off x="12277080" y="4575960"/>
                        <a:ext cx="320400" cy="331560"/>
                        <a:chOff x="12277080" y="4575960"/>
                        <a:chExt cx="320400" cy="331560"/>
                      </a:xfrm>
                    </p:grpSpPr>
                    <p:sp>
                      <p:nvSpPr>
                        <p:cNvPr id="1164" name="Oval 1817"/>
                        <p:cNvSpPr/>
                        <p:nvPr/>
                      </p:nvSpPr>
                      <p:spPr>
                        <a:xfrm flipH="1" rot="21396000">
                          <a:off x="12285720" y="4584600"/>
                          <a:ext cx="30240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5" name="Oval 1818"/>
                        <p:cNvSpPr/>
                        <p:nvPr/>
                      </p:nvSpPr>
                      <p:spPr>
                        <a:xfrm flipH="1" rot="21396000">
                          <a:off x="12285720" y="4584600"/>
                          <a:ext cx="30240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66" name="Group 1819"/>
                      <p:cNvGrpSpPr/>
                      <p:nvPr/>
                    </p:nvGrpSpPr>
                    <p:grpSpPr>
                      <a:xfrm>
                        <a:off x="12305520" y="4604400"/>
                        <a:ext cx="266040" cy="275040"/>
                        <a:chOff x="12305520" y="4604400"/>
                        <a:chExt cx="266040" cy="275040"/>
                      </a:xfrm>
                    </p:grpSpPr>
                    <p:sp>
                      <p:nvSpPr>
                        <p:cNvPr id="1167" name="Oval 1820"/>
                        <p:cNvSpPr/>
                        <p:nvPr/>
                      </p:nvSpPr>
                      <p:spPr>
                        <a:xfrm flipH="1" rot="21396000">
                          <a:off x="12312360" y="4611240"/>
                          <a:ext cx="25128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8" name="Oval 1821"/>
                        <p:cNvSpPr/>
                        <p:nvPr/>
                      </p:nvSpPr>
                      <p:spPr>
                        <a:xfrm flipH="1" rot="21396000">
                          <a:off x="12312360" y="4611240"/>
                          <a:ext cx="25128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69" name="Group 1822"/>
                    <p:cNvGrpSpPr/>
                    <p:nvPr/>
                  </p:nvGrpSpPr>
                  <p:grpSpPr>
                    <a:xfrm>
                      <a:off x="12305160" y="4604400"/>
                      <a:ext cx="266400" cy="275400"/>
                      <a:chOff x="12305160" y="4604400"/>
                      <a:chExt cx="266400" cy="275400"/>
                    </a:xfrm>
                  </p:grpSpPr>
                  <p:sp>
                    <p:nvSpPr>
                      <p:cNvPr id="1170" name="Freeform 1823"/>
                      <p:cNvSpPr/>
                      <p:nvPr/>
                    </p:nvSpPr>
                    <p:spPr>
                      <a:xfrm flipH="1" rot="21396000">
                        <a:off x="12312360" y="461124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1" name="Freeform 1824"/>
                      <p:cNvSpPr/>
                      <p:nvPr/>
                    </p:nvSpPr>
                    <p:spPr>
                      <a:xfrm flipH="1" rot="21396000">
                        <a:off x="12312360" y="461124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72" name="Group 1825"/>
                  <p:cNvGrpSpPr/>
                  <p:nvPr/>
                </p:nvGrpSpPr>
                <p:grpSpPr>
                  <a:xfrm>
                    <a:off x="11435040" y="4626000"/>
                    <a:ext cx="323640" cy="331920"/>
                    <a:chOff x="11435040" y="4626000"/>
                    <a:chExt cx="323640" cy="331920"/>
                  </a:xfrm>
                </p:grpSpPr>
                <p:grpSp>
                  <p:nvGrpSpPr>
                    <p:cNvPr id="1173" name="Group 1826"/>
                    <p:cNvGrpSpPr/>
                    <p:nvPr/>
                  </p:nvGrpSpPr>
                  <p:grpSpPr>
                    <a:xfrm>
                      <a:off x="11435040" y="4626000"/>
                      <a:ext cx="323640" cy="331920"/>
                      <a:chOff x="11435040" y="4626000"/>
                      <a:chExt cx="323640" cy="331920"/>
                    </a:xfrm>
                  </p:grpSpPr>
                  <p:grpSp>
                    <p:nvGrpSpPr>
                      <p:cNvPr id="1174" name="Group 1827"/>
                      <p:cNvGrpSpPr/>
                      <p:nvPr/>
                    </p:nvGrpSpPr>
                    <p:grpSpPr>
                      <a:xfrm>
                        <a:off x="11435040" y="4626000"/>
                        <a:ext cx="323640" cy="331920"/>
                        <a:chOff x="11435040" y="4626000"/>
                        <a:chExt cx="323640" cy="331920"/>
                      </a:xfrm>
                    </p:grpSpPr>
                    <p:sp>
                      <p:nvSpPr>
                        <p:cNvPr id="1175" name="Oval 1828"/>
                        <p:cNvSpPr/>
                        <p:nvPr/>
                      </p:nvSpPr>
                      <p:spPr>
                        <a:xfrm flipH="1" rot="21396000">
                          <a:off x="11443320" y="4634640"/>
                          <a:ext cx="30564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6" name="Oval 1829"/>
                        <p:cNvSpPr/>
                        <p:nvPr/>
                      </p:nvSpPr>
                      <p:spPr>
                        <a:xfrm flipH="1" rot="21396000">
                          <a:off x="11443320" y="4634640"/>
                          <a:ext cx="30564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77" name="Group 1830"/>
                      <p:cNvGrpSpPr/>
                      <p:nvPr/>
                    </p:nvGrpSpPr>
                    <p:grpSpPr>
                      <a:xfrm>
                        <a:off x="11463840" y="4654440"/>
                        <a:ext cx="268920" cy="275400"/>
                        <a:chOff x="11463840" y="4654440"/>
                        <a:chExt cx="268920" cy="275400"/>
                      </a:xfrm>
                    </p:grpSpPr>
                    <p:sp>
                      <p:nvSpPr>
                        <p:cNvPr id="1178" name="Oval 1831"/>
                        <p:cNvSpPr/>
                        <p:nvPr/>
                      </p:nvSpPr>
                      <p:spPr>
                        <a:xfrm flipH="1" rot="21396000">
                          <a:off x="11470680" y="466164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9" name="Oval 1832"/>
                        <p:cNvSpPr/>
                        <p:nvPr/>
                      </p:nvSpPr>
                      <p:spPr>
                        <a:xfrm flipH="1" rot="21396000">
                          <a:off x="11470680" y="466164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0" name="Group 1833"/>
                    <p:cNvGrpSpPr/>
                    <p:nvPr/>
                  </p:nvGrpSpPr>
                  <p:grpSpPr>
                    <a:xfrm>
                      <a:off x="11463840" y="4654440"/>
                      <a:ext cx="268920" cy="275760"/>
                      <a:chOff x="11463840" y="4654440"/>
                      <a:chExt cx="268920" cy="275760"/>
                    </a:xfrm>
                  </p:grpSpPr>
                  <p:sp>
                    <p:nvSpPr>
                      <p:cNvPr id="1181" name="Freeform 1834"/>
                      <p:cNvSpPr/>
                      <p:nvPr/>
                    </p:nvSpPr>
                    <p:spPr>
                      <a:xfrm flipH="1" rot="21396000">
                        <a:off x="11470680" y="466164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2" name="Freeform 1835"/>
                      <p:cNvSpPr/>
                      <p:nvPr/>
                    </p:nvSpPr>
                    <p:spPr>
                      <a:xfrm flipH="1" rot="21396000">
                        <a:off x="11470680" y="466164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83" name="Group 1836"/>
                  <p:cNvGrpSpPr/>
                  <p:nvPr/>
                </p:nvGrpSpPr>
                <p:grpSpPr>
                  <a:xfrm>
                    <a:off x="12276720" y="4575960"/>
                    <a:ext cx="320760" cy="331920"/>
                    <a:chOff x="12276720" y="4575960"/>
                    <a:chExt cx="320760" cy="331920"/>
                  </a:xfrm>
                </p:grpSpPr>
                <p:grpSp>
                  <p:nvGrpSpPr>
                    <p:cNvPr id="1184" name="Group 1837"/>
                    <p:cNvGrpSpPr/>
                    <p:nvPr/>
                  </p:nvGrpSpPr>
                  <p:grpSpPr>
                    <a:xfrm>
                      <a:off x="12276720" y="4575960"/>
                      <a:ext cx="320760" cy="331920"/>
                      <a:chOff x="12276720" y="4575960"/>
                      <a:chExt cx="320760" cy="331920"/>
                    </a:xfrm>
                  </p:grpSpPr>
                  <p:sp>
                    <p:nvSpPr>
                      <p:cNvPr id="1185" name="Oval 1838"/>
                      <p:cNvSpPr/>
                      <p:nvPr/>
                    </p:nvSpPr>
                    <p:spPr>
                      <a:xfrm flipH="1" rot="21396000">
                        <a:off x="12285000" y="4584600"/>
                        <a:ext cx="30276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6" name="Oval 1839"/>
                      <p:cNvSpPr/>
                      <p:nvPr/>
                    </p:nvSpPr>
                    <p:spPr>
                      <a:xfrm flipH="1" rot="21396000">
                        <a:off x="12285000" y="4584600"/>
                        <a:ext cx="30276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87" name="Group 1840"/>
                    <p:cNvGrpSpPr/>
                    <p:nvPr/>
                  </p:nvGrpSpPr>
                  <p:grpSpPr>
                    <a:xfrm>
                      <a:off x="12305160" y="4604400"/>
                      <a:ext cx="266400" cy="275400"/>
                      <a:chOff x="12305160" y="4604400"/>
                      <a:chExt cx="266400" cy="275400"/>
                    </a:xfrm>
                  </p:grpSpPr>
                  <p:sp>
                    <p:nvSpPr>
                      <p:cNvPr id="1188" name="Oval 1841"/>
                      <p:cNvSpPr/>
                      <p:nvPr/>
                    </p:nvSpPr>
                    <p:spPr>
                      <a:xfrm flipH="1" rot="21396000">
                        <a:off x="12312360" y="4611240"/>
                        <a:ext cx="25164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9" name="Oval 1842"/>
                      <p:cNvSpPr/>
                      <p:nvPr/>
                    </p:nvSpPr>
                    <p:spPr>
                      <a:xfrm flipH="1" rot="21396000">
                        <a:off x="12312360" y="4611240"/>
                        <a:ext cx="25164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90" name="Group 1843"/>
                  <p:cNvGrpSpPr/>
                  <p:nvPr/>
                </p:nvGrpSpPr>
                <p:grpSpPr>
                  <a:xfrm>
                    <a:off x="12304800" y="4604760"/>
                    <a:ext cx="267120" cy="273960"/>
                    <a:chOff x="12304800" y="4604760"/>
                    <a:chExt cx="267120" cy="273960"/>
                  </a:xfrm>
                </p:grpSpPr>
                <p:sp>
                  <p:nvSpPr>
                    <p:cNvPr id="1191" name="Freeform 1844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Freeform 1845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3" name="Group 1846"/>
                  <p:cNvGrpSpPr/>
                  <p:nvPr/>
                </p:nvGrpSpPr>
                <p:grpSpPr>
                  <a:xfrm>
                    <a:off x="12276360" y="4575960"/>
                    <a:ext cx="321120" cy="332280"/>
                    <a:chOff x="12276360" y="4575960"/>
                    <a:chExt cx="321120" cy="332280"/>
                  </a:xfrm>
                </p:grpSpPr>
                <p:sp>
                  <p:nvSpPr>
                    <p:cNvPr id="1194" name="Oval 1847"/>
                    <p:cNvSpPr/>
                    <p:nvPr/>
                  </p:nvSpPr>
                  <p:spPr>
                    <a:xfrm flipH="1" rot="21396000">
                      <a:off x="12285000" y="458460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Oval 1848"/>
                    <p:cNvSpPr/>
                    <p:nvPr/>
                  </p:nvSpPr>
                  <p:spPr>
                    <a:xfrm flipH="1" rot="21396000">
                      <a:off x="12285000" y="458460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Group 1849"/>
                  <p:cNvGrpSpPr/>
                  <p:nvPr/>
                </p:nvGrpSpPr>
                <p:grpSpPr>
                  <a:xfrm>
                    <a:off x="12304800" y="4604760"/>
                    <a:ext cx="267120" cy="273960"/>
                    <a:chOff x="12304800" y="4604760"/>
                    <a:chExt cx="267120" cy="273960"/>
                  </a:xfrm>
                </p:grpSpPr>
                <p:sp>
                  <p:nvSpPr>
                    <p:cNvPr id="1197" name="Oval 1850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Oval 1851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9" name="Group 1852"/>
                  <p:cNvGrpSpPr/>
                  <p:nvPr/>
                </p:nvGrpSpPr>
                <p:grpSpPr>
                  <a:xfrm>
                    <a:off x="12276360" y="4575960"/>
                    <a:ext cx="321120" cy="332280"/>
                    <a:chOff x="12276360" y="4575960"/>
                    <a:chExt cx="321120" cy="332280"/>
                  </a:xfrm>
                </p:grpSpPr>
                <p:sp>
                  <p:nvSpPr>
                    <p:cNvPr id="1200" name="Oval 1853"/>
                    <p:cNvSpPr/>
                    <p:nvPr/>
                  </p:nvSpPr>
                  <p:spPr>
                    <a:xfrm flipH="1" rot="21396000">
                      <a:off x="12285000" y="458460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Oval 1854"/>
                    <p:cNvSpPr/>
                    <p:nvPr/>
                  </p:nvSpPr>
                  <p:spPr>
                    <a:xfrm flipH="1" rot="21396000">
                      <a:off x="12285000" y="458460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2" name="Group 1855"/>
                  <p:cNvGrpSpPr/>
                  <p:nvPr/>
                </p:nvGrpSpPr>
                <p:grpSpPr>
                  <a:xfrm>
                    <a:off x="12304800" y="4604760"/>
                    <a:ext cx="267120" cy="273960"/>
                    <a:chOff x="12304800" y="4604760"/>
                    <a:chExt cx="267120" cy="273960"/>
                  </a:xfrm>
                </p:grpSpPr>
                <p:sp>
                  <p:nvSpPr>
                    <p:cNvPr id="1203" name="Oval 1856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Oval 1857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Group 1858"/>
                  <p:cNvGrpSpPr/>
                  <p:nvPr/>
                </p:nvGrpSpPr>
                <p:grpSpPr>
                  <a:xfrm>
                    <a:off x="12304800" y="4604760"/>
                    <a:ext cx="267120" cy="273960"/>
                    <a:chOff x="12304800" y="4604760"/>
                    <a:chExt cx="267120" cy="273960"/>
                  </a:xfrm>
                </p:grpSpPr>
                <p:sp>
                  <p:nvSpPr>
                    <p:cNvPr id="1206" name="Freeform 1859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Freeform 1860"/>
                    <p:cNvSpPr/>
                    <p:nvPr/>
                  </p:nvSpPr>
                  <p:spPr>
                    <a:xfrm flipH="1" rot="21396000">
                      <a:off x="12312000" y="461196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8" name="Group 1861"/>
                  <p:cNvGrpSpPr/>
                  <p:nvPr/>
                </p:nvGrpSpPr>
                <p:grpSpPr>
                  <a:xfrm>
                    <a:off x="11434680" y="4626000"/>
                    <a:ext cx="324000" cy="332280"/>
                    <a:chOff x="11434680" y="4626000"/>
                    <a:chExt cx="324000" cy="332280"/>
                  </a:xfrm>
                </p:grpSpPr>
                <p:grpSp>
                  <p:nvGrpSpPr>
                    <p:cNvPr id="1209" name="Group 1862"/>
                    <p:cNvGrpSpPr/>
                    <p:nvPr/>
                  </p:nvGrpSpPr>
                  <p:grpSpPr>
                    <a:xfrm>
                      <a:off x="11434680" y="4626000"/>
                      <a:ext cx="324000" cy="332280"/>
                      <a:chOff x="11434680" y="4626000"/>
                      <a:chExt cx="324000" cy="332280"/>
                    </a:xfrm>
                  </p:grpSpPr>
                  <p:sp>
                    <p:nvSpPr>
                      <p:cNvPr id="1210" name="Oval 1863"/>
                      <p:cNvSpPr/>
                      <p:nvPr/>
                    </p:nvSpPr>
                    <p:spPr>
                      <a:xfrm flipH="1" rot="21396000">
                        <a:off x="11443320" y="4634640"/>
                        <a:ext cx="30600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Oval 1864"/>
                      <p:cNvSpPr/>
                      <p:nvPr/>
                    </p:nvSpPr>
                    <p:spPr>
                      <a:xfrm flipH="1" rot="21396000">
                        <a:off x="11443320" y="4634640"/>
                        <a:ext cx="30600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2" name="Group 1865"/>
                    <p:cNvGrpSpPr/>
                    <p:nvPr/>
                  </p:nvGrpSpPr>
                  <p:grpSpPr>
                    <a:xfrm>
                      <a:off x="11463840" y="4654440"/>
                      <a:ext cx="268920" cy="275760"/>
                      <a:chOff x="11463840" y="4654440"/>
                      <a:chExt cx="268920" cy="275760"/>
                    </a:xfrm>
                  </p:grpSpPr>
                  <p:sp>
                    <p:nvSpPr>
                      <p:cNvPr id="1213" name="Oval 1866"/>
                      <p:cNvSpPr/>
                      <p:nvPr/>
                    </p:nvSpPr>
                    <p:spPr>
                      <a:xfrm flipH="1" rot="21396000">
                        <a:off x="11470680" y="4661640"/>
                        <a:ext cx="25380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4" name="Oval 1867"/>
                      <p:cNvSpPr/>
                      <p:nvPr/>
                    </p:nvSpPr>
                    <p:spPr>
                      <a:xfrm flipH="1" rot="21396000">
                        <a:off x="11470680" y="4661640"/>
                        <a:ext cx="25380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15" name="Group 1868"/>
                  <p:cNvGrpSpPr/>
                  <p:nvPr/>
                </p:nvGrpSpPr>
                <p:grpSpPr>
                  <a:xfrm>
                    <a:off x="11463840" y="4654800"/>
                    <a:ext cx="269280" cy="274320"/>
                    <a:chOff x="11463840" y="4654800"/>
                    <a:chExt cx="269280" cy="274320"/>
                  </a:xfrm>
                </p:grpSpPr>
                <p:sp>
                  <p:nvSpPr>
                    <p:cNvPr id="1216" name="Freeform 1869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Freeform 1870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Group 1871"/>
                  <p:cNvGrpSpPr/>
                  <p:nvPr/>
                </p:nvGrpSpPr>
                <p:grpSpPr>
                  <a:xfrm>
                    <a:off x="11434320" y="4626000"/>
                    <a:ext cx="324360" cy="332640"/>
                    <a:chOff x="11434320" y="4626000"/>
                    <a:chExt cx="324360" cy="332640"/>
                  </a:xfrm>
                </p:grpSpPr>
                <p:sp>
                  <p:nvSpPr>
                    <p:cNvPr id="1219" name="Oval 1872"/>
                    <p:cNvSpPr/>
                    <p:nvPr/>
                  </p:nvSpPr>
                  <p:spPr>
                    <a:xfrm flipH="1" rot="21396000">
                      <a:off x="11442600" y="463464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Oval 1873"/>
                    <p:cNvSpPr/>
                    <p:nvPr/>
                  </p:nvSpPr>
                  <p:spPr>
                    <a:xfrm flipH="1" rot="21396000">
                      <a:off x="11442600" y="463464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Group 1874"/>
                  <p:cNvGrpSpPr/>
                  <p:nvPr/>
                </p:nvGrpSpPr>
                <p:grpSpPr>
                  <a:xfrm>
                    <a:off x="11463840" y="4654800"/>
                    <a:ext cx="269280" cy="274320"/>
                    <a:chOff x="11463840" y="4654800"/>
                    <a:chExt cx="269280" cy="274320"/>
                  </a:xfrm>
                </p:grpSpPr>
                <p:sp>
                  <p:nvSpPr>
                    <p:cNvPr id="1222" name="Oval 1875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Oval 1876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1877"/>
                  <p:cNvGrpSpPr/>
                  <p:nvPr/>
                </p:nvGrpSpPr>
                <p:grpSpPr>
                  <a:xfrm>
                    <a:off x="11434320" y="4626000"/>
                    <a:ext cx="324360" cy="332640"/>
                    <a:chOff x="11434320" y="4626000"/>
                    <a:chExt cx="324360" cy="332640"/>
                  </a:xfrm>
                </p:grpSpPr>
                <p:sp>
                  <p:nvSpPr>
                    <p:cNvPr id="1225" name="Oval 1878"/>
                    <p:cNvSpPr/>
                    <p:nvPr/>
                  </p:nvSpPr>
                  <p:spPr>
                    <a:xfrm flipH="1" rot="21396000">
                      <a:off x="11442600" y="463464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Oval 1879"/>
                    <p:cNvSpPr/>
                    <p:nvPr/>
                  </p:nvSpPr>
                  <p:spPr>
                    <a:xfrm flipH="1" rot="21396000">
                      <a:off x="11442600" y="463464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Group 1880"/>
                  <p:cNvGrpSpPr/>
                  <p:nvPr/>
                </p:nvGrpSpPr>
                <p:grpSpPr>
                  <a:xfrm>
                    <a:off x="11463840" y="4654800"/>
                    <a:ext cx="269280" cy="274320"/>
                    <a:chOff x="11463840" y="4654800"/>
                    <a:chExt cx="269280" cy="274320"/>
                  </a:xfrm>
                </p:grpSpPr>
                <p:sp>
                  <p:nvSpPr>
                    <p:cNvPr id="1228" name="Oval 1881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Oval 1882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Group 1883"/>
                  <p:cNvGrpSpPr/>
                  <p:nvPr/>
                </p:nvGrpSpPr>
                <p:grpSpPr>
                  <a:xfrm>
                    <a:off x="11463840" y="4654800"/>
                    <a:ext cx="269280" cy="274320"/>
                    <a:chOff x="11463840" y="4654800"/>
                    <a:chExt cx="269280" cy="274320"/>
                  </a:xfrm>
                </p:grpSpPr>
                <p:sp>
                  <p:nvSpPr>
                    <p:cNvPr id="1231" name="Freeform 1884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Freeform 1885"/>
                    <p:cNvSpPr/>
                    <p:nvPr/>
                  </p:nvSpPr>
                  <p:spPr>
                    <a:xfrm flipH="1" rot="21396000">
                      <a:off x="11471040" y="466200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3" name="Freeform 1886"/>
                  <p:cNvSpPr/>
                  <p:nvPr/>
                </p:nvSpPr>
                <p:spPr>
                  <a:xfrm flipH="1" rot="21396000">
                    <a:off x="12790440" y="4407480"/>
                    <a:ext cx="288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4" name="Group 1887"/>
                  <p:cNvGrpSpPr/>
                  <p:nvPr/>
                </p:nvGrpSpPr>
                <p:grpSpPr>
                  <a:xfrm>
                    <a:off x="12675240" y="4407480"/>
                    <a:ext cx="241560" cy="232560"/>
                    <a:chOff x="12675240" y="4407480"/>
                    <a:chExt cx="241560" cy="232560"/>
                  </a:xfrm>
                </p:grpSpPr>
                <p:sp>
                  <p:nvSpPr>
                    <p:cNvPr id="1235" name="Line 1888"/>
                    <p:cNvSpPr/>
                    <p:nvPr/>
                  </p:nvSpPr>
                  <p:spPr>
                    <a:xfrm>
                      <a:off x="12793320" y="4407480"/>
                      <a:ext cx="11880" cy="2325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Freeform 1889"/>
                    <p:cNvSpPr/>
                    <p:nvPr/>
                  </p:nvSpPr>
                  <p:spPr>
                    <a:xfrm flipH="1" rot="21396000">
                      <a:off x="12675600" y="448560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Freeform 1890"/>
                  <p:cNvSpPr/>
                  <p:nvPr/>
                </p:nvSpPr>
                <p:spPr>
                  <a:xfrm flipH="1" rot="21396000">
                    <a:off x="11300400" y="4081680"/>
                    <a:ext cx="1405800" cy="64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8" name="Group 1891"/>
                  <p:cNvGrpSpPr/>
                  <p:nvPr/>
                </p:nvGrpSpPr>
                <p:grpSpPr>
                  <a:xfrm>
                    <a:off x="11337840" y="4241160"/>
                    <a:ext cx="1296000" cy="267480"/>
                    <a:chOff x="11337840" y="4241160"/>
                    <a:chExt cx="1296000" cy="267480"/>
                  </a:xfrm>
                </p:grpSpPr>
                <p:sp>
                  <p:nvSpPr>
                    <p:cNvPr id="1239" name="Rectangle 1892"/>
                    <p:cNvSpPr/>
                    <p:nvPr/>
                  </p:nvSpPr>
                  <p:spPr>
                    <a:xfrm flipH="1" rot="21396000">
                      <a:off x="12489480" y="424512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Rectangle 1893"/>
                    <p:cNvSpPr/>
                    <p:nvPr/>
                  </p:nvSpPr>
                  <p:spPr>
                    <a:xfrm flipH="1" rot="21396000">
                      <a:off x="12327480" y="425448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Rectangle 1894"/>
                    <p:cNvSpPr/>
                    <p:nvPr/>
                  </p:nvSpPr>
                  <p:spPr>
                    <a:xfrm flipH="1" rot="21396000">
                      <a:off x="12165480" y="426420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Rectangle 1895"/>
                    <p:cNvSpPr/>
                    <p:nvPr/>
                  </p:nvSpPr>
                  <p:spPr>
                    <a:xfrm flipH="1" rot="21396000">
                      <a:off x="11997360" y="427428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Rectangle 1896"/>
                    <p:cNvSpPr/>
                    <p:nvPr/>
                  </p:nvSpPr>
                  <p:spPr>
                    <a:xfrm flipH="1" rot="21396000">
                      <a:off x="11829240" y="428436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Rectangle 1897"/>
                    <p:cNvSpPr/>
                    <p:nvPr/>
                  </p:nvSpPr>
                  <p:spPr>
                    <a:xfrm flipH="1" rot="21396000">
                      <a:off x="11667240" y="429372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5" name="Rectangle 1898"/>
                    <p:cNvSpPr/>
                    <p:nvPr/>
                  </p:nvSpPr>
                  <p:spPr>
                    <a:xfrm flipH="1" rot="21396000">
                      <a:off x="11343240" y="431316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Rectangle 1899"/>
                    <p:cNvSpPr/>
                    <p:nvPr/>
                  </p:nvSpPr>
                  <p:spPr>
                    <a:xfrm flipH="1" rot="21396000">
                      <a:off x="11505240" y="430344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Group 1900"/>
                  <p:cNvGrpSpPr/>
                  <p:nvPr/>
                </p:nvGrpSpPr>
                <p:grpSpPr>
                  <a:xfrm>
                    <a:off x="12264840" y="3958560"/>
                    <a:ext cx="153360" cy="146520"/>
                    <a:chOff x="12264840" y="3958560"/>
                    <a:chExt cx="153360" cy="146520"/>
                  </a:xfrm>
                </p:grpSpPr>
                <p:sp>
                  <p:nvSpPr>
                    <p:cNvPr id="1248" name="Oval 1901"/>
                    <p:cNvSpPr/>
                    <p:nvPr/>
                  </p:nvSpPr>
                  <p:spPr>
                    <a:xfrm flipH="1" rot="21396000">
                      <a:off x="12265920" y="396288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Freeform 1902"/>
                    <p:cNvSpPr/>
                    <p:nvPr/>
                  </p:nvSpPr>
                  <p:spPr>
                    <a:xfrm flipH="1" rot="21396000">
                      <a:off x="12306240" y="396288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0" name="Freeform 1903"/>
                  <p:cNvSpPr/>
                  <p:nvPr/>
                </p:nvSpPr>
                <p:spPr>
                  <a:xfrm flipH="1" rot="21396000">
                    <a:off x="11319840" y="4651200"/>
                    <a:ext cx="1363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1904"/>
                  <p:cNvSpPr/>
                  <p:nvPr/>
                </p:nvSpPr>
                <p:spPr>
                  <a:xfrm flipH="1" rot="21396000">
                    <a:off x="11292120" y="4179600"/>
                    <a:ext cx="13899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2" name="Group 1905"/>
                  <p:cNvGrpSpPr/>
                  <p:nvPr/>
                </p:nvGrpSpPr>
                <p:grpSpPr>
                  <a:xfrm>
                    <a:off x="11546640" y="4001400"/>
                    <a:ext cx="153360" cy="146160"/>
                    <a:chOff x="11546640" y="4001400"/>
                    <a:chExt cx="153360" cy="146160"/>
                  </a:xfrm>
                </p:grpSpPr>
                <p:sp>
                  <p:nvSpPr>
                    <p:cNvPr id="1253" name="Oval 1906"/>
                    <p:cNvSpPr/>
                    <p:nvPr/>
                  </p:nvSpPr>
                  <p:spPr>
                    <a:xfrm flipH="1" rot="21396000">
                      <a:off x="11547720" y="400572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Freeform 1907"/>
                    <p:cNvSpPr/>
                    <p:nvPr/>
                  </p:nvSpPr>
                  <p:spPr>
                    <a:xfrm flipH="1" rot="21396000">
                      <a:off x="11587680" y="400536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5" name="Freeform 1908"/>
                  <p:cNvSpPr/>
                  <p:nvPr/>
                </p:nvSpPr>
                <p:spPr>
                  <a:xfrm flipH="1" rot="21396000">
                    <a:off x="12509280" y="4462920"/>
                    <a:ext cx="12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3891a7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Freeform 1909"/>
                  <p:cNvSpPr/>
                  <p:nvPr/>
                </p:nvSpPr>
                <p:spPr>
                  <a:xfrm flipH="1" rot="21396000">
                    <a:off x="12480120" y="4185360"/>
                    <a:ext cx="16884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7" name="Group 1910"/>
                <p:cNvGrpSpPr/>
                <p:nvPr/>
              </p:nvGrpSpPr>
              <p:grpSpPr>
                <a:xfrm>
                  <a:off x="9694800" y="4052880"/>
                  <a:ext cx="1633680" cy="1000080"/>
                  <a:chOff x="9694800" y="4052880"/>
                  <a:chExt cx="1633680" cy="1000080"/>
                </a:xfrm>
              </p:grpSpPr>
              <p:grpSp>
                <p:nvGrpSpPr>
                  <p:cNvPr id="1258" name="Group 1911"/>
                  <p:cNvGrpSpPr/>
                  <p:nvPr/>
                </p:nvGrpSpPr>
                <p:grpSpPr>
                  <a:xfrm>
                    <a:off x="10689120" y="4670640"/>
                    <a:ext cx="320400" cy="331560"/>
                    <a:chOff x="10689120" y="4670640"/>
                    <a:chExt cx="320400" cy="331560"/>
                  </a:xfrm>
                </p:grpSpPr>
                <p:grpSp>
                  <p:nvGrpSpPr>
                    <p:cNvPr id="1259" name="Group 1912"/>
                    <p:cNvGrpSpPr/>
                    <p:nvPr/>
                  </p:nvGrpSpPr>
                  <p:grpSpPr>
                    <a:xfrm>
                      <a:off x="10689120" y="4670640"/>
                      <a:ext cx="320400" cy="331560"/>
                      <a:chOff x="10689120" y="4670640"/>
                      <a:chExt cx="320400" cy="331560"/>
                    </a:xfrm>
                  </p:grpSpPr>
                  <p:grpSp>
                    <p:nvGrpSpPr>
                      <p:cNvPr id="1260" name="Group 1913"/>
                      <p:cNvGrpSpPr/>
                      <p:nvPr/>
                    </p:nvGrpSpPr>
                    <p:grpSpPr>
                      <a:xfrm>
                        <a:off x="10689120" y="4670640"/>
                        <a:ext cx="320400" cy="331560"/>
                        <a:chOff x="10689120" y="4670640"/>
                        <a:chExt cx="320400" cy="331560"/>
                      </a:xfrm>
                    </p:grpSpPr>
                    <p:sp>
                      <p:nvSpPr>
                        <p:cNvPr id="1261" name="Oval 1914"/>
                        <p:cNvSpPr/>
                        <p:nvPr/>
                      </p:nvSpPr>
                      <p:spPr>
                        <a:xfrm flipH="1" rot="21396000">
                          <a:off x="10697760" y="4679280"/>
                          <a:ext cx="30240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2" name="Oval 1915"/>
                        <p:cNvSpPr/>
                        <p:nvPr/>
                      </p:nvSpPr>
                      <p:spPr>
                        <a:xfrm flipH="1" rot="21396000">
                          <a:off x="10697760" y="4679280"/>
                          <a:ext cx="30240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3" name="Group 1916"/>
                      <p:cNvGrpSpPr/>
                      <p:nvPr/>
                    </p:nvGrpSpPr>
                    <p:grpSpPr>
                      <a:xfrm>
                        <a:off x="10717200" y="4698720"/>
                        <a:ext cx="266040" cy="275040"/>
                        <a:chOff x="10717200" y="4698720"/>
                        <a:chExt cx="266040" cy="275040"/>
                      </a:xfrm>
                    </p:grpSpPr>
                    <p:sp>
                      <p:nvSpPr>
                        <p:cNvPr id="1264" name="Oval 1917"/>
                        <p:cNvSpPr/>
                        <p:nvPr/>
                      </p:nvSpPr>
                      <p:spPr>
                        <a:xfrm flipH="1" rot="21396000">
                          <a:off x="10724040" y="4705560"/>
                          <a:ext cx="25128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5" name="Oval 1918"/>
                        <p:cNvSpPr/>
                        <p:nvPr/>
                      </p:nvSpPr>
                      <p:spPr>
                        <a:xfrm flipH="1" rot="21396000">
                          <a:off x="10724040" y="4705560"/>
                          <a:ext cx="25128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66" name="Group 1919"/>
                    <p:cNvGrpSpPr/>
                    <p:nvPr/>
                  </p:nvGrpSpPr>
                  <p:grpSpPr>
                    <a:xfrm>
                      <a:off x="10716840" y="4698720"/>
                      <a:ext cx="266400" cy="275400"/>
                      <a:chOff x="10716840" y="4698720"/>
                      <a:chExt cx="266400" cy="275400"/>
                    </a:xfrm>
                  </p:grpSpPr>
                  <p:sp>
                    <p:nvSpPr>
                      <p:cNvPr id="1267" name="Freeform 1920"/>
                      <p:cNvSpPr/>
                      <p:nvPr/>
                    </p:nvSpPr>
                    <p:spPr>
                      <a:xfrm flipH="1" rot="21396000">
                        <a:off x="10724040" y="470556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8" name="Freeform 1921"/>
                      <p:cNvSpPr/>
                      <p:nvPr/>
                    </p:nvSpPr>
                    <p:spPr>
                      <a:xfrm flipH="1" rot="21396000">
                        <a:off x="10724040" y="4705560"/>
                        <a:ext cx="25164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69" name="Group 1922"/>
                  <p:cNvGrpSpPr/>
                  <p:nvPr/>
                </p:nvGrpSpPr>
                <p:grpSpPr>
                  <a:xfrm>
                    <a:off x="9847080" y="4720320"/>
                    <a:ext cx="323640" cy="331920"/>
                    <a:chOff x="9847080" y="4720320"/>
                    <a:chExt cx="323640" cy="331920"/>
                  </a:xfrm>
                </p:grpSpPr>
                <p:grpSp>
                  <p:nvGrpSpPr>
                    <p:cNvPr id="1270" name="Group 1923"/>
                    <p:cNvGrpSpPr/>
                    <p:nvPr/>
                  </p:nvGrpSpPr>
                  <p:grpSpPr>
                    <a:xfrm>
                      <a:off x="9847080" y="4720320"/>
                      <a:ext cx="323640" cy="331920"/>
                      <a:chOff x="9847080" y="4720320"/>
                      <a:chExt cx="323640" cy="331920"/>
                    </a:xfrm>
                  </p:grpSpPr>
                  <p:grpSp>
                    <p:nvGrpSpPr>
                      <p:cNvPr id="1271" name="Group 1924"/>
                      <p:cNvGrpSpPr/>
                      <p:nvPr/>
                    </p:nvGrpSpPr>
                    <p:grpSpPr>
                      <a:xfrm>
                        <a:off x="9847080" y="4720320"/>
                        <a:ext cx="323640" cy="331920"/>
                        <a:chOff x="9847080" y="4720320"/>
                        <a:chExt cx="323640" cy="331920"/>
                      </a:xfrm>
                    </p:grpSpPr>
                    <p:sp>
                      <p:nvSpPr>
                        <p:cNvPr id="1272" name="Oval 1925"/>
                        <p:cNvSpPr/>
                        <p:nvPr/>
                      </p:nvSpPr>
                      <p:spPr>
                        <a:xfrm flipH="1" rot="21396000">
                          <a:off x="9855360" y="4728960"/>
                          <a:ext cx="30564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Oval 1926"/>
                        <p:cNvSpPr/>
                        <p:nvPr/>
                      </p:nvSpPr>
                      <p:spPr>
                        <a:xfrm flipH="1" rot="21396000">
                          <a:off x="9855360" y="4728960"/>
                          <a:ext cx="30564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4" name="Group 1927"/>
                      <p:cNvGrpSpPr/>
                      <p:nvPr/>
                    </p:nvGrpSpPr>
                    <p:grpSpPr>
                      <a:xfrm>
                        <a:off x="9875520" y="4748760"/>
                        <a:ext cx="268920" cy="275400"/>
                        <a:chOff x="9875520" y="4748760"/>
                        <a:chExt cx="268920" cy="275400"/>
                      </a:xfrm>
                    </p:grpSpPr>
                    <p:sp>
                      <p:nvSpPr>
                        <p:cNvPr id="1275" name="Oval 1928"/>
                        <p:cNvSpPr/>
                        <p:nvPr/>
                      </p:nvSpPr>
                      <p:spPr>
                        <a:xfrm flipH="1" rot="21396000">
                          <a:off x="9882360" y="475596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Oval 1929"/>
                        <p:cNvSpPr/>
                        <p:nvPr/>
                      </p:nvSpPr>
                      <p:spPr>
                        <a:xfrm flipH="1" rot="21396000">
                          <a:off x="9882360" y="475596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7" name="Group 1930"/>
                    <p:cNvGrpSpPr/>
                    <p:nvPr/>
                  </p:nvGrpSpPr>
                  <p:grpSpPr>
                    <a:xfrm>
                      <a:off x="9875520" y="4748760"/>
                      <a:ext cx="268920" cy="275760"/>
                      <a:chOff x="9875520" y="4748760"/>
                      <a:chExt cx="268920" cy="275760"/>
                    </a:xfrm>
                  </p:grpSpPr>
                  <p:sp>
                    <p:nvSpPr>
                      <p:cNvPr id="1278" name="Freeform 1931"/>
                      <p:cNvSpPr/>
                      <p:nvPr/>
                    </p:nvSpPr>
                    <p:spPr>
                      <a:xfrm flipH="1" rot="21396000">
                        <a:off x="9882360" y="475596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Freeform 1932"/>
                      <p:cNvSpPr/>
                      <p:nvPr/>
                    </p:nvSpPr>
                    <p:spPr>
                      <a:xfrm flipH="1" rot="21396000">
                        <a:off x="9882360" y="4755960"/>
                        <a:ext cx="253800" cy="26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80" name="Group 1933"/>
                  <p:cNvGrpSpPr/>
                  <p:nvPr/>
                </p:nvGrpSpPr>
                <p:grpSpPr>
                  <a:xfrm>
                    <a:off x="10688760" y="4670640"/>
                    <a:ext cx="320760" cy="331920"/>
                    <a:chOff x="10688760" y="4670640"/>
                    <a:chExt cx="320760" cy="331920"/>
                  </a:xfrm>
                </p:grpSpPr>
                <p:grpSp>
                  <p:nvGrpSpPr>
                    <p:cNvPr id="1281" name="Group 1934"/>
                    <p:cNvGrpSpPr/>
                    <p:nvPr/>
                  </p:nvGrpSpPr>
                  <p:grpSpPr>
                    <a:xfrm>
                      <a:off x="10688760" y="4670640"/>
                      <a:ext cx="320760" cy="331920"/>
                      <a:chOff x="10688760" y="4670640"/>
                      <a:chExt cx="320760" cy="331920"/>
                    </a:xfrm>
                  </p:grpSpPr>
                  <p:sp>
                    <p:nvSpPr>
                      <p:cNvPr id="1282" name="Oval 1935"/>
                      <p:cNvSpPr/>
                      <p:nvPr/>
                    </p:nvSpPr>
                    <p:spPr>
                      <a:xfrm flipH="1" rot="21396000">
                        <a:off x="10697040" y="4679280"/>
                        <a:ext cx="30276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Oval 1936"/>
                      <p:cNvSpPr/>
                      <p:nvPr/>
                    </p:nvSpPr>
                    <p:spPr>
                      <a:xfrm flipH="1" rot="21396000">
                        <a:off x="10697040" y="4679280"/>
                        <a:ext cx="30276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4" name="Group 1937"/>
                    <p:cNvGrpSpPr/>
                    <p:nvPr/>
                  </p:nvGrpSpPr>
                  <p:grpSpPr>
                    <a:xfrm>
                      <a:off x="10716840" y="4698720"/>
                      <a:ext cx="266400" cy="275400"/>
                      <a:chOff x="10716840" y="4698720"/>
                      <a:chExt cx="266400" cy="275400"/>
                    </a:xfrm>
                  </p:grpSpPr>
                  <p:sp>
                    <p:nvSpPr>
                      <p:cNvPr id="1285" name="Oval 1938"/>
                      <p:cNvSpPr/>
                      <p:nvPr/>
                    </p:nvSpPr>
                    <p:spPr>
                      <a:xfrm flipH="1" rot="21396000">
                        <a:off x="10724040" y="4705560"/>
                        <a:ext cx="25164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6" name="Oval 1939"/>
                      <p:cNvSpPr/>
                      <p:nvPr/>
                    </p:nvSpPr>
                    <p:spPr>
                      <a:xfrm flipH="1" rot="21396000">
                        <a:off x="10724040" y="4705560"/>
                        <a:ext cx="25164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87" name="Group 1940"/>
                  <p:cNvGrpSpPr/>
                  <p:nvPr/>
                </p:nvGrpSpPr>
                <p:grpSpPr>
                  <a:xfrm>
                    <a:off x="10716480" y="4699080"/>
                    <a:ext cx="267120" cy="273960"/>
                    <a:chOff x="10716480" y="4699080"/>
                    <a:chExt cx="267120" cy="273960"/>
                  </a:xfrm>
                </p:grpSpPr>
                <p:sp>
                  <p:nvSpPr>
                    <p:cNvPr id="1288" name="Freeform 1941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Freeform 1942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Group 1943"/>
                  <p:cNvGrpSpPr/>
                  <p:nvPr/>
                </p:nvGrpSpPr>
                <p:grpSpPr>
                  <a:xfrm>
                    <a:off x="10688400" y="4670640"/>
                    <a:ext cx="321120" cy="332280"/>
                    <a:chOff x="10688400" y="4670640"/>
                    <a:chExt cx="321120" cy="332280"/>
                  </a:xfrm>
                </p:grpSpPr>
                <p:sp>
                  <p:nvSpPr>
                    <p:cNvPr id="1291" name="Oval 1944"/>
                    <p:cNvSpPr/>
                    <p:nvPr/>
                  </p:nvSpPr>
                  <p:spPr>
                    <a:xfrm flipH="1" rot="21396000">
                      <a:off x="10697040" y="467928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Oval 1945"/>
                    <p:cNvSpPr/>
                    <p:nvPr/>
                  </p:nvSpPr>
                  <p:spPr>
                    <a:xfrm flipH="1" rot="21396000">
                      <a:off x="10697040" y="467928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Group 1946"/>
                  <p:cNvGrpSpPr/>
                  <p:nvPr/>
                </p:nvGrpSpPr>
                <p:grpSpPr>
                  <a:xfrm>
                    <a:off x="10716480" y="4699080"/>
                    <a:ext cx="267120" cy="273960"/>
                    <a:chOff x="10716480" y="4699080"/>
                    <a:chExt cx="267120" cy="273960"/>
                  </a:xfrm>
                </p:grpSpPr>
                <p:sp>
                  <p:nvSpPr>
                    <p:cNvPr id="1294" name="Oval 1947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Oval 1948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6" name="Group 1949"/>
                  <p:cNvGrpSpPr/>
                  <p:nvPr/>
                </p:nvGrpSpPr>
                <p:grpSpPr>
                  <a:xfrm>
                    <a:off x="10688400" y="4670640"/>
                    <a:ext cx="321120" cy="332280"/>
                    <a:chOff x="10688400" y="4670640"/>
                    <a:chExt cx="321120" cy="332280"/>
                  </a:xfrm>
                </p:grpSpPr>
                <p:sp>
                  <p:nvSpPr>
                    <p:cNvPr id="1297" name="Oval 1950"/>
                    <p:cNvSpPr/>
                    <p:nvPr/>
                  </p:nvSpPr>
                  <p:spPr>
                    <a:xfrm flipH="1" rot="21396000">
                      <a:off x="10697040" y="4679280"/>
                      <a:ext cx="303120" cy="31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Oval 1951"/>
                    <p:cNvSpPr/>
                    <p:nvPr/>
                  </p:nvSpPr>
                  <p:spPr>
                    <a:xfrm flipH="1" rot="21396000">
                      <a:off x="10697040" y="4679280"/>
                      <a:ext cx="303120" cy="31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9" name="Group 1952"/>
                  <p:cNvGrpSpPr/>
                  <p:nvPr/>
                </p:nvGrpSpPr>
                <p:grpSpPr>
                  <a:xfrm>
                    <a:off x="10716480" y="4699080"/>
                    <a:ext cx="267120" cy="273960"/>
                    <a:chOff x="10716480" y="4699080"/>
                    <a:chExt cx="267120" cy="273960"/>
                  </a:xfrm>
                </p:grpSpPr>
                <p:sp>
                  <p:nvSpPr>
                    <p:cNvPr id="1300" name="Oval 1953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Oval 1954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2" name="Group 1955"/>
                  <p:cNvGrpSpPr/>
                  <p:nvPr/>
                </p:nvGrpSpPr>
                <p:grpSpPr>
                  <a:xfrm>
                    <a:off x="10716480" y="4699080"/>
                    <a:ext cx="267120" cy="273960"/>
                    <a:chOff x="10716480" y="4699080"/>
                    <a:chExt cx="267120" cy="273960"/>
                  </a:xfrm>
                </p:grpSpPr>
                <p:sp>
                  <p:nvSpPr>
                    <p:cNvPr id="1303" name="Freeform 1956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Freeform 1957"/>
                    <p:cNvSpPr/>
                    <p:nvPr/>
                  </p:nvSpPr>
                  <p:spPr>
                    <a:xfrm flipH="1" rot="21396000">
                      <a:off x="10723680" y="4706280"/>
                      <a:ext cx="25200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5" name="Group 1958"/>
                  <p:cNvGrpSpPr/>
                  <p:nvPr/>
                </p:nvGrpSpPr>
                <p:grpSpPr>
                  <a:xfrm>
                    <a:off x="9846720" y="4720320"/>
                    <a:ext cx="324000" cy="332280"/>
                    <a:chOff x="9846720" y="4720320"/>
                    <a:chExt cx="324000" cy="332280"/>
                  </a:xfrm>
                </p:grpSpPr>
                <p:grpSp>
                  <p:nvGrpSpPr>
                    <p:cNvPr id="1306" name="Group 1959"/>
                    <p:cNvGrpSpPr/>
                    <p:nvPr/>
                  </p:nvGrpSpPr>
                  <p:grpSpPr>
                    <a:xfrm>
                      <a:off x="9846720" y="4720320"/>
                      <a:ext cx="324000" cy="332280"/>
                      <a:chOff x="9846720" y="4720320"/>
                      <a:chExt cx="324000" cy="332280"/>
                    </a:xfrm>
                  </p:grpSpPr>
                  <p:sp>
                    <p:nvSpPr>
                      <p:cNvPr id="1307" name="Oval 1960"/>
                      <p:cNvSpPr/>
                      <p:nvPr/>
                    </p:nvSpPr>
                    <p:spPr>
                      <a:xfrm flipH="1" rot="21396000">
                        <a:off x="9855360" y="4728960"/>
                        <a:ext cx="30600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Oval 1961"/>
                      <p:cNvSpPr/>
                      <p:nvPr/>
                    </p:nvSpPr>
                    <p:spPr>
                      <a:xfrm flipH="1" rot="21396000">
                        <a:off x="9855360" y="4728960"/>
                        <a:ext cx="30600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9" name="Group 1962"/>
                    <p:cNvGrpSpPr/>
                    <p:nvPr/>
                  </p:nvGrpSpPr>
                  <p:grpSpPr>
                    <a:xfrm>
                      <a:off x="9875520" y="4748760"/>
                      <a:ext cx="268920" cy="275760"/>
                      <a:chOff x="9875520" y="4748760"/>
                      <a:chExt cx="268920" cy="275760"/>
                    </a:xfrm>
                  </p:grpSpPr>
                  <p:sp>
                    <p:nvSpPr>
                      <p:cNvPr id="1310" name="Oval 1963"/>
                      <p:cNvSpPr/>
                      <p:nvPr/>
                    </p:nvSpPr>
                    <p:spPr>
                      <a:xfrm flipH="1" rot="21396000">
                        <a:off x="9882360" y="4755960"/>
                        <a:ext cx="253800" cy="26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1" name="Oval 1964"/>
                      <p:cNvSpPr/>
                      <p:nvPr/>
                    </p:nvSpPr>
                    <p:spPr>
                      <a:xfrm flipH="1" rot="21396000">
                        <a:off x="9882360" y="4755960"/>
                        <a:ext cx="253800" cy="261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2" name="Group 1965"/>
                  <p:cNvGrpSpPr/>
                  <p:nvPr/>
                </p:nvGrpSpPr>
                <p:grpSpPr>
                  <a:xfrm>
                    <a:off x="9875520" y="4749120"/>
                    <a:ext cx="269280" cy="274320"/>
                    <a:chOff x="9875520" y="4749120"/>
                    <a:chExt cx="269280" cy="274320"/>
                  </a:xfrm>
                </p:grpSpPr>
                <p:sp>
                  <p:nvSpPr>
                    <p:cNvPr id="1313" name="Freeform 1966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Freeform 1967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5" name="Group 1968"/>
                  <p:cNvGrpSpPr/>
                  <p:nvPr/>
                </p:nvGrpSpPr>
                <p:grpSpPr>
                  <a:xfrm>
                    <a:off x="9846360" y="4720320"/>
                    <a:ext cx="324360" cy="332640"/>
                    <a:chOff x="9846360" y="4720320"/>
                    <a:chExt cx="324360" cy="332640"/>
                  </a:xfrm>
                </p:grpSpPr>
                <p:sp>
                  <p:nvSpPr>
                    <p:cNvPr id="1316" name="Oval 1969"/>
                    <p:cNvSpPr/>
                    <p:nvPr/>
                  </p:nvSpPr>
                  <p:spPr>
                    <a:xfrm flipH="1" rot="21396000">
                      <a:off x="9854640" y="472896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7" name="Oval 1970"/>
                    <p:cNvSpPr/>
                    <p:nvPr/>
                  </p:nvSpPr>
                  <p:spPr>
                    <a:xfrm flipH="1" rot="21396000">
                      <a:off x="9854640" y="472896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8" name="Group 1971"/>
                  <p:cNvGrpSpPr/>
                  <p:nvPr/>
                </p:nvGrpSpPr>
                <p:grpSpPr>
                  <a:xfrm>
                    <a:off x="9875520" y="4749120"/>
                    <a:ext cx="269280" cy="274320"/>
                    <a:chOff x="9875520" y="4749120"/>
                    <a:chExt cx="269280" cy="274320"/>
                  </a:xfrm>
                </p:grpSpPr>
                <p:sp>
                  <p:nvSpPr>
                    <p:cNvPr id="1319" name="Oval 1972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Oval 1973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1" name="Group 1974"/>
                  <p:cNvGrpSpPr/>
                  <p:nvPr/>
                </p:nvGrpSpPr>
                <p:grpSpPr>
                  <a:xfrm>
                    <a:off x="9846360" y="4720320"/>
                    <a:ext cx="324360" cy="332640"/>
                    <a:chOff x="9846360" y="4720320"/>
                    <a:chExt cx="324360" cy="332640"/>
                  </a:xfrm>
                </p:grpSpPr>
                <p:sp>
                  <p:nvSpPr>
                    <p:cNvPr id="1322" name="Oval 1975"/>
                    <p:cNvSpPr/>
                    <p:nvPr/>
                  </p:nvSpPr>
                  <p:spPr>
                    <a:xfrm flipH="1" rot="21396000">
                      <a:off x="9854640" y="4728960"/>
                      <a:ext cx="306360" cy="31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Oval 1976"/>
                    <p:cNvSpPr/>
                    <p:nvPr/>
                  </p:nvSpPr>
                  <p:spPr>
                    <a:xfrm flipH="1" rot="21396000">
                      <a:off x="9854640" y="4728960"/>
                      <a:ext cx="306360" cy="31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Group 1977"/>
                  <p:cNvGrpSpPr/>
                  <p:nvPr/>
                </p:nvGrpSpPr>
                <p:grpSpPr>
                  <a:xfrm>
                    <a:off x="9875520" y="4749120"/>
                    <a:ext cx="269280" cy="274320"/>
                    <a:chOff x="9875520" y="4749120"/>
                    <a:chExt cx="269280" cy="274320"/>
                  </a:xfrm>
                </p:grpSpPr>
                <p:sp>
                  <p:nvSpPr>
                    <p:cNvPr id="1325" name="Oval 1978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Oval 1979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7" name="Group 1980"/>
                  <p:cNvGrpSpPr/>
                  <p:nvPr/>
                </p:nvGrpSpPr>
                <p:grpSpPr>
                  <a:xfrm>
                    <a:off x="9875520" y="4749120"/>
                    <a:ext cx="269280" cy="274320"/>
                    <a:chOff x="9875520" y="4749120"/>
                    <a:chExt cx="269280" cy="274320"/>
                  </a:xfrm>
                </p:grpSpPr>
                <p:sp>
                  <p:nvSpPr>
                    <p:cNvPr id="1328" name="Freeform 1981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Freeform 1982"/>
                    <p:cNvSpPr/>
                    <p:nvPr/>
                  </p:nvSpPr>
                  <p:spPr>
                    <a:xfrm flipH="1" rot="21396000">
                      <a:off x="9882720" y="4756320"/>
                      <a:ext cx="25416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0" name="Freeform 1983"/>
                  <p:cNvSpPr/>
                  <p:nvPr/>
                </p:nvSpPr>
                <p:spPr>
                  <a:xfrm flipH="1" rot="21396000">
                    <a:off x="11202480" y="4501800"/>
                    <a:ext cx="288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1" name="Group 1984"/>
                  <p:cNvGrpSpPr/>
                  <p:nvPr/>
                </p:nvGrpSpPr>
                <p:grpSpPr>
                  <a:xfrm>
                    <a:off x="11086920" y="4501800"/>
                    <a:ext cx="241560" cy="232560"/>
                    <a:chOff x="11086920" y="4501800"/>
                    <a:chExt cx="241560" cy="232560"/>
                  </a:xfrm>
                </p:grpSpPr>
                <p:sp>
                  <p:nvSpPr>
                    <p:cNvPr id="1332" name="Line 1985"/>
                    <p:cNvSpPr/>
                    <p:nvPr/>
                  </p:nvSpPr>
                  <p:spPr>
                    <a:xfrm>
                      <a:off x="11205360" y="4501800"/>
                      <a:ext cx="11520" cy="2325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Freeform 1986"/>
                    <p:cNvSpPr/>
                    <p:nvPr/>
                  </p:nvSpPr>
                  <p:spPr>
                    <a:xfrm flipH="1" rot="21396000">
                      <a:off x="11087280" y="457992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4" name="Freeform 1987"/>
                  <p:cNvSpPr/>
                  <p:nvPr/>
                </p:nvSpPr>
                <p:spPr>
                  <a:xfrm flipH="1" rot="21396000">
                    <a:off x="9712440" y="4176000"/>
                    <a:ext cx="1405800" cy="64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5" name="Group 1988"/>
                  <p:cNvGrpSpPr/>
                  <p:nvPr/>
                </p:nvGrpSpPr>
                <p:grpSpPr>
                  <a:xfrm>
                    <a:off x="9749520" y="4335480"/>
                    <a:ext cx="1296360" cy="267480"/>
                    <a:chOff x="9749520" y="4335480"/>
                    <a:chExt cx="1296360" cy="267480"/>
                  </a:xfrm>
                </p:grpSpPr>
                <p:sp>
                  <p:nvSpPr>
                    <p:cNvPr id="1336" name="Rectangle 1989"/>
                    <p:cNvSpPr/>
                    <p:nvPr/>
                  </p:nvSpPr>
                  <p:spPr>
                    <a:xfrm flipH="1" rot="21396000">
                      <a:off x="10901520" y="433944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7" name="Rectangle 1990"/>
                    <p:cNvSpPr/>
                    <p:nvPr/>
                  </p:nvSpPr>
                  <p:spPr>
                    <a:xfrm flipH="1" rot="21396000">
                      <a:off x="10739520" y="434916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8" name="Rectangle 1991"/>
                    <p:cNvSpPr/>
                    <p:nvPr/>
                  </p:nvSpPr>
                  <p:spPr>
                    <a:xfrm flipH="1" rot="21396000">
                      <a:off x="10577160" y="4358520"/>
                      <a:ext cx="13860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Rectangle 1992"/>
                    <p:cNvSpPr/>
                    <p:nvPr/>
                  </p:nvSpPr>
                  <p:spPr>
                    <a:xfrm flipH="1" rot="21396000">
                      <a:off x="10409400" y="436860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0" name="Rectangle 1993"/>
                    <p:cNvSpPr/>
                    <p:nvPr/>
                  </p:nvSpPr>
                  <p:spPr>
                    <a:xfrm flipH="1" rot="21396000">
                      <a:off x="10241280" y="437868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Rectangle 1994"/>
                    <p:cNvSpPr/>
                    <p:nvPr/>
                  </p:nvSpPr>
                  <p:spPr>
                    <a:xfrm flipH="1" rot="21396000">
                      <a:off x="10079280" y="438804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Rectangle 1995"/>
                    <p:cNvSpPr/>
                    <p:nvPr/>
                  </p:nvSpPr>
                  <p:spPr>
                    <a:xfrm flipH="1" rot="21396000">
                      <a:off x="9754920" y="440748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3" name="Rectangle 1996"/>
                    <p:cNvSpPr/>
                    <p:nvPr/>
                  </p:nvSpPr>
                  <p:spPr>
                    <a:xfrm flipH="1" rot="21396000">
                      <a:off x="9917280" y="4397760"/>
                      <a:ext cx="139320" cy="1915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4" name="Group 1997"/>
                  <p:cNvGrpSpPr/>
                  <p:nvPr/>
                </p:nvGrpSpPr>
                <p:grpSpPr>
                  <a:xfrm>
                    <a:off x="10676880" y="4052880"/>
                    <a:ext cx="153360" cy="146520"/>
                    <a:chOff x="10676880" y="4052880"/>
                    <a:chExt cx="153360" cy="146520"/>
                  </a:xfrm>
                </p:grpSpPr>
                <p:sp>
                  <p:nvSpPr>
                    <p:cNvPr id="1345" name="Oval 1998"/>
                    <p:cNvSpPr/>
                    <p:nvPr/>
                  </p:nvSpPr>
                  <p:spPr>
                    <a:xfrm flipH="1" rot="21396000">
                      <a:off x="10677960" y="405720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6" name="Freeform 1999"/>
                    <p:cNvSpPr/>
                    <p:nvPr/>
                  </p:nvSpPr>
                  <p:spPr>
                    <a:xfrm flipH="1" rot="21396000">
                      <a:off x="10717920" y="405720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7" name="Freeform 2000"/>
                  <p:cNvSpPr/>
                  <p:nvPr/>
                </p:nvSpPr>
                <p:spPr>
                  <a:xfrm flipH="1" rot="21396000">
                    <a:off x="9731880" y="4745520"/>
                    <a:ext cx="1363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2001"/>
                  <p:cNvSpPr/>
                  <p:nvPr/>
                </p:nvSpPr>
                <p:spPr>
                  <a:xfrm flipH="1" rot="21396000">
                    <a:off x="9704160" y="4273920"/>
                    <a:ext cx="13899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9" name="Group 2002"/>
                  <p:cNvGrpSpPr/>
                  <p:nvPr/>
                </p:nvGrpSpPr>
                <p:grpSpPr>
                  <a:xfrm>
                    <a:off x="9958680" y="4095720"/>
                    <a:ext cx="153360" cy="146160"/>
                    <a:chOff x="9958680" y="4095720"/>
                    <a:chExt cx="153360" cy="146160"/>
                  </a:xfrm>
                </p:grpSpPr>
                <p:sp>
                  <p:nvSpPr>
                    <p:cNvPr id="1350" name="Oval 2003"/>
                    <p:cNvSpPr/>
                    <p:nvPr/>
                  </p:nvSpPr>
                  <p:spPr>
                    <a:xfrm flipH="1" rot="21396000">
                      <a:off x="9959760" y="4100040"/>
                      <a:ext cx="151200" cy="39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Freeform 2004"/>
                    <p:cNvSpPr/>
                    <p:nvPr/>
                  </p:nvSpPr>
                  <p:spPr>
                    <a:xfrm flipH="1" rot="21396000">
                      <a:off x="9999720" y="4099680"/>
                      <a:ext cx="7560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2" name="Freeform 2005"/>
                  <p:cNvSpPr/>
                  <p:nvPr/>
                </p:nvSpPr>
                <p:spPr>
                  <a:xfrm flipH="1" rot="21396000">
                    <a:off x="10921320" y="4557240"/>
                    <a:ext cx="12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3891a7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Freeform 2006"/>
                  <p:cNvSpPr/>
                  <p:nvPr/>
                </p:nvSpPr>
                <p:spPr>
                  <a:xfrm flipH="1" rot="21396000">
                    <a:off x="10892160" y="4279680"/>
                    <a:ext cx="16884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" name="Group 2007"/>
                <p:cNvGrpSpPr/>
                <p:nvPr/>
              </p:nvGrpSpPr>
              <p:grpSpPr>
                <a:xfrm>
                  <a:off x="12712680" y="4405320"/>
                  <a:ext cx="241560" cy="232200"/>
                  <a:chOff x="12712680" y="4405320"/>
                  <a:chExt cx="241560" cy="232200"/>
                </a:xfrm>
              </p:grpSpPr>
              <p:sp>
                <p:nvSpPr>
                  <p:cNvPr id="1355" name="Line 2008"/>
                  <p:cNvSpPr/>
                  <p:nvPr/>
                </p:nvSpPr>
                <p:spPr>
                  <a:xfrm>
                    <a:off x="12831120" y="4405320"/>
                    <a:ext cx="11520" cy="232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Freeform 2009"/>
                  <p:cNvSpPr/>
                  <p:nvPr/>
                </p:nvSpPr>
                <p:spPr>
                  <a:xfrm flipH="1" rot="21396000">
                    <a:off x="12713040" y="4483440"/>
                    <a:ext cx="23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7" name="Group 2010"/>
            <p:cNvGrpSpPr/>
            <p:nvPr/>
          </p:nvGrpSpPr>
          <p:grpSpPr>
            <a:xfrm>
              <a:off x="7745040" y="4052520"/>
              <a:ext cx="1895760" cy="1114200"/>
              <a:chOff x="7745040" y="4052520"/>
              <a:chExt cx="1895760" cy="1114200"/>
            </a:xfrm>
          </p:grpSpPr>
          <p:grpSp>
            <p:nvGrpSpPr>
              <p:cNvPr id="1358" name="Group 2011"/>
              <p:cNvGrpSpPr/>
              <p:nvPr/>
            </p:nvGrpSpPr>
            <p:grpSpPr>
              <a:xfrm>
                <a:off x="8246880" y="4795920"/>
                <a:ext cx="341640" cy="352440"/>
                <a:chOff x="8246880" y="4795920"/>
                <a:chExt cx="341640" cy="352440"/>
              </a:xfrm>
            </p:grpSpPr>
            <p:grpSp>
              <p:nvGrpSpPr>
                <p:cNvPr id="1359" name="Group 2012"/>
                <p:cNvGrpSpPr/>
                <p:nvPr/>
              </p:nvGrpSpPr>
              <p:grpSpPr>
                <a:xfrm>
                  <a:off x="8247600" y="4795920"/>
                  <a:ext cx="340920" cy="351360"/>
                  <a:chOff x="8247600" y="4795920"/>
                  <a:chExt cx="340920" cy="351360"/>
                </a:xfrm>
              </p:grpSpPr>
              <p:grpSp>
                <p:nvGrpSpPr>
                  <p:cNvPr id="1360" name="Group 2013"/>
                  <p:cNvGrpSpPr/>
                  <p:nvPr/>
                </p:nvGrpSpPr>
                <p:grpSpPr>
                  <a:xfrm>
                    <a:off x="8247600" y="4795920"/>
                    <a:ext cx="340920" cy="351360"/>
                    <a:chOff x="8247600" y="4795920"/>
                    <a:chExt cx="340920" cy="351360"/>
                  </a:xfrm>
                </p:grpSpPr>
                <p:grpSp>
                  <p:nvGrpSpPr>
                    <p:cNvPr id="1361" name="Group 2014"/>
                    <p:cNvGrpSpPr/>
                    <p:nvPr/>
                  </p:nvGrpSpPr>
                  <p:grpSpPr>
                    <a:xfrm>
                      <a:off x="8247600" y="4795920"/>
                      <a:ext cx="340920" cy="351360"/>
                      <a:chOff x="8247600" y="4795920"/>
                      <a:chExt cx="340920" cy="351360"/>
                    </a:xfrm>
                  </p:grpSpPr>
                  <p:sp>
                    <p:nvSpPr>
                      <p:cNvPr id="1362" name="Oval 2015"/>
                      <p:cNvSpPr/>
                      <p:nvPr/>
                    </p:nvSpPr>
                    <p:spPr>
                      <a:xfrm flipH="1" rot="21396000">
                        <a:off x="8256600" y="4804920"/>
                        <a:ext cx="321840" cy="333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3" name="Oval 2016"/>
                      <p:cNvSpPr/>
                      <p:nvPr/>
                    </p:nvSpPr>
                    <p:spPr>
                      <a:xfrm flipH="1" rot="21396000">
                        <a:off x="8256600" y="4804920"/>
                        <a:ext cx="321840" cy="333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4" name="Group 2017"/>
                    <p:cNvGrpSpPr/>
                    <p:nvPr/>
                  </p:nvGrpSpPr>
                  <p:grpSpPr>
                    <a:xfrm>
                      <a:off x="8277480" y="4825800"/>
                      <a:ext cx="282960" cy="291960"/>
                      <a:chOff x="8277480" y="4825800"/>
                      <a:chExt cx="282960" cy="291960"/>
                    </a:xfrm>
                  </p:grpSpPr>
                  <p:sp>
                    <p:nvSpPr>
                      <p:cNvPr id="1365" name="Oval 2018"/>
                      <p:cNvSpPr/>
                      <p:nvPr/>
                    </p:nvSpPr>
                    <p:spPr>
                      <a:xfrm flipH="1" rot="21396000">
                        <a:off x="8285040" y="4833360"/>
                        <a:ext cx="267120" cy="276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6" name="Oval 2019"/>
                      <p:cNvSpPr/>
                      <p:nvPr/>
                    </p:nvSpPr>
                    <p:spPr>
                      <a:xfrm flipH="1" rot="21396000">
                        <a:off x="8285040" y="4833360"/>
                        <a:ext cx="267120" cy="2764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67" name="Group 2020"/>
                  <p:cNvGrpSpPr/>
                  <p:nvPr/>
                </p:nvGrpSpPr>
                <p:grpSpPr>
                  <a:xfrm>
                    <a:off x="8277120" y="4825800"/>
                    <a:ext cx="283320" cy="291960"/>
                    <a:chOff x="8277120" y="4825800"/>
                    <a:chExt cx="283320" cy="291960"/>
                  </a:xfrm>
                </p:grpSpPr>
                <p:sp>
                  <p:nvSpPr>
                    <p:cNvPr id="1368" name="Freeform 2021"/>
                    <p:cNvSpPr/>
                    <p:nvPr/>
                  </p:nvSpPr>
                  <p:spPr>
                    <a:xfrm flipH="1" rot="21396000">
                      <a:off x="8284320" y="483336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Freeform 2022"/>
                    <p:cNvSpPr/>
                    <p:nvPr/>
                  </p:nvSpPr>
                  <p:spPr>
                    <a:xfrm flipH="1" rot="21396000">
                      <a:off x="8284320" y="483336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0" name="Group 2023"/>
                <p:cNvGrpSpPr/>
                <p:nvPr/>
              </p:nvGrpSpPr>
              <p:grpSpPr>
                <a:xfrm>
                  <a:off x="8247240" y="4795920"/>
                  <a:ext cx="341280" cy="351720"/>
                  <a:chOff x="8247240" y="4795920"/>
                  <a:chExt cx="341280" cy="351720"/>
                </a:xfrm>
              </p:grpSpPr>
              <p:grpSp>
                <p:nvGrpSpPr>
                  <p:cNvPr id="1371" name="Group 2024"/>
                  <p:cNvGrpSpPr/>
                  <p:nvPr/>
                </p:nvGrpSpPr>
                <p:grpSpPr>
                  <a:xfrm>
                    <a:off x="8247240" y="4795920"/>
                    <a:ext cx="341280" cy="351720"/>
                    <a:chOff x="8247240" y="4795920"/>
                    <a:chExt cx="341280" cy="351720"/>
                  </a:xfrm>
                </p:grpSpPr>
                <p:sp>
                  <p:nvSpPr>
                    <p:cNvPr id="1372" name="Oval 2025"/>
                    <p:cNvSpPr/>
                    <p:nvPr/>
                  </p:nvSpPr>
                  <p:spPr>
                    <a:xfrm flipH="1" rot="21396000">
                      <a:off x="8256600" y="4804920"/>
                      <a:ext cx="322200" cy="333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Oval 2026"/>
                    <p:cNvSpPr/>
                    <p:nvPr/>
                  </p:nvSpPr>
                  <p:spPr>
                    <a:xfrm flipH="1" rot="21396000">
                      <a:off x="8256600" y="4804920"/>
                      <a:ext cx="32220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4" name="Group 2027"/>
                  <p:cNvGrpSpPr/>
                  <p:nvPr/>
                </p:nvGrpSpPr>
                <p:grpSpPr>
                  <a:xfrm>
                    <a:off x="8277120" y="4825800"/>
                    <a:ext cx="283320" cy="291960"/>
                    <a:chOff x="8277120" y="4825800"/>
                    <a:chExt cx="283320" cy="291960"/>
                  </a:xfrm>
                </p:grpSpPr>
                <p:sp>
                  <p:nvSpPr>
                    <p:cNvPr id="1375" name="Oval 2028"/>
                    <p:cNvSpPr/>
                    <p:nvPr/>
                  </p:nvSpPr>
                  <p:spPr>
                    <a:xfrm flipH="1" rot="21396000">
                      <a:off x="8284320" y="4833360"/>
                      <a:ext cx="267480" cy="27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6" name="Oval 2029"/>
                    <p:cNvSpPr/>
                    <p:nvPr/>
                  </p:nvSpPr>
                  <p:spPr>
                    <a:xfrm flipH="1" rot="21396000">
                      <a:off x="8284320" y="4833360"/>
                      <a:ext cx="267480" cy="27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7" name="Group 2030"/>
                <p:cNvGrpSpPr/>
                <p:nvPr/>
              </p:nvGrpSpPr>
              <p:grpSpPr>
                <a:xfrm>
                  <a:off x="8277120" y="4826520"/>
                  <a:ext cx="284040" cy="290880"/>
                  <a:chOff x="8277120" y="4826520"/>
                  <a:chExt cx="284040" cy="290880"/>
                </a:xfrm>
              </p:grpSpPr>
              <p:sp>
                <p:nvSpPr>
                  <p:cNvPr id="1378" name="Freeform 2031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Freeform 2032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0" name="Group 2033"/>
                <p:cNvGrpSpPr/>
                <p:nvPr/>
              </p:nvGrpSpPr>
              <p:grpSpPr>
                <a:xfrm>
                  <a:off x="8246880" y="4795920"/>
                  <a:ext cx="341640" cy="352440"/>
                  <a:chOff x="8246880" y="4795920"/>
                  <a:chExt cx="341640" cy="352440"/>
                </a:xfrm>
              </p:grpSpPr>
              <p:sp>
                <p:nvSpPr>
                  <p:cNvPr id="1381" name="Oval 2034"/>
                  <p:cNvSpPr/>
                  <p:nvPr/>
                </p:nvSpPr>
                <p:spPr>
                  <a:xfrm flipH="1" rot="21396000">
                    <a:off x="8255880" y="4804920"/>
                    <a:ext cx="322560" cy="334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Oval 2035"/>
                  <p:cNvSpPr/>
                  <p:nvPr/>
                </p:nvSpPr>
                <p:spPr>
                  <a:xfrm flipH="1" rot="21396000">
                    <a:off x="8255880" y="4804920"/>
                    <a:ext cx="322560" cy="334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2036"/>
                <p:cNvGrpSpPr/>
                <p:nvPr/>
              </p:nvGrpSpPr>
              <p:grpSpPr>
                <a:xfrm>
                  <a:off x="8277120" y="4826520"/>
                  <a:ext cx="284040" cy="290880"/>
                  <a:chOff x="8277120" y="4826520"/>
                  <a:chExt cx="284040" cy="290880"/>
                </a:xfrm>
              </p:grpSpPr>
              <p:sp>
                <p:nvSpPr>
                  <p:cNvPr id="1384" name="Oval 2037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Oval 2038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6" name="Group 2039"/>
                <p:cNvGrpSpPr/>
                <p:nvPr/>
              </p:nvGrpSpPr>
              <p:grpSpPr>
                <a:xfrm>
                  <a:off x="8246880" y="4795920"/>
                  <a:ext cx="341640" cy="352440"/>
                  <a:chOff x="8246880" y="4795920"/>
                  <a:chExt cx="341640" cy="352440"/>
                </a:xfrm>
              </p:grpSpPr>
              <p:sp>
                <p:nvSpPr>
                  <p:cNvPr id="1387" name="Oval 2040"/>
                  <p:cNvSpPr/>
                  <p:nvPr/>
                </p:nvSpPr>
                <p:spPr>
                  <a:xfrm flipH="1" rot="21396000">
                    <a:off x="8255880" y="4804920"/>
                    <a:ext cx="322560" cy="334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Oval 2041"/>
                  <p:cNvSpPr/>
                  <p:nvPr/>
                </p:nvSpPr>
                <p:spPr>
                  <a:xfrm flipH="1" rot="21396000">
                    <a:off x="8255880" y="4804920"/>
                    <a:ext cx="322560" cy="334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9" name="Group 2042"/>
                <p:cNvGrpSpPr/>
                <p:nvPr/>
              </p:nvGrpSpPr>
              <p:grpSpPr>
                <a:xfrm>
                  <a:off x="8277120" y="4826520"/>
                  <a:ext cx="284040" cy="290880"/>
                  <a:chOff x="8277120" y="4826520"/>
                  <a:chExt cx="284040" cy="290880"/>
                </a:xfrm>
              </p:grpSpPr>
              <p:sp>
                <p:nvSpPr>
                  <p:cNvPr id="1390" name="Oval 2043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Oval 2044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2" name="Group 2045"/>
                <p:cNvGrpSpPr/>
                <p:nvPr/>
              </p:nvGrpSpPr>
              <p:grpSpPr>
                <a:xfrm>
                  <a:off x="8277120" y="4826520"/>
                  <a:ext cx="284040" cy="290880"/>
                  <a:chOff x="8277120" y="4826520"/>
                  <a:chExt cx="284040" cy="290880"/>
                </a:xfrm>
              </p:grpSpPr>
              <p:sp>
                <p:nvSpPr>
                  <p:cNvPr id="1393" name="Freeform 2046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Freeform 2047"/>
                  <p:cNvSpPr/>
                  <p:nvPr/>
                </p:nvSpPr>
                <p:spPr>
                  <a:xfrm flipH="1" rot="21396000">
                    <a:off x="8284320" y="4834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5" name="Group 2048"/>
              <p:cNvGrpSpPr/>
              <p:nvPr/>
            </p:nvGrpSpPr>
            <p:grpSpPr>
              <a:xfrm>
                <a:off x="8700480" y="4768920"/>
                <a:ext cx="341640" cy="352440"/>
                <a:chOff x="8700480" y="4768920"/>
                <a:chExt cx="341640" cy="352440"/>
              </a:xfrm>
            </p:grpSpPr>
            <p:grpSp>
              <p:nvGrpSpPr>
                <p:cNvPr id="1396" name="Group 2049"/>
                <p:cNvGrpSpPr/>
                <p:nvPr/>
              </p:nvGrpSpPr>
              <p:grpSpPr>
                <a:xfrm>
                  <a:off x="8701200" y="4768920"/>
                  <a:ext cx="340920" cy="351360"/>
                  <a:chOff x="8701200" y="4768920"/>
                  <a:chExt cx="340920" cy="351360"/>
                </a:xfrm>
              </p:grpSpPr>
              <p:grpSp>
                <p:nvGrpSpPr>
                  <p:cNvPr id="1397" name="Group 2050"/>
                  <p:cNvGrpSpPr/>
                  <p:nvPr/>
                </p:nvGrpSpPr>
                <p:grpSpPr>
                  <a:xfrm>
                    <a:off x="8701200" y="4768920"/>
                    <a:ext cx="340920" cy="351360"/>
                    <a:chOff x="8701200" y="4768920"/>
                    <a:chExt cx="340920" cy="351360"/>
                  </a:xfrm>
                </p:grpSpPr>
                <p:grpSp>
                  <p:nvGrpSpPr>
                    <p:cNvPr id="1398" name="Group 2051"/>
                    <p:cNvGrpSpPr/>
                    <p:nvPr/>
                  </p:nvGrpSpPr>
                  <p:grpSpPr>
                    <a:xfrm>
                      <a:off x="8701200" y="4768920"/>
                      <a:ext cx="340920" cy="351360"/>
                      <a:chOff x="8701200" y="4768920"/>
                      <a:chExt cx="340920" cy="351360"/>
                    </a:xfrm>
                  </p:grpSpPr>
                  <p:sp>
                    <p:nvSpPr>
                      <p:cNvPr id="1399" name="Oval 2052"/>
                      <p:cNvSpPr/>
                      <p:nvPr/>
                    </p:nvSpPr>
                    <p:spPr>
                      <a:xfrm flipH="1" rot="21396000">
                        <a:off x="8710200" y="4777920"/>
                        <a:ext cx="321840" cy="333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0" name="Oval 2053"/>
                      <p:cNvSpPr/>
                      <p:nvPr/>
                    </p:nvSpPr>
                    <p:spPr>
                      <a:xfrm flipH="1" rot="21396000">
                        <a:off x="8710200" y="4777920"/>
                        <a:ext cx="321840" cy="333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01" name="Group 2054"/>
                    <p:cNvGrpSpPr/>
                    <p:nvPr/>
                  </p:nvGrpSpPr>
                  <p:grpSpPr>
                    <a:xfrm>
                      <a:off x="8731440" y="4798800"/>
                      <a:ext cx="282960" cy="291960"/>
                      <a:chOff x="8731440" y="4798800"/>
                      <a:chExt cx="282960" cy="291960"/>
                    </a:xfrm>
                  </p:grpSpPr>
                  <p:sp>
                    <p:nvSpPr>
                      <p:cNvPr id="1402" name="Oval 2055"/>
                      <p:cNvSpPr/>
                      <p:nvPr/>
                    </p:nvSpPr>
                    <p:spPr>
                      <a:xfrm flipH="1" rot="21396000">
                        <a:off x="8739000" y="4806360"/>
                        <a:ext cx="267120" cy="276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3" name="Oval 2056"/>
                      <p:cNvSpPr/>
                      <p:nvPr/>
                    </p:nvSpPr>
                    <p:spPr>
                      <a:xfrm flipH="1" rot="21396000">
                        <a:off x="8739000" y="4806360"/>
                        <a:ext cx="267120" cy="2764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04" name="Group 2057"/>
                  <p:cNvGrpSpPr/>
                  <p:nvPr/>
                </p:nvGrpSpPr>
                <p:grpSpPr>
                  <a:xfrm>
                    <a:off x="8731080" y="4798800"/>
                    <a:ext cx="283320" cy="291960"/>
                    <a:chOff x="8731080" y="4798800"/>
                    <a:chExt cx="283320" cy="291960"/>
                  </a:xfrm>
                </p:grpSpPr>
                <p:sp>
                  <p:nvSpPr>
                    <p:cNvPr id="1405" name="Freeform 2058"/>
                    <p:cNvSpPr/>
                    <p:nvPr/>
                  </p:nvSpPr>
                  <p:spPr>
                    <a:xfrm flipH="1" rot="21396000">
                      <a:off x="8738280" y="480636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Freeform 2059"/>
                    <p:cNvSpPr/>
                    <p:nvPr/>
                  </p:nvSpPr>
                  <p:spPr>
                    <a:xfrm flipH="1" rot="21396000">
                      <a:off x="8738280" y="480636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7" name="Group 2060"/>
                <p:cNvGrpSpPr/>
                <p:nvPr/>
              </p:nvGrpSpPr>
              <p:grpSpPr>
                <a:xfrm>
                  <a:off x="8700840" y="4768920"/>
                  <a:ext cx="341280" cy="351720"/>
                  <a:chOff x="8700840" y="4768920"/>
                  <a:chExt cx="341280" cy="351720"/>
                </a:xfrm>
              </p:grpSpPr>
              <p:grpSp>
                <p:nvGrpSpPr>
                  <p:cNvPr id="1408" name="Group 2061"/>
                  <p:cNvGrpSpPr/>
                  <p:nvPr/>
                </p:nvGrpSpPr>
                <p:grpSpPr>
                  <a:xfrm>
                    <a:off x="8700840" y="4768920"/>
                    <a:ext cx="341280" cy="351720"/>
                    <a:chOff x="8700840" y="4768920"/>
                    <a:chExt cx="341280" cy="351720"/>
                  </a:xfrm>
                </p:grpSpPr>
                <p:sp>
                  <p:nvSpPr>
                    <p:cNvPr id="1409" name="Oval 2062"/>
                    <p:cNvSpPr/>
                    <p:nvPr/>
                  </p:nvSpPr>
                  <p:spPr>
                    <a:xfrm flipH="1" rot="21396000">
                      <a:off x="8710200" y="4777920"/>
                      <a:ext cx="322200" cy="333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Oval 2063"/>
                    <p:cNvSpPr/>
                    <p:nvPr/>
                  </p:nvSpPr>
                  <p:spPr>
                    <a:xfrm flipH="1" rot="21396000">
                      <a:off x="8710200" y="4777920"/>
                      <a:ext cx="32220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1" name="Group 2064"/>
                  <p:cNvGrpSpPr/>
                  <p:nvPr/>
                </p:nvGrpSpPr>
                <p:grpSpPr>
                  <a:xfrm>
                    <a:off x="8731080" y="4798800"/>
                    <a:ext cx="283320" cy="291960"/>
                    <a:chOff x="8731080" y="4798800"/>
                    <a:chExt cx="283320" cy="291960"/>
                  </a:xfrm>
                </p:grpSpPr>
                <p:sp>
                  <p:nvSpPr>
                    <p:cNvPr id="1412" name="Oval 2065"/>
                    <p:cNvSpPr/>
                    <p:nvPr/>
                  </p:nvSpPr>
                  <p:spPr>
                    <a:xfrm flipH="1" rot="21396000">
                      <a:off x="8738280" y="4806360"/>
                      <a:ext cx="267480" cy="27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Oval 2066"/>
                    <p:cNvSpPr/>
                    <p:nvPr/>
                  </p:nvSpPr>
                  <p:spPr>
                    <a:xfrm flipH="1" rot="21396000">
                      <a:off x="8738280" y="4806360"/>
                      <a:ext cx="267480" cy="27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14" name="Group 2067"/>
                <p:cNvGrpSpPr/>
                <p:nvPr/>
              </p:nvGrpSpPr>
              <p:grpSpPr>
                <a:xfrm>
                  <a:off x="8731080" y="4799520"/>
                  <a:ext cx="284040" cy="290880"/>
                  <a:chOff x="8731080" y="4799520"/>
                  <a:chExt cx="284040" cy="290880"/>
                </a:xfrm>
              </p:grpSpPr>
              <p:sp>
                <p:nvSpPr>
                  <p:cNvPr id="1415" name="Freeform 2068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2069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2070"/>
                <p:cNvGrpSpPr/>
                <p:nvPr/>
              </p:nvGrpSpPr>
              <p:grpSpPr>
                <a:xfrm>
                  <a:off x="8700480" y="4768920"/>
                  <a:ext cx="341640" cy="352440"/>
                  <a:chOff x="8700480" y="4768920"/>
                  <a:chExt cx="341640" cy="352440"/>
                </a:xfrm>
              </p:grpSpPr>
              <p:sp>
                <p:nvSpPr>
                  <p:cNvPr id="1418" name="Oval 2071"/>
                  <p:cNvSpPr/>
                  <p:nvPr/>
                </p:nvSpPr>
                <p:spPr>
                  <a:xfrm flipH="1" rot="21396000">
                    <a:off x="8709480" y="4777920"/>
                    <a:ext cx="322560" cy="334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Oval 2072"/>
                  <p:cNvSpPr/>
                  <p:nvPr/>
                </p:nvSpPr>
                <p:spPr>
                  <a:xfrm flipH="1" rot="21396000">
                    <a:off x="8709480" y="4777920"/>
                    <a:ext cx="322560" cy="334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2073"/>
                <p:cNvGrpSpPr/>
                <p:nvPr/>
              </p:nvGrpSpPr>
              <p:grpSpPr>
                <a:xfrm>
                  <a:off x="8731080" y="4799520"/>
                  <a:ext cx="284040" cy="290880"/>
                  <a:chOff x="8731080" y="4799520"/>
                  <a:chExt cx="284040" cy="290880"/>
                </a:xfrm>
              </p:grpSpPr>
              <p:sp>
                <p:nvSpPr>
                  <p:cNvPr id="1421" name="Oval 2074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Oval 2075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2076"/>
                <p:cNvGrpSpPr/>
                <p:nvPr/>
              </p:nvGrpSpPr>
              <p:grpSpPr>
                <a:xfrm>
                  <a:off x="8700480" y="4768920"/>
                  <a:ext cx="341640" cy="352440"/>
                  <a:chOff x="8700480" y="4768920"/>
                  <a:chExt cx="341640" cy="352440"/>
                </a:xfrm>
              </p:grpSpPr>
              <p:sp>
                <p:nvSpPr>
                  <p:cNvPr id="1424" name="Oval 2077"/>
                  <p:cNvSpPr/>
                  <p:nvPr/>
                </p:nvSpPr>
                <p:spPr>
                  <a:xfrm flipH="1" rot="21396000">
                    <a:off x="8709480" y="4777920"/>
                    <a:ext cx="322560" cy="334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Oval 2078"/>
                  <p:cNvSpPr/>
                  <p:nvPr/>
                </p:nvSpPr>
                <p:spPr>
                  <a:xfrm flipH="1" rot="21396000">
                    <a:off x="8709480" y="4777920"/>
                    <a:ext cx="322560" cy="334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2079"/>
                <p:cNvGrpSpPr/>
                <p:nvPr/>
              </p:nvGrpSpPr>
              <p:grpSpPr>
                <a:xfrm>
                  <a:off x="8731080" y="4799520"/>
                  <a:ext cx="284040" cy="290880"/>
                  <a:chOff x="8731080" y="4799520"/>
                  <a:chExt cx="284040" cy="290880"/>
                </a:xfrm>
              </p:grpSpPr>
              <p:sp>
                <p:nvSpPr>
                  <p:cNvPr id="1427" name="Oval 2080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Oval 2081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Group 2082"/>
                <p:cNvGrpSpPr/>
                <p:nvPr/>
              </p:nvGrpSpPr>
              <p:grpSpPr>
                <a:xfrm>
                  <a:off x="8731080" y="4799520"/>
                  <a:ext cx="284040" cy="290880"/>
                  <a:chOff x="8731080" y="4799520"/>
                  <a:chExt cx="284040" cy="290880"/>
                </a:xfrm>
              </p:grpSpPr>
              <p:sp>
                <p:nvSpPr>
                  <p:cNvPr id="1430" name="Freeform 2083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Freeform 2084"/>
                  <p:cNvSpPr/>
                  <p:nvPr/>
                </p:nvSpPr>
                <p:spPr>
                  <a:xfrm flipH="1" rot="21396000">
                    <a:off x="8738280" y="4807080"/>
                    <a:ext cx="26820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2" name="Group 2085"/>
              <p:cNvGrpSpPr/>
              <p:nvPr/>
            </p:nvGrpSpPr>
            <p:grpSpPr>
              <a:xfrm>
                <a:off x="7755480" y="4670280"/>
                <a:ext cx="254520" cy="246600"/>
                <a:chOff x="7755480" y="4670280"/>
                <a:chExt cx="254520" cy="246600"/>
              </a:xfrm>
            </p:grpSpPr>
            <p:sp>
              <p:nvSpPr>
                <p:cNvPr id="1433" name="Line 2086"/>
                <p:cNvSpPr/>
                <p:nvPr/>
              </p:nvSpPr>
              <p:spPr>
                <a:xfrm>
                  <a:off x="7879680" y="4670280"/>
                  <a:ext cx="12600" cy="246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Freeform 2087"/>
                <p:cNvSpPr/>
                <p:nvPr/>
              </p:nvSpPr>
              <p:spPr>
                <a:xfrm flipH="1" rot="21396000">
                  <a:off x="7755840" y="4753080"/>
                  <a:ext cx="252360" cy="4104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Group 2088"/>
              <p:cNvGrpSpPr/>
              <p:nvPr/>
            </p:nvGrpSpPr>
            <p:grpSpPr>
              <a:xfrm>
                <a:off x="9061920" y="4746240"/>
                <a:ext cx="338760" cy="351720"/>
                <a:chOff x="9061920" y="4746240"/>
                <a:chExt cx="338760" cy="351720"/>
              </a:xfrm>
            </p:grpSpPr>
            <p:grpSp>
              <p:nvGrpSpPr>
                <p:cNvPr id="1436" name="Group 2089"/>
                <p:cNvGrpSpPr/>
                <p:nvPr/>
              </p:nvGrpSpPr>
              <p:grpSpPr>
                <a:xfrm>
                  <a:off x="9062640" y="4746240"/>
                  <a:ext cx="337680" cy="351000"/>
                  <a:chOff x="9062640" y="4746240"/>
                  <a:chExt cx="337680" cy="351000"/>
                </a:xfrm>
              </p:grpSpPr>
              <p:grpSp>
                <p:nvGrpSpPr>
                  <p:cNvPr id="1437" name="Group 2090"/>
                  <p:cNvGrpSpPr/>
                  <p:nvPr/>
                </p:nvGrpSpPr>
                <p:grpSpPr>
                  <a:xfrm>
                    <a:off x="9062640" y="4746240"/>
                    <a:ext cx="337680" cy="351000"/>
                    <a:chOff x="9062640" y="4746240"/>
                    <a:chExt cx="337680" cy="351000"/>
                  </a:xfrm>
                </p:grpSpPr>
                <p:grpSp>
                  <p:nvGrpSpPr>
                    <p:cNvPr id="1438" name="Group 2091"/>
                    <p:cNvGrpSpPr/>
                    <p:nvPr/>
                  </p:nvGrpSpPr>
                  <p:grpSpPr>
                    <a:xfrm>
                      <a:off x="9062640" y="4746240"/>
                      <a:ext cx="337680" cy="351000"/>
                      <a:chOff x="9062640" y="4746240"/>
                      <a:chExt cx="337680" cy="351000"/>
                    </a:xfrm>
                  </p:grpSpPr>
                  <p:sp>
                    <p:nvSpPr>
                      <p:cNvPr id="1439" name="Oval 2092"/>
                      <p:cNvSpPr/>
                      <p:nvPr/>
                    </p:nvSpPr>
                    <p:spPr>
                      <a:xfrm flipH="1" rot="21396000">
                        <a:off x="9072360" y="4755240"/>
                        <a:ext cx="318600" cy="333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0" name="Oval 2093"/>
                      <p:cNvSpPr/>
                      <p:nvPr/>
                    </p:nvSpPr>
                    <p:spPr>
                      <a:xfrm flipH="1" rot="21396000">
                        <a:off x="9072360" y="4755240"/>
                        <a:ext cx="318600" cy="333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41" name="Group 2094"/>
                    <p:cNvGrpSpPr/>
                    <p:nvPr/>
                  </p:nvGrpSpPr>
                  <p:grpSpPr>
                    <a:xfrm>
                      <a:off x="9091800" y="4776120"/>
                      <a:ext cx="281160" cy="291240"/>
                      <a:chOff x="9091800" y="4776120"/>
                      <a:chExt cx="281160" cy="291240"/>
                    </a:xfrm>
                  </p:grpSpPr>
                  <p:sp>
                    <p:nvSpPr>
                      <p:cNvPr id="1442" name="Oval 2095"/>
                      <p:cNvSpPr/>
                      <p:nvPr/>
                    </p:nvSpPr>
                    <p:spPr>
                      <a:xfrm flipH="1" rot="21396000">
                        <a:off x="9099360" y="4783680"/>
                        <a:ext cx="264960" cy="2757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3" name="Oval 2096"/>
                      <p:cNvSpPr/>
                      <p:nvPr/>
                    </p:nvSpPr>
                    <p:spPr>
                      <a:xfrm flipH="1" rot="21396000">
                        <a:off x="9099360" y="4783680"/>
                        <a:ext cx="264960" cy="2757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44" name="Group 2097"/>
                  <p:cNvGrpSpPr/>
                  <p:nvPr/>
                </p:nvGrpSpPr>
                <p:grpSpPr>
                  <a:xfrm>
                    <a:off x="9091800" y="4776120"/>
                    <a:ext cx="281160" cy="291600"/>
                    <a:chOff x="9091800" y="4776120"/>
                    <a:chExt cx="281160" cy="291600"/>
                  </a:xfrm>
                </p:grpSpPr>
                <p:sp>
                  <p:nvSpPr>
                    <p:cNvPr id="1445" name="Freeform 2098"/>
                    <p:cNvSpPr/>
                    <p:nvPr/>
                  </p:nvSpPr>
                  <p:spPr>
                    <a:xfrm flipH="1" rot="21396000">
                      <a:off x="9099360" y="4783680"/>
                      <a:ext cx="26496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099"/>
                    <p:cNvSpPr/>
                    <p:nvPr/>
                  </p:nvSpPr>
                  <p:spPr>
                    <a:xfrm flipH="1" rot="21396000">
                      <a:off x="9099360" y="4783680"/>
                      <a:ext cx="26496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47" name="Group 2100"/>
                <p:cNvGrpSpPr/>
                <p:nvPr/>
              </p:nvGrpSpPr>
              <p:grpSpPr>
                <a:xfrm>
                  <a:off x="9062280" y="4746240"/>
                  <a:ext cx="338400" cy="351360"/>
                  <a:chOff x="9062280" y="4746240"/>
                  <a:chExt cx="338400" cy="351360"/>
                </a:xfrm>
              </p:grpSpPr>
              <p:grpSp>
                <p:nvGrpSpPr>
                  <p:cNvPr id="1448" name="Group 2101"/>
                  <p:cNvGrpSpPr/>
                  <p:nvPr/>
                </p:nvGrpSpPr>
                <p:grpSpPr>
                  <a:xfrm>
                    <a:off x="9062280" y="4746240"/>
                    <a:ext cx="338400" cy="351360"/>
                    <a:chOff x="9062280" y="4746240"/>
                    <a:chExt cx="338400" cy="351360"/>
                  </a:xfrm>
                </p:grpSpPr>
                <p:sp>
                  <p:nvSpPr>
                    <p:cNvPr id="1449" name="Oval 2102"/>
                    <p:cNvSpPr/>
                    <p:nvPr/>
                  </p:nvSpPr>
                  <p:spPr>
                    <a:xfrm flipH="1" rot="21396000">
                      <a:off x="9072000" y="4755240"/>
                      <a:ext cx="318960" cy="333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2103"/>
                    <p:cNvSpPr/>
                    <p:nvPr/>
                  </p:nvSpPr>
                  <p:spPr>
                    <a:xfrm flipH="1" rot="21396000">
                      <a:off x="9072000" y="4755240"/>
                      <a:ext cx="31896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1" name="Group 2104"/>
                  <p:cNvGrpSpPr/>
                  <p:nvPr/>
                </p:nvGrpSpPr>
                <p:grpSpPr>
                  <a:xfrm>
                    <a:off x="9091800" y="4776120"/>
                    <a:ext cx="281160" cy="291600"/>
                    <a:chOff x="9091800" y="4776120"/>
                    <a:chExt cx="281160" cy="291600"/>
                  </a:xfrm>
                </p:grpSpPr>
                <p:sp>
                  <p:nvSpPr>
                    <p:cNvPr id="1452" name="Oval 2105"/>
                    <p:cNvSpPr/>
                    <p:nvPr/>
                  </p:nvSpPr>
                  <p:spPr>
                    <a:xfrm flipH="1" rot="21396000">
                      <a:off x="9099360" y="4783680"/>
                      <a:ext cx="264960" cy="276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Oval 2106"/>
                    <p:cNvSpPr/>
                    <p:nvPr/>
                  </p:nvSpPr>
                  <p:spPr>
                    <a:xfrm flipH="1" rot="21396000">
                      <a:off x="9099360" y="4783680"/>
                      <a:ext cx="264960" cy="2761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4" name="Group 2107"/>
                <p:cNvGrpSpPr/>
                <p:nvPr/>
              </p:nvGrpSpPr>
              <p:grpSpPr>
                <a:xfrm>
                  <a:off x="9091080" y="4776480"/>
                  <a:ext cx="281520" cy="290160"/>
                  <a:chOff x="9091080" y="4776480"/>
                  <a:chExt cx="281520" cy="290160"/>
                </a:xfrm>
              </p:grpSpPr>
              <p:sp>
                <p:nvSpPr>
                  <p:cNvPr id="1455" name="Freeform 2108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2109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7" name="Group 2110"/>
                <p:cNvGrpSpPr/>
                <p:nvPr/>
              </p:nvGrpSpPr>
              <p:grpSpPr>
                <a:xfrm>
                  <a:off x="9061920" y="4746240"/>
                  <a:ext cx="338760" cy="351720"/>
                  <a:chOff x="9061920" y="4746240"/>
                  <a:chExt cx="338760" cy="351720"/>
                </a:xfrm>
              </p:grpSpPr>
              <p:sp>
                <p:nvSpPr>
                  <p:cNvPr id="1458" name="Oval 2111"/>
                  <p:cNvSpPr/>
                  <p:nvPr/>
                </p:nvSpPr>
                <p:spPr>
                  <a:xfrm flipH="1" rot="21396000">
                    <a:off x="9071280" y="4755240"/>
                    <a:ext cx="319320" cy="333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Oval 2112"/>
                  <p:cNvSpPr/>
                  <p:nvPr/>
                </p:nvSpPr>
                <p:spPr>
                  <a:xfrm flipH="1" rot="21396000">
                    <a:off x="9071280" y="4755240"/>
                    <a:ext cx="319320" cy="333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Group 2113"/>
                <p:cNvGrpSpPr/>
                <p:nvPr/>
              </p:nvGrpSpPr>
              <p:grpSpPr>
                <a:xfrm>
                  <a:off x="9091080" y="4776480"/>
                  <a:ext cx="281520" cy="290160"/>
                  <a:chOff x="9091080" y="4776480"/>
                  <a:chExt cx="281520" cy="290160"/>
                </a:xfrm>
              </p:grpSpPr>
              <p:sp>
                <p:nvSpPr>
                  <p:cNvPr id="1461" name="Oval 2114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Oval 2115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Group 2116"/>
                <p:cNvGrpSpPr/>
                <p:nvPr/>
              </p:nvGrpSpPr>
              <p:grpSpPr>
                <a:xfrm>
                  <a:off x="9061920" y="4746240"/>
                  <a:ext cx="338760" cy="351720"/>
                  <a:chOff x="9061920" y="4746240"/>
                  <a:chExt cx="338760" cy="351720"/>
                </a:xfrm>
              </p:grpSpPr>
              <p:sp>
                <p:nvSpPr>
                  <p:cNvPr id="1464" name="Oval 2117"/>
                  <p:cNvSpPr/>
                  <p:nvPr/>
                </p:nvSpPr>
                <p:spPr>
                  <a:xfrm flipH="1" rot="21396000">
                    <a:off x="9071280" y="4755240"/>
                    <a:ext cx="319320" cy="333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Oval 2118"/>
                  <p:cNvSpPr/>
                  <p:nvPr/>
                </p:nvSpPr>
                <p:spPr>
                  <a:xfrm flipH="1" rot="21396000">
                    <a:off x="9071280" y="4755240"/>
                    <a:ext cx="319320" cy="333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Group 2119"/>
                <p:cNvGrpSpPr/>
                <p:nvPr/>
              </p:nvGrpSpPr>
              <p:grpSpPr>
                <a:xfrm>
                  <a:off x="9091080" y="4776480"/>
                  <a:ext cx="281520" cy="290160"/>
                  <a:chOff x="9091080" y="4776480"/>
                  <a:chExt cx="281520" cy="290160"/>
                </a:xfrm>
              </p:grpSpPr>
              <p:sp>
                <p:nvSpPr>
                  <p:cNvPr id="1467" name="Oval 2120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Oval 2121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Group 2122"/>
                <p:cNvGrpSpPr/>
                <p:nvPr/>
              </p:nvGrpSpPr>
              <p:grpSpPr>
                <a:xfrm>
                  <a:off x="9091080" y="4776480"/>
                  <a:ext cx="281520" cy="290160"/>
                  <a:chOff x="9091080" y="4776480"/>
                  <a:chExt cx="281520" cy="290160"/>
                </a:xfrm>
              </p:grpSpPr>
              <p:sp>
                <p:nvSpPr>
                  <p:cNvPr id="1470" name="Freeform 2123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Freeform 2124"/>
                  <p:cNvSpPr/>
                  <p:nvPr/>
                </p:nvSpPr>
                <p:spPr>
                  <a:xfrm flipH="1" rot="21396000">
                    <a:off x="9098640" y="4784040"/>
                    <a:ext cx="2656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2" name="Group 2125"/>
              <p:cNvGrpSpPr/>
              <p:nvPr/>
            </p:nvGrpSpPr>
            <p:grpSpPr>
              <a:xfrm>
                <a:off x="7905960" y="4814640"/>
                <a:ext cx="341640" cy="352080"/>
                <a:chOff x="7905960" y="4814640"/>
                <a:chExt cx="341640" cy="352080"/>
              </a:xfrm>
            </p:grpSpPr>
            <p:grpSp>
              <p:nvGrpSpPr>
                <p:cNvPr id="1473" name="Group 2126"/>
                <p:cNvGrpSpPr/>
                <p:nvPr/>
              </p:nvGrpSpPr>
              <p:grpSpPr>
                <a:xfrm>
                  <a:off x="7906680" y="4814640"/>
                  <a:ext cx="340920" cy="351000"/>
                  <a:chOff x="7906680" y="4814640"/>
                  <a:chExt cx="340920" cy="351000"/>
                </a:xfrm>
              </p:grpSpPr>
              <p:grpSp>
                <p:nvGrpSpPr>
                  <p:cNvPr id="1474" name="Group 2127"/>
                  <p:cNvGrpSpPr/>
                  <p:nvPr/>
                </p:nvGrpSpPr>
                <p:grpSpPr>
                  <a:xfrm>
                    <a:off x="7906680" y="4814640"/>
                    <a:ext cx="340920" cy="351000"/>
                    <a:chOff x="7906680" y="4814640"/>
                    <a:chExt cx="340920" cy="351000"/>
                  </a:xfrm>
                </p:grpSpPr>
                <p:grpSp>
                  <p:nvGrpSpPr>
                    <p:cNvPr id="1475" name="Group 2128"/>
                    <p:cNvGrpSpPr/>
                    <p:nvPr/>
                  </p:nvGrpSpPr>
                  <p:grpSpPr>
                    <a:xfrm>
                      <a:off x="7906680" y="4814640"/>
                      <a:ext cx="340920" cy="351000"/>
                      <a:chOff x="7906680" y="4814640"/>
                      <a:chExt cx="340920" cy="351000"/>
                    </a:xfrm>
                  </p:grpSpPr>
                  <p:sp>
                    <p:nvSpPr>
                      <p:cNvPr id="1476" name="Oval 2129"/>
                      <p:cNvSpPr/>
                      <p:nvPr/>
                    </p:nvSpPr>
                    <p:spPr>
                      <a:xfrm flipH="1" rot="21396000">
                        <a:off x="7915680" y="4823640"/>
                        <a:ext cx="321840" cy="332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Oval 2130"/>
                      <p:cNvSpPr/>
                      <p:nvPr/>
                    </p:nvSpPr>
                    <p:spPr>
                      <a:xfrm flipH="1" rot="21396000">
                        <a:off x="7915680" y="4823640"/>
                        <a:ext cx="321840" cy="332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8" name="Group 2131"/>
                    <p:cNvGrpSpPr/>
                    <p:nvPr/>
                  </p:nvGrpSpPr>
                  <p:grpSpPr>
                    <a:xfrm>
                      <a:off x="7936920" y="4844880"/>
                      <a:ext cx="282960" cy="291600"/>
                      <a:chOff x="7936920" y="4844880"/>
                      <a:chExt cx="282960" cy="291600"/>
                    </a:xfrm>
                  </p:grpSpPr>
                  <p:sp>
                    <p:nvSpPr>
                      <p:cNvPr id="1479" name="Oval 2132"/>
                      <p:cNvSpPr/>
                      <p:nvPr/>
                    </p:nvSpPr>
                    <p:spPr>
                      <a:xfrm flipH="1" rot="21396000">
                        <a:off x="7944480" y="4852440"/>
                        <a:ext cx="267120" cy="276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Oval 2133"/>
                      <p:cNvSpPr/>
                      <p:nvPr/>
                    </p:nvSpPr>
                    <p:spPr>
                      <a:xfrm flipH="1" rot="21396000">
                        <a:off x="7944480" y="4852440"/>
                        <a:ext cx="267120" cy="2761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81" name="Group 2134"/>
                  <p:cNvGrpSpPr/>
                  <p:nvPr/>
                </p:nvGrpSpPr>
                <p:grpSpPr>
                  <a:xfrm>
                    <a:off x="7936560" y="4844880"/>
                    <a:ext cx="283320" cy="291960"/>
                    <a:chOff x="7936560" y="4844880"/>
                    <a:chExt cx="283320" cy="291960"/>
                  </a:xfrm>
                </p:grpSpPr>
                <p:sp>
                  <p:nvSpPr>
                    <p:cNvPr id="1482" name="Freeform 2135"/>
                    <p:cNvSpPr/>
                    <p:nvPr/>
                  </p:nvSpPr>
                  <p:spPr>
                    <a:xfrm flipH="1" rot="21396000">
                      <a:off x="7943760" y="485244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3" name="Freeform 2136"/>
                    <p:cNvSpPr/>
                    <p:nvPr/>
                  </p:nvSpPr>
                  <p:spPr>
                    <a:xfrm flipH="1" rot="21396000">
                      <a:off x="7943760" y="4852440"/>
                      <a:ext cx="26748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4" name="Group 2137"/>
                <p:cNvGrpSpPr/>
                <p:nvPr/>
              </p:nvGrpSpPr>
              <p:grpSpPr>
                <a:xfrm>
                  <a:off x="7906320" y="4814640"/>
                  <a:ext cx="341280" cy="351360"/>
                  <a:chOff x="7906320" y="4814640"/>
                  <a:chExt cx="341280" cy="351360"/>
                </a:xfrm>
              </p:grpSpPr>
              <p:grpSp>
                <p:nvGrpSpPr>
                  <p:cNvPr id="1485" name="Group 2138"/>
                  <p:cNvGrpSpPr/>
                  <p:nvPr/>
                </p:nvGrpSpPr>
                <p:grpSpPr>
                  <a:xfrm>
                    <a:off x="7906320" y="4814640"/>
                    <a:ext cx="341280" cy="351360"/>
                    <a:chOff x="7906320" y="4814640"/>
                    <a:chExt cx="341280" cy="351360"/>
                  </a:xfrm>
                </p:grpSpPr>
                <p:sp>
                  <p:nvSpPr>
                    <p:cNvPr id="1486" name="Oval 2139"/>
                    <p:cNvSpPr/>
                    <p:nvPr/>
                  </p:nvSpPr>
                  <p:spPr>
                    <a:xfrm flipH="1" rot="21396000">
                      <a:off x="7915680" y="4823640"/>
                      <a:ext cx="322200" cy="333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Oval 2140"/>
                    <p:cNvSpPr/>
                    <p:nvPr/>
                  </p:nvSpPr>
                  <p:spPr>
                    <a:xfrm flipH="1" rot="21396000">
                      <a:off x="7915680" y="4823640"/>
                      <a:ext cx="3222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8" name="Group 2141"/>
                  <p:cNvGrpSpPr/>
                  <p:nvPr/>
                </p:nvGrpSpPr>
                <p:grpSpPr>
                  <a:xfrm>
                    <a:off x="7936560" y="4844880"/>
                    <a:ext cx="283320" cy="291960"/>
                    <a:chOff x="7936560" y="4844880"/>
                    <a:chExt cx="283320" cy="291960"/>
                  </a:xfrm>
                </p:grpSpPr>
                <p:sp>
                  <p:nvSpPr>
                    <p:cNvPr id="1489" name="Oval 2142"/>
                    <p:cNvSpPr/>
                    <p:nvPr/>
                  </p:nvSpPr>
                  <p:spPr>
                    <a:xfrm flipH="1" rot="21396000">
                      <a:off x="7943760" y="4852440"/>
                      <a:ext cx="267480" cy="27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Oval 2143"/>
                    <p:cNvSpPr/>
                    <p:nvPr/>
                  </p:nvSpPr>
                  <p:spPr>
                    <a:xfrm flipH="1" rot="21396000">
                      <a:off x="7943760" y="4852440"/>
                      <a:ext cx="267480" cy="27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91" name="Group 2144"/>
                <p:cNvGrpSpPr/>
                <p:nvPr/>
              </p:nvGrpSpPr>
              <p:grpSpPr>
                <a:xfrm>
                  <a:off x="7936560" y="4844880"/>
                  <a:ext cx="284040" cy="290520"/>
                  <a:chOff x="7936560" y="4844880"/>
                  <a:chExt cx="284040" cy="290520"/>
                </a:xfrm>
              </p:grpSpPr>
              <p:sp>
                <p:nvSpPr>
                  <p:cNvPr id="1492" name="Freeform 2145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Freeform 2146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4" name="Group 2147"/>
                <p:cNvGrpSpPr/>
                <p:nvPr/>
              </p:nvGrpSpPr>
              <p:grpSpPr>
                <a:xfrm>
                  <a:off x="7905960" y="4814640"/>
                  <a:ext cx="341640" cy="352080"/>
                  <a:chOff x="7905960" y="4814640"/>
                  <a:chExt cx="341640" cy="352080"/>
                </a:xfrm>
              </p:grpSpPr>
              <p:sp>
                <p:nvSpPr>
                  <p:cNvPr id="1495" name="Oval 2148"/>
                  <p:cNvSpPr/>
                  <p:nvPr/>
                </p:nvSpPr>
                <p:spPr>
                  <a:xfrm flipH="1" rot="21396000">
                    <a:off x="7914960" y="4823640"/>
                    <a:ext cx="322560" cy="3337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Oval 2149"/>
                  <p:cNvSpPr/>
                  <p:nvPr/>
                </p:nvSpPr>
                <p:spPr>
                  <a:xfrm flipH="1" rot="21396000">
                    <a:off x="7914960" y="4823640"/>
                    <a:ext cx="322560" cy="3337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2150"/>
                <p:cNvGrpSpPr/>
                <p:nvPr/>
              </p:nvGrpSpPr>
              <p:grpSpPr>
                <a:xfrm>
                  <a:off x="7936560" y="4844880"/>
                  <a:ext cx="284040" cy="290520"/>
                  <a:chOff x="7936560" y="4844880"/>
                  <a:chExt cx="284040" cy="290520"/>
                </a:xfrm>
              </p:grpSpPr>
              <p:sp>
                <p:nvSpPr>
                  <p:cNvPr id="1498" name="Oval 2151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Oval 2152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Group 2153"/>
                <p:cNvGrpSpPr/>
                <p:nvPr/>
              </p:nvGrpSpPr>
              <p:grpSpPr>
                <a:xfrm>
                  <a:off x="7905960" y="4814640"/>
                  <a:ext cx="341640" cy="352080"/>
                  <a:chOff x="7905960" y="4814640"/>
                  <a:chExt cx="341640" cy="352080"/>
                </a:xfrm>
              </p:grpSpPr>
              <p:sp>
                <p:nvSpPr>
                  <p:cNvPr id="1501" name="Oval 2154"/>
                  <p:cNvSpPr/>
                  <p:nvPr/>
                </p:nvSpPr>
                <p:spPr>
                  <a:xfrm flipH="1" rot="21396000">
                    <a:off x="7914960" y="4823640"/>
                    <a:ext cx="322560" cy="3337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Oval 2155"/>
                  <p:cNvSpPr/>
                  <p:nvPr/>
                </p:nvSpPr>
                <p:spPr>
                  <a:xfrm flipH="1" rot="21396000">
                    <a:off x="7914960" y="4823640"/>
                    <a:ext cx="322560" cy="3337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Group 2156"/>
                <p:cNvGrpSpPr/>
                <p:nvPr/>
              </p:nvGrpSpPr>
              <p:grpSpPr>
                <a:xfrm>
                  <a:off x="7936560" y="4844880"/>
                  <a:ext cx="284040" cy="290520"/>
                  <a:chOff x="7936560" y="4844880"/>
                  <a:chExt cx="284040" cy="290520"/>
                </a:xfrm>
              </p:grpSpPr>
              <p:sp>
                <p:nvSpPr>
                  <p:cNvPr id="1504" name="Oval 2157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Oval 2158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Group 2159"/>
                <p:cNvGrpSpPr/>
                <p:nvPr/>
              </p:nvGrpSpPr>
              <p:grpSpPr>
                <a:xfrm>
                  <a:off x="7936560" y="4844880"/>
                  <a:ext cx="284040" cy="290520"/>
                  <a:chOff x="7936560" y="4844880"/>
                  <a:chExt cx="284040" cy="290520"/>
                </a:xfrm>
              </p:grpSpPr>
              <p:sp>
                <p:nvSpPr>
                  <p:cNvPr id="1507" name="Freeform 2160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2161"/>
                  <p:cNvSpPr/>
                  <p:nvPr/>
                </p:nvSpPr>
                <p:spPr>
                  <a:xfrm flipH="1" rot="21396000">
                    <a:off x="7943760" y="4852440"/>
                    <a:ext cx="2682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9" name="Freeform 2162"/>
              <p:cNvSpPr/>
              <p:nvPr/>
            </p:nvSpPr>
            <p:spPr>
              <a:xfrm flipH="1" rot="21396000">
                <a:off x="9507600" y="4573440"/>
                <a:ext cx="2880" cy="20052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0" name="Group 2163"/>
              <p:cNvGrpSpPr/>
              <p:nvPr/>
            </p:nvGrpSpPr>
            <p:grpSpPr>
              <a:xfrm>
                <a:off x="9386280" y="4573440"/>
                <a:ext cx="254520" cy="246600"/>
                <a:chOff x="9386280" y="4573440"/>
                <a:chExt cx="254520" cy="246600"/>
              </a:xfrm>
            </p:grpSpPr>
            <p:sp>
              <p:nvSpPr>
                <p:cNvPr id="1511" name="Line 2164"/>
                <p:cNvSpPr/>
                <p:nvPr/>
              </p:nvSpPr>
              <p:spPr>
                <a:xfrm>
                  <a:off x="9510840" y="4573440"/>
                  <a:ext cx="12240" cy="246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165"/>
                <p:cNvSpPr/>
                <p:nvPr/>
              </p:nvSpPr>
              <p:spPr>
                <a:xfrm flipH="1" rot="21396000">
                  <a:off x="9386640" y="4656240"/>
                  <a:ext cx="252360" cy="4104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3" name="Freeform 2166"/>
              <p:cNvSpPr/>
              <p:nvPr/>
            </p:nvSpPr>
            <p:spPr>
              <a:xfrm flipH="1" rot="21396000">
                <a:off x="7771320" y="4232880"/>
                <a:ext cx="1648080" cy="68544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2167"/>
              <p:cNvSpPr/>
              <p:nvPr/>
            </p:nvSpPr>
            <p:spPr>
              <a:xfrm flipH="1" rot="21396000">
                <a:off x="9190440" y="4400640"/>
                <a:ext cx="146520" cy="203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2168"/>
              <p:cNvSpPr/>
              <p:nvPr/>
            </p:nvSpPr>
            <p:spPr>
              <a:xfrm flipH="1" rot="21396000">
                <a:off x="8849520" y="4420800"/>
                <a:ext cx="146520" cy="203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2169"/>
              <p:cNvSpPr/>
              <p:nvPr/>
            </p:nvSpPr>
            <p:spPr>
              <a:xfrm flipH="1" rot="21396000">
                <a:off x="8118360" y="4463280"/>
                <a:ext cx="182880" cy="242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7" name="Group 2170"/>
              <p:cNvGrpSpPr/>
              <p:nvPr/>
            </p:nvGrpSpPr>
            <p:grpSpPr>
              <a:xfrm>
                <a:off x="8953920" y="4097160"/>
                <a:ext cx="161640" cy="154440"/>
                <a:chOff x="8953920" y="4097160"/>
                <a:chExt cx="161640" cy="154440"/>
              </a:xfrm>
            </p:grpSpPr>
            <p:sp>
              <p:nvSpPr>
                <p:cNvPr id="1518" name="Oval 2171"/>
                <p:cNvSpPr/>
                <p:nvPr/>
              </p:nvSpPr>
              <p:spPr>
                <a:xfrm flipH="1" rot="21396000">
                  <a:off x="8954640" y="4101480"/>
                  <a:ext cx="159480" cy="41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2172"/>
                <p:cNvSpPr/>
                <p:nvPr/>
              </p:nvSpPr>
              <p:spPr>
                <a:xfrm flipH="1" rot="21396000">
                  <a:off x="8997120" y="4101840"/>
                  <a:ext cx="79560" cy="14760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0" name="Freeform 2173"/>
              <p:cNvSpPr/>
              <p:nvPr/>
            </p:nvSpPr>
            <p:spPr>
              <a:xfrm flipH="1" rot="21396000">
                <a:off x="7959240" y="4830480"/>
                <a:ext cx="1434960" cy="72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2174"/>
              <p:cNvSpPr/>
              <p:nvPr/>
            </p:nvSpPr>
            <p:spPr>
              <a:xfrm flipH="1" rot="21396000">
                <a:off x="7929720" y="4331160"/>
                <a:ext cx="1463400" cy="36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Group 2175"/>
              <p:cNvGrpSpPr/>
              <p:nvPr/>
            </p:nvGrpSpPr>
            <p:grpSpPr>
              <a:xfrm>
                <a:off x="8198280" y="4142160"/>
                <a:ext cx="161640" cy="154080"/>
                <a:chOff x="8198280" y="4142160"/>
                <a:chExt cx="161640" cy="154080"/>
              </a:xfrm>
            </p:grpSpPr>
            <p:sp>
              <p:nvSpPr>
                <p:cNvPr id="1523" name="Oval 2176"/>
                <p:cNvSpPr/>
                <p:nvPr/>
              </p:nvSpPr>
              <p:spPr>
                <a:xfrm flipH="1" rot="21396000">
                  <a:off x="8199000" y="4146480"/>
                  <a:ext cx="159480" cy="41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2177"/>
                <p:cNvSpPr/>
                <p:nvPr/>
              </p:nvSpPr>
              <p:spPr>
                <a:xfrm flipH="1" rot="21396000">
                  <a:off x="8241480" y="4146480"/>
                  <a:ext cx="79560" cy="14760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5" name="Freeform 2178"/>
              <p:cNvSpPr/>
              <p:nvPr/>
            </p:nvSpPr>
            <p:spPr>
              <a:xfrm flipH="1" rot="21396000">
                <a:off x="9211320" y="4631760"/>
                <a:ext cx="13320" cy="266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3891a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2179"/>
              <p:cNvSpPr/>
              <p:nvPr/>
            </p:nvSpPr>
            <p:spPr>
              <a:xfrm flipH="1" rot="21396000">
                <a:off x="9181080" y="4338000"/>
                <a:ext cx="177480" cy="45720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2180"/>
              <p:cNvSpPr/>
              <p:nvPr/>
            </p:nvSpPr>
            <p:spPr>
              <a:xfrm flipH="1" rot="21396000">
                <a:off x="7756200" y="4353120"/>
                <a:ext cx="340920" cy="400320"/>
              </a:xfrm>
              <a:custGeom>
                <a:avLst/>
                <a:gdLst/>
                <a:ahLst/>
                <a:rect l="l" t="t" r="r" b="b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9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2181"/>
              <p:cNvSpPr/>
              <p:nvPr/>
            </p:nvSpPr>
            <p:spPr>
              <a:xfrm flipH="1" rot="21396000">
                <a:off x="8345160" y="4449600"/>
                <a:ext cx="182880" cy="242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2182"/>
              <p:cNvSpPr/>
              <p:nvPr/>
            </p:nvSpPr>
            <p:spPr>
              <a:xfrm flipH="1" rot="21396000">
                <a:off x="8114760" y="4070520"/>
                <a:ext cx="618480" cy="252360"/>
              </a:xfrm>
              <a:custGeom>
                <a:avLst/>
                <a:gdLst/>
                <a:ahLst/>
                <a:rect l="l" t="t" r="r" b="b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2183"/>
              <p:cNvSpPr/>
              <p:nvPr/>
            </p:nvSpPr>
            <p:spPr>
              <a:xfrm flipH="1" rot="21396000">
                <a:off x="8578440" y="4435920"/>
                <a:ext cx="182880" cy="242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plit dir="out" orient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7413 -0.05671 L -0.59636 0.06505 E">
                                      <p:cBhvr>
                                        <p:cTn id="384" dur="5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91 0.07662 L 0.43612 -0.02847 E">
                                      <p:cBhvr>
                                        <p:cTn id="386" dur="5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TextBox 3"/>
          <p:cNvSpPr/>
          <p:nvPr/>
        </p:nvSpPr>
        <p:spPr>
          <a:xfrm>
            <a:off x="214200" y="42876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1" descr="G:\Из школы\учебные предметы\39.wmf"/>
          <p:cNvPicPr/>
          <p:nvPr/>
        </p:nvPicPr>
        <p:blipFill>
          <a:blip r:embed="rId1"/>
          <a:stretch/>
        </p:blipFill>
        <p:spPr>
          <a:xfrm>
            <a:off x="7667640" y="5445000"/>
            <a:ext cx="12920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540" name="WordArt 22"/>
          <p:cNvGrpSpPr/>
          <p:nvPr/>
        </p:nvGrpSpPr>
        <p:grpSpPr>
          <a:xfrm>
            <a:off x="7954920" y="262080"/>
            <a:ext cx="1013040" cy="718920"/>
            <a:chOff x="7954920" y="262080"/>
            <a:chExt cx="1013040" cy="718920"/>
          </a:xfrm>
        </p:grpSpPr>
        <p:pic>
          <p:nvPicPr>
            <p:cNvPr id="1541" name="WordArt 22" descr=""/>
            <p:cNvPicPr/>
            <p:nvPr/>
          </p:nvPicPr>
          <p:blipFill>
            <a:blip r:embed="rId2"/>
            <a:stretch/>
          </p:blipFill>
          <p:spPr>
            <a:xfrm>
              <a:off x="7954920" y="263520"/>
              <a:ext cx="101304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"/>
            <p:cNvSpPr/>
            <p:nvPr/>
          </p:nvSpPr>
          <p:spPr>
            <a:xfrm>
              <a:off x="7956720" y="262080"/>
              <a:ext cx="1008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23"/>
          <p:cNvSpPr/>
          <p:nvPr/>
        </p:nvSpPr>
        <p:spPr>
          <a:xfrm>
            <a:off x="250920" y="1197000"/>
            <a:ext cx="61023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1) Процент –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а) тысячная часть числа;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б) сотая часть чис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в) десятая часть чис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2) 8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-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а) 0,08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б) 0,8;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в) 0,008;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г) 0,0008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3) 0,269 –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а) 269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б) 2,69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в) 26,9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г) 0,269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4) 25</a:t>
            </a:r>
            <a:r>
              <a:rPr b="1" lang="en-US" sz="1900" spc="-1" strike="noStrike">
                <a:solidFill>
                  <a:srgbClr val="4f271c"/>
                </a:solidFill>
                <a:latin typeface="Arial"/>
              </a:rPr>
              <a:t>%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класса –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а) половина учеников класса;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б) четверть учеников класса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в) пятая часть класса;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4f271c"/>
                </a:solidFill>
                <a:latin typeface="Arial"/>
              </a:rPr>
              <a:t>г) двадцать пятая часть клас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WordArt 24"/>
          <p:cNvSpPr txBox="1"/>
          <p:nvPr/>
        </p:nvSpPr>
        <p:spPr>
          <a:xfrm>
            <a:off x="684360" y="115920"/>
            <a:ext cx="64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проверь знания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3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"/>
          <p:cNvSpPr/>
          <p:nvPr/>
        </p:nvSpPr>
        <p:spPr>
          <a:xfrm>
            <a:off x="0" y="752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9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Picture 2" descr="G:\Анимашки\анимация\Cloud.gif"/>
          <p:cNvPicPr/>
          <p:nvPr/>
        </p:nvPicPr>
        <p:blipFill>
          <a:blip r:embed="rId1"/>
          <a:stretch/>
        </p:blipFill>
        <p:spPr>
          <a:xfrm>
            <a:off x="7380360" y="189000"/>
            <a:ext cx="1542960" cy="190008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3" descr="G:\для меня\сол.gif"/>
          <p:cNvPicPr/>
          <p:nvPr/>
        </p:nvPicPr>
        <p:blipFill>
          <a:blip r:embed="rId2"/>
          <a:stretch/>
        </p:blipFill>
        <p:spPr>
          <a:xfrm>
            <a:off x="6084720" y="2060640"/>
            <a:ext cx="1573560" cy="136368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4" descr="G:\для меня\сол.gif"/>
          <p:cNvPicPr/>
          <p:nvPr/>
        </p:nvPicPr>
        <p:blipFill>
          <a:blip r:embed="rId3"/>
          <a:stretch/>
        </p:blipFill>
        <p:spPr>
          <a:xfrm>
            <a:off x="6012000" y="333360"/>
            <a:ext cx="1584360" cy="1373040"/>
          </a:xfrm>
          <a:prstGeom prst="rect">
            <a:avLst/>
          </a:prstGeom>
          <a:ln w="0">
            <a:noFill/>
          </a:ln>
        </p:spPr>
      </p:pic>
      <p:sp>
        <p:nvSpPr>
          <p:cNvPr id="1554" name="Rectangle 17"/>
          <p:cNvSpPr/>
          <p:nvPr/>
        </p:nvSpPr>
        <p:spPr>
          <a:xfrm>
            <a:off x="250920" y="549360"/>
            <a:ext cx="633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НАУЧИЛИСЬ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007d"/>
                </a:solidFill>
                <a:latin typeface="Arial"/>
              </a:rPr>
              <a:t>переводить десятичную дробь в проц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НАУЧИЛИСЬ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007d"/>
                </a:solidFill>
                <a:latin typeface="Arial"/>
              </a:rPr>
              <a:t>переводить обыкновенную дробь в проц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НАУЧИЛИСЬ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007d"/>
                </a:solidFill>
                <a:latin typeface="Arial"/>
              </a:rPr>
              <a:t>переводить проценты в обыкновенную дроб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НАУЧИЛИСЬ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007d"/>
                </a:solidFill>
                <a:latin typeface="Arial"/>
              </a:rPr>
              <a:t>переводить проценты в десятичную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Picture 3" descr="G:\для меня\сол.gif"/>
          <p:cNvPicPr/>
          <p:nvPr/>
        </p:nvPicPr>
        <p:blipFill>
          <a:blip r:embed="rId4"/>
          <a:stretch/>
        </p:blipFill>
        <p:spPr>
          <a:xfrm>
            <a:off x="6084720" y="3716280"/>
            <a:ext cx="1573560" cy="136368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3" descr="G:\для меня\сол.gif"/>
          <p:cNvPicPr/>
          <p:nvPr/>
        </p:nvPicPr>
        <p:blipFill>
          <a:blip r:embed="rId5"/>
          <a:stretch/>
        </p:blipFill>
        <p:spPr>
          <a:xfrm>
            <a:off x="6156360" y="5300640"/>
            <a:ext cx="1573200" cy="136368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2" descr="G:\Анимашки\анимация\Cloud.gif"/>
          <p:cNvPicPr/>
          <p:nvPr/>
        </p:nvPicPr>
        <p:blipFill>
          <a:blip r:embed="rId6"/>
          <a:stretch/>
        </p:blipFill>
        <p:spPr>
          <a:xfrm>
            <a:off x="7451640" y="1916280"/>
            <a:ext cx="1542960" cy="190008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2" descr="G:\Анимашки\анимация\Cloud.gif"/>
          <p:cNvPicPr/>
          <p:nvPr/>
        </p:nvPicPr>
        <p:blipFill>
          <a:blip r:embed="rId7"/>
          <a:stretch/>
        </p:blipFill>
        <p:spPr>
          <a:xfrm>
            <a:off x="7601040" y="3645000"/>
            <a:ext cx="1542960" cy="19000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2" descr="G:\Анимашки\анимация\Cloud.gif"/>
          <p:cNvPicPr/>
          <p:nvPr/>
        </p:nvPicPr>
        <p:blipFill>
          <a:blip r:embed="rId8"/>
          <a:stretch/>
        </p:blipFill>
        <p:spPr>
          <a:xfrm>
            <a:off x="7451640" y="5229360"/>
            <a:ext cx="154296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8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8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984ff"/>
                </a:solidFill>
                <a:latin typeface="Arial Black"/>
              </a:rPr>
              <a:t>Домашнее задание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34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55644"/>
                </a:solidFill>
                <a:latin typeface="Arial"/>
              </a:rPr>
              <a:t>П 40, с. 236, 2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134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55644"/>
                </a:solidFill>
                <a:latin typeface="Arial"/>
              </a:rPr>
              <a:t>№</a:t>
            </a:r>
            <a:r>
              <a:rPr b="0" lang="ru-RU" sz="5400" spc="-1" strike="noStrike">
                <a:solidFill>
                  <a:srgbClr val="455644"/>
                </a:solidFill>
                <a:latin typeface="Arial"/>
              </a:rPr>
              <a:t>1564, 1598, 1599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WordArt 27"/>
          <p:cNvSpPr txBox="1"/>
          <p:nvPr/>
        </p:nvSpPr>
        <p:spPr>
          <a:xfrm rot="753000">
            <a:off x="-453600" y="693720"/>
            <a:ext cx="7246800" cy="42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74d6"/>
                    </a:gs>
                    <a:gs pos="100000">
                      <a:srgbClr val="aa8a14"/>
                    </a:gs>
                  </a:gsLst>
                  <a:lin ang="195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74d6"/>
                  </a:gs>
                  <a:gs pos="100000">
                    <a:srgbClr val="aa8a14"/>
                  </a:gs>
                </a:gsLst>
                <a:lin ang="195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74d6"/>
                    </a:gs>
                    <a:gs pos="100000">
                      <a:srgbClr val="aa8a14"/>
                    </a:gs>
                  </a:gsLst>
                  <a:lin ang="1950000"/>
                </a:gradFill>
                <a:latin typeface="Impact"/>
              </a:rPr>
              <a:t>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74d6"/>
                  </a:gs>
                  <a:gs pos="100000">
                    <a:srgbClr val="aa8a14"/>
                  </a:gs>
                </a:gsLst>
                <a:lin ang="1950000"/>
              </a:gradFill>
              <a:latin typeface="Impact"/>
              <a:ea typeface="Impact"/>
            </a:endParaRPr>
          </a:p>
        </p:txBody>
      </p:sp>
      <p:sp>
        <p:nvSpPr>
          <p:cNvPr id="1574" name="Line 28"/>
          <p:cNvSpPr/>
          <p:nvPr/>
        </p:nvSpPr>
        <p:spPr>
          <a:xfrm flipV="1">
            <a:off x="5219640" y="4941720"/>
            <a:ext cx="216000" cy="5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29"/>
          <p:cNvSpPr/>
          <p:nvPr/>
        </p:nvSpPr>
        <p:spPr>
          <a:xfrm>
            <a:off x="4859280" y="5373720"/>
            <a:ext cx="792360" cy="790560"/>
          </a:xfrm>
          <a:custGeom>
            <a:avLst/>
            <a:gdLst/>
            <a:ahLst/>
            <a:rect l="l" t="t" r="r" b="b"/>
            <a:pathLst>
              <a:path w="324" h="394">
                <a:moveTo>
                  <a:pt x="143" y="23"/>
                </a:moveTo>
                <a:cubicBezTo>
                  <a:pt x="196" y="11"/>
                  <a:pt x="249" y="0"/>
                  <a:pt x="279" y="23"/>
                </a:cubicBezTo>
                <a:cubicBezTo>
                  <a:pt x="309" y="46"/>
                  <a:pt x="324" y="114"/>
                  <a:pt x="324" y="159"/>
                </a:cubicBezTo>
                <a:cubicBezTo>
                  <a:pt x="324" y="204"/>
                  <a:pt x="302" y="257"/>
                  <a:pt x="279" y="295"/>
                </a:cubicBezTo>
                <a:cubicBezTo>
                  <a:pt x="256" y="333"/>
                  <a:pt x="226" y="378"/>
                  <a:pt x="188" y="386"/>
                </a:cubicBezTo>
                <a:cubicBezTo>
                  <a:pt x="150" y="394"/>
                  <a:pt x="82" y="356"/>
                  <a:pt x="52" y="341"/>
                </a:cubicBezTo>
                <a:cubicBezTo>
                  <a:pt x="22" y="326"/>
                  <a:pt x="0" y="310"/>
                  <a:pt x="7" y="295"/>
                </a:cubicBezTo>
                <a:cubicBezTo>
                  <a:pt x="14" y="280"/>
                  <a:pt x="82" y="257"/>
                  <a:pt x="97" y="25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0"/>
          <p:cNvSpPr/>
          <p:nvPr/>
        </p:nvSpPr>
        <p:spPr>
          <a:xfrm>
            <a:off x="5435640" y="4941720"/>
            <a:ext cx="64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1"/>
          <p:cNvSpPr/>
          <p:nvPr/>
        </p:nvSpPr>
        <p:spPr>
          <a:xfrm flipV="1">
            <a:off x="4211640" y="4221000"/>
            <a:ext cx="223200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32"/>
          <p:cNvSpPr/>
          <p:nvPr/>
        </p:nvSpPr>
        <p:spPr>
          <a:xfrm>
            <a:off x="7308720" y="4869000"/>
            <a:ext cx="1440000" cy="1008000"/>
          </a:xfrm>
          <a:custGeom>
            <a:avLst/>
            <a:gdLst>
              <a:gd name="textAreaLeft" fmla="*/ 335880 w 1440000"/>
              <a:gd name="textAreaRight" fmla="*/ 1103760 w 1440000"/>
              <a:gd name="textAreaTop" fmla="*/ 106200 h 1008000"/>
              <a:gd name="textAreaBottom" fmla="*/ 638280 h 1008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33" descr="Картинка 5 из 2328"/>
          <p:cNvPicPr/>
          <p:nvPr/>
        </p:nvPicPr>
        <p:blipFill>
          <a:blip r:embed="rId1"/>
          <a:srcRect l="25342" t="0" r="64042" b="0"/>
          <a:stretch/>
        </p:blipFill>
        <p:spPr>
          <a:xfrm rot="2145000">
            <a:off x="5364000" y="2205000"/>
            <a:ext cx="370080" cy="26640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34" descr="1H2"/>
          <p:cNvPicPr/>
          <p:nvPr/>
        </p:nvPicPr>
        <p:blipFill>
          <a:blip r:embed="rId2"/>
          <a:stretch/>
        </p:blipFill>
        <p:spPr>
          <a:xfrm>
            <a:off x="6659640" y="4653000"/>
            <a:ext cx="24843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581" name="WordArt 35"/>
          <p:cNvGrpSpPr/>
          <p:nvPr/>
        </p:nvGrpSpPr>
        <p:grpSpPr>
          <a:xfrm>
            <a:off x="7954920" y="262080"/>
            <a:ext cx="1013040" cy="718920"/>
            <a:chOff x="7954920" y="262080"/>
            <a:chExt cx="1013040" cy="718920"/>
          </a:xfrm>
        </p:grpSpPr>
        <p:pic>
          <p:nvPicPr>
            <p:cNvPr id="1582" name="WordArt 35" descr=""/>
            <p:cNvPicPr/>
            <p:nvPr/>
          </p:nvPicPr>
          <p:blipFill>
            <a:blip r:embed="rId3"/>
            <a:stretch/>
          </p:blipFill>
          <p:spPr>
            <a:xfrm>
              <a:off x="7954920" y="263520"/>
              <a:ext cx="101304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7956720" y="262080"/>
              <a:ext cx="10080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11574 L 0.16146 -0.03148 E">
                                      <p:cBhvr>
                                        <p:cTn id="446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0.06829 L 0.04288 0.1206 E">
                                      <p:cBhvr>
                                        <p:cTn id="452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8 0.12061 C 0.05677 0.10695 0.07066 0.09352 0.07829 0.10695 C 0.08593 0.12037 0.09618 0.18426 0.08854 0.20093 C 0.0809 0.2176 0.03697 0.2051 0.03263 0.20695 C 0.02829 0.2088 0.05711 0.21204 0.06197 0.21274 E">
                                      <p:cBhvr>
                                        <p:cTn id="458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49 0.05787 L 0.12934 0.05787 E">
                                      <p:cBhvr>
                                        <p:cTn id="464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0.06042 C 0.35695 0.04931 0.36076 0.0581 0.35226 0.05255 C 0.34965 0.05093 0.34861 0.0463 0.34618 0.04445 C 0.3408 0.04028 0.33229 0.03958 0.32656 0.0382 C 0.30972 0.03958 0.29479 0.03357 0.29479 0.05857 C 0.30469 0.0787 0.29774 0.06227 0.29774 0.11505 C 0.30365 0.12292 0.30122 0.13565 0.30538 0.14144 C 0.31059 0.14838 0.32309 0.16227 0.33108 0.16551 C 0.33351 0.19722 0.3283 0.17801 0.33872 0.1919 C 0.34045 0.19421 0.34132 0.19792 0.34323 0.2 C 0.34566 0.20278 0.35226 0.20394 0.35226 0.20417 C 0.35816 0.19653 0.36736 0.19745 0.375 0.19583 C 0.37656 0.19445 0.37795 0.19282 0.37951 0.1919 C 0.38247 0.19005 0.38872 0.18773 0.38872 0.18796 C 0.39045 0.18426 0.39323 0.18148 0.39479 0.17778 C 0.39983 0.16644 0.39254 0.17662 0.39774 0.16551 C 0.39844 0.16389 0.4 0.16296 0.40087 0.16157 C 0.40208 0.15972 0.40382 0.15556 0.40382 0.15579 C 0.40747 0.14607 0.41129 0.14282 0.41892 0.13935 C 0.42292 0.11898 0.42205 0.09769 0.42205 0.07662 C 0.42153 0.05972 0.4224 0.04282 0.42049 0.02616 C 0.41979 0.01968 0.40695 0.01806 0.40695 0.01829 C 0.37552 0.02245 0.38056 0.01574 0.36597 0.03634 C 0.36545 0.03935 0.36406 0.04722 0.36285 0.05046 C 0.35938 0.05972 0.3599 0.05278 0.3599 0.06042 Z">
                                      <p:cBhvr>
                                        <p:cTn id="470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Используемые источники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имированные картинки взяты с ресурса Яндекс. Картин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ленкин Н.Я. Жохов В.И., Чесноков А.С.,Математика 5 класс., учебник для общеобразовательной школы,Просвещение 2015 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исунок к задаче на движение </a:t>
            </a:r>
            <a:r>
              <a:rPr b="0" lang="en-US" sz="30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le-savchen.ucoz.ru/load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b07e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5"/>
          <p:cNvSpPr/>
          <p:nvPr/>
        </p:nvSpPr>
        <p:spPr>
          <a:xfrm>
            <a:off x="468360" y="3860640"/>
            <a:ext cx="6696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007d"/>
                </a:solidFill>
                <a:latin typeface="Tahoma"/>
              </a:rPr>
              <a:t>Задачи урока: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dec9"/>
                </a:solidFill>
                <a:latin typeface="Georgia"/>
              </a:rPr>
              <a:t>научить давать определение процента, обозначать, читать и находить процент чисел и величин, переводить процент в десятичную дробь и обрат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G:\Из школы\учебные предметы\44.wmf"/>
          <p:cNvPicPr/>
          <p:nvPr/>
        </p:nvPicPr>
        <p:blipFill>
          <a:blip r:embed="rId1"/>
          <a:stretch/>
        </p:blipFill>
        <p:spPr>
          <a:xfrm>
            <a:off x="7429680" y="5286240"/>
            <a:ext cx="1536480" cy="1393920"/>
          </a:xfrm>
          <a:prstGeom prst="rect">
            <a:avLst/>
          </a:prstGeom>
          <a:ln w="0">
            <a:noFill/>
          </a:ln>
        </p:spPr>
      </p:pic>
      <p:grpSp>
        <p:nvGrpSpPr>
          <p:cNvPr id="274" name="WordArt 8"/>
          <p:cNvGrpSpPr/>
          <p:nvPr/>
        </p:nvGrpSpPr>
        <p:grpSpPr>
          <a:xfrm>
            <a:off x="7381800" y="262080"/>
            <a:ext cx="1512720" cy="1365120"/>
            <a:chOff x="7381800" y="262080"/>
            <a:chExt cx="1512720" cy="1365120"/>
          </a:xfrm>
        </p:grpSpPr>
        <p:pic>
          <p:nvPicPr>
            <p:cNvPr id="275" name="WordArt 8" descr=""/>
            <p:cNvPicPr/>
            <p:nvPr/>
          </p:nvPicPr>
          <p:blipFill>
            <a:blip r:embed="rId2"/>
            <a:stretch/>
          </p:blipFill>
          <p:spPr>
            <a:xfrm>
              <a:off x="7382880" y="263520"/>
              <a:ext cx="151164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381800" y="262080"/>
              <a:ext cx="150984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9"/>
          <p:cNvSpPr/>
          <p:nvPr/>
        </p:nvSpPr>
        <p:spPr>
          <a:xfrm>
            <a:off x="1042920" y="836640"/>
            <a:ext cx="540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a007d"/>
                </a:solidFill>
                <a:latin typeface="Tahoma"/>
              </a:rPr>
              <a:t>Цель урока: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Georgia"/>
              </a:rPr>
              <a:t>расширить  представл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Georgia"/>
              </a:rPr>
              <a:t>учащихся о возмож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Georgia"/>
              </a:rPr>
              <a:t>записи чисел в разли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Georgia"/>
              </a:rPr>
              <a:t>эквивалентных форм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Georgia"/>
              </a:rPr>
              <a:t>ввести понятие проц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539640" y="115920"/>
            <a:ext cx="7561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5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ffebfa"/>
                    </a:gs>
                  </a:gsLst>
                  <a:lin ang="18900000"/>
                </a:gradFill>
                <a:latin typeface="Times New Roman"/>
              </a:rPr>
              <a:t>УСТНЫЙ СЧЕТ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ffebfa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75708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 Black"/>
              </a:rPr>
              <a:t>НАЙДИТЕ 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7467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ТФЕЛЯ И РЮКЗА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СКА И ЧУЛ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ИАНИНО И БА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ЕНЩИНЫ И РЫБ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ОДИЛЬНИКА И ВЕНТИЛЯ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732720" y="220500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Р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80400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ГОЛЬ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58800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ККОРД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6659640" y="4365720"/>
            <a:ext cx="24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6516720" y="3860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РУСА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5148360" y="4869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ОНДИЦИО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984ff"/>
                </a:solidFill>
                <a:latin typeface="Arial Black"/>
              </a:rPr>
              <a:t>Задача</a:t>
            </a: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5644"/>
                </a:solidFill>
                <a:latin typeface="Georgia"/>
              </a:rPr>
              <a:t>Туристы шли лесом 24 км. Это составило 2/5 всего маршрута. Какова длина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5644"/>
                </a:solidFill>
                <a:latin typeface="Georgia"/>
              </a:rPr>
              <a:t>Скорость течения реки 3,2 км/ч, а скорость теплохода 30 км/ч. Найти скорость теплохода по течен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хема 4" descr=""/>
          <p:cNvPicPr/>
          <p:nvPr/>
        </p:nvPicPr>
        <p:blipFill>
          <a:blip r:embed="rId1"/>
          <a:stretch/>
        </p:blipFill>
        <p:spPr>
          <a:xfrm>
            <a:off x="109440" y="128520"/>
            <a:ext cx="6761160" cy="2157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" descr="G:\анимашки\ворона.gif"/>
          <p:cNvPicPr/>
          <p:nvPr/>
        </p:nvPicPr>
        <p:blipFill>
          <a:blip r:embed="rId2"/>
          <a:stretch/>
        </p:blipFill>
        <p:spPr>
          <a:xfrm>
            <a:off x="6948360" y="5572080"/>
            <a:ext cx="2076480" cy="1285920"/>
          </a:xfrm>
          <a:prstGeom prst="rect">
            <a:avLst/>
          </a:prstGeom>
          <a:ln w="0">
            <a:noFill/>
          </a:ln>
        </p:spPr>
      </p:pic>
      <p:pic>
        <p:nvPicPr>
          <p:cNvPr id="300" name="Схема 4" descr=""/>
          <p:cNvPicPr/>
          <p:nvPr/>
        </p:nvPicPr>
        <p:blipFill>
          <a:blip r:embed="rId3"/>
          <a:stretch/>
        </p:blipFill>
        <p:spPr>
          <a:xfrm>
            <a:off x="109440" y="2359080"/>
            <a:ext cx="6761160" cy="2232000"/>
          </a:xfrm>
          <a:prstGeom prst="rect">
            <a:avLst/>
          </a:prstGeom>
          <a:ln w="0">
            <a:noFill/>
          </a:ln>
        </p:spPr>
      </p:pic>
      <p:pic>
        <p:nvPicPr>
          <p:cNvPr id="301" name="Схема 4" descr=""/>
          <p:cNvPicPr/>
          <p:nvPr/>
        </p:nvPicPr>
        <p:blipFill>
          <a:blip r:embed="rId4"/>
          <a:stretch/>
        </p:blipFill>
        <p:spPr>
          <a:xfrm>
            <a:off x="109440" y="4664160"/>
            <a:ext cx="6761160" cy="20844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24"/>
          <p:cNvSpPr txBox="1"/>
          <p:nvPr/>
        </p:nvSpPr>
        <p:spPr>
          <a:xfrm rot="5400000">
            <a:off x="5568480" y="2576160"/>
            <a:ext cx="5184720" cy="552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ahoma"/>
              </a:rPr>
              <a:t>ВЫЧИСЛИТЕ</a:t>
            </a:r>
            <a:endParaRPr b="1" i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81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611280" y="24922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53964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gency FB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611280" y="3141720"/>
            <a:ext cx="288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611280" y="3933720"/>
            <a:ext cx="288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684360" y="4797360"/>
            <a:ext cx="215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61128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684360" y="5445000"/>
            <a:ext cx="21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611280" y="5373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7"/>
          <p:cNvSpPr/>
          <p:nvPr/>
        </p:nvSpPr>
        <p:spPr>
          <a:xfrm>
            <a:off x="684360" y="6237360"/>
            <a:ext cx="215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8"/>
          <p:cNvSpPr/>
          <p:nvPr/>
        </p:nvSpPr>
        <p:spPr>
          <a:xfrm>
            <a:off x="611280" y="6093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1116000" y="1159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5,8 • 0,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0"/>
          <p:cNvSpPr/>
          <p:nvPr/>
        </p:nvSpPr>
        <p:spPr>
          <a:xfrm>
            <a:off x="1116000" y="83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29,6 : 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1116000" y="1557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0,74 :0,0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2"/>
          <p:cNvSpPr/>
          <p:nvPr/>
        </p:nvSpPr>
        <p:spPr>
          <a:xfrm>
            <a:off x="1042920" y="2349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4,91 • 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3"/>
          <p:cNvSpPr/>
          <p:nvPr/>
        </p:nvSpPr>
        <p:spPr>
          <a:xfrm>
            <a:off x="971640" y="306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5,96•0,0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4"/>
          <p:cNvSpPr/>
          <p:nvPr/>
        </p:nvSpPr>
        <p:spPr>
          <a:xfrm>
            <a:off x="1042920" y="386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48 : 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971640" y="4581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0,66 : 0,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971640" y="530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5 :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971640" y="6021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36 : 0,0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4284720" y="18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9"/>
          <p:cNvSpPr/>
          <p:nvPr/>
        </p:nvSpPr>
        <p:spPr>
          <a:xfrm>
            <a:off x="3924360" y="115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0,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0"/>
          <p:cNvSpPr/>
          <p:nvPr/>
        </p:nvSpPr>
        <p:spPr>
          <a:xfrm>
            <a:off x="3924360" y="83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2,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1"/>
          <p:cNvSpPr/>
          <p:nvPr/>
        </p:nvSpPr>
        <p:spPr>
          <a:xfrm>
            <a:off x="4140360" y="1557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3995640" y="234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4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3"/>
          <p:cNvSpPr/>
          <p:nvPr/>
        </p:nvSpPr>
        <p:spPr>
          <a:xfrm>
            <a:off x="3995640" y="3141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3492360" y="306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0,05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5"/>
          <p:cNvSpPr/>
          <p:nvPr/>
        </p:nvSpPr>
        <p:spPr>
          <a:xfrm>
            <a:off x="3995640" y="393372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6"/>
          <p:cNvSpPr/>
          <p:nvPr/>
        </p:nvSpPr>
        <p:spPr>
          <a:xfrm>
            <a:off x="3780000" y="3860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0,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4067280" y="4581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6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8"/>
          <p:cNvSpPr/>
          <p:nvPr/>
        </p:nvSpPr>
        <p:spPr>
          <a:xfrm>
            <a:off x="4067280" y="5300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3780000" y="6021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07d"/>
                </a:solidFill>
                <a:latin typeface="Arial Black"/>
              </a:rPr>
              <a:t>3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69"/>
          <p:cNvSpPr txBox="1"/>
          <p:nvPr/>
        </p:nvSpPr>
        <p:spPr>
          <a:xfrm>
            <a:off x="6084720" y="26028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WordArt 70"/>
          <p:cNvSpPr txBox="1"/>
          <p:nvPr/>
        </p:nvSpPr>
        <p:spPr>
          <a:xfrm>
            <a:off x="6156360" y="907920"/>
            <a:ext cx="64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WordArt 71"/>
          <p:cNvSpPr txBox="1"/>
          <p:nvPr/>
        </p:nvSpPr>
        <p:spPr>
          <a:xfrm>
            <a:off x="6156360" y="162864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WordArt 72"/>
          <p:cNvSpPr txBox="1"/>
          <p:nvPr/>
        </p:nvSpPr>
        <p:spPr>
          <a:xfrm>
            <a:off x="6084720" y="2421000"/>
            <a:ext cx="7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WordArt 73"/>
          <p:cNvSpPr txBox="1"/>
          <p:nvPr/>
        </p:nvSpPr>
        <p:spPr>
          <a:xfrm>
            <a:off x="6084720" y="3141720"/>
            <a:ext cx="719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74"/>
          <p:cNvSpPr txBox="1"/>
          <p:nvPr/>
        </p:nvSpPr>
        <p:spPr>
          <a:xfrm>
            <a:off x="6084720" y="3933720"/>
            <a:ext cx="7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WordArt 75"/>
          <p:cNvSpPr txBox="1"/>
          <p:nvPr/>
        </p:nvSpPr>
        <p:spPr>
          <a:xfrm>
            <a:off x="6084720" y="4653000"/>
            <a:ext cx="7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76"/>
          <p:cNvSpPr txBox="1"/>
          <p:nvPr/>
        </p:nvSpPr>
        <p:spPr>
          <a:xfrm>
            <a:off x="6084720" y="5373720"/>
            <a:ext cx="7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WordArt 77"/>
          <p:cNvSpPr txBox="1"/>
          <p:nvPr/>
        </p:nvSpPr>
        <p:spPr>
          <a:xfrm>
            <a:off x="6012000" y="6021360"/>
            <a:ext cx="79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%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7"/>
          <p:cNvSpPr/>
          <p:nvPr/>
        </p:nvSpPr>
        <p:spPr>
          <a:xfrm>
            <a:off x="179280" y="476280"/>
            <a:ext cx="727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5564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АУЧИТЬСЯ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a007d"/>
                </a:solidFill>
                <a:latin typeface="Georgia"/>
              </a:rPr>
              <a:t>переводить десятичную дробь в процен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564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АУЧИТЬСЯ</a:t>
            </a: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a007d"/>
                </a:solidFill>
                <a:latin typeface="Georgia"/>
              </a:rPr>
              <a:t>переводить обыкновенную дробь в процен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564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АУЧИТЬСЯ</a:t>
            </a: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a007d"/>
                </a:solidFill>
                <a:latin typeface="Georgia"/>
              </a:rPr>
              <a:t>переводить проценты в обыкновенную дроб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564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АУЧИТЬСЯ</a:t>
            </a: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a007d"/>
                </a:solidFill>
                <a:latin typeface="Georgia"/>
              </a:rPr>
              <a:t>переводить проценты в десятичную др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1835280" y="62064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WordArt 59"/>
          <p:cNvGrpSpPr/>
          <p:nvPr/>
        </p:nvGrpSpPr>
        <p:grpSpPr>
          <a:xfrm>
            <a:off x="7381800" y="262080"/>
            <a:ext cx="1512720" cy="1365120"/>
            <a:chOff x="7381800" y="262080"/>
            <a:chExt cx="1512720" cy="1365120"/>
          </a:xfrm>
        </p:grpSpPr>
        <p:pic>
          <p:nvPicPr>
            <p:cNvPr id="364" name="WordArt 59" descr=""/>
            <p:cNvPicPr/>
            <p:nvPr/>
          </p:nvPicPr>
          <p:blipFill>
            <a:blip r:embed="rId1"/>
            <a:stretch/>
          </p:blipFill>
          <p:spPr>
            <a:xfrm>
              <a:off x="7382880" y="263520"/>
              <a:ext cx="151164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7381800" y="262080"/>
              <a:ext cx="150984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4" descr="G:\Из школы\учебные предметы\44.wmf"/>
          <p:cNvPicPr/>
          <p:nvPr/>
        </p:nvPicPr>
        <p:blipFill>
          <a:blip r:embed="rId2"/>
          <a:stretch/>
        </p:blipFill>
        <p:spPr>
          <a:xfrm>
            <a:off x="7429680" y="5286240"/>
            <a:ext cx="153648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/>
          <p:cNvSpPr/>
          <p:nvPr/>
        </p:nvSpPr>
        <p:spPr>
          <a:xfrm>
            <a:off x="179280" y="4149720"/>
            <a:ext cx="8064720" cy="2303640"/>
          </a:xfrm>
          <a:prstGeom prst="roundRect">
            <a:avLst>
              <a:gd name="adj" fmla="val 16667"/>
            </a:avLst>
          </a:prstGeom>
          <a:solidFill>
            <a:srgbClr val="ffe7b7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6"/>
          <p:cNvGrpSpPr/>
          <p:nvPr/>
        </p:nvGrpSpPr>
        <p:grpSpPr>
          <a:xfrm>
            <a:off x="324000" y="333360"/>
            <a:ext cx="990360" cy="1043640"/>
            <a:chOff x="324000" y="333360"/>
            <a:chExt cx="990360" cy="1043640"/>
          </a:xfrm>
        </p:grpSpPr>
        <p:sp>
          <p:nvSpPr>
            <p:cNvPr id="369" name="AutoShape 17"/>
            <p:cNvSpPr/>
            <p:nvPr/>
          </p:nvSpPr>
          <p:spPr>
            <a:xfrm>
              <a:off x="324000" y="333360"/>
              <a:ext cx="990360" cy="104364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043640"/>
                <a:gd name="textAreaBottom" fmla="*/ 995400 h 104364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0"/>
            </a:gradFill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imes New Roman"/>
                </a:rPr>
                <a:t>1   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8"/>
            <p:cNvSpPr/>
            <p:nvPr/>
          </p:nvSpPr>
          <p:spPr>
            <a:xfrm>
              <a:off x="411120" y="838080"/>
              <a:ext cx="770040" cy="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1403280" y="9079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Georgia"/>
              </a:rPr>
              <a:t>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16360" y="620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= 1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6"/>
          <p:cNvGrpSpPr/>
          <p:nvPr/>
        </p:nvGrpSpPr>
        <p:grpSpPr>
          <a:xfrm>
            <a:off x="324000" y="2349360"/>
            <a:ext cx="990360" cy="1043640"/>
            <a:chOff x="324000" y="2349360"/>
            <a:chExt cx="990360" cy="1043640"/>
          </a:xfrm>
        </p:grpSpPr>
        <p:sp>
          <p:nvSpPr>
            <p:cNvPr id="374" name="AutoShape 17"/>
            <p:cNvSpPr/>
            <p:nvPr/>
          </p:nvSpPr>
          <p:spPr>
            <a:xfrm>
              <a:off x="324000" y="2349360"/>
              <a:ext cx="990360" cy="104364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043640"/>
                <a:gd name="textAreaBottom" fmla="*/ 995400 h 104364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0"/>
            </a:gradFill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imes New Roman"/>
                </a:rPr>
                <a:t>1   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411120" y="2854080"/>
              <a:ext cx="770040" cy="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2"/>
          <p:cNvSpPr/>
          <p:nvPr/>
        </p:nvSpPr>
        <p:spPr>
          <a:xfrm>
            <a:off x="1403280" y="2924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Georgia"/>
              </a:rPr>
              <a:t>цент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636720" y="256536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= 1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6"/>
          <p:cNvGrpSpPr/>
          <p:nvPr/>
        </p:nvGrpSpPr>
        <p:grpSpPr>
          <a:xfrm>
            <a:off x="250920" y="4653000"/>
            <a:ext cx="990360" cy="1043640"/>
            <a:chOff x="250920" y="4653000"/>
            <a:chExt cx="990360" cy="1043640"/>
          </a:xfrm>
        </p:grpSpPr>
        <p:sp>
          <p:nvSpPr>
            <p:cNvPr id="379" name="AutoShape 17"/>
            <p:cNvSpPr/>
            <p:nvPr/>
          </p:nvSpPr>
          <p:spPr>
            <a:xfrm>
              <a:off x="250920" y="4653000"/>
              <a:ext cx="990360" cy="104364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043640"/>
                <a:gd name="textAreaBottom" fmla="*/ 995400 h 104364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0"/>
            </a:gradFill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imes New Roman"/>
                </a:rPr>
                <a:t>1   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338040" y="5157720"/>
              <a:ext cx="770040" cy="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7"/>
          <p:cNvSpPr/>
          <p:nvPr/>
        </p:nvSpPr>
        <p:spPr>
          <a:xfrm>
            <a:off x="1332000" y="5157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Georgia"/>
              </a:rPr>
              <a:t>вел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3348000" y="496404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= 1 %   – процен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" descr="G:\Из школы\учебные предметы\13.wmf"/>
          <p:cNvPicPr/>
          <p:nvPr/>
        </p:nvPicPr>
        <p:blipFill>
          <a:blip r:embed="rId1"/>
          <a:stretch/>
        </p:blipFill>
        <p:spPr>
          <a:xfrm rot="12013800">
            <a:off x="6703560" y="118440"/>
            <a:ext cx="2225880" cy="1639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3" descr="сканирование0004"/>
          <p:cNvPicPr/>
          <p:nvPr/>
        </p:nvPicPr>
        <p:blipFill>
          <a:blip r:embed="rId2"/>
          <a:stretch/>
        </p:blipFill>
        <p:spPr>
          <a:xfrm>
            <a:off x="324000" y="260280"/>
            <a:ext cx="3632040" cy="55436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4"/>
          <p:cNvSpPr/>
          <p:nvPr/>
        </p:nvSpPr>
        <p:spPr>
          <a:xfrm>
            <a:off x="4140360" y="260280"/>
            <a:ext cx="460836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7e2"/>
                </a:solidFill>
                <a:latin typeface="Arial"/>
              </a:rPr>
              <a:t>Проценты широко использов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7e2"/>
                </a:solidFill>
                <a:latin typeface="Arial"/>
              </a:rPr>
              <a:t>в Древнем Ри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7e2"/>
                </a:solidFill>
                <a:latin typeface="Arial"/>
              </a:rPr>
              <a:t>Римляне брали с должника лихву (т.е деньги сверх того, что было дано в долг). При этом говорили: «на каждые 100 сестерциев долга заплатишь 16 сестерциев лихвы». Так как слова «на сто» звучали по-латыни </a:t>
            </a:r>
            <a:r>
              <a:rPr b="1" i="1" lang="ru-RU" sz="2400" spc="-1" strike="noStrike">
                <a:solidFill>
                  <a:srgbClr val="0087e2"/>
                </a:solidFill>
                <a:latin typeface="Arial"/>
              </a:rPr>
              <a:t>«про центум»,</a:t>
            </a:r>
            <a:r>
              <a:rPr b="1" lang="ru-RU" sz="2400" spc="-1" strike="noStrike">
                <a:solidFill>
                  <a:srgbClr val="0087e2"/>
                </a:solidFill>
                <a:latin typeface="Arial"/>
              </a:rPr>
              <a:t> то сотую часть и стали называть</a:t>
            </a:r>
            <a:r>
              <a:rPr b="0" lang="ru-RU" sz="2400" spc="-1" strike="noStrike">
                <a:solidFill>
                  <a:srgbClr val="2113d1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326832"/>
                </a:solidFill>
                <a:uFillTx/>
                <a:latin typeface="Arial"/>
              </a:rPr>
              <a:t>проц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WordArt 25"/>
          <p:cNvGrpSpPr/>
          <p:nvPr/>
        </p:nvGrpSpPr>
        <p:grpSpPr>
          <a:xfrm>
            <a:off x="7815240" y="5735520"/>
            <a:ext cx="1004760" cy="720360"/>
            <a:chOff x="7815240" y="5735520"/>
            <a:chExt cx="1004760" cy="720360"/>
          </a:xfrm>
        </p:grpSpPr>
        <p:pic>
          <p:nvPicPr>
            <p:cNvPr id="393" name="WordArt 25" descr=""/>
            <p:cNvPicPr/>
            <p:nvPr/>
          </p:nvPicPr>
          <p:blipFill>
            <a:blip r:embed="rId3"/>
            <a:stretch/>
          </p:blipFill>
          <p:spPr>
            <a:xfrm>
              <a:off x="7818120" y="5736600"/>
              <a:ext cx="1001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815240" y="5735520"/>
              <a:ext cx="10047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250920" y="260280"/>
            <a:ext cx="856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Знак % произошёл благод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опечатке. В рукописях </a:t>
            </a:r>
            <a:r>
              <a:rPr b="1" i="1" lang="en-US" sz="2800" spc="-1" strike="noStrike">
                <a:solidFill>
                  <a:srgbClr val="6600cc"/>
                </a:solidFill>
                <a:latin typeface="Georgia"/>
              </a:rPr>
              <a:t>pro centum</a:t>
            </a: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часто заменялось словом «</a:t>
            </a:r>
            <a:r>
              <a:rPr b="1" i="1" lang="en-US" sz="2800" spc="-1" strike="noStrike">
                <a:solidFill>
                  <a:srgbClr val="6600cc"/>
                </a:solidFill>
                <a:latin typeface="Georgia"/>
              </a:rPr>
              <a:t>cento</a:t>
            </a: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(сто) и писали сокращённо –</a:t>
            </a:r>
            <a:r>
              <a:rPr b="1" i="1" lang="ru-RU" sz="26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a007d"/>
                </a:solidFill>
                <a:latin typeface="Georgia"/>
              </a:rPr>
              <a:t>cto</a:t>
            </a:r>
            <a:r>
              <a:rPr b="1" i="1" lang="ru-RU" sz="2600" spc="-1" strike="noStrike">
                <a:solidFill>
                  <a:srgbClr val="6600cc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В 1685 году в Париже была напечатана книга – руководство по коммерческой арифметике, где по ошибке наборщик</a:t>
            </a:r>
            <a:r>
              <a:rPr b="1" i="1" lang="ru-RU" sz="2600" spc="-1" strike="noStrike">
                <a:solidFill>
                  <a:srgbClr val="6600cc"/>
                </a:solidFill>
                <a:latin typeface="Georgia"/>
              </a:rPr>
              <a:t> вместо </a:t>
            </a:r>
            <a:r>
              <a:rPr b="1" i="1" lang="en-US" sz="3600" spc="-1" strike="noStrike">
                <a:solidFill>
                  <a:srgbClr val="fa007d"/>
                </a:solidFill>
                <a:latin typeface="Georgia"/>
              </a:rPr>
              <a:t>cto</a:t>
            </a:r>
            <a:r>
              <a:rPr b="1" i="1" lang="ru-RU" sz="3600" spc="-1" strike="noStrike">
                <a:solidFill>
                  <a:srgbClr val="fa007d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6600cc"/>
                </a:solidFill>
                <a:latin typeface="Georgia"/>
              </a:rPr>
              <a:t>набрал </a:t>
            </a:r>
            <a:r>
              <a:rPr b="1" i="1" lang="ru-RU" sz="3600" spc="-1" strike="noStrike">
                <a:solidFill>
                  <a:srgbClr val="fa007d"/>
                </a:solidFill>
                <a:latin typeface="Georgia"/>
              </a:rPr>
              <a:t>%</a:t>
            </a:r>
            <a:r>
              <a:rPr b="1" i="1" lang="ru-RU" sz="2600" spc="-1" strike="noStrike">
                <a:solidFill>
                  <a:srgbClr val="6600cc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После этой ошибки многие математики также стали употреблять знак </a:t>
            </a:r>
            <a:r>
              <a:rPr b="1" i="1" lang="ru-RU" sz="3600" spc="-1" strike="noStrike">
                <a:solidFill>
                  <a:srgbClr val="fa007d"/>
                </a:solidFill>
                <a:latin typeface="Georgia"/>
              </a:rPr>
              <a:t>%</a:t>
            </a:r>
            <a:r>
              <a:rPr b="1" i="1" lang="ru-RU" sz="2800" spc="-1" strike="noStrike">
                <a:solidFill>
                  <a:srgbClr val="6600cc"/>
                </a:solidFill>
                <a:latin typeface="Georgia"/>
              </a:rPr>
              <a:t> для обозначения процентов, и постепенно он получил всеобщее при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WordArt 14"/>
          <p:cNvGrpSpPr/>
          <p:nvPr/>
        </p:nvGrpSpPr>
        <p:grpSpPr>
          <a:xfrm>
            <a:off x="7448400" y="115920"/>
            <a:ext cx="1512720" cy="1365120"/>
            <a:chOff x="7448400" y="115920"/>
            <a:chExt cx="1512720" cy="1365120"/>
          </a:xfrm>
        </p:grpSpPr>
        <p:pic>
          <p:nvPicPr>
            <p:cNvPr id="400" name="WordArt 14" descr=""/>
            <p:cNvPicPr/>
            <p:nvPr/>
          </p:nvPicPr>
          <p:blipFill>
            <a:blip r:embed="rId1"/>
            <a:stretch/>
          </p:blipFill>
          <p:spPr>
            <a:xfrm>
              <a:off x="7448400" y="115920"/>
              <a:ext cx="151164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451280" y="115920"/>
              <a:ext cx="150984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6:02:07Z</dcterms:created>
  <dc:creator>www.PHILka.RU</dc:creator>
  <dc:description/>
  <dc:language>en-US</dc:language>
  <cp:lastModifiedBy>админ</cp:lastModifiedBy>
  <dcterms:modified xsi:type="dcterms:W3CDTF">2020-08-20T04:28:27Z</dcterms:modified>
  <cp:revision>69</cp:revision>
  <dc:subject/>
  <dc:title>Деление дробей</dc:title>
</cp:coreProperties>
</file>