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630-4E2E-4D92-87CE-77F28694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4A0-49EB-4BF0-8524-3E4BA8CD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158-BEA5-430B-B350-9EBC19E7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E6C-709B-4DBB-91E6-EB3493FA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361-4637-4119-A8AC-DA7595D6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127-2DAA-4A1A-BEF7-1207467B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2D8-F53A-4AD6-B3CA-8637F31F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DC7-F2B0-4EA5-A7B4-444E474E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733-183E-48B4-91F1-F5B5C8AA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70F-E317-4D53-8D2C-FD55B9EE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834-B021-410E-9B4C-C683B23C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9CA-5536-42F0-A77A-8B5CFC72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FAA2-394D-4A53-A51C-61B88F67B4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http://kladraz.ru/upload/blogs2/2016/2/7737_b711230342886c2a77c413229c1708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19600"/>
            <a:ext cx="9144000" cy="10688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0" y="1375200"/>
            <a:ext cx="9144000" cy="54565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могать слабым, больным, маленьким, попавшим в бе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 жадничат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Жалеть други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 завидоват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могать друг другу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Делиться последним с друг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щать ошибки други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28760" y="-217800"/>
            <a:ext cx="8358120" cy="1537560"/>
          </a:xfrm>
          <a:prstGeom prst="flowChartPunchedTape">
            <a:avLst/>
          </a:prstGeom>
          <a:solidFill>
            <a:srgbClr val="33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Calibri"/>
              </a:rPr>
              <a:t>Правила добр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s://fs00.infourok.ru/images/doc/237/143136/1/img4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http://kladraz.ru/upload/blogs2/2016/2/7737_f761188ce12f92fb6ca8da9ea9c4463b.jpg"/>
          <p:cNvPicPr/>
          <p:nvPr/>
        </p:nvPicPr>
        <p:blipFill>
          <a:blip r:embed="rId1"/>
          <a:stretch/>
        </p:blipFill>
        <p:spPr>
          <a:xfrm>
            <a:off x="928800" y="0"/>
            <a:ext cx="7572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static.wixstatic.com/media/2449f7_b7d65a16084a464887e9223085b511a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Волна 6"/>
          <p:cNvSpPr/>
          <p:nvPr/>
        </p:nvSpPr>
        <p:spPr>
          <a:xfrm>
            <a:off x="0" y="0"/>
            <a:ext cx="9144000" cy="2137680"/>
          </a:xfrm>
          <a:custGeom>
            <a:avLst/>
            <a:gdLst>
              <a:gd name="textAreaLeft" fmla="*/ 0 w 9144000"/>
              <a:gd name="textAreaRight" fmla="*/ 9144360 w 9144000"/>
              <a:gd name="textAreaTop" fmla="*/ 534240 h 2137680"/>
              <a:gd name="textAreaBottom" fmla="*/ 1603440 h 2137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6d9f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р –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ленная, планета, земной шар, а так же население, люди земного ш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Волна 7"/>
          <p:cNvSpPr/>
          <p:nvPr/>
        </p:nvSpPr>
        <p:spPr>
          <a:xfrm>
            <a:off x="0" y="3740040"/>
            <a:ext cx="9144000" cy="3112200"/>
          </a:xfrm>
          <a:custGeom>
            <a:avLst/>
            <a:gdLst>
              <a:gd name="textAreaLeft" fmla="*/ 0 w 9144000"/>
              <a:gd name="textAreaRight" fmla="*/ 9144360 w 9144000"/>
              <a:gd name="textAreaTop" fmla="*/ 777960 h 3112200"/>
              <a:gd name="textAreaBottom" fmla="*/ 2334240 h 31122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6d9f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р –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ужеские связи, согласие между кем-либо, отсутствие войны; тишина, покой; соглашение о прекращении вой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ttp://img-fotki.yandex.ru/get/55/varjag-2007.b4/0_44971_20324fb8_L"/>
          <p:cNvPicPr/>
          <p:nvPr/>
        </p:nvPicPr>
        <p:blipFill>
          <a:blip r:embed="rId1"/>
          <a:stretch/>
        </p:blipFill>
        <p:spPr>
          <a:xfrm>
            <a:off x="0" y="0"/>
            <a:ext cx="4500720" cy="316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edebiyatevi.com/upload/yazi/77915-858392852012.jpg"/>
          <p:cNvPicPr/>
          <p:nvPr/>
        </p:nvPicPr>
        <p:blipFill>
          <a:blip r:embed="rId2"/>
          <a:stretch/>
        </p:blipFill>
        <p:spPr>
          <a:xfrm>
            <a:off x="0" y="3429000"/>
            <a:ext cx="4106880" cy="3214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img13.nnm.ru/imagez/gallery/3/8/6/9/1/386910546357352ebce9c6c0dfccb2ae_full.jp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ttp://www.playcast.ru/uploads/2015/02/06/11976680.jpg"/>
          <p:cNvPicPr/>
          <p:nvPr/>
        </p:nvPicPr>
        <p:blipFill>
          <a:blip r:embed="rId4"/>
          <a:stretch/>
        </p:blipFill>
        <p:spPr>
          <a:xfrm>
            <a:off x="4146480" y="3500280"/>
            <a:ext cx="4997520" cy="3143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3357720" y="3071880"/>
            <a:ext cx="2500200" cy="77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igorpivovardotinfo.files.wordpress.com/2014/09/c02b3d7d-a588-4edc-9e00-488ee1d0feca.jpg"/>
          <p:cNvPicPr/>
          <p:nvPr/>
        </p:nvPicPr>
        <p:blipFill>
          <a:blip r:embed="rId1"/>
          <a:stretch/>
        </p:blipFill>
        <p:spPr>
          <a:xfrm>
            <a:off x="0" y="857160"/>
            <a:ext cx="915336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28760" y="2571840"/>
            <a:ext cx="414324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частливы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57120" y="500040"/>
            <a:ext cx="421488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йна разруш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072040" y="500040"/>
            <a:ext cx="378612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 стро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14200" y="4572000"/>
            <a:ext cx="485784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жно за мир сто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929120" y="2643120"/>
            <a:ext cx="378612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 на плане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357880" y="4572000"/>
            <a:ext cx="357192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йне не 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785880" y="1428840"/>
            <a:ext cx="7572240" cy="77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строит, война разруш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0" y="3429000"/>
            <a:ext cx="9144000" cy="158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на планете – счастливы дети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0" y="5429160"/>
            <a:ext cx="9144000" cy="145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но за мир стоять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е не быв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pp.vk.me/c543104/v543104258/15fbf/YYnvYsmz1IQ.jpg"/>
          <p:cNvPicPr/>
          <p:nvPr/>
        </p:nvPicPr>
        <p:blipFill>
          <a:blip r:embed="rId1"/>
          <a:stretch/>
        </p:blipFill>
        <p:spPr>
          <a:xfrm>
            <a:off x="0" y="2666880"/>
            <a:ext cx="5715000" cy="419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shkolamudrosti.ru/media/images/base64/3370be05f5aeb3be97909e56855a33ff.jpeg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3817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42960" y="785880"/>
            <a:ext cx="285732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6000840" y="4929120"/>
            <a:ext cx="285732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454680"/>
            <a:ext cx="9144000" cy="54565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 во всём мире – мечта мо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сть люди живут как одна семь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сть больше не будет войн и оруд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сть двери откроют в домах повсю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вь и доверие – это по мн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мир бесконечный – всей Земл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rushkolnik.ru/tw_files2/urls_1/912/d-911716/img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3500280" y="4000680"/>
            <a:ext cx="2000520" cy="520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любим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6357960" y="3071880"/>
            <a:ext cx="2786040" cy="520560"/>
          </a:xfrm>
          <a:prstGeom prst="rect">
            <a:avLst/>
          </a:prstGeom>
          <a:solidFill>
            <a:srgbClr val="00b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агор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5786280" y="3929040"/>
            <a:ext cx="2000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с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4286160" y="2857680"/>
            <a:ext cx="200052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715000" y="2143080"/>
            <a:ext cx="20001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е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571920" y="1500120"/>
            <a:ext cx="200016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3071880" y="2071800"/>
            <a:ext cx="200016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м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714240" y="4643280"/>
            <a:ext cx="2286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ше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642960" y="5500800"/>
            <a:ext cx="2286000" cy="520560"/>
          </a:xfrm>
          <a:prstGeom prst="rect">
            <a:avLst/>
          </a:prstGeom>
          <a:solidFill>
            <a:srgbClr val="00b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л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285840" y="3714840"/>
            <a:ext cx="2286000" cy="520560"/>
          </a:xfrm>
          <a:prstGeom prst="rect">
            <a:avLst/>
          </a:prstGeom>
          <a:solidFill>
            <a:srgbClr val="00b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жли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1357200" y="2928960"/>
            <a:ext cx="200052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ё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642960" y="2286000"/>
            <a:ext cx="20001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г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715000" y="5500800"/>
            <a:ext cx="314316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ив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6643800" y="4786200"/>
            <a:ext cx="200016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уде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8:23:27Z</dcterms:created>
  <dc:creator>UserXP</dc:creator>
  <dc:description/>
  <dc:language>en-US</dc:language>
  <cp:lastModifiedBy>Ольга</cp:lastModifiedBy>
  <dcterms:modified xsi:type="dcterms:W3CDTF">2017-08-31T17:39:58Z</dcterms:modified>
  <cp:revision>13</cp:revision>
  <dc:subject/>
  <dc:title>Слайд 1</dc:title>
</cp:coreProperties>
</file>