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DF0-D0F0-4A72-B561-963FEB69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F27-B051-41BC-93B6-C5DCE121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0BA-B553-4AFC-AD54-1ED61220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348-4313-4F11-BF76-3713BBC4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E3C9-89A6-4777-A18F-EAB5CDFE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B78-4A3B-409E-A7BA-156FEB62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C3CA-875E-4137-89EB-45C2D57E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17E-8BF6-4A75-AA29-E0B02087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0B1-59FC-4A89-A8AC-82E36EB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6824-1EB8-4780-AE63-468B322A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D50B-CF76-478B-8DAD-1735507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269-7B15-4497-BC6A-3F02E47E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05B2-34F5-4077-9493-3A23DF0B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317-45B5-4A23-8FEB-8CEADF7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F6B3-46B8-4FE1-9EAC-70C161A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9D97-6B14-452C-BB90-34DC8A6A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4799-ADC3-400A-94C5-900CEAC3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FDA-9228-4B2E-BEC1-5347774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F3-80FA-44D6-A7BB-FDD96A4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9FD-1305-4F76-BB08-BEF5611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1D5-DDC4-4C24-8271-075FE11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85B-9395-48C3-8554-1F67750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5D2-2442-4E29-B5BE-2CB7BC4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072-44AD-4F64-B76A-6586F3F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41B8-F2B2-4052-AE71-4515B479F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953-3E60-4172-A799-31DBB0302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Times New Roman"/>
              </a:rPr>
              <a:t>Логопедический массаж при дизартр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.Ф. Арх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щек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ль:   расслабление   щечной мышц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писание:   проводят   вращательное поглаживающее движение по поверхности щ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   достижения    большего эффекта эти же движения можно   осуществлять  с  внутренней стороны щ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указательными и средними пальцами обеих рук. С внутренней стороны щек массаж осуществляется при помощи зонда «Шарик», указательного пальца, шпателя. Все движения выполняются 6-8 раз, 2—3 раза в день. Вращательные движения по часовой стрел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75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мышц, поднимающих угол 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щек от мочек ушей к крыль­ям н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указательными и средн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повторяются 7—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8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расслабление щечной мышцы и мышц, поднимающих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легкое растирание от мочек ушей к крыльям н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указательными и средни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не вызывающие напряжения в других группах мыш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3—4 раза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49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скуловых мыш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от мочек ушей к середине подбород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 и средними пальцами обеих рук. Движения должны быть очень легкими, выполняются 6-8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579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губ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губ и круговой мышцы 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губ от углов рта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 пальцами обеих рук. Движения выполняются 6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2941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  легкое   описание губ от углов рта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       указательными  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не должны быть интенсив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3-4 раза,  1 раз в д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4891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максимальное расслабление круговой мышцы 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исание: поглаживание круговой мышцы 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 пальцами обеих рук. Движения выполняются 6—8 раз,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   мышц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ое поглаживание языка от кончика языка к его кор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зондом «Шарик», указательным пальцем, шпателем. Массажные движения выполняются 6—8 раз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   корня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ая вибрация двумя пальцами под углами нижней челю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азательными пальцами обеих рук выполнять с нажимом вращательные движения в точках под углами нижней челюсти в течение 3—4 секунд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спастико-атактико-гиперкинетическом синдром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ж должен проводиться очень осторожно , логопед должен следить за ответной реакцией в других группах мыш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мышцы очень напряжены, особенно в руках, следует прекратить массаж, т.к. расслабляющий массаж лица будет неэффективен. Необходимо сначала расслабить ру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д проведением массажа ребенка необходимо уложить или усадить в удобную позу с учетом рефлекс запрещающего положения т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Масс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метод лечения и профилактики, представляющий собой совокупность приемов механического воздействия на различные участки поверхности тела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шеи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ышц шеи и плечевого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дят круго­выми движениями поглажива­ния шеи сзади и с боков сверху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    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уществляются  двумя  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   выполняются  6-10 раз, 2-3 раза в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  должны   быть   очень легк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4703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передней части   шеи   (гортани)   и   корня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ятся поглаживающие движения гортани сверху вни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 первыми фалангами пальц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6-10 раз, 2-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лба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 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ят легкое прерывистое   поглаживание  лба от висков к центру л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 выполняется указательными, средними, безымянны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осуществляются 6—10 раз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3767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лабление    лобных мыш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яется точечная вибрация мышц лба от виско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нтру лб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ибрация осуществляется подушечками указательных пальцев обеих рук или вибромассажером. Вибрация должна проводиться в едином быстром рит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оявлении неприятных ощущений и быстрой сонливости массаж приостанавливается или совсем прекращ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ижения выполняются 3—4 раза, 2—3 раза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33259"/>
          <a:stretch/>
        </p:blipFill>
        <p:spPr>
          <a:xfrm>
            <a:off x="5508720" y="2276640"/>
            <a:ext cx="2503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  лобных мышц и  мимической  мускула-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яется   поглаживание  лба  от  волосистой части головы к линии бровей, через глаза по всему лицу к ш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    движения осуществляются внутренней стороной ладо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  8-10   раз,   2-3   раза   в день. Поглаживающие движения должны быть очень легкими, успокаив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24238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области глазниц 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сслабление мышц окружности гла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полняется поглаживание круговой мышцы гла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,   средними  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зымянными   пальцами   обеих ру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выполняются 4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раз, 2-3 раза в ден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не вызывающими неприятных ощущений или повышение тонуса в других группах мыш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2511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  расслабление    мышц, поднимающих угол рта, щечной мышцы,  мышц,   поднимающих верхнюю г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выполняются вращательные поглаживающие движения по поверхности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  поглаживающие движения  осуществляются указательными, средними и безымянны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6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5524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Точечный 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Цель: расслабление мышц лица и мышц мяг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б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писание: осуществляется массаж одновременно в точках ИН-СЯН, СЯ-ГУАНЬ, ЭР-МЭН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зоне точки ИН-СЯН массаж    производится    большими пальцами, в зоне точки СЯ-ГУ­АНЬ массаж производится указательными   пальцами,   в   зоне точки   ЭР-МЭНЬ   массаж  производится  средними  пальц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Успокаивающее воздействие достигается плавными круговыми поглаживаниями   точек,   с   постепенным   переходом   к   стабильному растиранию точек и, затем — к непрерывному, без отрыва пальца,  надавливанию,  с изменяющимся усилием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атем интенсивность воздействия уменьшается и прекращается. Вращения осуществляются по часовой стрелк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лительность точечного массажа зависит от реакции ребенка на воздействие, но независимо от реакции массаж не должен продолжаться более 1 минуты (для взрослых более 3 минут) и 1 раза в ден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422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расслабление скуловых мышц и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легкое пощипывание скуловых мышц от мочек ушей к середине подб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осуществляется указательными, средними и безымянными паль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6-10 раз, 2-3 раза в день. Движения должны быть очень легк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382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лабление скуловых мышц и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ечная вибрация скуловых мышц от мочек ушей к середине подб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ечная вибрация осуществляется подушечками указательных пальцев или вибромассаж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ция проводится в едином быстром рит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я повторяются 3—4 раза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503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Цель логопедического массажа при устранении дизартри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ранение патологической симптоматики в периферическом отделе речевого аппа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губ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сслабление круговой мышцы рта, ее периферической и внутренней части; мышц, поднимающих верхнюю губу и углы рта кверху, опускающих нижнюю губу и углы рта вни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гкое поглаживание круговой мышцы 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подушечкой указательного пальц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осуществляются по часовой стрел­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8—10 раз, 2—3 раза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24415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губ от краев к середине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одновременно подушечками указательных пальцев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едва ощутим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8—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095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Точечный массаж мимической мускулатуры при гиперкинезах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 13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ятие  мышечного беспокойства в речевой муску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перекрестный массаж в точке, которая находится в середине левой носогубной складки и в точке, которая находится под углом губ справа. Затем массаж выполняется в точке на правой носогубной складке и в точке под углом губ сл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подушечками указательных пальцев не более 10 секун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3889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4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ятие мышечного напряжения и подавление гиперкинезов в речевой муску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массаж в точке под углом губ слева и в точке под сосцевидным отростком за ухом справа. Эти упражнения проводятся и на противоположной стор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подушечками указательных пальц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816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продоль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хлопывание кончика языка к корню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лопывание осуществляется при помощи указательного пальца, зонда «Шарик» или при помощи шпателя. Движения выполняются 8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210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попереч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языка из стороны в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при помощи указательного пальца, зонда «Шарик» или при помощи шп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8-10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008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Точечный массаж языка при гиперкинезах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17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авление гиперкинезов в мышцах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языка, поочередно в трех точ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при помощи зонда «Игла» (с тупым конц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о часовой стрелке, не более 3 секунд на одной 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290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8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авление гиперкинезов в мышцах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в углублениях под языком, в двух точках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указательного, среднего лальцев   или    зонда   «Грабл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о часовой стрелке, не более 6-1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я не должны причинять ребенку дискомфо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473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   корня языка, подавление гиперкине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ся точечный массаж в области подчелюстной ям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азательным пальцем провести легкие вибрирующие движения под подбородком в области подчелюстной ямки в течение 4-5 секун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4620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паретическом синдром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крепление мыш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ижения проводятся интенсивно, с нажим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няются растирания, разминания, пощипы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Задачи логопедического массажа при дизарт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изация мышечного тонуса, преодоление гипо-гипертонуса в мимической и артикуляционной мускул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ранение патологической симптоматики такой, как гиперкинезы, синкинезии, девиация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яция положительных кинестез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качества артикуляционных движений (точность, объем, переключаемость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илы мышечных сокращ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ация тонких дифференцированных движений органов артикуляции, необходимых для коррекции звукопроизно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лб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я осуществляются указательными, средними и безымянны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ные движения вы­полняются 6—8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2376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я осуществляются вторыми фалангами указательных, средних и безымянных пальцев, сжатых в кул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ющие движения выполняются 6-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4415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лба от середины к вис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я осуществляются первыми фалангами указательных, средних и безымянных пальцев. При растирании кожный покров лба должен натягива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526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т середины лба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существляются подушечками указательных, средних и безымянных пальцев обеих рук 4—6 раз, 1 раз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2352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ния осуществляются подушечками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ющие движения выполняются 8-10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60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я осуществляются указательными, средними и больши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ся 4-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4526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ние лба от бровей к волосистой части голо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ния осуществляются указательными, средними и безымянны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6305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мышц щ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ся поглаживание, растирание, разминание мышц щ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е и растирание щек проводится обеими руками в направлении от носа к щекам в течение 6—8 секунд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520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имуляция мышц, поднимающих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поглаживающие движения по поверхности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поглаживающие движения осуществляются указательными, средними и безымянны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против часовой стрелки, 8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3907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тивизация    мышц, поднимающих нижнюю челю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иралевидное растирание жевательной мышцы от висков к углам челю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осуществляются подушечками указательных,  средних и безымянных пальцев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по спирали 8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544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Три комплекса дифференцированного логопедического массаж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ригидном синдроме (высокий тону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спастико-атактико-гиперкинетическом синдроме (на фоне высокого тонуса проявляются гиперкинезы, дистония, атакс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паретическом синдроме (низкий тону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поднимающих угол рта и верхнюю г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    движения (осуществляются указательными, средними и большими пальцами обеих   рук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я   выполняются по кругу 6—8 раз, 2— 3 раза в день, против часовой стрел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47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 12. Точечный массаж, вариант № 1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изация и укрепление мышц, поднимающих верхнюю губу и угол рта. Активизация и укрепление мышц лица и мышц мягкого неб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ссаж производится одновременно в точках ИН-СЯН, СЯ-ГУАНЬ, ЭР-МЭ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зоне точки ИН-СЯН массаж производится подушечкой большого пальца, в зоне точки СЯ-ГУАНЬ — подушечкой указательного пальца и в зоне точки ЭР-МЭНЬ —  подушечкой среднего пальца.   Сначала производят поглаживания точек, затем легкие пощипывания или легкие постукивания точе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вижения выполняются против часовой стрелки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собенность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щипывания следует производить с силой, по степени терпения ребенка, поглаживания необходимо производить с ослабевающей сил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5938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3. Точенный массаж, вариант №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поднимающих верхнюю губу, угол рта, мышц, поднимающих угол рта. Укрепление и активизация большой скуловой мышцы, щечной мышцы, подбородочной мышцы и мышц, опускающих нижнюю губ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сируется отрезок по дуге нижней челюсти от точки ЦЗЯ-ЧЭ до точки ДИ-ЦАН. Далее от точки ДИ-ЦАН до точки А. Затем массируется отрезок от точки А до точки ЦЗЯ-ЧЭ. После этого отрезка массируется отрезок вдоль нижней челюсти от точки 2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о точки ЦЗЯ-ЧЭ. Затем проводится массаж отрезка от точки ЦЗЯ-ЧЭ до точки ТИН-ХУЭ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 массажные движения осуществляются подушечкой указательного пальца, способом поглаживания. Осуществляется примерно десять прохождений по всем отрезкам. Поглаживания выполняются против часовой стрел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442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Упражнение М 14. Точечный массаж, вариант № 3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276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репление и стимуляция мышц лиц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ится поочередный массаж точек БАЙ-ХУ-ЭЙ, ИНЬ-ЦЗЯО, ДУЙ-ДУА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массировании этих точек производятся импульсивны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зкие надавливания, но в то же время поверхностные и кратковременные  по  2—3  секунды,  с последующим   отрывом   пальца от точки на 1-2 секунды. Используются так же способы вращения, похлопывания, толкания пальцем   и   вибрации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саж выполняется подушечкой указательного пальц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ращательные   движения   осуществляются   против   часовой стрелки. Массаж одной точки не должен превышать 4 секу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огопед выбирает только один вариант точечного массажа,   который  наиболее   эффективен   в   каждом конкретном случа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32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скуловой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скуловой мышцы от середины подбородка к мочкам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 и средн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8—10 раз, 2—3 раза в 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2644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п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скуловой мышцы и мышцы, опускающей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скуловой мышцы от середины подбородка к мочкам у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указательными и средними пальцами обе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25448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ивизация мышц, опускающих нижнюю гу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ятся спиралевидные движения от середины подбородка к мочкам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существляются подушечками указательных, средних и безымянных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543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скуловой мышцы от середины подбородка к мочкам у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движения осуществляются большим пальцем, который находится сверху и указательными   средними  пальцами, которые находятся под скуловой дуг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ся 6—8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5336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губ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губ от середины,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уществляются подушечками указательных пальцев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 движения   выполняются 8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5290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реп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я осуществляются подушечками   больших 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ющие спира-левидные движения выполняют 6-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251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ригидном синдром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еспечение успокаивающего действия, приведение мышц в состояние полного поко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очень легки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огопед должен реагировать на судорожную реакцию ребенка и мгновенно прекращать массажные движения, вызывающие подобную реак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проведением массажа ребенка необходимо уложить или усадить в удобную позу с учетом рефлекс запрещающего положения т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ы разминания и вибрации при ригидном синдроме применять не следу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дят легкое растирание губ от середины к уг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следует производить указательны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льцами обеих рук. Губы должны растягиваться, и ребенок должен ощущать легкое покалывание в губ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 4-6 раз, 2-3 ра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11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осуществляются указательными и больш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 6—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-9434" r="-11728" b="11635"/>
          <a:stretch/>
        </p:blipFill>
        <p:spPr>
          <a:xfrm>
            <a:off x="5724360" y="2563920"/>
            <a:ext cx="3168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яция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похлопыв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лопывающие движения необходимо проводить при помощи шпателя или пальцев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достаточно интенсив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осуществл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752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муляция мышц, обеспечивающих подвижность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  губ от середины к уг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губ следует проводить при помощи зонда «Игла» или при помощи мягкой зубной щет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ость обкалывания зависит от степени паретичности мыш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осуществляется 3—4 раза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435640" y="3068640"/>
            <a:ext cx="3457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круговой мышцы рта, мышц, поднимающих верхнюю губу и углы рта кверху   и   мышц,   опускающих нижнюю губу и углы рта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мышц по носогубным склад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по носогубным складкам вверх и вниз. Растирание вверх-вниз под углами нижней гу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ять 3—4 раза,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62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Упражнение № 26 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Точечный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массаж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одится точечный массаж по линии губ от середины к углам губ и по носогубным складкам вниз и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ечный массаж проводится подушечками указательных пальцев обеих рук. Движения круговые, надавливающ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ечный массаж осуществляется против часовой стрелки, способом вращения, не более 5-6 секунд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565360" cy="32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2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продольных мышц язы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ние продольных мышц языка от корня к кончику язы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проводятся при помощи указательного пальца, зонда «Шари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еньким детям массаж лучше всего проводить при помощи шпа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8-10 раз, 2-3 раза в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04948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продольных и попереч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тмичные надавливания на язык от корня к конч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авливающие движения осуществляются при помощи пластмассового шп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авливания должны быть интенсивными, выполняют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199836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стимуляция поперечных мышц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ние языка из стороны, в сторону, в направлении от корня к кончику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следует проводить при помощи указательного пальца, зонда «Шарик» или при помощи мягкой зубной ще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4—6 раз, 2-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933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крепление мышц языка и увеличение объема артикуляционных движений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водится обкалывание языка от корня к кончику и по боковым краям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калывающие движения проводятся при помощи зонда «Игл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логопед должен наблюдать за состоянием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появлении сонливости массаж следует прекрат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калывающие движения можно проводить не более 10 секунд, 1 раз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09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Массаж шеи 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Упражнение №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1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ышц плечевого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ят поглаживания шеи сверху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, чтобы движения были легкими, максимально расслабляющие мышцы. Следить за ответной реакцией в других группах мышц. Массажные, движения выполняются 6—8 раз, 2-3 раза в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223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ньшение уровня салив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в углублениях под языком, в двух точках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указательного, среднего пальц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нда «Грабл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ротив часовой стрелки, не более 6-1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не должны причинять ребенку дискомфо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5524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мышц язы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разминание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пальцев (обернутых в марлевую салфетку).   Массаж   выполняется   по всей площади языка (проводится тщатель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инание языка во всех направлениях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  движения выполняются не более 6-8 секунд, 1-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лб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едение мышц лба в состояние поко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лба от висков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, средними и безымянными пальцами обеих рук. Движения выполняются 6-8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644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расслабления мышц л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от корней волос к линии бров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указательными, средними и безымянными пальцами обеих рук. Движения выполняются 6-8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19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6:44:51Z</dcterms:created>
  <dc:creator>Николай</dc:creator>
  <dc:description/>
  <dc:language>en-US</dc:language>
  <cp:lastModifiedBy>Николай</cp:lastModifiedBy>
  <dcterms:modified xsi:type="dcterms:W3CDTF">2008-05-11T21:11:52Z</dcterms:modified>
  <cp:revision>14</cp:revision>
  <dc:subject/>
  <dc:title>Логопедический массаж при дизартрии</dc:title>
</cp:coreProperties>
</file>