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28.jpeg" ContentType="image/jpeg"/>
  <Override PartName="/ppt/media/image51.jpeg" ContentType="image/jpeg"/>
  <Override PartName="/ppt/media/image7.jpeg" ContentType="image/jpeg"/>
  <Override PartName="/ppt/media/image38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53.jpeg" ContentType="image/jpeg"/>
  <Override PartName="/ppt/media/image49.jpeg" ContentType="image/jpeg"/>
  <Override PartName="/ppt/media/image54.jpeg" ContentType="image/jpeg"/>
  <Override PartName="/ppt/media/image55.jpeg" ContentType="image/jpeg"/>
  <Override PartName="/ppt/media/image56.jpeg" ContentType="image/jpeg"/>
  <Override PartName="/ppt/media/image57.jpeg" ContentType="image/jpeg"/>
  <Override PartName="/ppt/media/image58.jpeg" ContentType="image/jpeg"/>
  <Override PartName="/ppt/media/image59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52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62DF-65EA-4628-8789-13FBB54C2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AB56-407A-410C-816C-7F04FB7C2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22A6-F79D-4A64-883E-D1F370789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E908-7DA4-4B23-AA88-8BF90D658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0D3DE-A4E6-437F-9095-F0B694951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83DB0-2808-4AA1-B88D-10B546C4C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B27C5-22D0-46F4-A47D-B08A3F5B8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E2BAC-9DBA-455B-A215-67B518571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EE59E-DE1F-4BCA-A87C-04243645D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324B4-FEB4-4E11-9C9D-1F3DEC789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60F18-B4F5-4798-BC2D-91F32F3A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4C44-A70F-48A6-A16A-0FB53C3BD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13696-D56E-46C7-B268-B57303FE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E5CDC-224C-4C88-B237-94834A17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1E901-6A4E-4A81-820A-611777679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3E0F6-048F-4866-B3BE-B010B4A6C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8CCF2-FB1C-4109-AE5F-23AEDCAFD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4A72-7D9A-4FA1-BE4C-56E2DDE5C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6B38-2408-4512-9F7C-716A6E3C4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14D8-79E3-44E0-9CA7-301FDA522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45E7-2EC4-431D-9ADA-040389C95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DBE9-504C-4275-85F3-38E2D204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134B-3A8C-4178-86D3-135A1F53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9EE6-0C73-4225-86AF-3BAF4FA8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F8601-2140-4B12-9250-8B0D2C1289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0F67-DAA1-427A-8E38-E5C3C51A03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b7"/>
                </a:solidFill>
                <a:latin typeface="Times New Roman"/>
              </a:rPr>
              <a:t>Логопедический массаж при дизартрии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Е.Ф. Архипо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Times New Roman"/>
              </a:rPr>
              <a:t>Массаж щек </a:t>
            </a:r>
            <a:br>
              <a:rPr sz="4400"/>
            </a:br>
            <a:r>
              <a:rPr b="0" i="1" lang="en-US" sz="4400" spc="-1" strike="noStrike">
                <a:solidFill>
                  <a:srgbClr val="ffffb7"/>
                </a:solidFill>
                <a:latin typeface="Times New Roman"/>
              </a:rPr>
              <a:t>Упражнение № 4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Цель:   расслабление   щечной мышцы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Описание:   проводят   вращательное поглаживающее движение по поверхности щек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ля    достижения    большего эффекта эти же движения можно   осуществлять  с  внутренней стороны щек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Методические рекомендаци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Массажные движения осуществляются указательными и средними пальцами обеих рук. С внутренней стороны щек массаж осуществляется при помощи зонда «Шарик», указательного пальца, шпателя. Все движения выполняются 6-8 раз, 2—3 раза в день. Вращательные движения по часовой стрелке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580000" y="2421000"/>
            <a:ext cx="2575080" cy="31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Times New Roman"/>
              </a:rPr>
              <a:t>Упражнение № 5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Цель: расслабление мышц, поднимающих угол р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писание: легкое поглаживание щек от мочек ушей к крыль­ям нос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ассажные движения осуществляются указательными и средними пальцами обеих ру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вижения повторяются 7—10 раз, 2-3 раза в ден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580000" y="2276640"/>
            <a:ext cx="248436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Times New Roman"/>
              </a:rPr>
              <a:t>Упражнение № 6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Цель: расслабление щечной мышцы и мышц, поднимающих угол р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писание: легкое растирание от мочек ушей к крыльям нос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стирающие движения осуществляются указательными и средними пальцами обеих рук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вижения должны быть очень осторожными, не вызывающие напряжения в других группах мышц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ассажные движения осуществляются 3—4 раза, 2—3 раза в ден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580000" y="2421000"/>
            <a:ext cx="254952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Times New Roman"/>
              </a:rPr>
              <a:t>Массаж скуловой мышцы</a:t>
            </a:r>
            <a:br>
              <a:rPr sz="4400"/>
            </a:br>
            <a:r>
              <a:rPr b="0" i="1" lang="en-US" sz="4400" spc="-1" strike="noStrike">
                <a:solidFill>
                  <a:srgbClr val="ffffb7"/>
                </a:solidFill>
                <a:latin typeface="Times New Roman"/>
              </a:rPr>
              <a:t>Упражнение № 7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Цель: расслабление скуловых мыш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писание: легкое поглаживание от мочек ушей к середине подбород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глаживание осуществляется указательными и средними пальцами обеих рук. Движения должны быть очень легкими, выполняются 6-8 раз, 2-3 раза в ден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651640" y="2349360"/>
            <a:ext cx="257940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Times New Roman"/>
              </a:rPr>
              <a:t>Массаж губ</a:t>
            </a:r>
            <a:br>
              <a:rPr sz="4400"/>
            </a:br>
            <a:r>
              <a:rPr b="0" i="1" lang="en-US" sz="4400" spc="-1" strike="noStrike">
                <a:solidFill>
                  <a:srgbClr val="ffffb7"/>
                </a:solidFill>
                <a:latin typeface="Times New Roman"/>
              </a:rPr>
              <a:t>Упражнение № 8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Цель: расслабление губ и круговой мышцы рт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писание: легкое поглаживание губ от углов рта к центр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глаживание осуществляется указательными пальцами обеих рук. Движения выполняются 6-10 раз, 2-3 раза в ден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580000" y="3141720"/>
            <a:ext cx="294156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Times New Roman"/>
              </a:rPr>
              <a:t>Упражнение № 9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Цель: расслабление гу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писание:   легкое   описание губ от углов рта к центр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стирающие движения осуществляются        указательными   пальцами обеих рук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стирающие движения не должны быть интенсивны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вижения выполняются 3-4 раза,  1 раз в ден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148360" y="3141720"/>
            <a:ext cx="348912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Times New Roman"/>
              </a:rPr>
              <a:t>Упражнение № 10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Цель: максимальное расслабление круговой мышцы р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писание: поглаживание круговой мышцы р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глаживающие движения осуществляются указательными пальцами обеих рук. Движения выполняются 6—8 раз, 2—3 раза в ден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Times New Roman"/>
              </a:rPr>
              <a:t>Массаж языка</a:t>
            </a:r>
            <a:br>
              <a:rPr sz="4400"/>
            </a:br>
            <a:r>
              <a:rPr b="0" i="1" lang="en-US" sz="4400" spc="-1" strike="noStrike">
                <a:solidFill>
                  <a:srgbClr val="ffffb7"/>
                </a:solidFill>
                <a:latin typeface="Times New Roman"/>
              </a:rPr>
              <a:t>Упражнение № 11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Цель: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сслабление    мышц язы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егкое поглаживание языка от кончика языка к его корню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глаживающие движения осуществляются зондом «Шарик», указательным пальцем, шпателем. Массажные движения выполняются 6—8 раз 2—3 раза в ден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Times New Roman"/>
              </a:rPr>
              <a:t>Упражнение № 12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Цель: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сслабление    корня язы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легкая вибрация двумя пальцами под углами нижней челюс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казательными пальцами обеих рук выполнять с нажимом вращательные движения в точках под углами нижней челюсти в течение 3—4 секунд 2—3 раза в ден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b7"/>
                </a:solidFill>
                <a:latin typeface="Arial Black"/>
              </a:rPr>
              <a:t>Комплекс упражнений логопедического массажа при спастико-атактико-гиперкинетическом синдроме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Рекомендаци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Массаж должен проводиться очень осторожно , логопед должен следить за ответной реакцией в других группах мышц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Если мышцы очень напряжены, особенно в руках, следует прекратить массаж, т.к. расслабляющий массаж лица будет неэффективен. Необходимо сначала расслабить рук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еред проведением массажа ребенка необходимо уложить или усадить в удобную позу с учетом рефлекс запрещающего положения тел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000"/>
                            </p:stCondLst>
                            <p:childTnLst>
                              <p:par>
                                <p:cTn id="12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ffb7"/>
                </a:solidFill>
                <a:uFillTx/>
                <a:latin typeface="Arial Black"/>
              </a:rPr>
              <a:t>Массаж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то метод лечения и профилактики, представляющий собой совокупность приемов механического воздействия на различные участки поверхности тела человек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Times New Roman"/>
              </a:rPr>
              <a:t>Массаж шеи </a:t>
            </a:r>
            <a:br>
              <a:rPr sz="4400"/>
            </a:br>
            <a:r>
              <a:rPr b="0" i="1" lang="en-US" sz="4400" spc="-1" strike="noStrike">
                <a:solidFill>
                  <a:srgbClr val="ffffb7"/>
                </a:solidFill>
                <a:latin typeface="Times New Roman"/>
              </a:rPr>
              <a:t>Упражнение № 1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сслабление мышц шеи и плечевого пояс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изводят круго­выми движениями поглажива­ния шеи сзади и с боков сверху вниз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глаживающие     движ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существляются  двумя   рук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вижения    выполняются  6-10 раз, 2-3 раза в ден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ассажные движения   должны   быть   очень легким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724360" y="2205000"/>
            <a:ext cx="2470320" cy="31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Times New Roman"/>
              </a:rPr>
              <a:t>Упражнение № 2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сслабление передней части   шеи   (гортани)   и   корня язы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оизводятся поглаживающие движения гортани сверху вниз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глаживающие движения выполняют первыми фалангами пальце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ассажные движения осуществляются 6-10 раз, 2-3 раза в день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Times New Roman"/>
              </a:rPr>
              <a:t>Массаж лба </a:t>
            </a:r>
            <a:br>
              <a:rPr sz="4400"/>
            </a:br>
            <a:r>
              <a:rPr b="0" i="1" lang="en-US" sz="4400" spc="-1" strike="noStrike">
                <a:solidFill>
                  <a:srgbClr val="ffffb7"/>
                </a:solidFill>
                <a:latin typeface="Times New Roman"/>
              </a:rPr>
              <a:t>Упражнение № 3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Цель: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сслабление   лобных мыш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Описание: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изводят легкое прерывистое   поглаживание  лба от висков к центру лб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ассаж выполняется указательными, средними, безымянными пальцами обеих рук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вижения осуществляются 6—10 раз 2—3 раза в ден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580000" y="2421000"/>
            <a:ext cx="2376720" cy="31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Times New Roman"/>
              </a:rPr>
              <a:t>Упражнение № 4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Цель:  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сслабление    лобных мышц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ыполняется точечная вибрация мышц лба от висков </a:t>
            </a: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к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центру лб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ибрация осуществляется подушечками указательных пальцев обеих рук или вибромассажером. Вибрация должна проводиться в едином быстром ритме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и появлении неприятных ощущений и быстрой сонливости массаж приостанавливается или совсем прекращаетс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Движения выполняются 3—4 раза, 2—3 раза в день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33259"/>
          <a:stretch/>
        </p:blipFill>
        <p:spPr>
          <a:xfrm>
            <a:off x="5508720" y="2276640"/>
            <a:ext cx="25034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Times New Roman"/>
              </a:rPr>
              <a:t>Упражнение № 5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Цель: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сслабление   лобных мышц и  мимической  мускула-тур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Описание: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ыполняется   поглаживание  лба  от  волосистой части головы к линии бровей, через глаза по всему лицу к ше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Методические рекомендации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глаживающие     движения осуществляются внутренней стороной ладон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вижения выполняются   8-10   раз,   2-3   раза   в день. Поглаживающие движения должны быть очень легкими, успокаивающим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508720" y="2565360"/>
            <a:ext cx="242388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Times New Roman"/>
              </a:rPr>
              <a:t>Массаж области глазниц Упражнение № 6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расслабление мышц окружности глаз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выполняется поглаживание круговой мышцы глаз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оглаживание осуществляется указательными,   средними   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безымянными   пальцами   обеих рук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вижения выполняются 4—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 раз, 2-3 раза в день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вижения должны быть очень осторожными, не вызывающими неприятных ощущений или повышение тонуса в других группах мышц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5435640" y="2421000"/>
            <a:ext cx="251136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Times New Roman"/>
              </a:rPr>
              <a:t>Массаж щек</a:t>
            </a:r>
            <a:br>
              <a:rPr sz="4400"/>
            </a:br>
            <a:r>
              <a:rPr b="0" i="1" lang="en-US" sz="4400" spc="-1" strike="noStrike">
                <a:solidFill>
                  <a:srgbClr val="ffffb7"/>
                </a:solidFill>
                <a:latin typeface="Times New Roman"/>
              </a:rPr>
              <a:t>Упражнение № 7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Цель:   расслабление    мышц, поднимающих угол рта, щечной мышцы,  мышц,   поднимающих верхнюю губ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писание: выполняются вращательные поглаживающие движения по поверхности ще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ращательные   поглаживающие движения  осуществляются указательными, средними и безымянными пальцами обеих рук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вижения выполняются 6—10 раз, 2—3 раза в ден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651640" y="2276640"/>
            <a:ext cx="255240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Times New Roman"/>
              </a:rPr>
              <a:t>Точечный массаж щек</a:t>
            </a:r>
            <a:br>
              <a:rPr sz="4400"/>
            </a:br>
            <a:r>
              <a:rPr b="0" i="1" lang="en-US" sz="4400" spc="-1" strike="noStrike">
                <a:solidFill>
                  <a:srgbClr val="ffffb7"/>
                </a:solidFill>
                <a:latin typeface="Times New Roman"/>
              </a:rPr>
              <a:t>Упражнение № 8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Цель: расслабление мышц лица и мышц мягког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неб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Описание: осуществляется массаж одновременно в точках ИН-СЯН, СЯ-ГУАНЬ, ЭР-МЭНЬ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В зоне точки ИН-СЯН массаж    производится    большими пальцами, в зоне точки СЯ-ГУ­АНЬ массаж производится указательными   пальцами,   в   зоне точки   ЭР-МЭНЬ   массаж  производится  средними  пальцам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Успокаивающее воздействие достигается плавными круговыми поглаживаниями   точек,   с   постепенным   переходом   к   стабильному растиранию точек и, затем — к непрерывному, без отрыва пальца,  надавливанию,  с изменяющимся усилием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Затем интенсивность воздействия уменьшается и прекращается. Вращения осуществляются по часовой стрелке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Длительность точечного массажа зависит от реакции ребенка на воздействие, но независимо от реакции массаж не должен продолжаться более 1 минуты (для взрослых более 3 минут) и 1 раза в день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5651640" y="2349360"/>
            <a:ext cx="242244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Times New Roman"/>
              </a:rPr>
              <a:t>Массаж скуловой мышцы</a:t>
            </a:r>
            <a:br>
              <a:rPr sz="4400"/>
            </a:br>
            <a:r>
              <a:rPr b="0" i="1" lang="en-US" sz="4400" spc="-1" strike="noStrike">
                <a:solidFill>
                  <a:srgbClr val="ffffb7"/>
                </a:solidFill>
                <a:latin typeface="Times New Roman"/>
              </a:rPr>
              <a:t>Упражнение № 9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Цель: расслабление скуловых мышц и мышц, опускающих нижнюю губу и угол р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Описание: легкое пощипывание скуловых мышц от мочек ушей к середине подбород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щипывание осуществляется указательными, средними и безымянными пальц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ассажные движения выполняются 6-10 раз, 2-3 раза в день. Движения должны быть очень легким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651640" y="2276640"/>
            <a:ext cx="243828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 10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сслабление скуловых мышц и мышц, опускающих нижнюю губу и угол р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очечная вибрация скуловых мышц от мочек ушей к середине подбород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очечная вибрация осуществляется подушечками указательных пальцев или вибромассажером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ибрация проводится в едином быстром ритм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вижения повторяются 3—4 раза, 1 раз в ден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508720" y="2349360"/>
            <a:ext cx="2503440" cy="31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b7"/>
                </a:solidFill>
                <a:latin typeface="Arial Black"/>
              </a:rPr>
              <a:t>Цель логопедического массажа при устранении дизартриии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странение патологической симптоматики в периферическом отделе речевого аппара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Массаж губ </a:t>
            </a:r>
            <a:br>
              <a:rPr sz="4400"/>
            </a:b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 11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расслабление круговой мышцы рта, ее периферической и внутренней части; мышц, поднимающих верхнюю губу и углы рта кверху, опускающих нижнюю губу и углы рта вниз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легкое поглаживание круговой мышцы рт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оглаживающие движения осуществляются подушечкой указательного пальца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вижения осуществляются по часовой стрел­ке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Массажные движения выполняются 8—10 раз, 2—3 раза в день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508720" y="2276640"/>
            <a:ext cx="244152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 12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сслабление мышц гу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легкое поглаживание губ от краев к середине гу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глаживающие движения выполняются одновременно подушечками указательных пальцев обеих ру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вижения должны быть едва ощутимы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вижения выполняются 8—10 раз, 2-3 раза в ден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364000" y="3284640"/>
            <a:ext cx="309564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b7"/>
                </a:solidFill>
                <a:latin typeface="Arial Black"/>
              </a:rPr>
              <a:t>Точечный массаж мимической мускулатуры при гиперкинезах</a:t>
            </a:r>
            <a:br>
              <a:rPr sz="3600"/>
            </a:br>
            <a:r>
              <a:rPr b="0" i="1" lang="en-US" sz="3600" spc="-1" strike="noStrike">
                <a:solidFill>
                  <a:srgbClr val="ffffb7"/>
                </a:solidFill>
                <a:latin typeface="Arial Black"/>
              </a:rPr>
              <a:t>Упражнение № 13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Цель: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нятие  мышечного беспокойства в речевой мускулатур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водится перекрестный массаж в точке, которая находится в середине левой носогубной складки и в точке, которая находится под углом губ справа. Затем массаж выполняется в точке на правой носогубной складке и в точке под углом губ сле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ассажные движения выполняются подушечками указательных пальцев не более 10 секунд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5003640" y="2565360"/>
            <a:ext cx="388944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 14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нятие мышечного напряжения и подавление гиперкинезов в речевой мускулатур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водится массаж в точке под углом губ слева и в точке под сосцевидным отростком за ухом справа. Эти упражнения проводятся и на противоположной сторон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ассажные движения осуществляются подушечками указательных пальце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932360" y="2708280"/>
            <a:ext cx="381636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Массаж языка</a:t>
            </a:r>
            <a:br>
              <a:rPr sz="4400"/>
            </a:b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15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сслабление продольных мышц язы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легкое похлопывание кончика языка к корню язы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хлопывание осуществляется при помощи указательного пальца, зонда «Шарик» или при помощи шпателя. Движения выполняются 8-10 раз, 2-3 раза в ден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5580000" y="2205000"/>
            <a:ext cx="22100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 16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сслабление поперечных мышц язы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легкое поглаживание языка из стороны в сторон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глаживающие движения осуществляются при помощи указательного пальца, зонда «Шарик» или при помощи шпател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вижения выполняются 8-10 раз, 2—3 раза в ден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5580000" y="2492280"/>
            <a:ext cx="2008080" cy="32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b7"/>
                </a:solidFill>
                <a:latin typeface="Arial Black"/>
              </a:rPr>
              <a:t>Точечный массаж языка при гиперкинезах</a:t>
            </a:r>
            <a:br>
              <a:rPr sz="3600"/>
            </a:br>
            <a:r>
              <a:rPr b="0" i="1" lang="en-US" sz="3600" spc="-1" strike="noStrike">
                <a:solidFill>
                  <a:srgbClr val="ffffb7"/>
                </a:solidFill>
                <a:latin typeface="Arial Black"/>
              </a:rPr>
              <a:t>Упражнение №17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давление гиперкинезов в мышцах язы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водится точечный массаж языка, поочередно в трех точк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ассажные движения осуществляются при помощи зонда «Игла» (с тупым концом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ращательные движения выполняются по часовой стрелке, не более 3 секунд на одной точк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5508720" y="2133720"/>
            <a:ext cx="2290680" cy="37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 18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авление гиперкинезов в мышцах язы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водится точечный массаж в углублениях под языком, в двух точках одновремен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ссаж осуществляется при помощи указательного, среднего лальцев   или    зонда   «Грабли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ращательные движения выполняются по часовой стрелке, не более 6-10 секун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вижения не должны причинять ребенку дискомфор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5580000" y="2492280"/>
            <a:ext cx="247356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 19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Цель: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сслабление    корня языка, подавление гиперкинез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водится точечный массаж в области подчелюстной ямк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Методические рекомендации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казательным пальцем провести легкие вибрирующие движения под подбородком в области подчелюстной ямки в течение 4-5 секунд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5508720" y="2349360"/>
            <a:ext cx="246204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b7"/>
                </a:solidFill>
                <a:latin typeface="Arial Black"/>
              </a:rPr>
              <a:t>Комплекс упражнений логопедического массажа при паретическом синдроме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Цель: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Укрепление мыш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Рекомендаци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вижения проводятся интенсивно, с нажимо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рименяются растирания, разминания, пощипыва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4000"/>
                            </p:stCondLst>
                            <p:childTnLst>
                              <p:par>
                                <p:cTn id="15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b7"/>
                </a:solidFill>
                <a:latin typeface="Arial Black"/>
              </a:rPr>
              <a:t>Задачи логопедического массажа при дизартри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ормализация мышечного тонуса, преодоление гипо-гипертонуса в мимической и артикуляционной мускулатур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странение патологической симптоматики такой, как гиперкинезы, синкинезии, девиация и др.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имуляция положительных кинестез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лучшение качества артикуляционных движений (точность, объем, переключаемость и др.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величение силы мышечных сокращен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ктивизация тонких дифференцированных движений органов артикуляции, необходимых для коррекции звукопроизнош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Массаж лба</a:t>
            </a:r>
            <a:br>
              <a:rPr sz="4400"/>
            </a:b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 1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крепление и стимуляция лобных мыш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глаживание лба от середины к виска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глаживания осуществляются указательными, средними и безымянными пальцами обеих рук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ассажные движения вы­полняются 6—8 раз, 2-3 раза в ден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5724360" y="2565360"/>
            <a:ext cx="2376720" cy="30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 2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крепление и стимуляция лобных мыш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зминание лба от середины к виска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зминания осуществляются вторыми фалангами указательных, средних и безымянных пальцев, сжатых в кула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зминающие движения выполняются 6-8 раз, 2 раза в ден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508720" y="2349360"/>
            <a:ext cx="2441520" cy="31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 3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крепление и стимуляция лобных мышц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стирание лба от середины к виска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стирания осуществляются первыми фалангами указательных, средних и безымянных пальцев. При растирании кожный покров лба должен натягиваться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стирающие движения выполняются 4—6 раз, 2 раза в ден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5651640" y="2276640"/>
            <a:ext cx="245268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 4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крепление и стимуляция лобных мыш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пиралевидные движения от середины лба к виска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пиралевидные движения осуществляются подушечками указательных, средних и безымянных пальцев обеих рук 4—6 раз, 1 раз в ден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651640" y="2421000"/>
            <a:ext cx="235260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 5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крепление и стимуляция лобных мыш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стукивание лба от середины к виска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стукивания осуществляются подушечками пальцев обеих рук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стукивающие движения выполняются 8-10 раз, 2—3 раза в ден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5580000" y="2276640"/>
            <a:ext cx="246060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 6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крепление и стимуляция лобных мыш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щипывание лба от середины к виска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щипывания осуществляются указательными, средними и большими пальцами обеих рук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щипывающие движения выполняются 4-6 раз, 2 раза в ден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508720" y="2421000"/>
            <a:ext cx="245268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 7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крепление и стимуляция лобных мышц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стирание лба от бровей к волосистой части голов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стирания осуществляются указательными, средними и безымянными пальцами обеих ру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стирающие движения выполняются 4—6 раз, 2 раза в ден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5364000" y="2349360"/>
            <a:ext cx="2630520" cy="33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Массаж щек</a:t>
            </a:r>
            <a:br>
              <a:rPr sz="4400"/>
            </a:b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 8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крепление мышц ще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водится поглаживание, растирание, разминание мышц ще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зминание и растирание щек проводится обеими руками в направлении от носа к щекам в течение 6—8 секунд, 2 раза в ден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2520720" cy="31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</a:t>
            </a:r>
            <a:r>
              <a:rPr b="1" i="1" lang="en-US" sz="4400" spc="-1" strike="noStrike">
                <a:solidFill>
                  <a:srgbClr val="ffffb7"/>
                </a:solidFill>
                <a:latin typeface="Arial Black"/>
              </a:rPr>
              <a:t> 9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тимуляция мышц, поднимающих угол р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Описание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ращательные поглаживающие движения по поверхности ще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ращательные поглаживающие движения осуществляются указательными, средними и безымянными пальцами обеих рук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вижения выполняются против часовой стрелки, 8—10 раз, 2—3 раза в ден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5508720" y="2349360"/>
            <a:ext cx="2390760" cy="30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 10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Цель: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ктивизация    мышц, поднимающих нижнюю челюсть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пиралевидное растирание жевательной мышцы от висков к углам челю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вижения осуществляются подушечками указательных,  средних и безымянных пальцев обеих рук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вижения выполняются по спирали 8—10 раз, 2—3 раза в ден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5580000" y="2276640"/>
            <a:ext cx="2454480" cy="31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b7"/>
                </a:solidFill>
                <a:latin typeface="Arial Black"/>
              </a:rPr>
              <a:t>Три комплекса дифференцированного логопедического массаж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лекс упражнений логопедического массажа при ригидном синдроме (высокий тонус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лекс упражнений логопедического массажа при спастико-атактико-гиперкинетическом синдроме (на фоне высокого тонуса проявляются гиперкинезы, дистония, атаксия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плекс упражнений логопедического массажа при паретическом синдроме (низкий тонус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3720"/>
                            </p:stCondLst>
                            <p:childTnLst>
                              <p:par>
                                <p:cTn id="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4220"/>
                            </p:stCondLst>
                            <p:childTnLst>
                              <p:par>
                                <p:cTn id="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720"/>
                            </p:stCondLst>
                            <p:childTnLst>
                              <p:par>
                                <p:cTn id="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11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крепление и активизация мышц, поднимающих угол рта и верхнюю губ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щипывание ще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щипывающие     движения (осуществляются указательными, средними и большими пальцами обеих   рук.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щипывания   выполняются по кругу 6—8 раз, 2— 3 раза в день, против часовой стрелк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51640" y="2276640"/>
            <a:ext cx="2447640" cy="31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b7"/>
                </a:solidFill>
                <a:latin typeface="Arial Black"/>
              </a:rPr>
              <a:t>Упражнение № 12. Точечный массаж, вариант № 1.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ктивизация и укрепление мышц, поднимающих верхнюю губу и угол рта. Активизация и укрепление мышц лица и мышц мягкого неб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массаж производится одновременно в точках ИН-СЯН, СЯ-ГУАНЬ, ЭР-МЭНЬ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зоне точки ИН-СЯН массаж производится подушечкой большого пальца, в зоне точки СЯ-ГУАНЬ — подушечкой указательного пальца и в зоне точки ЭР-МЭНЬ —  подушечкой среднего пальца.   Сначала производят поглаживания точек, затем легкие пощипывания или легкие постукивания точек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Движения выполняются против часовой стрелки 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Особенность: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ощипывания следует производить с силой, по степени терпения ребенка, поглаживания необходимо производить с ослабевающей силой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5508720" y="2205000"/>
            <a:ext cx="2593800" cy="33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 13. Точенный массаж, вариант № 2.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крепление и активизация мышц, поднимающих верхнюю губу, угол рта, мышц, поднимающих угол рта. Укрепление и активизация большой скуловой мышцы, щечной мышцы, подбородочной мышцы и мышц, опускающих нижнюю губу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ассируется отрезок по дуге нижней челюсти от точки ЦЗЯ-ЧЭ до точки ДИ-ЦАН. Далее от точки ДИ-ЦАН до точки А. Затем массируется отрезок от точки А до точки ЦЗЯ-ЧЭ. После этого отрезка массируется отрезок вдоль нижней челюсти от точки 24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 до точки ЦЗЯ-ЧЭ. Затем проводится массаж отрезка от точки ЦЗЯ-ЧЭ до точки ТИН-ХУЭЙ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се массажные движения осуществляются подушечкой указательного пальца, способом поглаживания. Осуществляется примерно десять прохождений по всем отрезкам. Поглаживания выполняются против часовой стрелк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651640" y="2492280"/>
            <a:ext cx="2442960" cy="31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b7"/>
                </a:solidFill>
                <a:latin typeface="Arial Black"/>
              </a:rPr>
              <a:t>Упражнение М 14. Точечный массаж, вариант № 3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927600" cy="440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укрепление и стимуляция мышц лиц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оводится поочередный массаж точек БАЙ-ХУ-ЭЙ, ИНЬ-ЦЗЯО, ДУЙ-ДУАНЬ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При массировании этих точек производятся импульсивные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резкие надавливания, но в то же время поверхностные и кратковременные  по  2—3  секунды,  с последующим   отрывом   пальца от точки на 1-2 секунды. Используются так же способы вращения, похлопывания, толкания пальцем   и   вибрации.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ассаж выполняется подушечкой указательного пальца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ращательные   движения   осуществляются   против   часовой стрелки. Массаж одной точки не должен превышать 4 секунд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34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Логопед выбирает только один вариант точечного массажа,   который  наиболее   эффективен   в   каждом конкретном случае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5580000" y="2421000"/>
            <a:ext cx="2532240" cy="32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Массаж скуловой мышцы</a:t>
            </a:r>
            <a:br>
              <a:rPr sz="4400"/>
            </a:b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 15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крепление скуловой мышц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глаживание скуловой мышцы от середины подбородка к мочкам уш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глаживающие движения осуществляются указательными и средними пальцами обеих ру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глаживающие движения выполняются 8—10 раз, 2—3 раза в д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ень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5508720" y="2276640"/>
            <a:ext cx="264456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 16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Цепь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крепление скуловой мышцы и мышцы, опускающей угол р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стирание скуловой мышцы от середины подбородка к мочкам уш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стирающие движения осуществляются указательными и средними пальцами обеих ру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стирающие движения выполняются 4—6 раз, 2 раза в ден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5580000" y="2133720"/>
            <a:ext cx="2544840" cy="32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17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ктивизация мышц, опускающих нижнюю губ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оводятся спиралевидные движения от середины подбородка к мочкам уш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пиралевидные движения осуществляются подушечками указательных, средних и безымянных пальцев обеих рук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вижения выполняются 4—6 раз, 2 раза в ден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5508720" y="2133720"/>
            <a:ext cx="254304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 18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крепление и активизация мышц, опускающих нижнюю губу и угол рт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щипывание скуловой мышцы от середины подбородка к мочкам уше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щипывающие движения осуществляются большим пальцем, который находится сверху и указательными   средними  пальцами, которые находятся под скуловой дуг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щипывающие движения выполняются 6—8 раз, 2—3 раза в ден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5651640" y="2492280"/>
            <a:ext cx="2533680" cy="32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Массаж губ </a:t>
            </a:r>
            <a:br>
              <a:rPr sz="4400"/>
            </a:b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 19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крепление мышц гу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глаживание губ от середины, к угла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глаживающие движения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существляются подушечками указательных пальцев обеих ру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глаживающие  движения   выполняются 8-10 раз, 2-3 раза в ден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5076720" y="3068640"/>
            <a:ext cx="352908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 20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крепление мышц гу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минание губ от середины к угла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минания осуществляются подушечками   больших  пальцев обеих рук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зминающие спира-левидные движения выполняют 6-8 раз, 2 раза в ден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148360" y="3068640"/>
            <a:ext cx="3251160" cy="17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b7"/>
                </a:solidFill>
                <a:latin typeface="Arial Black"/>
              </a:rPr>
              <a:t>Комплекс упражнений логопедического массажа при ригидном синдроме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Цель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Обеспечение успокаивающего действия, приведение мышц в состояние полного поко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Рекомендации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вижения должны быть очень легким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Логопед должен реагировать на судорожную реакцию ребенка и мгновенно прекращать массажные движения, вызывающие подобную реакцию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еред проведением массажа ребенка необходимо уложить или усадить в удобную позу с учетом рефлекс запрещающего положения тел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емы разминания и вибрации при ригидном синдроме применять не следует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600"/>
                            </p:stCondLst>
                            <p:childTnLst>
                              <p:par>
                                <p:cTn id="7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100"/>
                            </p:stCondLst>
                            <p:childTnLst>
                              <p:par>
                                <p:cTn id="7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600"/>
                            </p:stCondLst>
                            <p:childTnLst>
                              <p:par>
                                <p:cTn id="8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2100"/>
                            </p:stCondLst>
                            <p:childTnLst>
                              <p:par>
                                <p:cTn id="8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600"/>
                            </p:stCondLst>
                            <p:childTnLst>
                              <p:par>
                                <p:cTn id="9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100"/>
                            </p:stCondLst>
                            <p:childTnLst>
                              <p:par>
                                <p:cTn id="9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 21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крепление и активизация мышц гу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изводят легкое растирание губ от середины к угла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стирающие движения следует производить указательными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альцами обеих рук. Губы должны растягиваться, и ребенок должен ощущать легкое покалывание в губа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стирающие движения выполняют 4-6 раз, 2-3 раз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5364000" y="3068640"/>
            <a:ext cx="3111840" cy="17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 22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крепление и активизация мышц гу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щипывание губ от середины к угла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щипывающие движения осуществляются указательными и большими пальцами обеих ру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щипывающие движения выполняют 6—8 раз, 2 раза в ден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rcRect l="0" t="-9434" r="-11728" b="11635"/>
          <a:stretch/>
        </p:blipFill>
        <p:spPr>
          <a:xfrm>
            <a:off x="5724360" y="2563920"/>
            <a:ext cx="316872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 23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тимуляция мышц губ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«похлопывание губ от середины к углам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хлопывающие движения необходимо проводить при помощи шпателя или пальцев рук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вижения должны быть достаточно интенсивны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ни осуществляются 4—6 раз, 2 раза в ден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5076720" y="3500280"/>
            <a:ext cx="3675240" cy="11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 24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тимуляция мышц, обеспечивающих подвижность гу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Описание: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калывание   губ от середины к угла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калывание губ следует проводить при помощи зонда «Игла» или при помощи мягкой зубной щетк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тенсивность обкалывания зависит от степени паретичности мышц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калывание осуществляется 3—4 раза, 1 раз в ден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5435640" y="3068640"/>
            <a:ext cx="345744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 25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крепление и активизация круговой мышцы рта, мышц, поднимающих верхнюю губу и углы рта кверху   и   мышц,   опускающих нижнюю губу и углы рта вниз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стирание мышц по носогубным складка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стирание по носогубным складкам вверх и вниз. Растирание вверх-вниз под углами нижней губ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ыполнять 3—4 раза,1 раз в ден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5580000" y="2205000"/>
            <a:ext cx="2625840" cy="33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b7"/>
                </a:solidFill>
                <a:latin typeface="Arial Black"/>
              </a:rPr>
              <a:t>Упражнение № 26 </a:t>
            </a:r>
            <a:br>
              <a:rPr sz="4000"/>
            </a:br>
            <a:r>
              <a:rPr b="0" i="1" lang="en-US" sz="4000" spc="-1" strike="noStrike">
                <a:solidFill>
                  <a:srgbClr val="ffffb7"/>
                </a:solidFill>
                <a:latin typeface="Arial Black"/>
              </a:rPr>
              <a:t>Точечный</a:t>
            </a:r>
            <a:br>
              <a:rPr sz="4000"/>
            </a:br>
            <a:r>
              <a:rPr b="0" i="1" lang="en-US" sz="4000" spc="-1" strike="noStrike">
                <a:solidFill>
                  <a:srgbClr val="ffffb7"/>
                </a:solidFill>
                <a:latin typeface="Arial Black"/>
              </a:rPr>
              <a:t>массаж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крепление и активизация мышц гу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водится точечный массаж по линии губ от середины к углам губ и по носогубным складкам вниз и вверх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очечный массаж проводится подушечками указательных пальцев обеих рук. Движения круговые, надавливающи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Точечный массаж осуществляется против часовой стрелки, способом вращения, не более 5-6 секунд, 1 раз в ден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5508720" y="2349360"/>
            <a:ext cx="2565360" cy="32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Массаж языка</a:t>
            </a:r>
            <a:br>
              <a:rPr sz="4400"/>
            </a:b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27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крепление и активизация продольных мышц язык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глаживание продольных мышц языка от корня к кончику язык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глаживающие движения проводятся при помощи указательного пальца, зонда «Шарик»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аленьким детям массаж лучше всего проводить при помощи шпател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глаживающие движения выполняются 8-10 раз, 2-3 раза в д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5724360" y="2349360"/>
            <a:ext cx="2049480" cy="32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 28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укрепление продольных и поперечных мышц язы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итмичные надавливания на язык от корня к кончик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давливающие движения осуществляются при помощи пластмассового шпател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давливания должны быть интенсивными, выполняют 4—6 раз, 2 раза в ден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5651640" y="2421000"/>
            <a:ext cx="1998360" cy="33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 29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крепление и стимуляция поперечных мышц язы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глаживание языка из стороны, в сторону, в направлении от корня к кончику язы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глаживающие движения следует проводить при помощи указательного пальца, зонда «Шарик» или при помощи мягкой зубной щет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глаживающие движения осуществляются 4—6 раз, 2-3 раза в ден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5867280" y="2276640"/>
            <a:ext cx="193356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 30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укрепление мышц языка и увеличение объема артикуляционных движений язык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роводится обкалывание языка от корня к кончику и по боковым краям язык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Обкалывающие движения проводятся при помощи зонда «Игла»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Движения должны быть очень осторожными, логопед должен наблюдать за состоянием ребенк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При появлении сонливости массаж следует прекратить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Обкалывающие движения можно проводить не более 10 секунд, 1 раз в день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5724360" y="2205000"/>
            <a:ext cx="209412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b7"/>
                </a:solidFill>
                <a:latin typeface="Times New Roman"/>
              </a:rPr>
              <a:t>Массаж шеи </a:t>
            </a:r>
            <a:br>
              <a:rPr sz="4000"/>
            </a:br>
            <a:r>
              <a:rPr b="0" i="1" lang="en-US" sz="4000" spc="-1" strike="noStrike">
                <a:solidFill>
                  <a:srgbClr val="ffffb7"/>
                </a:solidFill>
                <a:latin typeface="Times New Roman"/>
              </a:rPr>
              <a:t>Упражнение №</a:t>
            </a:r>
            <a:r>
              <a:rPr b="1" i="1" lang="en-US" sz="4000" spc="-1" strike="noStrike">
                <a:solidFill>
                  <a:srgbClr val="ffffb7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ffffb7"/>
                </a:solidFill>
                <a:latin typeface="Times New Roman"/>
              </a:rPr>
              <a:t>1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сслабление мышц плечевого пояс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водят поглаживания шеи сверху вниз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Методические рекомендац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оглаживающие движения осуществляются двумя рукам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еобходимо, чтобы движения были легкими, максимально расслабляющие мышцы. Следить за ответной реакцией в других группах мышц. Массажные, движения выполняются 6—8 раз, 2-3 раза в де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651640" y="2565360"/>
            <a:ext cx="2233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 31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меньшение уровня саливац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водится точечный массаж в углублениях под языком, в двух точках одновременн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ассаж осуществляется при помощи указательного, среднего пальца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ли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зонда «Грабли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ращательные движения выполняются против часовой стрелки, не более 6-10 секун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вижения не должны причинять ребенку дискомфор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5651640" y="2349360"/>
            <a:ext cx="2552400" cy="31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Arial Black"/>
              </a:rPr>
              <a:t>Упражнение № 32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крепление мышц язык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водится разминание язык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ассаж осуществляется при помощи пальцев (обернутых в марлевую салфетку).   Массаж   выполняется   по всей площади языка (проводится тщательное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разминание языка во всех направлениях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ассажные   движения выполняются не более 6-8 секунд, 1-2 раза в ден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5796000" y="2133720"/>
            <a:ext cx="233820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95280" y="256536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b7"/>
                </a:solidFill>
                <a:latin typeface="Times New Roman"/>
              </a:rPr>
              <a:t>Спасибо за внимание!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p:transition>
    <p:fad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Times New Roman"/>
              </a:rPr>
              <a:t>Массаж лба</a:t>
            </a:r>
            <a:br>
              <a:rPr sz="4400"/>
            </a:br>
            <a:r>
              <a:rPr b="0" i="1" lang="en-US" sz="4400" spc="-1" strike="noStrike">
                <a:solidFill>
                  <a:srgbClr val="ffffb7"/>
                </a:solidFill>
                <a:latin typeface="Times New Roman"/>
              </a:rPr>
              <a:t>Упражнение № 2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ведение мышц лба в состояние поко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легкое поглаживание лба от висков к центр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Методические рекоменда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глаживающие движения осуществляются указательными, средними и безымянными пальцами обеих рук. Движения выполняются 6-8 раз, 2—3 раза в ден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435640" y="2349360"/>
            <a:ext cx="264456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b7"/>
                </a:solidFill>
                <a:latin typeface="Times New Roman"/>
              </a:rPr>
              <a:t>Упражнение № 3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927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Цель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беспечение расслабления мышц лб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Описание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легкое поглаживание от корней волос к линии бров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Методические рекомендаци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глаживающие движения выполняются указательными, средними и безымянными пальцами обеих рук. Движения выполняются 6-8 раз, 2—3 раза в день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508720" y="2492280"/>
            <a:ext cx="271944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1T16:44:51Z</dcterms:created>
  <dc:creator>Николай</dc:creator>
  <dc:description/>
  <dc:language>en-US</dc:language>
  <cp:lastModifiedBy>Николай</cp:lastModifiedBy>
  <dcterms:modified xsi:type="dcterms:W3CDTF">2008-05-11T21:11:52Z</dcterms:modified>
  <cp:revision>14</cp:revision>
  <dc:subject/>
  <dc:title>Логопедический массаж при дизартрии</dc:title>
</cp:coreProperties>
</file>