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61F-78A9-4230-8867-043A6699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B92-A5AA-40B7-85F5-C4D0FC3A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443-BE72-4ED1-9780-44AA35E9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98F-3025-4DC2-98D6-071DF157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ADB8-443C-4DFA-8C8D-F2CA836A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D8E3-96C6-46C3-822F-A6E5DB83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BA81-8C3E-4F27-995D-E37AFC64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CFD0-0251-45EF-A252-CD9ACDE1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B23E-35E6-4BDF-A40C-D6E89023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402E-EDD3-4DA3-A86C-BADCEEBA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2969-06E7-4C79-AE9B-FFAF3E91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CFD-BD0E-4ACE-81CF-CCE5E7F0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E18E-75E1-436C-BC5F-D92391DD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89ED-ED66-4260-8630-2CFE1737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CB85-EC3E-4DC3-99A7-A9A4998E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46CA-1B5B-456A-A8FC-855A3E35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AFB5-3207-4396-A275-94CEBA44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EB8-3A5B-4524-B556-1BD4ADB3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775-4765-4F8E-BB6A-47AAC559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232-4AC9-4442-86B9-376FF6E9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802-1806-4133-86F6-8FD87667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FA1-11E1-4635-8014-B612765E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86A-CC2D-45F1-9D41-F127C256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DB4-E645-4D2F-A2FC-92B2ED00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4E65-0973-4555-9D84-3537F1B8B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1085-4C76-4715-AA83-DF05C9BC7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b7"/>
                </a:solidFill>
                <a:latin typeface="Times New Roman"/>
              </a:rPr>
              <a:t>Логопедический массаж при дизартри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.Ф. Архип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щек 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Цель:   расслабление   щечной мышц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писание:   проводят   вращательное поглаживающее движение по поверхности щ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ля    достижения    большего эффекта эти же движения можно   осуществлять  с  внутренней стороны щ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тодические рекоменд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указательными и средними пальцами обеих рук. С внутренней стороны щек массаж осуществляется при помощи зонда «Шарик», указательного пальца, шпателя. Все движения выполняются 6-8 раз, 2—3 раза в день. Вращательные движения по часовой стрелк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575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ь: расслабление мышц, поднимающих угол р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исание: легкое поглаживание щек от мочек ушей к крыль­ям но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указательными и средними пальцами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повторяются 7—10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484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ль: расслабление щечной мышцы и мышц, поднимающих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исание: легкое растирание от мочек ушей к крыльям но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осуществляются указательными и средними пальцами обеих ру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должны быть очень осторожными, не вызывающие напряжения в других группах мыш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3—4 раза, 2—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549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скуловой мышцы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ь: расслабление скуловых мыш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исание: легкое поглаживание от мочек ушей к середине подбород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е осуществляется указательными и средними пальцами обеих рук. Движения должны быть очень легкими, выполняются 6-8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25794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губ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ь: расслабление губ и круговой мышцы р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исание: легкое поглаживание губ от углов рта к цент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е осуществляется указательными пальцами обеих рук. Движения выполняются 6-10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580000" y="3141720"/>
            <a:ext cx="29415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9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ь: расслабление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исание:   легкое   описание губ от углов рта к цент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тирающие движения осуществляются        указательными   пальцами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тирающие движения не должны быть интенсив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выполняются 3-4 раза,  1 раз в д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48360" y="3141720"/>
            <a:ext cx="34891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ль: максимальное расслабление круговой мышцы р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исание: поглаживание круговой мышцы р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указательными пальцами обеих рук. Движения выполняются 6—8 раз, 2—3 раза в де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языка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1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Цель: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слабление    мышц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гкое поглаживание языка от кончика языка к его корн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зондом «Шарик», указательным пальцем, шпателем. Массажные движения выполняются 6—8 раз 2—3 раза в де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12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Цель: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слабление    корня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гкая вибрация двумя пальцами под углами нижней челю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казательными пальцами обеих рук выполнять с нажимом вращательные движения в точках под углами нижней челюсти в течение 3—4 секунд 2—3 раза в де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 Black"/>
              </a:rPr>
              <a:t>Комплекс упражнений логопедического массажа при спастико-атактико-гиперкинетическом синдроме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ссаж должен проводиться очень осторожно , логопед должен следить за ответной реакцией в других группах мыш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мышцы очень напряжены, особенно в руках, следует прекратить массаж, т.к. расслабляющий массаж лица будет неэффективен. Необходимо сначала расслабить ру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д проведением массажа ребенка необходимо уложить или усадить в удобную позу с учетом рефлекс запрещающего положения те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Массаж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метод лечения и профилактики, представляющий собой совокупность приемов механического воздействия на различные участки поверхности тела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шеи 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лабление мышц шеи и плечевого поя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изводят круго­выми движениями поглажива­ния шеи сзади и с боков сверху вн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    дви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уществляются  двумя  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   выполняются  6-10 раз, 2-3 раза в ден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  должны   быть   очень легк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247032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2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слабление передней части   шеи   (гортани)   и   корня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зводятся поглаживающие движения гортани сверху вни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глаживающие движения выполняют первыми фалангами пальц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6-10 раз, 2-3 раза в де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лба 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 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изводят легкое прерывистое   поглаживание  лба от висков к центру лб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ссаж выполняется указательными, средними, безымянными пальцами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осуществляются 6—10 раз 2—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3767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Цель: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слабление    лобных мышц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яется точечная вибрация мышц лба от висков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ентру лб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ибрация осуществляется подушечками указательных пальцев обеих рук или вибромассажером. Вибрация должна проводиться в едином быстром ритм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появлении неприятных ощущений и быстрой сонливости массаж приостанавливается или совсем прекраща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вижения выполняются 3—4 раза, 2—3 раза в ден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33259"/>
          <a:stretch/>
        </p:blipFill>
        <p:spPr>
          <a:xfrm>
            <a:off x="5508720" y="2276640"/>
            <a:ext cx="2503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5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лабление   лобных мышц и  мимической  мускула-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яется   поглаживание  лба  от  волосистой части головы к линии бровей, через глаза по всему лицу к ш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    движения осуществляются внутренней стороной ладо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выполняются   8-10   раз,   2-3   раза   в день. Поглаживающие движения должны быть очень легкими, успокаивающ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24238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области глазниц Упражнение № 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асслабление мышц окружности гла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ыполняется поглаживание круговой мышцы глаз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глаживание осуществляется указательными,   средними  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зымянными   пальцами   обеих ру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вижения выполняются 4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раз, 2-3 раза в ден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вижения должны быть очень осторожными, не вызывающими неприятных ощущений или повышение тонуса в других группах мыш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25113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щек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ль:   расслабление    мышц, поднимающих угол рта, щечной мышцы,  мышц,   поднимающих верхнюю губ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исание: выполняются вращательные поглаживающие движения по поверхности щ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ащательные   поглаживающие движения  осуществляются указательными, средними и безымянными пальцами обеих ру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выполняются 6—10 раз, 2—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25524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Точечный массаж щек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Цель: расслабление мышц лица и мышц мяг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еб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Описание: осуществляется массаж одновременно в точках ИН-СЯН, СЯ-ГУАНЬ, ЭР-МЭН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 зоне точки ИН-СЯН массаж    производится    большими пальцами, в зоне точки СЯ-ГУ­АНЬ массаж производится указательными   пальцами,   в   зоне точки   ЭР-МЭНЬ   массаж  производится  средними  пальц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Успокаивающее воздействие достигается плавными круговыми поглаживаниями   точек,   с   постепенным   переходом   к   стабильному растиранию точек и, затем — к непрерывному, без отрыва пальца,  надавливанию,  с изменяющимся усилием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Затем интенсивность воздействия уменьшается и прекращается. Вращения осуществляются по часовой стрелк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лительность точечного массажа зависит от реакции ребенка на воздействие, но независимо от реакции массаж не должен продолжаться более 1 минуты (для взрослых более 3 минут) и 1 раза в ден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24224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скуловой мышцы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9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ль: расслабление скуловых мышц и мышц, опускающих нижнюю губу и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исание: легкое пощипывание скуловых мышц от мочек ушей к середине подбород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ние осуществляется указательными, средними и безымянными пальц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выполняются 6-10 раз, 2-3 раза в день. Движения должны быть очень легк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24382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слабление скуловых мышц и мышц, опускающих нижнюю губу и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ечная вибрация скуловых мышц от мочек ушей к середине подбород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ечная вибрация осуществляется подушечками указательных пальцев или вибромассажер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брация проводится в едином быстром рит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ения повторяются 3—4 раза, 1 раз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50344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b7"/>
                </a:solidFill>
                <a:latin typeface="Arial Black"/>
              </a:rPr>
              <a:t>Цель логопедического массажа при устранении дизартри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транение патологической симптоматики в периферическом отделе речевого аппар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губ 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1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асслабление круговой мышцы рта, ее периферической и внутренней части; мышц, поднимающих верхнюю губу и углы рта кверху, опускающих нижнюю губу и углы рта вни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егкое поглаживание круговой мышцы р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подушечкой указательного пальц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вижения осуществляются по часовой стрел­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ссажные движения выполняются 8—10 раз, 2—3 раза в ден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508720" y="2276640"/>
            <a:ext cx="24415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мышц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гкое поглаживание губ от краев к середине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выполняются одновременно подушечками указательных пальцев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должны быть едва ощутимы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выполняются 8—10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64000" y="3284640"/>
            <a:ext cx="30956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Точечный массаж мимической мускулатуры при гиперкинезах</a:t>
            </a:r>
            <a:br>
              <a:rPr sz="3600"/>
            </a:b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Упражнение № 13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нятие  мышечного беспокойства в речевой мускул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перекрестный массаж в точке, которая находится в середине левой носогубной складки и в точке, которая находится под углом губ справа. Затем массаж выполняется в точке на правой носогубной складке и в точке под углом губ сле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выполняются подушечками указательных пальцев не более 10 секун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003640" y="2565360"/>
            <a:ext cx="3889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4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нятие мышечного напряжения и подавление гиперкинезов в речевой мускул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массаж в точке под углом губ слева и в точке под сосцевидным отростком за ухом справа. Эти упражнения проводятся и на противоположной сторо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подушечками указательных пальц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38163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языка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15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продольных мышц я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гкое похлопывание кончика языка к корню я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хлопывание осуществляется при помощи указательного пальца, зонда «Шарик» или при помощи шпателя. Движения выполняются 8-10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2210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поперечных мышц я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гкое поглаживание языка из стороны в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при помощи указательного пальца, зонда «Шарик» или при помощи шпа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выполняются 8-10 раз, 2—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20080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Точечный массаж языка при гиперкинезах</a:t>
            </a:r>
            <a:br>
              <a:rPr sz="3600"/>
            </a:b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Упражнение №17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авление гиперкинезов в мышцах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точечный массаж языка, поочередно в трех точ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при помощи зонда «Игла» (с тупым концо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ащательные движения выполняются по часовой стрелке, не более 3 секунд на одной точ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2290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8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авление гиперкинезов в мышцах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ится точечный массаж в углублениях под языком, в двух точках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саж осуществляется при помощи указательного, среднего лальцев   или    зонда   «Грабли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ращательные движения выполняются по часовой стрелке, не более 6-10 секун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ения не должны причинять ребенку дискомфор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2473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9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   корня языка, подавление гиперкине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одится точечный массаж в области подчелюстной ям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азательным пальцем провести легкие вибрирующие движения под подбородком в области подчелюстной ямки в течение 4-5 секун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4620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b7"/>
                </a:solidFill>
                <a:latin typeface="Arial Black"/>
              </a:rPr>
              <a:t>Комплекс упражнений логопедического массажа при паретическом синдром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крепление мыш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ижения проводятся интенсивно, с нажим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меняются растирания, разминания, пощипы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Задачи логопедического массажа при дизарт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изация мышечного тонуса, преодоление гипо-гипертонуса в мимической и артикуляционной мускулатур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ранение патологической симптоматики такой, как гиперкинезы, синкинезии, девиация и др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муляция положительных кинестез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лучшение качества артикуляционных движений (точность, объем, переключаемость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илы мышечных сокращ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изация тонких дифференцированных движений органов артикуляции, необходимых для коррекции звукопроизнош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лба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е лба от середины к вис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я осуществляются указательными, средними и безымянными пальцами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ссажные движения вы­полняются 6—8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237672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инание лба от середины к вис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инания осуществляются вторыми фалангами указательных, средних и безымянных пальцев, сжатых в кула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инающие движения выполняются 6-8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44152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ние лба от середины к виск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ния осуществляются первыми фалангами указательных, средних и безымянных пальцев. При растирании кожный покров лба должен натягивать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выполняются 4—6 раз, 2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24526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иралевидные движения от середины лба к вис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иралевидные движения осуществляются подушечками указательных, средних и безымянных пальцев обеих рук 4—6 раз, 1 раз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651640" y="2421000"/>
            <a:ext cx="23526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укивание лба от середины к вис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укивания осуществляются подушечками пальцев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укивающие движения выполняются 8-10 раз, 2—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4606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ние лба от середины к вис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ния осуществляются указательными, средними и большими пальцами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ющие движения выполняются 4-6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24526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тирание лба от бровей к волосистой части голо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тирания осуществляются указательными, средними и безымянными пальцами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тирающие движения выполняются 4—6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263052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щек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мышц щ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одится поглаживание, растирание, разминание мышц щ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инание и растирание щек проводится обеими руками в направлении от носа к щекам в течение 6—8 секунд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25207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 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имуляция мышц, поднимающих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ащательные поглаживающие движения по поверхности щ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ащательные поглаживающие движения осуществляются указательными, средними и безымянными пальцами обеих ру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выполняются против часовой стрелки, 8—10 раз, 2—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3907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ктивизация    мышц, поднимающих нижнюю челю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иралевидное растирание жевательной мышцы от висков к углам челю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осуществляются подушечками указательных,  средних и безымянных пальцев обеих ру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выполняются по спирали 8—10 раз, 2—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45448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Три комплекса дифференцированного логопедического массаж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 упражнений логопедического массажа при ригидном синдроме (высокий тонус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 упражнений логопедического массажа при спастико-атактико-гиперкинетическом синдроме (на фоне высокого тонуса проявляются гиперкинезы, дистония, атакс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 упражнений логопедического массажа при паретическом синдроме (низкий тонус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72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22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72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1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мышц, поднимающих угол рта и верхнюю губ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ние щ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ющие     движения (осуществляются указательными, средними и большими пальцами обеих   рук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ния   выполняются по кругу 6—8 раз, 2— 3 раза в день, против часовой стрел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24476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Упражнение № 12. Точечный массаж, вариант № 1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изация и укрепление мышц, поднимающих верхнюю губу и угол рта. Активизация и укрепление мышц лица и мышц мягкого неб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ссаж производится одновременно в точках ИН-СЯН, СЯ-ГУАНЬ, ЭР-МЭН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зоне точки ИН-СЯН массаж производится подушечкой большого пальца, в зоне точки СЯ-ГУАНЬ — подушечкой указательного пальца и в зоне точки ЭР-МЭНЬ —  подушечкой среднего пальца.   Сначала производят поглаживания точек, затем легкие пощипывания или легкие постукивания точе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вижения выполняются против часовой стрелки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Особенность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щипывания следует производить с силой, по степени терпения ребенка, поглаживания необходимо производить с ослабевающей сил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259380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3. Точенный массаж, вариант № 2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репление и активизация мышц, поднимающих верхнюю губу, угол рта, мышц, поднимающих угол рта. Укрепление и активизация большой скуловой мышцы, щечной мышцы, подбородочной мышцы и мышц, опускающих нижнюю губ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ссируется отрезок по дуге нижней челюсти от точки ЦЗЯ-ЧЭ до точки ДИ-ЦАН. Далее от точки ДИ-ЦАН до точки А. Затем массируется отрезок от точки А до точки ЦЗЯ-ЧЭ. После этого отрезка массируется отрезок вдоль нижней челюсти от точки 24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до точки ЦЗЯ-ЧЭ. Затем проводится массаж отрезка от точки ЦЗЯ-ЧЭ до точки ТИН-ХУЭ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се массажные движения осуществляются подушечкой указательного пальца, способом поглаживания. Осуществляется примерно десять прохождений по всем отрезкам. Поглаживания выполняются против часовой стрелк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651640" y="2492280"/>
            <a:ext cx="24429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ial Black"/>
              </a:rPr>
              <a:t>Упражнение М 14. Точечный массаж, вариант № 3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276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репление и стимуляция мышц лиц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водится поочередный массаж точек БАЙ-ХУ-ЭЙ, ИНЬ-ЦЗЯО, ДУЙ-ДУАН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массировании этих точек производятся импульсивны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зкие надавливания, но в то же время поверхностные и кратковременные  по  2—3  секунды,  с последующим   отрывом   пальца от точки на 1-2 секунды. Используются так же способы вращения, похлопывания, толкания пальцем   и   вибрации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ссаж выполняется подушечкой указательного пальц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ращательные   движения   осуществляются   против   часовой стрелки. Массаж одной точки не должен превышать 4 секун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огопед выбирает только один вариант точечного массажа,   который  наиболее   эффективен   в   каждом конкретном случа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5322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скуловой мышцы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скуловой мыш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е скуловой мышцы от середины подбородка к мочкам уш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указательными и средними пальцами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выполняются 8—10 раз, 2—3 раза в 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н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508720" y="2276640"/>
            <a:ext cx="26445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п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скуловой мышцы и мышцы, опускающей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ние скуловой мышцы от середины подбородка к мочкам уш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осуществляются указательными и средними пальцами обеих р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выполняются 4—6 раз, 2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254484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1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ктивизация мышц, опускающих нижнюю губ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одятся спиралевидные движения от середины подбородка к мочкам уш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иралевидные движения осуществляются подушечками указательных, средних и безымянных пальцев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выполняются 4—6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2543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мышц, опускающих нижнюю губу и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ние скуловой мышцы от середины подбородка к мочкам уш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ющие движения осуществляются большим пальцем, который находится сверху и указательными   средними  пальцами, которые находятся под скуловой дуг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ющие движения выполняются 6—8 раз, 2—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651640" y="2492280"/>
            <a:ext cx="25336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губ 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мышц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е губ от середины, к угл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уществляются подушечками указательных пальцев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 движения   выполняются 8-10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076720" y="3068640"/>
            <a:ext cx="35290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крепление мышц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ние губ от середины к угл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ния осуществляются подушечками   больших  пальцев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ющие спира-левидные движения выполняют 6-8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32511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Комплекс упражнений логопедического массажа при ригидном синдром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Обеспечение успокаивающего действия, приведение мышц в состояние полного поко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и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должны быть очень легки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огопед должен реагировать на судорожную реакцию ребенка и мгновенно прекращать массажные движения, вызывающие подобную реакц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ед проведением массажа ребенка необходимо уложить или усадить в удобную позу с учетом рефлекс запрещающего положения те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емы разминания и вибрации при ригидном синдроме применять не следу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"/>
                            </p:stCondLst>
                            <p:childTnLst>
                              <p:par>
                                <p:cTn id="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60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100"/>
                            </p:stCondLst>
                            <p:childTnLst>
                              <p:par>
                                <p:cTn id="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600"/>
                            </p:stCondLst>
                            <p:childTnLst>
                              <p:par>
                                <p:cTn id="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1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1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мышц г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изводят легкое растирание губ от середины к угл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следует производить указательными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льцами обеих рук. Губы должны растягиваться, и ребенок должен ощущать легкое покалывание в губ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выполняют 4-6 раз, 2-3 ра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118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активизация мышц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ние губ от середины к угл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ющие движения осуществляются указательными и большими пальцами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ющие движения выполняют 6—8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0" t="-9434" r="-11728" b="11635"/>
          <a:stretch/>
        </p:blipFill>
        <p:spPr>
          <a:xfrm>
            <a:off x="5724360" y="2563920"/>
            <a:ext cx="3168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имуляция мышц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похлопывание губ от середины к угл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хлопывающие движения необходимо проводить при помощи шпателя или пальцев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должны быть достаточно интенсив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ни осуществляются 4—6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76720" y="3500280"/>
            <a:ext cx="367524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имуляция мышц, обеспечивающих подвижность г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писание: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калывание   губ от середины к угл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калывание губ следует проводить при помощи зонда «Игла» или при помощи мягкой зубной щет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нсивность обкалывания зависит от степени паретичности мыш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калывание осуществляется 3—4 раза, 1 раз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435640" y="3068640"/>
            <a:ext cx="3457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5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круговой мышцы рта, мышц, поднимающих верхнюю губу и углы рта кверху   и   мышц,   опускающих нижнюю губу и углы рта вн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ние мышц по носогубным складк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ние по носогубным складкам вверх и вниз. Растирание вверх-вниз под углами нижней губ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ять 3—4 раза,1 раз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26258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ial Black"/>
              </a:rPr>
              <a:t>Упражнение № 26 </a:t>
            </a:r>
            <a:br>
              <a:rPr sz="4000"/>
            </a:br>
            <a:r>
              <a:rPr b="0" i="1" lang="en-US" sz="4000" spc="-1" strike="noStrike">
                <a:solidFill>
                  <a:srgbClr val="ffffb7"/>
                </a:solidFill>
                <a:latin typeface="Arial Black"/>
              </a:rPr>
              <a:t>Точечный</a:t>
            </a:r>
            <a:br>
              <a:rPr sz="4000"/>
            </a:br>
            <a:r>
              <a:rPr b="0" i="1" lang="en-US" sz="4000" spc="-1" strike="noStrike">
                <a:solidFill>
                  <a:srgbClr val="ffffb7"/>
                </a:solidFill>
                <a:latin typeface="Arial Black"/>
              </a:rPr>
              <a:t>массаж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мышц г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водится точечный массаж по линии губ от середины к углам губ и по носогубным складкам вниз и ввер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чечный массаж проводится подушечками указательных пальцев обеих рук. Движения круговые, надавливающ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чечный массаж осуществляется против часовой стрелки, способом вращения, не более 5-6 секунд, 1 раз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565360" cy="32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языка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2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продольных мышц язы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ние продольных мышц языка от корня к кончику язы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движения проводятся при помощи указательного пальца, зонда «Шарик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леньким детям массаж лучше всего проводить при помощи шпа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движения выполняются 8-10 раз, 2-3 раза в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04948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продольных и поперечных мышц я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итмичные надавливания на язык от корня к конч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давливающие движения осуществляются при помощи пластмассового шпате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давливания должны быть интенсивными, выполняют 4—6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651640" y="2421000"/>
            <a:ext cx="199836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стимуляция поперечных мышц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ние языка из стороны, в сторону, в направлении от корня к кончику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движения следует проводить при помощи указательного пальца, зонда «Шарик» или при помощи мягкой зубной щет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4—6 раз, 2-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19335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3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крепление мышц языка и увеличение объема артикуляционных движений я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оводится обкалывание языка от корня к кончику и по боковым краям я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калывающие движения проводятся при помощи зонда «Игла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вижения должны быть очень осторожными, логопед должен наблюдать за состоянием ребе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 появлении сонливости массаж следует прекрати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калывающие движения можно проводить не более 10 секунд, 1 раз в ден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20941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Times New Roman"/>
              </a:rPr>
              <a:t>Массаж шеи </a:t>
            </a:r>
            <a:br>
              <a:rPr sz="4000"/>
            </a:br>
            <a:r>
              <a:rPr b="0" i="1" lang="en-US" sz="4000" spc="-1" strike="noStrike">
                <a:solidFill>
                  <a:srgbClr val="ffffb7"/>
                </a:solidFill>
                <a:latin typeface="Times New Roman"/>
              </a:rPr>
              <a:t>Упражнение №</a:t>
            </a:r>
            <a:r>
              <a:rPr b="1" i="1" lang="en-US" sz="40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b7"/>
                </a:solidFill>
                <a:latin typeface="Times New Roman"/>
              </a:rPr>
              <a:t>1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лабление мышц плечевого поя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ят поглаживания шеи сверху вн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двумя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обходимо, чтобы движения были легкими, максимально расслабляющие мышцы. Следить за ответной реакцией в других группах мышц. Массажные, движения выполняются 6—8 раз, 2-3 раза в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2565360"/>
            <a:ext cx="2233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3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ньшение уровня салив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точечный массаж в углублениях под языком, в двух точках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 осуществляется при помощи указательного, среднего пальц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онда «Грабли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ащательные движения выполняются против часовой стрелки, не более 6-10 секун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не должны причинять ребенку дискомфор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25524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32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мышц язы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разминание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 осуществляется при помощи пальцев (обернутых в марлевую салфетку).   Массаж   выполняется   по всей площади языка (проводится тщатель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минание языка во всех направлениях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  движения выполняются не более 6-8 секунд, 1-2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33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лба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ведение мышц лба в состояние поко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гкое поглаживание лба от висков к цент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указательными, средними и безымянными пальцами обеих рук. Движения выполняются 6-8 раз, 2—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2644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еспечение расслабления мышц лб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гкое поглаживание от корней волос к линии бров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выполняются указательными, средними и безымянными пальцами обеих рук. Движения выполняются 6-8 раз, 2—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08720" y="2492280"/>
            <a:ext cx="2719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16:44:51Z</dcterms:created>
  <dc:creator>Николай</dc:creator>
  <dc:description/>
  <dc:language>en-US</dc:language>
  <cp:lastModifiedBy>Николай</cp:lastModifiedBy>
  <dcterms:modified xsi:type="dcterms:W3CDTF">2008-05-11T21:11:52Z</dcterms:modified>
  <cp:revision>14</cp:revision>
  <dc:subject/>
  <dc:title>Логопедический массаж при дизартрии</dc:title>
</cp:coreProperties>
</file>