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3BF-D7F8-49A0-8161-59307039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A3C-438C-415B-AFAC-BBCCB5F7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327BF-79C9-40A1-BC6D-45F52D28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3B546-BB97-48F1-A086-38B3C1B4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ABC38-583B-4284-B9CD-B9A62EEF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E6BB0-6E1C-41CF-8C4A-3C982C86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952E2-A1B2-4D20-8252-3F0DAE73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5FC01-8CC5-44FA-B3FE-16DF15B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25BDB-F7AF-4F90-AF77-506C3216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A94DB-4BF2-455D-BEA8-12D35A53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AE492-0C55-4E01-B497-189031C6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A393A-BAA9-4A2A-94B0-7B790D88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C57-FE6F-4683-B56F-DA0AB1CA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6F512-3151-46D3-AE9A-D78F3540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85FBB-7CF8-4A26-8CC6-43AA00C7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CABDB-F774-4992-B794-A85F0360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0B08A-8FD5-48B7-8D7B-EA49AFFA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973E8-F279-49D5-ABB0-21E14F56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ECA68-963A-42DF-8492-C18FC865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5B094-92CD-4607-A752-6384E8DB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1F792-A23F-4216-9C4D-D19842C0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6D2E3-1492-4709-AEC4-99C3308F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4F212-C769-41DD-9EFE-632E6936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DB9-F4F0-4C96-AA94-BD78A98E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0D95F-F791-42B4-B73A-18D72E82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2F76E-35E3-4CF1-8608-92E4F3BC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5B096-2D2E-447F-9D53-C21CEE07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BC957-7B2B-4792-9A41-3A83E645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A9596-EB13-482D-B11B-6F81C36D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60AA7-9E28-4AE3-9C3B-5AD96077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8FE55-3138-4858-AE14-B3EE27D9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AA377-686F-41A8-8ED1-E7E7E863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C3ECE-DEE1-42EA-A077-467A467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C11F2-CC71-4CE0-B724-5432B652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3AF9-E860-4581-AFC7-F850508A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64E3C-DD3A-4230-815E-8F1AB905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9550B-F841-44BE-9C50-2DD64B10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B9492-00EB-4DE1-8C60-3E64A585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661FD-3315-4F3D-9B49-E8FC6F72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C19F3-D523-472F-A2AA-961B04D7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06E20-FC85-4A78-947A-7593344F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A3320-FED2-4CE2-8E73-8C9AEE86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A5520-18F0-4C9D-853B-FB137004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1966D-5A6A-4BBD-837D-27B15046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909BA-DBBF-4825-95E4-A6CFF73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9631-0B0A-47BB-92C0-3A85B379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8AB2E-BFB3-4785-9ADF-341486E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C4A11-4980-4805-B0E9-F8A375DE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A8732-FD37-49BC-88E4-389B07F0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E18D2-8F0B-438B-B063-06A73F3B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BED32-C4AA-40B3-B8F1-18499493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649E-868C-410B-AE7B-48F1A087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E6EA-D192-405B-8D94-28924A38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3BB2-9863-4DF5-95CF-B7171B1C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AD1F-C1A3-4F7A-8CC3-61E5E855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3A4F-56B3-4BCA-B381-C095FEAD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196-0835-44F9-BD23-2A6E84A4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AD0A-234B-4316-8770-1567E11F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1011-1772-4053-B1A5-3C468DF2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A227-F682-4C6F-B61F-7A14482B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A934-6DB9-437D-AF88-14FE5281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3D9C-97E3-42FE-9049-2F322983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8825-F851-41BF-AF2D-CC8BD3E2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535FD-A3AE-45AD-B0BE-D4ABA3C7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2FE5-DCA1-4C0B-B543-C2C69B85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A2A6-0129-47B6-B419-8FE036E4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DF98-A912-41A1-9F32-F935BC7B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906-1FC7-4FFA-A320-5F14F8D9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7674-694B-4273-A77F-E7724279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54715-B045-414B-8277-7DF9F365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6333-A351-40C7-84DC-ED7B533B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CCC3-6053-468D-BFC1-090BE85D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8532-40F9-498A-B4A8-02EE12FE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FD91-5207-41B1-B953-A4E378C0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ECFC-19DB-4249-AFDC-01DB2E2D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F455-3D20-4BC7-A922-54DE3250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9CBE-EED3-4C5F-9606-4C8E28AE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7F37E-0651-4C63-9322-81BAE30A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2BE-4679-47CA-9A8F-1A2FDB42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A9771-444C-44D9-BC0E-C1AEA3AF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BD541-CB6B-45AF-929E-089CDB34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8F2B7-0AFD-4952-A614-72AAC7B7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8E610-DC73-45C0-88A8-19BA973A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FEDE-B7A7-4D12-B1EF-F534D232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C14C7-7E91-4B9F-9587-ADD6C7A2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2C52-EF80-4224-B2D6-D849A051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B0059-C860-4063-88A1-7FC668CA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FD9C9-0E75-410C-ABD8-07F1054F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72147-99FA-4905-93D8-C5C17F85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BE9-01C9-46FA-A2AC-F43AF856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0A182-8338-438A-816D-E571BE40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6BD6-7934-45A7-81AC-1B748E6D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5522D-6A03-465A-9696-7BC409D7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071E3-C4EB-4ED4-9C9C-6554FBBF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74F76-100B-4A25-8B35-B73B21F6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6EBCB-5B69-4136-B4E8-3CA0FB44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A943-2BEC-49E9-8D6D-6861F641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223A0-CBEE-40C9-B9BD-9233D828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C9587-3AA8-4154-AF69-910A3CDC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F812A-2D96-46D1-A574-4C7FBFEE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01C-B4C5-455F-B27A-3B1E13E0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D46F-C7CA-488D-8295-A85CEA11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0C216-93EA-4E29-B082-D117D805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CBF95-E3C1-47AC-83D2-4EF26847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15C52-5F6D-4333-896F-D08D5409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283B0-A038-4452-B235-88C9B953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77725-4D6C-424E-A2F0-C7C87354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369B4-5D7A-4A55-9761-64F4094D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FA50B-D325-4261-952D-83787FD7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85CF7-25DE-4E03-B8E4-0372AC4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C5E61-2393-44AB-AFED-7D902770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C4B-781E-4457-8EBB-324DD00E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6B653-0757-4682-8DCB-BF1B0898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7D604-599B-457D-BAC7-1268DB5C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D02DB-5B11-4FB3-A685-15B87B80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736E8-D24F-49BF-B5BD-B6EFFF0E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91D4E-4E96-462C-97AD-A799E7DD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B5D24-B624-46E7-A831-6ADCBDE2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ABDCE-ECC8-4EAF-B1D8-FFB94DB8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961F1-97D5-4F15-A27C-D60A0F47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0307C-2DAD-4042-A2C5-0B16650F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48238-B579-4CAC-B47B-7F773F48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6D0-C3EE-45F7-B564-BC0F5BDA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59945-189B-45B0-9016-3E58CBBD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CFC7B-55C2-4793-9A24-EC66296F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F8D37-45A9-450B-82B2-F5C7C026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876FB-5987-4ECF-8370-2BCA6786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D0EBF-4FEB-4BB7-80E7-F77FC5D8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E967E-0EA9-4E04-91A0-090E1CA2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B46BE-A57E-47F9-8C5E-D8BED84A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BD530-3F7A-4659-AD8D-C570B540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EDA9E-7F1C-4BD4-B4CE-16A93C92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78D1E-706C-46CD-9FD4-1E16E0F2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0EC-90FD-4F22-9EF0-30A52102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8D11F-DDDC-47C0-A5EF-5207B7ED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4A667-BB0E-4E34-BA95-77CFDA58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66605-06C9-41E8-809C-AAB0E0F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2BD35-E834-4B5A-8B25-F8DE53BD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C30FA-3494-41D0-943A-BE2B38E1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2EC09-0074-4D3C-AB3D-9A577380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7416D-8F28-4DD5-99C0-06DAD901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EF49B-7A1C-4597-9E25-07D4036E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AADDC-C791-428C-A8F6-E26C1622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98CE0-B88F-4BAB-9225-15A490EB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98CF-A6AE-442B-958D-F1B67137B4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9848-C1A8-4415-B8A5-8876AF8F10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51F6-4359-42BA-903E-878A7641A2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2F75-F85D-4E7B-AC7A-DB08FEF07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85FB-BAC4-41D0-8F79-43E1EF060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433B-129D-447D-847E-B7C163DC8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1B86-6121-40B7-836F-2CF2546AA6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AE65-A981-4FD8-8137-EEF10DBFF8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34C3-4F86-402F-9C1F-0942266C2E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6D69-8213-47A5-B8A6-3B3482DCF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421E-7C57-419C-999A-57232BC1B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ABC7-0A6D-4A8B-BCE7-5CC3E9468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6.png"/><Relationship Id="rId5" Type="http://schemas.openxmlformats.org/officeDocument/2006/relationships/slide" Target="slide22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5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5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3" name="5-конечная звезда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06" name="5-конечная звезда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7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2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33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36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с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0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4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64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9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65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65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12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5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34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5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ятаева</cp:lastModifiedBy>
  <dcterms:modified xsi:type="dcterms:W3CDTF">2013-06-21T18:02:05Z</dcterms:modified>
  <cp:revision>49</cp:revision>
  <dc:subject/>
  <dc:title>Дети - герои ВОВ</dc:title>
</cp:coreProperties>
</file>