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95640" y="332640"/>
            <a:ext cx="8352720" cy="61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>
            <a:solidFill>
              <a:srgbClr val="c0504d"/>
            </a:solidFill>
            <a:round/>
          </a:ln>
          <a:effectLst>
            <a:glow rad="228600">
              <a:srgbClr val="eb2722">
                <a:alpha val="40000"/>
              </a:srgbClr>
            </a:glow>
          </a:effectLst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" name="Рисунок 7" descr="0_6fc6a_ba5d7a58_XL.png"/>
          <p:cNvPicPr/>
          <p:nvPr/>
        </p:nvPicPr>
        <p:blipFill>
          <a:blip r:embed="rId3"/>
          <a:srcRect l="9139" t="3795" r="4331" b="8007"/>
          <a:stretch/>
        </p:blipFill>
        <p:spPr>
          <a:xfrm>
            <a:off x="0" y="4725000"/>
            <a:ext cx="1827720" cy="213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6"/>
          <p:cNvSpPr/>
          <p:nvPr/>
        </p:nvSpPr>
        <p:spPr>
          <a:xfrm>
            <a:off x="395640" y="332640"/>
            <a:ext cx="8352720" cy="61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>
            <a:solidFill>
              <a:srgbClr val="c0504d"/>
            </a:solidFill>
            <a:round/>
          </a:ln>
          <a:effectLst>
            <a:glow rad="228600">
              <a:srgbClr val="eb2722">
                <a:alpha val="40000"/>
              </a:srgbClr>
            </a:glow>
          </a:effectLst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41" name="Рисунок 7" descr="0_6fc6a_ba5d7a58_XL.png"/>
          <p:cNvPicPr/>
          <p:nvPr/>
        </p:nvPicPr>
        <p:blipFill>
          <a:blip r:embed="rId3"/>
          <a:srcRect l="9139" t="3795" r="4331" b="8007"/>
          <a:stretch/>
        </p:blipFill>
        <p:spPr>
          <a:xfrm>
            <a:off x="0" y="4725000"/>
            <a:ext cx="1827720" cy="2132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7772040" cy="14695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ля дошкольник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71320" y="2428920"/>
            <a:ext cx="8072280" cy="19998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Подготовила: Рудак Еле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БДОУ 56 «Искор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286000" y="363960"/>
            <a:ext cx="5071680" cy="1370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забор взлетел пет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стречал ещё там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ttp://im5-tub-ru.yandex.net/i?id=136471549-03-72&amp;n=21"/>
          <p:cNvPicPr/>
          <p:nvPr/>
        </p:nvPicPr>
        <p:blipFill>
          <a:blip r:embed="rId1"/>
          <a:stretch/>
        </p:blipFill>
        <p:spPr>
          <a:xfrm>
            <a:off x="2571840" y="2428920"/>
            <a:ext cx="4223520" cy="31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643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 четыре, посмотр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а идет за цифрой три.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Очень острый локоток-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ружись и с ней дружок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im4-tub-ru.yandex.net/i?id=49080008-52-72&amp;n=21"/>
          <p:cNvPicPr/>
          <p:nvPr/>
        </p:nvPicPr>
        <p:blipFill>
          <a:blip r:embed="rId1"/>
          <a:stretch/>
        </p:blipFill>
        <p:spPr>
          <a:xfrm>
            <a:off x="3857760" y="5713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214720" y="357120"/>
            <a:ext cx="457164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сть весёлых поросят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корытца в ряд стоят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ушли в кровать ложиться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свинок у корыт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im4-tub-ru.yandex.net/i?id=108977118-04-72&amp;n=21"/>
          <p:cNvPicPr/>
          <p:nvPr/>
        </p:nvPicPr>
        <p:blipFill>
          <a:blip r:embed="rId1"/>
          <a:stretch/>
        </p:blipFill>
        <p:spPr>
          <a:xfrm>
            <a:off x="1857240" y="2928960"/>
            <a:ext cx="324216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4-tub-ru.yandex.net/i?id=108977118-04-72&amp;n=21"/>
          <p:cNvPicPr/>
          <p:nvPr/>
        </p:nvPicPr>
        <p:blipFill>
          <a:blip r:embed="rId2"/>
          <a:stretch/>
        </p:blipFill>
        <p:spPr>
          <a:xfrm>
            <a:off x="5072040" y="2928960"/>
            <a:ext cx="3242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im6-tub-ru.yandex.net/i?id=247873921-22-72&amp;n=21"/>
          <p:cNvPicPr/>
          <p:nvPr/>
        </p:nvPicPr>
        <p:blipFill>
          <a:blip r:embed="rId1"/>
          <a:stretch/>
        </p:blipFill>
        <p:spPr>
          <a:xfrm>
            <a:off x="4071960" y="857160"/>
            <a:ext cx="1076040" cy="1428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428840" y="2214720"/>
            <a:ext cx="7214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ордо выгнув грудь вперед 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 четверкой пять идет. 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ять- отличная отметка! 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юк на ножке,вправо кеп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0" y="374760"/>
            <a:ext cx="4785840" cy="3503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цыпленка ст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корлупки гля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яичка в гнез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наседки леж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читай повер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й поскор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будет цып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наседки мо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http://im7-tub-ru.yandex.net/i?id=226149977-56-72&amp;n=21"/>
          <p:cNvPicPr/>
          <p:nvPr/>
        </p:nvPicPr>
        <p:blipFill>
          <a:blip r:embed="rId1"/>
          <a:stretch/>
        </p:blipFill>
        <p:spPr>
          <a:xfrm>
            <a:off x="4786200" y="4286160"/>
            <a:ext cx="120924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im7-tub-ru.yandex.net/i?id=226149977-56-72&amp;n=21"/>
          <p:cNvPicPr/>
          <p:nvPr/>
        </p:nvPicPr>
        <p:blipFill>
          <a:blip r:embed="rId2"/>
          <a:stretch/>
        </p:blipFill>
        <p:spPr>
          <a:xfrm>
            <a:off x="6000840" y="4286160"/>
            <a:ext cx="120924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7-tub-ru.yandex.net/i?id=226149977-56-72&amp;n=21"/>
          <p:cNvPicPr/>
          <p:nvPr/>
        </p:nvPicPr>
        <p:blipFill>
          <a:blip r:embed="rId3"/>
          <a:stretch/>
        </p:blipFill>
        <p:spPr>
          <a:xfrm>
            <a:off x="7215120" y="4286160"/>
            <a:ext cx="120924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im8-tub-ru.yandex.net/i?id=429896103-02-72&amp;n=21"/>
          <p:cNvPicPr/>
          <p:nvPr/>
        </p:nvPicPr>
        <p:blipFill>
          <a:blip r:embed="rId4"/>
          <a:stretch/>
        </p:blipFill>
        <p:spPr>
          <a:xfrm>
            <a:off x="1928880" y="4286160"/>
            <a:ext cx="21999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2-tub-ru.yandex.net/i?id=524916331-31-72&amp;n=21"/>
          <p:cNvPicPr/>
          <p:nvPr/>
        </p:nvPicPr>
        <p:blipFill>
          <a:blip r:embed="rId1"/>
          <a:stretch/>
        </p:blipFill>
        <p:spPr>
          <a:xfrm>
            <a:off x="3571920" y="500040"/>
            <a:ext cx="1447560" cy="1428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1428840" y="1928880"/>
            <a:ext cx="7429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Вот шестерка- хохотушка 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овно круглая ватрушка. 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У неё смешное брюшко, 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А над брюшком завихр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214720" y="357120"/>
            <a:ext cx="5357520" cy="51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ушей у трёх мышей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im2-tub-ru.yandex.net/i?id=241413741-41-72&amp;n=21"/>
          <p:cNvPicPr/>
          <p:nvPr/>
        </p:nvPicPr>
        <p:blipFill>
          <a:blip r:embed="rId1"/>
          <a:stretch/>
        </p:blipFill>
        <p:spPr>
          <a:xfrm>
            <a:off x="1143000" y="2428920"/>
            <a:ext cx="1799640" cy="179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im2-tub-ru.yandex.net/i?id=241413741-41-72&amp;n=21"/>
          <p:cNvPicPr/>
          <p:nvPr/>
        </p:nvPicPr>
        <p:blipFill>
          <a:blip r:embed="rId2"/>
          <a:stretch/>
        </p:blipFill>
        <p:spPr>
          <a:xfrm>
            <a:off x="3929040" y="2928960"/>
            <a:ext cx="1799640" cy="179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im2-tub-ru.yandex.net/i?id=241413741-41-72&amp;n=21"/>
          <p:cNvPicPr/>
          <p:nvPr/>
        </p:nvPicPr>
        <p:blipFill>
          <a:blip r:embed="rId3"/>
          <a:stretch/>
        </p:blipFill>
        <p:spPr>
          <a:xfrm>
            <a:off x="6572160" y="2428920"/>
            <a:ext cx="1799640" cy="17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1360" y="2130480"/>
            <a:ext cx="75006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У семерки, влево чубчик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ричеши его ,голубчик.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мь- счастливое число,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ы запомни, друг, его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http://im0-tub-ru.yandex.net/i?id=422463435-49-72&amp;n=21"/>
          <p:cNvPicPr/>
          <p:nvPr/>
        </p:nvPicPr>
        <p:blipFill>
          <a:blip r:embed="rId1"/>
          <a:stretch/>
        </p:blipFill>
        <p:spPr>
          <a:xfrm>
            <a:off x="4143240" y="5713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286000" y="357120"/>
            <a:ext cx="5000400" cy="179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зайчонка, пять ежат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дят вместе в детский сад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читать мы вас попросим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малышей в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im2-tub-ru.yandex.net/i?id=231131364-58-72&amp;n=21"/>
          <p:cNvPicPr/>
          <p:nvPr/>
        </p:nvPicPr>
        <p:blipFill>
          <a:blip r:embed="rId1"/>
          <a:stretch/>
        </p:blipFill>
        <p:spPr>
          <a:xfrm>
            <a:off x="1928880" y="50007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im2-tub-ru.yandex.net/i?id=231131364-58-72&amp;n=21"/>
          <p:cNvPicPr/>
          <p:nvPr/>
        </p:nvPicPr>
        <p:blipFill>
          <a:blip r:embed="rId2"/>
          <a:stretch/>
        </p:blipFill>
        <p:spPr>
          <a:xfrm>
            <a:off x="500040" y="342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im2-tub-ru.yandex.net/i?id=231131364-58-72&amp;n=21"/>
          <p:cNvPicPr/>
          <p:nvPr/>
        </p:nvPicPr>
        <p:blipFill>
          <a:blip r:embed="rId3"/>
          <a:stretch/>
        </p:blipFill>
        <p:spPr>
          <a:xfrm>
            <a:off x="3929040" y="42148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im2-tub-ru.yandex.net/i?id=231131364-58-72&amp;n=21"/>
          <p:cNvPicPr/>
          <p:nvPr/>
        </p:nvPicPr>
        <p:blipFill>
          <a:blip r:embed="rId4"/>
          <a:stretch/>
        </p:blipFill>
        <p:spPr>
          <a:xfrm>
            <a:off x="5929200" y="50007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2-tub-ru.yandex.net/i?id=231131364-58-72&amp;n=21"/>
          <p:cNvPicPr/>
          <p:nvPr/>
        </p:nvPicPr>
        <p:blipFill>
          <a:blip r:embed="rId5"/>
          <a:stretch/>
        </p:blipFill>
        <p:spPr>
          <a:xfrm>
            <a:off x="6715080" y="342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http://im2-tub-ru.yandex.net/i?id=15307188-51-72&amp;n=21"/>
          <p:cNvPicPr/>
          <p:nvPr/>
        </p:nvPicPr>
        <p:blipFill>
          <a:blip r:embed="rId6"/>
          <a:stretch/>
        </p:blipFill>
        <p:spPr>
          <a:xfrm>
            <a:off x="2786040" y="2571840"/>
            <a:ext cx="1819080" cy="142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http://im2-tub-ru.yandex.net/i?id=15307188-51-72&amp;n=21"/>
          <p:cNvPicPr/>
          <p:nvPr/>
        </p:nvPicPr>
        <p:blipFill>
          <a:blip r:embed="rId7"/>
          <a:stretch/>
        </p:blipFill>
        <p:spPr>
          <a:xfrm>
            <a:off x="4572000" y="2571840"/>
            <a:ext cx="1819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0080" y="23572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 восьмерки – неваляшки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олько круглые рубашки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Круглый низ, и круглый верх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осемь, ты круглее всех!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im8-tub-ru.yandex.net/i?id=22735730-60-72&amp;n=21"/>
          <p:cNvPicPr/>
          <p:nvPr/>
        </p:nvPicPr>
        <p:blipFill>
          <a:blip r:embed="rId1"/>
          <a:stretch/>
        </p:blipFill>
        <p:spPr>
          <a:xfrm>
            <a:off x="4000320" y="642960"/>
            <a:ext cx="1047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040" cy="28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ам придётся постараться,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Чтобы в цифрах разобраться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Будем цифры изучать,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 потом начнём считать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571760" y="357120"/>
            <a:ext cx="6000480" cy="51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лап у двух медвежат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m0-tub-ru.yandex.net/i?id=151720653-21-72&amp;n=21"/>
          <p:cNvPicPr/>
          <p:nvPr/>
        </p:nvPicPr>
        <p:blipFill>
          <a:blip r:embed="rId1"/>
          <a:stretch/>
        </p:blipFill>
        <p:spPr>
          <a:xfrm>
            <a:off x="2143080" y="1928880"/>
            <a:ext cx="2231640" cy="359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im0-tub-ru.yandex.net/i?id=151720653-21-72&amp;n=21"/>
          <p:cNvPicPr/>
          <p:nvPr/>
        </p:nvPicPr>
        <p:blipFill>
          <a:blip r:embed="rId2"/>
          <a:stretch/>
        </p:blipFill>
        <p:spPr>
          <a:xfrm>
            <a:off x="4357800" y="1928880"/>
            <a:ext cx="223164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130480"/>
            <a:ext cx="627192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6699"/>
                </a:solidFill>
                <a:latin typeface="Calibri"/>
              </a:rPr>
              <a:t>Вот девятка – егоза, 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Calibri"/>
              </a:rPr>
              <a:t>У нее одна нога. 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Calibri"/>
              </a:rPr>
              <a:t>А как встанет вверх ногой, 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Calibri"/>
              </a:rPr>
              <a:t>Станет циферкой другой. 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Calibri"/>
              </a:rPr>
              <a:t>Угадайте-ка какой?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m5-tub-ru.yandex.net/i?id=900347777-13-72&amp;n=21"/>
          <p:cNvPicPr/>
          <p:nvPr/>
        </p:nvPicPr>
        <p:blipFill>
          <a:blip r:embed="rId1"/>
          <a:stretch/>
        </p:blipFill>
        <p:spPr>
          <a:xfrm>
            <a:off x="4214880" y="357120"/>
            <a:ext cx="914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071360" y="368280"/>
            <a:ext cx="7071840" cy="22237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сять веселых медв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малиной в лес спеш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один из них уст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перь ответ най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мишек впере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ttp://im2-tub-ru.yandex.net/i?id=306981152-67-72&amp;n=21"/>
          <p:cNvPicPr/>
          <p:nvPr/>
        </p:nvPicPr>
        <p:blipFill>
          <a:blip r:embed="rId1"/>
          <a:stretch/>
        </p:blipFill>
        <p:spPr>
          <a:xfrm>
            <a:off x="928800" y="3000240"/>
            <a:ext cx="2399760" cy="179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im2-tub-ru.yandex.net/i?id=306981152-67-72&amp;n=21"/>
          <p:cNvPicPr/>
          <p:nvPr/>
        </p:nvPicPr>
        <p:blipFill>
          <a:blip r:embed="rId2"/>
          <a:stretch/>
        </p:blipFill>
        <p:spPr>
          <a:xfrm>
            <a:off x="3286080" y="3000240"/>
            <a:ext cx="2399760" cy="179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im2-tub-ru.yandex.net/i?id=306981152-67-72&amp;n=21"/>
          <p:cNvPicPr/>
          <p:nvPr/>
        </p:nvPicPr>
        <p:blipFill>
          <a:blip r:embed="rId3"/>
          <a:stretch/>
        </p:blipFill>
        <p:spPr>
          <a:xfrm>
            <a:off x="5643720" y="3000240"/>
            <a:ext cx="2399760" cy="179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http://im3-tub-ru.yandex.net/i?id=26427497-41-72&amp;n=21"/>
          <p:cNvPicPr/>
          <p:nvPr/>
        </p:nvPicPr>
        <p:blipFill>
          <a:blip r:embed="rId4"/>
          <a:stretch/>
        </p:blipFill>
        <p:spPr>
          <a:xfrm>
            <a:off x="3357720" y="4714920"/>
            <a:ext cx="2399760" cy="17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214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Словно старшая сестричка,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Ведет нолик единичка.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Только вместе пошагали,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Сразу цифрой десять стал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im6-tub-ru.yandex.net/i?id=269207665-23-72&amp;n=21"/>
          <p:cNvPicPr/>
          <p:nvPr/>
        </p:nvPicPr>
        <p:blipFill>
          <a:blip r:embed="rId1"/>
          <a:stretch/>
        </p:blipFill>
        <p:spPr>
          <a:xfrm>
            <a:off x="3857760" y="714240"/>
            <a:ext cx="1104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1285920" y="403920"/>
            <a:ext cx="6428880" cy="22237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блоки в саду посп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отведать их усп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румяных, налив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олько же  с кисл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читай-ка сколько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http://im2-tub-ru.yandex.net/i?id=11318541-63-72&amp;n=21"/>
          <p:cNvPicPr/>
          <p:nvPr/>
        </p:nvPicPr>
        <p:blipFill>
          <a:blip r:embed="rId1"/>
          <a:stretch/>
        </p:blipFill>
        <p:spPr>
          <a:xfrm>
            <a:off x="2000160" y="3429000"/>
            <a:ext cx="2399760" cy="179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im4-tub-ru.yandex.net/i?id=285422077-32-72&amp;n=21"/>
          <p:cNvPicPr/>
          <p:nvPr/>
        </p:nvPicPr>
        <p:blipFill>
          <a:blip r:embed="rId2"/>
          <a:stretch/>
        </p:blipFill>
        <p:spPr>
          <a:xfrm>
            <a:off x="5357880" y="3429000"/>
            <a:ext cx="1799640" cy="17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2130480"/>
            <a:ext cx="73576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Ноль похож на букву О, </a:t>
            </a:r>
            <a:br>
              <a:rPr sz="1800"/>
            </a:b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Он не значит ничего. </a:t>
            </a:r>
            <a:br>
              <a:rPr sz="1800"/>
            </a:b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Но любую цифру враз </a:t>
            </a:r>
            <a:br>
              <a:rPr sz="1800"/>
            </a:b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Увеличит в десять раз.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m2-tub-ru.yandex.net/i?id=114418830-27-72&amp;n=21"/>
          <p:cNvPicPr/>
          <p:nvPr/>
        </p:nvPicPr>
        <p:blipFill>
          <a:blip r:embed="rId1"/>
          <a:stretch/>
        </p:blipFill>
        <p:spPr>
          <a:xfrm>
            <a:off x="3929040" y="714240"/>
            <a:ext cx="1266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286000" y="357120"/>
            <a:ext cx="457164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тыре спелых груш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веточке качалос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е груши снял Павлу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две сестра Милаш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сколько груш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0-tub-ru.yandex.net/i?id=77434981-54-72&amp;n=21"/>
          <p:cNvPicPr/>
          <p:nvPr/>
        </p:nvPicPr>
        <p:blipFill>
          <a:blip r:embed="rId1"/>
          <a:stretch/>
        </p:blipFill>
        <p:spPr>
          <a:xfrm>
            <a:off x="2071800" y="2857320"/>
            <a:ext cx="489564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14720"/>
            <a:ext cx="77720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Единица так мила-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чень важная она,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едь с неё любой народ 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Начинает каждый счет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im0-tub-ru.yandex.net/i?id=175508215-70-72&amp;n=21"/>
          <p:cNvPicPr/>
          <p:nvPr/>
        </p:nvPicPr>
        <p:blipFill>
          <a:blip r:embed="rId1"/>
          <a:stretch/>
        </p:blipFill>
        <p:spPr>
          <a:xfrm>
            <a:off x="4143240" y="71424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500120" y="357120"/>
            <a:ext cx="578628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бабушки Да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чка Ма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т Пу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собака Друж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всего внуков у бабушк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8-tub-ru.yandex.net/i?id=538160598-51-72&amp;n=21"/>
          <p:cNvPicPr/>
          <p:nvPr/>
        </p:nvPicPr>
        <p:blipFill>
          <a:blip r:embed="rId1"/>
          <a:stretch/>
        </p:blipFill>
        <p:spPr>
          <a:xfrm>
            <a:off x="1928880" y="3500280"/>
            <a:ext cx="2956320" cy="251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im3-tub-ru.yandex.net/i?id=373431653-43-72&amp;n=21"/>
          <p:cNvPicPr/>
          <p:nvPr/>
        </p:nvPicPr>
        <p:blipFill>
          <a:blip r:embed="rId2"/>
          <a:stretch/>
        </p:blipFill>
        <p:spPr>
          <a:xfrm>
            <a:off x="4929120" y="3500280"/>
            <a:ext cx="33595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8714880" cy="32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войка с модным завитком,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С шеей длинной и хвостом.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любуйся- какова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 запомни цифру- два!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m8-tub-ru.yandex.net/i?id=490199174-51-72&amp;n=21"/>
          <p:cNvPicPr/>
          <p:nvPr/>
        </p:nvPicPr>
        <p:blipFill>
          <a:blip r:embed="rId1"/>
          <a:stretch/>
        </p:blipFill>
        <p:spPr>
          <a:xfrm>
            <a:off x="3714840" y="5713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214720" y="357120"/>
            <a:ext cx="4571640" cy="350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пирожков лежало в миске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пирожка взяла Лариска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ще один стащила киска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сколько же осталось в миске?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im4-tub-ru.yandex.net/i?id=206436520-56-72&amp;n=21"/>
          <p:cNvPicPr/>
          <p:nvPr/>
        </p:nvPicPr>
        <p:blipFill>
          <a:blip r:embed="rId1"/>
          <a:stretch/>
        </p:blipFill>
        <p:spPr>
          <a:xfrm>
            <a:off x="2714760" y="3857760"/>
            <a:ext cx="35517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2571840"/>
            <a:ext cx="77720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А у тройки нос курносый, 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Чуб и хвостик очень острый. 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Крючковата, но стройна 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счете третья о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im5-tub-ru.yandex.net/i?id=48780698-38-72&amp;n=21"/>
          <p:cNvPicPr/>
          <p:nvPr/>
        </p:nvPicPr>
        <p:blipFill>
          <a:blip r:embed="rId1"/>
          <a:stretch/>
        </p:blipFill>
        <p:spPr>
          <a:xfrm>
            <a:off x="4071960" y="785880"/>
            <a:ext cx="1009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резентация3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резентация3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Презентация3</Template>
  <TotalTime>277</TotalTime>
  <Application>LibreOffice/7.4.7.2$Linux_X86_64 LibreOffice_project/40$Build-2</Application>
  <AppVersion>15.0000</AppVersion>
  <Words>178</Words>
  <Paragraphs>49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3:48:13Z</dcterms:created>
  <dc:creator>User</dc:creator>
  <dc:description/>
  <dc:language>en-US</dc:language>
  <cp:lastModifiedBy>123456789</cp:lastModifiedBy>
  <dcterms:modified xsi:type="dcterms:W3CDTF">2020-05-23T09:11:02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