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791-B7A5-429E-A0D3-ADB3690B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F0B-47C5-452B-81BC-E826B859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FE2-8620-4A81-BDF0-ACBD4675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96B-7AD2-43D2-B45A-A7889895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FF04-4827-4B61-B65A-24944F71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789D-4235-4D4E-92CB-A6CEE545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87B4-CCD2-41FE-B335-566215AF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A5E6-AE3B-4DF9-9180-8221B0B8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7847-4A3C-4433-B9A4-FDF0B2DF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89EF-23F5-44FE-B56E-26B2402C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2577-CED8-4674-A751-CF68FB07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A29-E2BF-42E0-97DB-C7D154B2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B171-1E5D-4B21-A2DF-EA86E3B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85E6-0B82-4CF1-AB22-E6C5A280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5FB7-A8D0-408A-A495-A6EAA055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226D-8211-4BB6-A9D8-230B2C44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2C17-141F-474A-A519-BB8B672F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FE4-B89B-4FA8-8D36-B49DA49F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82F-ADEA-4EE3-804E-FEACE004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F6A-70F6-4163-A45B-14683F1F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275-B1A5-4955-97A4-C85BE801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148-2EBF-48A0-A9CC-C29B1178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7D3-DE09-47B4-B09D-83D09C5A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434-FF98-4743-8C3D-7011956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F823-741F-432B-9A09-9EEA9FEBDD1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5454-CD7A-48C6-B1A6-2D1DEBED77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1996920"/>
            <a:ext cx="7037280" cy="46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Методика проведения современного урока русского язык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Автор: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учитель МОУ «Школа  № 3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города Докучаевска»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Крамаренко Ю. С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-1486440" y="3273480"/>
            <a:ext cx="947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Вечны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971640" y="907920"/>
            <a:ext cx="770400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ля того,  чтобы почувствовать прилив творческих сил, заставить душу  и дух работать в полную силу, необходимо побывать в Болдино, где  аккумулировалась творческая мощь Пушки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ечным  памятником русской поэзии стал Святогорский монастырь (ныне Пушкинские Горы) – последний приют поэ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есмотря на то, что существует немало мест, связанных с жизнью Александра Сергеевича, особенным духом пронизано Михайловское – «святая» для поэта земля. Немногие знают, что от усадьбы в Михайловском с войны осталось одно пепелище. Но сохранилась природа, впечатлением от которой наполнено творчество Пушкина. Пейзаж, по словам директора музея-заповедника Семена Гейченко, был основой, с которой началось возрождение этой святы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« Лучом бессмертия» освещены рукотворные памятники Пушкину, созданные скульпто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пекушиным, Аникуши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о главным памятником поэту остается его творчество, несравненно более значимое и важное для народа, нежели  Александрийский столп, надменно вознесенный над Росс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ворчество Пушкина – ориентир, куда плыть, во что верить, на что надеяться, чтобы жизнь была  содержательной и нравствен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(2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сл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537680" cy="586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99cc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cc00"/>
                </a:solidFill>
                <a:latin typeface="Times New Roman"/>
              </a:rPr>
              <a:t>Тренинг аудиативных умений</a:t>
            </a:r>
            <a:br>
              <a:rPr sz="2400"/>
            </a:br>
            <a:r>
              <a:rPr b="1" lang="ru-RU" sz="2400" spc="-1" strike="noStrike">
                <a:solidFill>
                  <a:srgbClr val="99cc00"/>
                </a:solidFill>
                <a:latin typeface="Times New Roman"/>
              </a:rPr>
              <a:t>- Анализ прочитанного и увиденного. Тренинг ассоциативного воображения.</a:t>
            </a:r>
            <a:br>
              <a:rPr sz="2400"/>
            </a:br>
            <a:r>
              <a:rPr b="1" lang="ru-RU" sz="24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авление ассоциативных рядов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амятник –  торжественный,  величественный, грандиозный, впечатляющий, завораживающи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следие  Пушкина – вдохновение, творчество, глубин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егкость, содержательность, значимость, гениальность, одаренность, проницательность, гуманизм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темы,  основной мысли текста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4. Определение стиля речи, типа речи текста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5. Повторение и закрепление знаний по теме «Сложноподчиненное предложение»: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) определение в тексте  сложноподчиненных предложений различных типов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) использование  учащимися предложений данной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интаксической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нструкции в процессе лексической  и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рфографической  рабо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Лексическая работа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Для учащихся подгруппы «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) определить лексическое значение с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светлый, свята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в словосочетаниях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светлый гений, святая земл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основать употребление  поняти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памятник, обелиск, монумент, ст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-пьедестал, поста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контексте высказываний  «Память о Пушкин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 flipH="1">
            <a:off x="613800" y="4869000"/>
            <a:ext cx="80629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Для учащихся подгруппы «Б 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пределить лексическое значение слов</a:t>
            </a: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памятник, обелиск, монумент, пьедестал, постамент. Определить стилистическую окраску слов </a:t>
            </a: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( в случае затруднений воспользоваться толковым словаре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рфографический  практикум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ъяснить правописание слов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овеянный, взросла, исчерпывающий, связанный, пушкинский, музей-заповед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Пунктуационный практикум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Работа в парах. Обучение друг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комментировать  постановку знаков препинания в предложениях  № 1, 2, 3, 4, 7, 10, 13 текста «Память о Пушкине». При составлении лингвистического высказывания  использовать сложноподчиненные предложения различных тип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Проверка результатов  речевой деятельности учащимися -консультант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6. Развитие речевых умений и навыков учащихся.</a:t>
            </a:r>
            <a:br>
              <a:rPr sz="2400"/>
            </a:b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Тренинг воссоздающего и визуального воображения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Для учащихся подгруппы «Б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ставление и разыгрывание диалогов на тему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«Проект памятника Пушкин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 использованием сложных предложений различных ви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Для учащихся подгруппы «А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левая игра «Защита проекта» ( архитектор и скульптор представляют  проект памятника Пушкину архитектурной комисс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lnSpc>
                <a:spcPct val="100000"/>
              </a:lnSpc>
              <a:buClr>
                <a:srgbClr val="99cc00"/>
              </a:buClr>
              <a:buFont typeface="Times New Roman"/>
              <a:buAutoNum type="roman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Итог урока. Проверка  знаний, умений и навыков учащихся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Лингвистический диктант: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412640"/>
            <a:ext cx="7608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Типы предложений по интонаци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восклицательные, невосклицательны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Предложение с двумя и более грамматическими основами называется…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сложны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Типы односоставных предложений  с главным членом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сказуемы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определенно-личные, неопределенно-личные, обобщенно-личные, безличны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Виды придаточных обстоятельственны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образа действия и степени, места, времени, условия, причины, цели, сравнения, уступки, следств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Виды подчинений в предложении с нескольким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придаточным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последовательное, параллельное, однородно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І Оценивание достижений учащихся в овладении темой урока. 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99cc00"/>
                </a:solidFill>
                <a:latin typeface="Times New Roman"/>
              </a:rPr>
              <a:t>Указания учителя о направлениях индивидуальной работы по совершенствованию знаний, умений и навыков учащихся по теме “Сложноподчиненное предложение”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ІІ. Домашнее зад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99cc00"/>
                </a:solidFill>
                <a:latin typeface="Times New Roman"/>
              </a:rPr>
              <a:t>Для учащихся подгруппы “А”</a:t>
            </a:r>
            <a:r>
              <a:rPr b="0" lang="uk-U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Составить монологическое высказывание  с использованием сложноподчиненных предложений разных типов на тем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Речь на открытии памятника А. С. Пушкину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99cc00"/>
                </a:solidFill>
                <a:latin typeface="Times New Roman"/>
              </a:rPr>
              <a:t>Для учащихся подгруппы “Б ”</a:t>
            </a:r>
            <a:r>
              <a:rPr b="0" lang="uk-U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Составить описание памятника Пушкину работы А. М. Опекушина в Москв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(с использованием сложноподчиненных предложений разных типов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Урок русского языка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в 9 класс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общение знаний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 т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Сложноподчиненное предложени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Урок №   28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Урок №   9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 в теме «Сложноподчиненное предложение»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ип уро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вторение и обобщение зн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борудование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учебники русского языка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общающие таблицы  «Основны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уппы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ложноподчиненных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дложений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начению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лайды, презент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Для организации работы класс поделен на группы: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Учащиеся подгруппы «А» 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уровень обучения – высокий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выступают в роли консультантов, контролируют работу учащихся группы «Б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Учащиеся группы «Б»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уровень обучения  преимущественно  средний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Цели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обобщение и систематизация знаний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чащихся о  видах и структуре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сложноподчиненных предложений;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звитие  навыков  самостоятельной работ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ащихся; развитие связной  устной  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сьменной речи учащихс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ормирование поликультурной компетентнос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ащихся; воспитание  уважения к культур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родов мира; формирование гражданско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зиции учащихся; воспитание языково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ич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620280"/>
            <a:ext cx="7543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Ход урока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imes New Roman"/>
              </a:rPr>
              <a:t>І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. Организационный мом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ІІ. Объявление темы и цели уро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ІІІ. Мотивация учебной деятельности учащих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І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 Актуализация опорных знаний учащих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99cc00"/>
                </a:solidFill>
                <a:latin typeface="Times New Roman"/>
              </a:rPr>
              <a:t>1. Проверка домашнего задания (работа в пара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99cc00"/>
                </a:solidFill>
                <a:latin typeface="Times New Roman"/>
              </a:rPr>
              <a:t>2. Беседа с учащими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Вспомните, какими бывают предложения по структуре и состав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Покажите отличие сложносочиненных и сложноподчиненных предлож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99cc00"/>
                </a:solidFill>
                <a:latin typeface="Times New Roman"/>
              </a:rPr>
              <a:t>3. Дифференцированная работ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чащихся  подгруппы «А»: составл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чащихся подгруппы «Б»  восстановление обобщающей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блиц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новные группы  сложноподчиненных предложени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Основные группы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сложноподчиненных предложений по значению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ложноподчиненные предложения с придаточными определительны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ложноподчиненные предложения с придаточными изъяснительны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ложноподчиненные предложения с придаточными обстоятельственным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ме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време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образа действия, меры и степени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усло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прич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це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сравн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уступ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след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7775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Учащиеся сопоставляют таблицы с предложенной учителем, где кроме групп предложений указаны  также вопросы,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союзы и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союзные слова.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1343160"/>
          <a:ext cx="8353440" cy="5472000"/>
        </p:xfrm>
        <a:graphic>
          <a:graphicData uri="http://schemas.openxmlformats.org/drawingml/2006/table">
            <a:tbl>
              <a:tblPr/>
              <a:tblGrid>
                <a:gridCol w="3168720"/>
                <a:gridCol w="2131920"/>
                <a:gridCol w="305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юзы и союзные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ожноподчиненные предлож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 придаточными определительны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ой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торый, какой, чей, откуда, что, где, когда, ку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ожноподчиненные предлож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 придаточными  изъяснительны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адеж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то, чтобы, будто, как, как будто, словно, который, ч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ожноподчиненные предлож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 придаточными обстоятельственным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врем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мес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образа действия, меры и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усло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прич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срав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уступ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след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гда? как долго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де? куда? откуда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?  каким образом? насколько? в какой мере? до какой степен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 каком услови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чему? для чего? по какой причин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чем? для чего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? как именно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мотря на что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ледствие чего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гда…то, пока, едва, с тех пор как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де, куда, отку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, что, чтобы, словно, точно, будто, сколько, насколько,  будто, как буд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, ежели, когда, как  скоро, кол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ому что, так как, ибо, вследств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го  что, посколь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тобы, для того чтобы, даб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, чем, словно, будто, то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тя, несмотря на  то ч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к ч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 Работа по теме урока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. Ознакомление с текстом. </a:t>
            </a:r>
            <a:r>
              <a:rPr b="0" lang="ru-RU" sz="2400" spc="-1" strike="noStrike">
                <a:solidFill>
                  <a:srgbClr val="99cc00"/>
                </a:solidFill>
                <a:latin typeface="Times New Roman"/>
              </a:rPr>
              <a:t>Выразительное чтение текста учащимися. Совершенствование техники чтения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6000" y="1980720"/>
            <a:ext cx="74167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амять о Пушк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аша память с малолетства хранит весёлое и легкое имя Пушкин» еще и оттого, что  памятниками светлому гению поэта становятся пушкинские места. Это и овеянное классической поэзией Царское Село, где взросла и окрепла пушкинская муза. Это и Петербург,  «город пышный, город бедный», ставший лобным местом для столкновения чести и подлости. Если существуют края,  исчерпывающе передающие свободу и вдохновенный порыв творчества, то это, безусловно, юг: Крым, Одесса, Молдавия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16:11:45Z</dcterms:created>
  <dc:creator>Admin</dc:creator>
  <dc:description/>
  <dc:language>en-US</dc:language>
  <cp:lastModifiedBy>Loner-XP</cp:lastModifiedBy>
  <dcterms:modified xsi:type="dcterms:W3CDTF">2017-06-24T19:12:37Z</dcterms:modified>
  <cp:revision>19</cp:revision>
  <dc:subject/>
  <dc:title>Методика и технология проведения современного урока русского языка</dc:title>
</cp:coreProperties>
</file>