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C1C-4646-4BF6-AA74-DC6472B4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9A16-BF57-408E-A219-A980E857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4D8-6BFC-4421-ADAA-69E9C04F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6341-19F5-4221-B99F-A7040D74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FCC5-173C-4CAD-AAC1-F5D194F1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FEA-7519-4B41-A054-58240B0B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A06E-AECE-45F4-A082-4200FE00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58D0-35CF-4A6A-A4B3-D6EC4341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03A-6E2B-4EE4-8BAE-0BFAE602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E4FB-E09B-41A8-B962-97DD4DD6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6F7-1591-4497-9CF3-7F67A942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7D1-3274-40AF-AA6A-771B0945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тамонникова Любовь Николаевна,Новый Уренг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902A-067E-4D62-974F-C43012CBE6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765792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300"/>
            </a:br>
            <a:br>
              <a:rPr sz="6300"/>
            </a:br>
            <a:br>
              <a:rPr sz="6300"/>
            </a:br>
            <a:br>
              <a:rPr sz="3600"/>
            </a:br>
            <a:br>
              <a:rPr sz="3600"/>
            </a:br>
            <a:r>
              <a:rPr b="1" lang="ru-RU" sz="6300" spc="-1" strike="noStrike">
                <a:solidFill>
                  <a:srgbClr val="800000"/>
                </a:solidFill>
                <a:latin typeface="Arial"/>
              </a:rPr>
              <a:t>Перестройки генома </a:t>
            </a:r>
            <a:br>
              <a:rPr sz="6300"/>
            </a:br>
            <a:r>
              <a:rPr b="1" lang="ru-RU" sz="6300" spc="-1" strike="noStrike">
                <a:solidFill>
                  <a:srgbClr val="800000"/>
                </a:solidFill>
                <a:latin typeface="Arial"/>
              </a:rPr>
              <a:t>в онтогенезе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35164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человеческой аскариды зигота и клетки –предшественники половых, имеют всего две крупные хромосомы. В ходе дробления в бластомере зародыша эти огромные хромосомы распадаются на множество фрагментов. Оставшиеся фрагменты становятся самостоятельными маленькими хромосомам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В результате в соматических клетках остается всего около 15%генетического материала, который содержит все гены ,необходимые для нормального развития и функционирова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ех клетках, из которых будут развиваться гаметы, остаются две большие хромосомы с полной генетической информ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978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даление части ДНК во время дробления зародыша лошадиной аскариды: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— стадия двух бластомеров;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Б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— стадия четырех бластомеров.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—  клетки — предшественники половых клеток;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— клетки — предшественники соматических клеток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—удаляемая ДН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8424720" cy="381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68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68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естройки у инфузорий туфел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одноклеточных двухядерных эукариот-инфузорий на соматические и генеративные дифференцируются не клетки,  а ядра, причем в соматическом ядре удаляется большая часть ДНК –до 9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File:Paramecium.svg"/>
          <p:cNvPicPr/>
          <p:nvPr/>
        </p:nvPicPr>
        <p:blipFill>
          <a:blip r:embed="rId1"/>
          <a:stretch/>
        </p:blipFill>
        <p:spPr>
          <a:xfrm>
            <a:off x="4643280" y="1557360"/>
            <a:ext cx="403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3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589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кронуклеус содержит полный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ном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 его генов почти не считываютс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-РНК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, следовательно, его гены не экспрессируются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При созревании макронуклеуса происходят сложные перестройки генома, именно с генов, содержащихся в этом ядре, считываются почти все м-РНК; следовательно, именно макронуклеус «управляе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 синтез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сех белков в клетке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Туфелька с удаленным или разрушенным микронуклеусом может жить и размножаться бесполым путем, однако теряет способность к половому размножению. При половом размножении макронуклеус разрушается, а затем заново восстанавливается из диплоидного зачат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Удаление ДНК иногда происходит и у млекопитающих, хотя и в меньших масштаб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ример, при дифференцировке кроветворных клеток в эритроциты из них полностью удаляется ядро  вместе  с  ДНК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омбоциты также   не   содержат   ДНК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 ядра и в клетках, из которых состоит хрусталик гл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?id=57589772-53-72&amp;n=21"/>
          <p:cNvPicPr/>
          <p:nvPr/>
        </p:nvPicPr>
        <p:blipFill>
          <a:blip r:embed="rId1"/>
          <a:stretch/>
        </p:blipFill>
        <p:spPr>
          <a:xfrm>
            <a:off x="1042920" y="1341360"/>
            <a:ext cx="3529080" cy="280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i?id=349910691-46-72&amp;n=21"/>
          <p:cNvPicPr/>
          <p:nvPr/>
        </p:nvPicPr>
        <p:blipFill>
          <a:blip r:embed="rId2"/>
          <a:stretch/>
        </p:blipFill>
        <p:spPr>
          <a:xfrm>
            <a:off x="4932360" y="1413000"/>
            <a:ext cx="3672000" cy="273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i?id=170684066-69-72&amp;n=21"/>
          <p:cNvPicPr/>
          <p:nvPr/>
        </p:nvPicPr>
        <p:blipFill>
          <a:blip r:embed="rId3"/>
          <a:stretch/>
        </p:blipFill>
        <p:spPr>
          <a:xfrm>
            <a:off x="3564000" y="4149720"/>
            <a:ext cx="2448000" cy="2087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стройки генома могут быть использованы клетками не только для необратимого выключения части генома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 и, наоборот, для включения генов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иболее сложные изменения генома происходят у млекопитающих при формировании механизмов иммунитет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(образование антител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лекула каждого иммуноглобулина состоит из </a:t>
            </a: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двух легких и двух тяжелых полипептидных цеп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Каждая из этих четырех цепей состоит из двух участков-</a:t>
            </a: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неизменяемог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одинакового у всех молеукул,и </a:t>
            </a: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вариабельног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изменяемого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личающегося у разных антите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Как можно закодировать такое большое разнообразие?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Гены иммуноглобулинов имеют прерывистую структуру ,отдельные участки лежат на некотором расстоянии друг от друга. Вариабельная часть кодируется 2или 3 типами последовательностей, каждая из которых состоит из нескольких блоков, которые отличаются друг от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стройки генома у прокари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стройки генома  у эукари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ммуноглобулиновые гены у млекопитающ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запрограммированные перестройки ген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43588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роение молекулы иммуноглобулина: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/ — неизменяемая часть молекулы;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вариабельная часть молекулы;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— тяжелая цепь;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легкая цепь;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— участок связывания антигена (активный цент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7201080" cy="3744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риабельные участки иммуноглобулина образуют 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активный центр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ител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й взаимодействует с антигено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ому пространственная структура активного центра создает необычайное разнообразие антител, которое может достигать нескольких миллионов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м же млекопитающих содержит всего несколько десятков тысяч ге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2"/>
          <p:cNvSpPr/>
          <p:nvPr/>
        </p:nvSpPr>
        <p:spPr>
          <a:xfrm>
            <a:off x="3124080" y="62373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921440" cy="504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39640" y="260280"/>
          <a:ext cx="8209080" cy="884160"/>
        </p:xfrm>
        <a:graphic>
          <a:graphicData uri="http://schemas.openxmlformats.org/drawingml/2006/table">
            <a:tbl>
              <a:tblPr/>
              <a:tblGrid>
                <a:gridCol w="8209080"/>
              </a:tblGrid>
              <a:tr h="8841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Courier New"/>
                        </a:rPr>
                        <a:t>Образование разнообразия антител с помощью перестроек ДНК при созревании лимфоцит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Rectangle 15"/>
          <p:cNvSpPr/>
          <p:nvPr/>
        </p:nvSpPr>
        <p:spPr>
          <a:xfrm>
            <a:off x="2762280" y="34264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95280" y="91548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ериод эмбрионального развития организма при размножении клеток—предшественниц лимфоцитов происходит выборочная репликация этих генов, при которой пропускаются некоторые из бло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езультате получаются клетки, отличающиеся друг от друга набором блоков, кодирующих легкие и тяжелые цепи иммуноглобулин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каждой из цепей возможно более тысячи вариантов сочетания бло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кольку гены для легкой и тяжелой цепей реплицируются независимо друг от друга, число сочетаний блоков в одной молекуле превышает несколько милли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тационный процесс создает дополнительный источник разнообразия структуры антител.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мфоцит с уже готовыми собранными генами может синтезировать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несколько различных антите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Поэтому для каждого поступающего в организм антигена находится лимфоцит, синтезирующий подходящее антитело, даже если организм с ним ранее не встречалс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Незапрограммированные перестройки геном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0360" cy="46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таким  перестройкам относят перемещения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мобильных генетических  элементов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(МГЭ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 Мак Клинток -лауреат Нобелевской премии , в результате генетических исследований  кукурузы  обнаружила возможность перемещения некоторых участков хромосом с одной хромосомы на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этом изменялось функционирование генов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оложенных рядом с перемещенным участ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новлено, что перемещаться могут не любые участки хромосом, а имеющие определенную структуру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бильные генетические элементы  обнаружены  у  всех  живых организм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эукариот они могут составлять до 10% всего генома кле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76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768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тя мобильные элементы в целом являются 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«генетическими паразитами»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зывая мутации в генетическом материале организма хозяина и понижая его приспособленность за счёт траты энергии на репликацию и синтез белков паразита, но они являются 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важным механизмом изменчивости и обмена генетическим материал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жду организмами одног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разными видам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запрограммированные и незапрограммированные перестройки гено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любой организм может ответить синтезом антител на попадание в него любого антиге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чего сохраняются две большие хромосомы в зародышевых клетках аскариды, если в них нет генов, нужных для развития и функционирования организ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68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68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4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тветитьна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768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768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4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6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ru.wikipedia.org/wiki/%C8%ED%F4%F3%E7%EE%F0%E8%FF-%F2%F3%F4%E5%EB%FC%EA%E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55640" y="1197000"/>
            <a:ext cx="572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ru.wikipedia.org/wiki/%D0%9C%D0%B8%D0%BA%D1%80%D0%BE%D0%BD%D1%83%D0%BA%D0%BB%D0%B5%D1%83%D1%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903600" y="2205000"/>
            <a:ext cx="45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edkarta.com/?cat=article&amp;id=260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84360" y="2708280"/>
            <a:ext cx="592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ru.wikipedia.org/wiki/%CC%EE%ED%EE%EA%EB%EE%ED%E0%EB%FC%ED%FB%E5_%E0%ED%F2%E8%F2%E5%EB%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539640" y="3716280"/>
            <a:ext cx="8352000" cy="30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ages.yandex.ru/yandsearch?text=%D1%80%D0%B0%D0%B7%D0%BD%D1%8B%D0%B5%20%D0%B0%D0%BD%D1%82%D0%B8%D1%82%D0%B5%D0%BB%D0%B0%20%D0%B2%20%D0%BA%D0%B0%D1%80%D1%82%D0%B8%D0%BD%D0%BA%D0%B0%D1%85&amp;stype=image&amp;lr=11230&amp;noreask=1&amp;source=wizhttp://ru.wikipedia.org/wiki/%D0%9C%D0%BE%D0%B1%D0%B8%D0%BB%D1%8C%D0%BD%D1%8B%D0%B5_%D0%B3%D0%B5%D0%BD%D0%B5%D1%82%D0%B8%D1%87%D0%B5%D1%81%D0%BA%D0%B8%D0%B5_%D1%8D%D0%BB%D0%B5%D0%BC%D0%B5%D0%BD%D1%82%D1%8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прокари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0010-010-Nadtsarstvo-Prokarioty"/>
          <p:cNvPicPr/>
          <p:nvPr/>
        </p:nvPicPr>
        <p:blipFill>
          <a:blip r:embed="rId1"/>
          <a:stretch/>
        </p:blipFill>
        <p:spPr>
          <a:xfrm>
            <a:off x="611280" y="1341360"/>
            <a:ext cx="8064360" cy="4962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Перестройка генома у прокари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ом прокариот проще, т.к.  у них меньше ге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прокариот нет некоторых этапов онтогенеза: эмбриогенеза и дифференци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: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регуляция деятельности генов значительно проще ,чем у эукари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ко, у бактерий при образовании спор в неблагоприятных условиях- происходят сложные перестройки ге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 бактерий в геноме присутствуют гены, ненужные в нормальных условиях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 необходимые   для   образование спо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и гены в обычных условиях    </a:t>
            </a:r>
            <a:r>
              <a:rPr b="0" lang="ru-RU" sz="3000" spc="-1" strike="noStrike">
                <a:solidFill>
                  <a:srgbClr val="990000"/>
                </a:solidFill>
                <a:latin typeface="Arial"/>
              </a:rPr>
              <a:t>«разорваны»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—    в   них вставлены участки ДНК длиной в несколько десятков тысяч  пар оснований, в результате чего эти гены работать не могут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гда возникает необходимость, внутренние участки с точностью до одного   нуклеотида   вырезают  специальным ферментом и   происходит   восстановление   рамки считывания ген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ижний колонтитул 3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36000" cy="56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ген фермента нитрогеназы у азотфиксирующих цианобактери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Этот фермент восстанавливает атмосферный азот до аммиака. Но кислород для него является ядом, поэтому фиксация азота происходит специальными толстостенными клетками, куда кислород не проникае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 нитрогеназы восстанавливается и может транскрибироваться только в этих специализированных клетках путем вырезания участков ДН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становление рамки считыван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геноме цианобактерии с помощью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езания участков ДН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993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800000"/>
                </a:solidFill>
                <a:latin typeface="Arial"/>
              </a:rPr>
              <a:t>Перестройка генома у эукарио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86612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номные перестройки, значительно более сложные, чем у прокарио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фференцированные клетки используют только небольшую часть генетической информации, содержащейся в ДНК. Остальная часть генома оказывается «лишней».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 многих случаях эта «лишняя» ДНК просто удаляется из клетки — происходит перестройка гено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68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68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68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68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800000"/>
                </a:solidFill>
                <a:latin typeface="Arial"/>
              </a:rPr>
              <a:t>Перестройка генома у эукарио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некоторых червей и членистоногих генетический материал полностью сохраняется только в генеративных клетк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лошадиной аскариды, например, в ходе эмбрионального развития происходит удаление части ДН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4:21:52Z</dcterms:created>
  <dc:creator>LUBOV</dc:creator>
  <dc:description/>
  <dc:language>en-US</dc:language>
  <cp:lastModifiedBy>Элина Индира</cp:lastModifiedBy>
  <dcterms:modified xsi:type="dcterms:W3CDTF">2020-08-21T17:59:11Z</dcterms:modified>
  <cp:revision>49</cp:revision>
  <dc:subject/>
  <dc:title>Перестройки генома в онтогенезе</dc:title>
</cp:coreProperties>
</file>