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35A-C666-468A-8B18-E7A6D590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D04-E33C-44EA-B789-BE2B0142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C8E-5786-41C7-9DDF-D936735A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8BD-ECDF-4FF7-9370-A4060BCA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52F9-B5C8-41B2-BAB5-CE07C677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99B0-7CAB-46C4-84C6-81B00887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2CFF-BBA7-4530-A545-05FD5911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DD7A-CEDB-4A86-A65E-E2EF6C32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4094-6F39-4EDA-9AE1-38A76B5C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A08D-DFAE-4238-A566-375FE870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FC54-9B7A-4E5D-B6B4-55D1488B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F4F-0BC9-46FD-801D-F772E1B1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BC13-B5B7-47B8-A04E-5931EAC1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F564-F9A3-47C0-BD91-58198570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00C3-8F5C-4C17-B71A-39C744C5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8940-200A-4CC0-AF18-5D2D31E0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84AE-0674-4448-9908-3DDAEEC4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EF1B8-2F19-4674-846C-8759DB92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68F28-5225-42C3-B105-17D62799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4808B-CCEE-4B9A-A2F1-7A9BB3C3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80984-3A89-4F26-A88A-84BD67FF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201DA-4295-4AAC-9C8D-41398C88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39C-929D-4B6C-A025-C30F9165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6F4BD-72EA-4D37-9BF6-4695E415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868D5-E5BC-4773-AC1A-C33A359D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38D0D-DDFC-4FB8-973A-46372697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C352D-D46F-4707-AA60-5D6B8A05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BB29D-E8E3-44DE-8D20-398FD5B5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39C43-15D3-4DE2-9E0C-E3AA5AF2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5010B-80E6-4764-8CC4-697CFDF0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F7E-29D7-4CE2-B04B-8E005E3B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579-3A4F-48E0-960C-F7CA2609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EF3-F937-45C8-84BD-70285BE5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4829-9138-4B82-97AA-97C5D036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804-9119-4FCA-BF0E-920070F7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ECE-5F59-4575-A46E-16B4ACE0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CC47-9929-48C7-947E-E6AC2F5DA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0F9F-AF44-4BDD-A196-CC251328E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5787-66D4-4446-AEAC-A8456C79B4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Кто нас защищае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80520" y="5562360"/>
            <a:ext cx="4496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ект подгото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еник 3«В» класса ВСШ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атских Ан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Государственные структуры осуществляющие защиту  государ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р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ужба пожарной охр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инистерство по чрезвычайным  ситуациям (МЧС Росси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Staccato222 BT"/>
              </a:rPr>
              <a:t>Рода войс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514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ухопутные войс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оенно-воздушные си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оенно-морской фло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90760" y="1295280"/>
            <a:ext cx="28191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акетные войска стратегического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знач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Воздушно-космическая обор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Воздушно-десантные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войс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2" descr="KR0L1440"/>
          <p:cNvPicPr/>
          <p:nvPr/>
        </p:nvPicPr>
        <p:blipFill>
          <a:blip r:embed="rId2"/>
          <a:stretch/>
        </p:blipFill>
        <p:spPr>
          <a:xfrm>
            <a:off x="1905120" y="1676520"/>
            <a:ext cx="2057400" cy="1195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vvs-promo3"/>
          <p:cNvPicPr/>
          <p:nvPr/>
        </p:nvPicPr>
        <p:blipFill>
          <a:blip r:embed="rId3"/>
          <a:stretch/>
        </p:blipFill>
        <p:spPr>
          <a:xfrm>
            <a:off x="2362320" y="3200400"/>
            <a:ext cx="1676160" cy="1247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SAV_8346"/>
          <p:cNvPicPr/>
          <p:nvPr/>
        </p:nvPicPr>
        <p:blipFill>
          <a:blip r:embed="rId4"/>
          <a:stretch/>
        </p:blipFill>
        <p:spPr>
          <a:xfrm>
            <a:off x="1295280" y="5105520"/>
            <a:ext cx="2238480" cy="1546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tm"/>
          <p:cNvPicPr/>
          <p:nvPr/>
        </p:nvPicPr>
        <p:blipFill>
          <a:blip r:embed="rId5"/>
          <a:stretch/>
        </p:blipFill>
        <p:spPr>
          <a:xfrm>
            <a:off x="6934320" y="1828800"/>
            <a:ext cx="2038320" cy="1523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oek-okno"/>
          <p:cNvPicPr/>
          <p:nvPr/>
        </p:nvPicPr>
        <p:blipFill>
          <a:blip r:embed="rId6"/>
          <a:stretch/>
        </p:blipFill>
        <p:spPr>
          <a:xfrm>
            <a:off x="6553080" y="3505320"/>
            <a:ext cx="2210040" cy="1566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2" descr="dsfgh2%29"/>
          <p:cNvPicPr/>
          <p:nvPr/>
        </p:nvPicPr>
        <p:blipFill>
          <a:blip r:embed="rId7"/>
          <a:stretch/>
        </p:blipFill>
        <p:spPr>
          <a:xfrm>
            <a:off x="6248520" y="5264280"/>
            <a:ext cx="2133360" cy="136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7631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аша армия родна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52280" y="1676520"/>
            <a:ext cx="87631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1905120"/>
            <a:ext cx="87631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28600" y="1447920"/>
            <a:ext cx="4419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ой воин береже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ной страны покой и славу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на посту, и наш народ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дится армией по праву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койно дети пусть расту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любимой солнечной Отчизн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охраняет мир и труд во имя жизни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утнева Е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" descr="Сержантов РВСН поголовно переведут на контракт"/>
          <p:cNvPicPr/>
          <p:nvPr/>
        </p:nvPicPr>
        <p:blipFill>
          <a:blip r:embed="rId2"/>
          <a:stretch/>
        </p:blipFill>
        <p:spPr>
          <a:xfrm>
            <a:off x="4572000" y="2209680"/>
            <a:ext cx="41911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оли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xAxXmlQbrt-800x600"/>
          <p:cNvPicPr/>
          <p:nvPr/>
        </p:nvPicPr>
        <p:blipFill>
          <a:blip r:embed="rId2"/>
          <a:stretch/>
        </p:blipFill>
        <p:spPr>
          <a:xfrm>
            <a:off x="304920" y="2057400"/>
            <a:ext cx="4038480" cy="3505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х, что сражались на фронтах Великой Отечественной вой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х, кто в наши дни борется с терроризм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х, кто обезвреживает опасных преступн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х, кто спасает попавших в беду люде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7" descr="i?id=82586125-28-72&amp;n=17"/>
          <p:cNvPicPr/>
          <p:nvPr/>
        </p:nvPicPr>
        <p:blipFill>
          <a:blip r:embed="rId3"/>
          <a:stretch/>
        </p:blipFill>
        <p:spPr>
          <a:xfrm>
            <a:off x="304920" y="22860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ожарная охран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560" y="2057400"/>
            <a:ext cx="51051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сутками сутки и ночью, и дн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товы пожарные к битве с огн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нету на службе секунды для с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кунды – у них дорогая цен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48002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11" descr="777"/>
          <p:cNvPicPr/>
          <p:nvPr/>
        </p:nvPicPr>
        <p:blipFill>
          <a:blip r:embed="rId2"/>
          <a:stretch/>
        </p:blipFill>
        <p:spPr>
          <a:xfrm>
            <a:off x="225360" y="0"/>
            <a:ext cx="1803600" cy="1828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Национальный союз организаций в области обеспечения пожарной безопасности - Новости"/>
          <p:cNvPicPr/>
          <p:nvPr/>
        </p:nvPicPr>
        <p:blipFill>
          <a:blip r:embed="rId3"/>
          <a:stretch/>
        </p:blipFill>
        <p:spPr>
          <a:xfrm>
            <a:off x="5181480" y="1828800"/>
            <a:ext cx="3048120" cy="2038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30 апреля - день пожарной охраны"/>
          <p:cNvPicPr/>
          <p:nvPr/>
        </p:nvPicPr>
        <p:blipFill>
          <a:blip r:embed="rId4"/>
          <a:stretch/>
        </p:blipFill>
        <p:spPr>
          <a:xfrm>
            <a:off x="5105520" y="4114800"/>
            <a:ext cx="3105000" cy="2284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Fire fighter Picture Gallery - Photo Gallery - Images"/>
          <p:cNvPicPr/>
          <p:nvPr/>
        </p:nvPicPr>
        <p:blipFill>
          <a:blip r:embed="rId5"/>
          <a:stretch/>
        </p:blipFill>
        <p:spPr>
          <a:xfrm>
            <a:off x="990720" y="4114800"/>
            <a:ext cx="35812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ЧС Ро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051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егодня МЧС России – это  более 300 тысяч человек личного состава, это суперсовременная техника , которые делают  структуру эффективной, мощной, способной противостоять любым угрозам природного и техногенного характера, реально помочь людя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285"/>
          <p:cNvPicPr/>
          <p:nvPr/>
        </p:nvPicPr>
        <p:blipFill>
          <a:blip r:embed="rId2"/>
          <a:stretch/>
        </p:blipFill>
        <p:spPr>
          <a:xfrm>
            <a:off x="3962520" y="2057400"/>
            <a:ext cx="4952880" cy="4010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i?id=243183621-14-72&amp;n=17"/>
          <p:cNvPicPr/>
          <p:nvPr/>
        </p:nvPicPr>
        <p:blipFill>
          <a:blip r:embed="rId3"/>
          <a:stretch/>
        </p:blipFill>
        <p:spPr>
          <a:xfrm>
            <a:off x="457200" y="304920"/>
            <a:ext cx="13143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Честь и хвала людям, берегущим мир на земл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14:43:45Z</dcterms:created>
  <dc:creator>HOME</dc:creator>
  <dc:description/>
  <dc:language>en-US</dc:language>
  <cp:lastModifiedBy>Марго</cp:lastModifiedBy>
  <dcterms:modified xsi:type="dcterms:W3CDTF">2015-01-26T18:34:54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