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113F-2A15-42B0-8EFA-C280D125E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E772-FAFE-4597-8FC5-926F222385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94DC-EF65-4FC2-A22C-D17929F7A5B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879D-23AC-4F67-B995-7C5E7B3D4A4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3691-EF97-4D17-8A88-BDA8AAF5FC3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6E6A-CDD4-4E89-BD42-5E75121CA3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BB21-3730-4172-9C46-C1B3780C19C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3E5D5-EC5F-47DF-826D-68F8C5CBB2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0331-320C-4FD9-87BB-FF5B47D6554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FC22-A2F1-4BC6-BA0E-1962F148E7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63C9-67D3-47A9-A6D1-B3CED640D80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DAC1D-A8D7-49A2-9B05-E1EC20E31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AB4A-67B0-472C-A560-D679F929D2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D2838-9FBB-4154-B679-B3875EE10B9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782F1-B2B4-4C1E-BC65-E78016F0B7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7B96B-24AA-42AA-99B9-47BA1D35DFF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5939BE-272C-4487-BB73-62829A61108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531B9-7B3E-46CD-83F6-15066A0DF0A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3B636-1B01-4380-B8B5-C596E866476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280B2-9680-4676-B9CF-6C46044D01C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6E1A9-6F60-4D90-B056-50F6BC08CAC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26241-057E-4067-8F27-85A5515AE2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4C612-3073-4909-BD39-B09BD8EA0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973A-0FF7-4344-ADB2-695AC0CBBCB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318DC-F6A9-4FE4-B1DF-5BE64864E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243A-194B-45AF-9F3D-D460DCE33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2440-BD26-4815-AC37-11BD613F19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59C9-0652-4110-B853-1D4DEECCAA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6904-9D4C-400A-BB04-B239758D2F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A0B6-6BE0-45EE-9CB0-DB331775FB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B31A-38F8-4C54-A77D-47673B98FC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B1E2-35F0-4FC1-9F43-909553F5E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6589-8DC2-44AF-8E41-719AED325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390B-9F2F-4869-AD66-959DAA9A16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D99A-AF75-440A-B276-5B2E6D8392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8BC3-7A7A-4998-934F-C43DB91D1E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4AC9-0C11-4F3C-B028-0C816F6B7C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FA7D-E85F-48E8-BC3F-20298368C3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ADC-E394-47CC-8C0E-A81A448B09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7A0-7CE3-4C31-B31C-4A6D58C2B6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8B4-7950-4682-B505-7D20F144B3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1A5-9934-4F5C-8759-03FD70FB79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990-EB7A-4CB6-9E8C-AFD949E9A8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5787-35ED-4BB9-9942-4775117C5D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CB6-8917-42FC-8C97-EE47E013AF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1E0-F041-47A0-A9B7-8A9AA067CF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6C5-E8A4-47FA-BE33-ABFFB460E2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ADB-E803-4EB8-8339-E73B7EA0C9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599-1048-4380-8B55-EE297A92FB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BE1-DA6B-494D-91FE-2E6070A7D4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1B9-9DF7-4FF3-9C8F-23F129B25A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F3323-77FA-4E6E-8BB0-728030004B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A964F-148F-45ED-93F6-564164E742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12D26-C6B2-4C36-9377-E65FE6787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5164-140B-499F-8EC8-54649ED1CA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149B2-12C9-49CD-862A-895D0F0C4D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2D567-5E95-45BF-8291-1AE244DC2B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664CA-0947-477B-A281-1659E611A9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CEE11-FBB7-4317-8B09-55627F5E25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937AA-DD5E-451D-B966-12EF2775B9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FA767-ED2E-4C62-9061-6B0732B10A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27E4B-42D0-4991-8B76-D68D0A9AE6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A85B4-E341-4FE4-B8D3-EF82C05883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B4CBB-01E3-49BF-A609-0DBE9ADF7A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20DD2-C4BB-4551-BFD6-37575EFE4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A013-C6FB-4467-8E1B-21689BFF58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CDB3B-ED70-41D0-81BA-01DE24F90A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56D78-A144-4FE1-8F2D-ABC55B64B5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18A57-E99A-465E-B078-448A52A5E6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B2519-9DDF-4501-BAA7-5063B9835EA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99F0B-D2D9-4F55-92E5-069D394966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F48B9-9C1F-4B7D-829F-24BA797DCB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4E615-5053-4F77-BB23-1F2554B955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0CFEC-B332-49A0-9EA6-AC530873BAE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E5665-F33B-4ABA-98A0-CD8C0112C2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5268B-3DE1-4FD6-95C0-833B87B9D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5A6C-66C6-4D19-AAA1-0BBBC9580F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9BFB1-DA17-4C51-8122-9894BB45E0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9FFB-2FC4-4296-8345-695BBC5CCF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FB8A-8922-4981-A17A-624945EA76F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2520-2E5D-4959-9CB3-3F72D640C35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C2B2-0740-41EE-9230-0343D1722D0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DCA7-422C-443B-96FE-D101A3F3C1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6AC6-270C-42AC-AFC6-CDF1CA67E11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1E3F-26CB-4E53-A211-8B2DF4533EA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43E8-45B2-4E38-A917-03CB8D8995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1647-A566-413B-96F3-B0B615C5E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DD85-45ED-43D7-B1EF-B8E26B994E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D580-DFFC-4319-91C3-398CE472A3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2A54-9636-4556-A9EC-48FCD8C4D8A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9A1D-163A-4D5E-9420-5A58E11ABA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A7847-FA19-4124-822F-A1DAD53253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5886B-4891-4FB9-846C-779EEC2311C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1BB360-DCBF-4F5D-A174-AA60983316F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7D76AA-BF3D-43C9-9579-4D86EBF1AE5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6F9C9-C5C8-4A31-BCAE-F3A7105675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5294C3-2AE9-44C5-9213-D8EE8DA6C47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A61632-580B-41F2-B6FD-3846BB691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C1B6-F70C-4434-9B41-034BAA9AA9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7B1EB-A2F1-418D-93D5-5B5F0BFCEE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A6E56-E41D-406E-8057-FC064D48DDB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E79E9-F53E-49A6-97AD-2864ACC99D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F5D15E-93D8-44DF-901C-BDFA06D078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E4884-704A-476A-9472-063467940C2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CB845-F60B-4330-B50B-3DEFB437B3C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D4CA1-5FAC-46AA-B9B0-46F7A135131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BABFF-E521-4B2D-B061-7AD5BABF153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730C1-B070-467D-926B-BD090836BD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A68B0-13C3-4BBB-BFB0-BC93F1F49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C82C-D1CF-49EE-B0D5-BBB8BFEB33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B51A0-FA1B-45D6-A599-86F2BD6B5AB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F7005-9AD5-4456-B115-6CAEB55A936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052DF-E235-46B7-97AB-25F29CD645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18561-120F-4C64-A258-DED22049DB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4651C-13BF-4438-9617-4A57EE69A30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B52A2-EB62-4E1D-9894-8B184DB6A0F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FFA40-72B7-4D22-9C7A-386D3ABA83E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B1F4-C088-47A4-A31C-E1F5FB02D0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3EC6-FF44-4732-B6F8-2D88C1E72E9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0DD9-FD64-48E9-9FE3-CFF8B96A3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AB01E9-0072-4913-A4D9-3B202E80F24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2173C1-FF91-4F07-A7AB-015D816F9E2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05FF66-A4E3-4234-9411-59B32341F5D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991EF7-89FB-4ECB-A256-3A3B8BC0201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9F1450-88F5-459F-A6D3-E1BB59D8FF9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F12FAC-94E2-4C91-86A5-810DF8CF110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C41F2D-2EC0-4B35-8819-47621AFFF1C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CA83A5-C266-428B-9E45-EDFEB3B3550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B2273B-16B8-4D06-99AA-3CDAC4C8F8C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8E476B-1B42-47F4-A4A6-8C775C48243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0.wmf"/><Relationship Id="rId12" Type="http://schemas.openxmlformats.org/officeDocument/2006/relationships/image" Target="../media/image30.wmf"/><Relationship Id="rId13" Type="http://schemas.openxmlformats.org/officeDocument/2006/relationships/image" Target="../media/image30.wmf"/><Relationship Id="rId14" Type="http://schemas.openxmlformats.org/officeDocument/2006/relationships/image" Target="../media/image30.wmf"/><Relationship Id="rId15" Type="http://schemas.openxmlformats.org/officeDocument/2006/relationships/image" Target="../media/image30.wmf"/><Relationship Id="rId16" Type="http://schemas.openxmlformats.org/officeDocument/2006/relationships/image" Target="../media/image30.wmf"/><Relationship Id="rId17" Type="http://schemas.openxmlformats.org/officeDocument/2006/relationships/image" Target="../media/image30.wmf"/><Relationship Id="rId18" Type="http://schemas.openxmlformats.org/officeDocument/2006/relationships/image" Target="../media/image30.wmf"/><Relationship Id="rId19" Type="http://schemas.openxmlformats.org/officeDocument/2006/relationships/image" Target="../media/image30.wmf"/><Relationship Id="rId20" Type="http://schemas.openxmlformats.org/officeDocument/2006/relationships/image" Target="../media/image30.wmf"/><Relationship Id="rId21" Type="http://schemas.openxmlformats.org/officeDocument/2006/relationships/image" Target="../media/image30.wmf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raskraska13.exe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" descr=""/>
          <p:cNvPicPr/>
          <p:nvPr/>
        </p:nvPicPr>
        <p:blipFill>
          <a:blip r:embed="rId1"/>
          <a:stretch/>
        </p:blipFill>
        <p:spPr>
          <a:xfrm>
            <a:off x="396720" y="1285920"/>
            <a:ext cx="879660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826920" y="3971880"/>
            <a:ext cx="19242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487" name="Group 3"/>
          <p:cNvGrpSpPr/>
          <p:nvPr/>
        </p:nvGrpSpPr>
        <p:grpSpPr>
          <a:xfrm>
            <a:off x="7054920" y="4037040"/>
            <a:ext cx="2087640" cy="2819520"/>
            <a:chOff x="7054920" y="4037040"/>
            <a:chExt cx="2087640" cy="2819520"/>
          </a:xfrm>
        </p:grpSpPr>
        <p:pic>
          <p:nvPicPr>
            <p:cNvPr id="488" name="Picture 4" descr=""/>
            <p:cNvPicPr/>
            <p:nvPr/>
          </p:nvPicPr>
          <p:blipFill>
            <a:blip r:embed="rId3"/>
            <a:stretch/>
          </p:blipFill>
          <p:spPr>
            <a:xfrm>
              <a:off x="7054920" y="4037040"/>
              <a:ext cx="2087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5" descr=""/>
            <p:cNvPicPr/>
            <p:nvPr/>
          </p:nvPicPr>
          <p:blipFill>
            <a:blip r:embed="rId4"/>
            <a:stretch/>
          </p:blipFill>
          <p:spPr>
            <a:xfrm>
              <a:off x="7443720" y="4840200"/>
              <a:ext cx="1309680" cy="183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1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1871640"/>
          </a:xfrm>
          <a:prstGeom prst="rect">
            <a:avLst/>
          </a:prstGeom>
          <a:ln w="0">
            <a:noFill/>
          </a:ln>
        </p:spPr>
      </p:pic>
      <p:cxnSp>
        <p:nvCxnSpPr>
          <p:cNvPr id="491" name="AutoShape 2"/>
          <p:cNvCxnSpPr/>
          <p:nvPr/>
        </p:nvCxnSpPr>
        <p:spPr>
          <a:xfrm flipH="1">
            <a:off x="2266560" y="2205000"/>
            <a:ext cx="1512000" cy="7912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3"/>
          <p:cNvCxnSpPr/>
          <p:nvPr/>
        </p:nvCxnSpPr>
        <p:spPr>
          <a:xfrm>
            <a:off x="7164360" y="2133360"/>
            <a:ext cx="721440" cy="11516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3" name="Rectangle 4"/>
          <p:cNvSpPr/>
          <p:nvPr/>
        </p:nvSpPr>
        <p:spPr>
          <a:xfrm>
            <a:off x="250920" y="11271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раем  смену слайд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рать вкладку «Анимация» в разделе «Смена слайдов»  убрать галочк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0" y="457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250920" y="189000"/>
            <a:ext cx="86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ажно при работе с триггер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 макросом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539640" y="4370400"/>
            <a:ext cx="860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рехода на другой слайд необходимо вставить управляющую кнопку 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ка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ы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яющие кнопк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щая кнопка:дал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8">
            <a:hlinkClick r:id="" action="ppaction://hlinkshowjump?jump=nextslide"/>
          </p:cNvPr>
          <p:cNvSpPr/>
          <p:nvPr/>
        </p:nvSpPr>
        <p:spPr>
          <a:xfrm>
            <a:off x="3348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120636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2"/>
          <p:cNvSpPr/>
          <p:nvPr/>
        </p:nvSpPr>
        <p:spPr>
          <a:xfrm>
            <a:off x="250920" y="98100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ггер - средство анимации, позволяющее задать условие действия или времени выделенному элемент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этом анимация запуска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щелч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3"/>
          <p:cNvGrpSpPr/>
          <p:nvPr/>
        </p:nvGrpSpPr>
        <p:grpSpPr>
          <a:xfrm>
            <a:off x="6227640" y="3068640"/>
            <a:ext cx="2087640" cy="2819520"/>
            <a:chOff x="6227640" y="3068640"/>
            <a:chExt cx="2087640" cy="2819520"/>
          </a:xfrm>
        </p:grpSpPr>
        <p:pic>
          <p:nvPicPr>
            <p:cNvPr id="501" name="Picture 4" descr=""/>
            <p:cNvPicPr/>
            <p:nvPr/>
          </p:nvPicPr>
          <p:blipFill>
            <a:blip r:embed="rId2"/>
            <a:stretch/>
          </p:blipFill>
          <p:spPr>
            <a:xfrm>
              <a:off x="6227640" y="3068640"/>
              <a:ext cx="2087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5" descr=""/>
            <p:cNvPicPr/>
            <p:nvPr/>
          </p:nvPicPr>
          <p:blipFill>
            <a:blip r:embed="rId3"/>
            <a:stretch/>
          </p:blipFill>
          <p:spPr>
            <a:xfrm>
              <a:off x="6613560" y="3870360"/>
              <a:ext cx="1309680" cy="183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amond/>
  </p:transition>
  <p:timing>
    <p:tnLst>
      <p:par>
        <p:cTn id="27" dur="indefinite" restart="never" nodeType="tmRoot">
          <p:childTnLst>
            <p:par>
              <p:cTn id="28" nodeType="interactiveSeq" fill="hold">
                <p:childTnLst>
                  <p:par>
                    <p:cTn id="29" fill="hold"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Oval 1"/>
          <p:cNvSpPr/>
          <p:nvPr/>
        </p:nvSpPr>
        <p:spPr>
          <a:xfrm>
            <a:off x="4284720" y="333360"/>
            <a:ext cx="1079280" cy="1008000"/>
          </a:xfrm>
          <a:prstGeom prst="ellipse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Oval 2"/>
          <p:cNvSpPr/>
          <p:nvPr/>
        </p:nvSpPr>
        <p:spPr>
          <a:xfrm>
            <a:off x="4356000" y="1916280"/>
            <a:ext cx="1081080" cy="1008000"/>
          </a:xfrm>
          <a:prstGeom prst="ellipse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Oval 3"/>
          <p:cNvSpPr/>
          <p:nvPr/>
        </p:nvSpPr>
        <p:spPr>
          <a:xfrm>
            <a:off x="4284720" y="4005360"/>
            <a:ext cx="1081080" cy="1008000"/>
          </a:xfrm>
          <a:prstGeom prst="ellipse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4"/>
          <p:cNvGrpSpPr/>
          <p:nvPr/>
        </p:nvGrpSpPr>
        <p:grpSpPr>
          <a:xfrm>
            <a:off x="0" y="1773360"/>
            <a:ext cx="3887640" cy="1539720"/>
            <a:chOff x="0" y="1773360"/>
            <a:chExt cx="3887640" cy="1539720"/>
          </a:xfrm>
        </p:grpSpPr>
        <p:sp>
          <p:nvSpPr>
            <p:cNvPr id="507" name="Rectangle 5"/>
            <p:cNvSpPr/>
            <p:nvPr/>
          </p:nvSpPr>
          <p:spPr>
            <a:xfrm>
              <a:off x="0" y="1773360"/>
              <a:ext cx="3887640" cy="1526760"/>
            </a:xfrm>
            <a:prstGeom prst="rect">
              <a:avLst/>
            </a:prstGeom>
            <a:solidFill>
              <a:srgbClr val="4f81bd"/>
            </a:solidFill>
            <a:ln cap="sq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8" name="Picture 6" descr=""/>
            <p:cNvPicPr/>
            <p:nvPr/>
          </p:nvPicPr>
          <p:blipFill>
            <a:blip r:embed="rId1"/>
            <a:stretch/>
          </p:blipFill>
          <p:spPr>
            <a:xfrm rot="3000000">
              <a:off x="285120" y="2178720"/>
              <a:ext cx="107892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7" descr=""/>
            <p:cNvPicPr/>
            <p:nvPr/>
          </p:nvPicPr>
          <p:blipFill>
            <a:blip r:embed="rId2"/>
            <a:stretch/>
          </p:blipFill>
          <p:spPr>
            <a:xfrm rot="3000000">
              <a:off x="1508760" y="2106360"/>
              <a:ext cx="107892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8" descr=""/>
            <p:cNvPicPr/>
            <p:nvPr/>
          </p:nvPicPr>
          <p:blipFill>
            <a:blip r:embed="rId3"/>
            <a:stretch/>
          </p:blipFill>
          <p:spPr>
            <a:xfrm rot="3000000">
              <a:off x="2588040" y="2032560"/>
              <a:ext cx="1079280" cy="87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" name="Group 9"/>
          <p:cNvGrpSpPr/>
          <p:nvPr/>
        </p:nvGrpSpPr>
        <p:grpSpPr>
          <a:xfrm>
            <a:off x="5690520" y="1773360"/>
            <a:ext cx="3451680" cy="1438200"/>
            <a:chOff x="5690520" y="1773360"/>
            <a:chExt cx="3451680" cy="1438200"/>
          </a:xfrm>
        </p:grpSpPr>
        <p:sp>
          <p:nvSpPr>
            <p:cNvPr id="512" name="Rectangle 10"/>
            <p:cNvSpPr/>
            <p:nvPr/>
          </p:nvSpPr>
          <p:spPr>
            <a:xfrm>
              <a:off x="5724360" y="1773360"/>
              <a:ext cx="3417840" cy="1438200"/>
            </a:xfrm>
            <a:prstGeom prst="rect">
              <a:avLst/>
            </a:prstGeom>
            <a:solidFill>
              <a:srgbClr val="4f81bd"/>
            </a:solidFill>
            <a:ln cap="sq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3" name="Picture 11" descr=""/>
            <p:cNvPicPr/>
            <p:nvPr/>
          </p:nvPicPr>
          <p:blipFill>
            <a:blip r:embed="rId4"/>
            <a:stretch/>
          </p:blipFill>
          <p:spPr>
            <a:xfrm rot="17280000">
              <a:off x="5743800" y="1975320"/>
              <a:ext cx="10666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2" descr=""/>
            <p:cNvPicPr/>
            <p:nvPr/>
          </p:nvPicPr>
          <p:blipFill>
            <a:blip r:embed="rId5"/>
            <a:stretch/>
          </p:blipFill>
          <p:spPr>
            <a:xfrm rot="17340000">
              <a:off x="6477840" y="1980000"/>
              <a:ext cx="10666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3" descr=""/>
            <p:cNvPicPr/>
            <p:nvPr/>
          </p:nvPicPr>
          <p:blipFill>
            <a:blip r:embed="rId6"/>
            <a:stretch/>
          </p:blipFill>
          <p:spPr>
            <a:xfrm rot="16860000">
              <a:off x="7292880" y="1939320"/>
              <a:ext cx="106704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4" descr=""/>
            <p:cNvPicPr/>
            <p:nvPr/>
          </p:nvPicPr>
          <p:blipFill>
            <a:blip r:embed="rId7"/>
            <a:stretch/>
          </p:blipFill>
          <p:spPr>
            <a:xfrm rot="16200000">
              <a:off x="7926480" y="1935720"/>
              <a:ext cx="1066680" cy="88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Group 15"/>
          <p:cNvGrpSpPr/>
          <p:nvPr/>
        </p:nvGrpSpPr>
        <p:grpSpPr>
          <a:xfrm>
            <a:off x="0" y="3500280"/>
            <a:ext cx="3959280" cy="2302200"/>
            <a:chOff x="0" y="3500280"/>
            <a:chExt cx="3959280" cy="2302200"/>
          </a:xfrm>
        </p:grpSpPr>
        <p:sp>
          <p:nvSpPr>
            <p:cNvPr id="518" name="Rectangle 16"/>
            <p:cNvSpPr/>
            <p:nvPr/>
          </p:nvSpPr>
          <p:spPr>
            <a:xfrm>
              <a:off x="0" y="3500280"/>
              <a:ext cx="3959280" cy="2302200"/>
            </a:xfrm>
            <a:prstGeom prst="rect">
              <a:avLst/>
            </a:prstGeom>
            <a:solidFill>
              <a:srgbClr val="00ffcc"/>
            </a:solidFill>
            <a:ln cap="sq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9" name="Picture 17" descr=""/>
            <p:cNvPicPr/>
            <p:nvPr/>
          </p:nvPicPr>
          <p:blipFill>
            <a:blip r:embed="rId8"/>
            <a:stretch/>
          </p:blipFill>
          <p:spPr>
            <a:xfrm>
              <a:off x="318960" y="4711680"/>
              <a:ext cx="85572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18" descr=""/>
            <p:cNvPicPr/>
            <p:nvPr/>
          </p:nvPicPr>
          <p:blipFill>
            <a:blip r:embed="rId9"/>
            <a:stretch/>
          </p:blipFill>
          <p:spPr>
            <a:xfrm>
              <a:off x="247680" y="3639960"/>
              <a:ext cx="85572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19" descr=""/>
            <p:cNvPicPr/>
            <p:nvPr/>
          </p:nvPicPr>
          <p:blipFill>
            <a:blip r:embed="rId10"/>
            <a:stretch/>
          </p:blipFill>
          <p:spPr>
            <a:xfrm>
              <a:off x="1247760" y="3639960"/>
              <a:ext cx="85572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20" descr=""/>
            <p:cNvPicPr/>
            <p:nvPr/>
          </p:nvPicPr>
          <p:blipFill>
            <a:blip r:embed="rId11"/>
            <a:stretch/>
          </p:blipFill>
          <p:spPr>
            <a:xfrm>
              <a:off x="1247760" y="4711680"/>
              <a:ext cx="85572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1" descr=""/>
            <p:cNvPicPr/>
            <p:nvPr/>
          </p:nvPicPr>
          <p:blipFill>
            <a:blip r:embed="rId12"/>
            <a:stretch/>
          </p:blipFill>
          <p:spPr>
            <a:xfrm>
              <a:off x="2247840" y="3639960"/>
              <a:ext cx="85572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22" descr=""/>
            <p:cNvPicPr/>
            <p:nvPr/>
          </p:nvPicPr>
          <p:blipFill>
            <a:blip r:embed="rId13"/>
            <a:stretch/>
          </p:blipFill>
          <p:spPr>
            <a:xfrm>
              <a:off x="2247840" y="4711680"/>
              <a:ext cx="85572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23" descr=""/>
            <p:cNvPicPr/>
            <p:nvPr/>
          </p:nvPicPr>
          <p:blipFill>
            <a:blip r:embed="rId14"/>
            <a:stretch/>
          </p:blipFill>
          <p:spPr>
            <a:xfrm>
              <a:off x="3033720" y="4140360"/>
              <a:ext cx="855720" cy="83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Group 24"/>
          <p:cNvGrpSpPr/>
          <p:nvPr/>
        </p:nvGrpSpPr>
        <p:grpSpPr>
          <a:xfrm>
            <a:off x="5715000" y="3429000"/>
            <a:ext cx="3427560" cy="2212920"/>
            <a:chOff x="5715000" y="3429000"/>
            <a:chExt cx="3427560" cy="2212920"/>
          </a:xfrm>
        </p:grpSpPr>
        <p:sp>
          <p:nvSpPr>
            <p:cNvPr id="527" name="Rectangle 25"/>
            <p:cNvSpPr/>
            <p:nvPr/>
          </p:nvSpPr>
          <p:spPr>
            <a:xfrm>
              <a:off x="5715000" y="3429000"/>
              <a:ext cx="3427560" cy="2212920"/>
            </a:xfrm>
            <a:prstGeom prst="rect">
              <a:avLst/>
            </a:prstGeom>
            <a:solidFill>
              <a:srgbClr val="00ffcc"/>
            </a:solidFill>
            <a:ln cap="sq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8" name="Picture 26" descr=""/>
            <p:cNvPicPr/>
            <p:nvPr/>
          </p:nvPicPr>
          <p:blipFill>
            <a:blip r:embed="rId15"/>
            <a:stretch/>
          </p:blipFill>
          <p:spPr>
            <a:xfrm>
              <a:off x="8286840" y="3645000"/>
              <a:ext cx="8557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27" descr=""/>
            <p:cNvPicPr/>
            <p:nvPr/>
          </p:nvPicPr>
          <p:blipFill>
            <a:blip r:embed="rId16"/>
            <a:stretch/>
          </p:blipFill>
          <p:spPr>
            <a:xfrm>
              <a:off x="7358040" y="3645000"/>
              <a:ext cx="8557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28" descr=""/>
            <p:cNvPicPr/>
            <p:nvPr/>
          </p:nvPicPr>
          <p:blipFill>
            <a:blip r:embed="rId17"/>
            <a:stretch/>
          </p:blipFill>
          <p:spPr>
            <a:xfrm>
              <a:off x="6429240" y="3645000"/>
              <a:ext cx="8557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29" descr=""/>
            <p:cNvPicPr/>
            <p:nvPr/>
          </p:nvPicPr>
          <p:blipFill>
            <a:blip r:embed="rId18"/>
            <a:stretch/>
          </p:blipFill>
          <p:spPr>
            <a:xfrm>
              <a:off x="8286840" y="4716360"/>
              <a:ext cx="85572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30" descr=""/>
            <p:cNvPicPr/>
            <p:nvPr/>
          </p:nvPicPr>
          <p:blipFill>
            <a:blip r:embed="rId19"/>
            <a:stretch/>
          </p:blipFill>
          <p:spPr>
            <a:xfrm>
              <a:off x="7429680" y="4788000"/>
              <a:ext cx="85536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31" descr=""/>
            <p:cNvPicPr/>
            <p:nvPr/>
          </p:nvPicPr>
          <p:blipFill>
            <a:blip r:embed="rId20"/>
            <a:stretch/>
          </p:blipFill>
          <p:spPr>
            <a:xfrm>
              <a:off x="6500880" y="4788000"/>
              <a:ext cx="8557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2" descr=""/>
            <p:cNvPicPr/>
            <p:nvPr/>
          </p:nvPicPr>
          <p:blipFill>
            <a:blip r:embed="rId21"/>
            <a:stretch/>
          </p:blipFill>
          <p:spPr>
            <a:xfrm>
              <a:off x="5786280" y="4287960"/>
              <a:ext cx="85572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" name="Rectangle 33"/>
          <p:cNvSpPr/>
          <p:nvPr/>
        </p:nvSpPr>
        <p:spPr>
          <a:xfrm>
            <a:off x="5786280" y="0"/>
            <a:ext cx="3357720" cy="159552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34" descr=""/>
          <p:cNvPicPr/>
          <p:nvPr/>
        </p:nvPicPr>
        <p:blipFill>
          <a:blip r:embed="rId22"/>
          <a:stretch/>
        </p:blipFill>
        <p:spPr>
          <a:xfrm>
            <a:off x="7912080" y="189000"/>
            <a:ext cx="933480" cy="1079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5" descr=""/>
          <p:cNvPicPr/>
          <p:nvPr/>
        </p:nvPicPr>
        <p:blipFill>
          <a:blip r:embed="rId23"/>
          <a:stretch/>
        </p:blipFill>
        <p:spPr>
          <a:xfrm>
            <a:off x="6973920" y="476280"/>
            <a:ext cx="950760" cy="1071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6" descr=""/>
          <p:cNvPicPr/>
          <p:nvPr/>
        </p:nvPicPr>
        <p:blipFill>
          <a:blip r:embed="rId24"/>
          <a:stretch/>
        </p:blipFill>
        <p:spPr>
          <a:xfrm>
            <a:off x="5967360" y="115920"/>
            <a:ext cx="933480" cy="107964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37"/>
          <p:cNvSpPr/>
          <p:nvPr/>
        </p:nvSpPr>
        <p:spPr>
          <a:xfrm>
            <a:off x="0" y="0"/>
            <a:ext cx="3960720" cy="151272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38" descr=""/>
          <p:cNvPicPr/>
          <p:nvPr/>
        </p:nvPicPr>
        <p:blipFill>
          <a:blip r:embed="rId25"/>
          <a:stretch/>
        </p:blipFill>
        <p:spPr>
          <a:xfrm>
            <a:off x="2077920" y="401760"/>
            <a:ext cx="951120" cy="10731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9" descr=""/>
          <p:cNvPicPr/>
          <p:nvPr/>
        </p:nvPicPr>
        <p:blipFill>
          <a:blip r:embed="rId26"/>
          <a:stretch/>
        </p:blipFill>
        <p:spPr>
          <a:xfrm>
            <a:off x="1359000" y="115920"/>
            <a:ext cx="950760" cy="10731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0" descr=""/>
          <p:cNvPicPr/>
          <p:nvPr/>
        </p:nvPicPr>
        <p:blipFill>
          <a:blip r:embed="rId27"/>
          <a:stretch/>
        </p:blipFill>
        <p:spPr>
          <a:xfrm>
            <a:off x="639720" y="476280"/>
            <a:ext cx="933480" cy="1077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1" descr=""/>
          <p:cNvPicPr/>
          <p:nvPr/>
        </p:nvPicPr>
        <p:blipFill>
          <a:blip r:embed="rId28"/>
          <a:stretch/>
        </p:blipFill>
        <p:spPr>
          <a:xfrm>
            <a:off x="-115920" y="115920"/>
            <a:ext cx="951120" cy="10731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42"/>
          <p:cNvSpPr/>
          <p:nvPr/>
        </p:nvSpPr>
        <p:spPr>
          <a:xfrm>
            <a:off x="3564000" y="580536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 rot="10800000">
            <a:off x="5294160" y="581940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 rot="10800000">
            <a:off x="4428720" y="581940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45">
            <a:hlinkClick r:id="" action="ppaction://hlinkshowjump?jump=nextslide"/>
          </p:cNvPr>
          <p:cNvSpPr/>
          <p:nvPr/>
        </p:nvSpPr>
        <p:spPr>
          <a:xfrm>
            <a:off x="8567640" y="628164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6" descr=""/>
          <p:cNvPicPr/>
          <p:nvPr/>
        </p:nvPicPr>
        <p:blipFill>
          <a:blip r:embed="rId29"/>
          <a:stretch/>
        </p:blipFill>
        <p:spPr>
          <a:xfrm>
            <a:off x="2944800" y="115920"/>
            <a:ext cx="950760" cy="1073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33" dur="indefinite" restart="never" nodeType="tmRoot">
          <p:childTnLst>
            <p:par>
              <p:cTn id="34" nodeType="interactiveSeq" fill="hold">
                <p:childTnLst>
                  <p:par>
                    <p:cTn id="35" fill="hold"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7 L -4.07407 -6 L 0.10243 -0.83125 E">
                                      <p:cBhvr>
                                        <p:cTn id="38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9" nodeType="interactiveSeq" fill="hold">
                <p:childTnLst>
                  <p:par>
                    <p:cTn id="40" fill="hold"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7 L 4.68208 -6 L 0.00399 -0.28532 E">
                                      <p:cBhvr>
                                        <p:cTn id="43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44" nodeType="interactiveSeq" fill="hold">
                <p:childTnLst>
                  <p:par>
                    <p:cTn id="45" fill="hold"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 -6 L 4.68208 -6 L -0.08664 -0.59977 E">
                                      <p:cBhvr>
                                        <p:cTn id="48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2"/>
          <a:stretch/>
        </p:blipFill>
        <p:spPr>
          <a:xfrm>
            <a:off x="6948360" y="1484280"/>
            <a:ext cx="973440" cy="2347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1828800" cy="1779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4"/>
          <a:stretch/>
        </p:blipFill>
        <p:spPr>
          <a:xfrm>
            <a:off x="5219640" y="4653000"/>
            <a:ext cx="1656000" cy="11984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5"/>
          <a:stretch/>
        </p:blipFill>
        <p:spPr>
          <a:xfrm>
            <a:off x="3995640" y="1557360"/>
            <a:ext cx="1524240" cy="164304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2987640" y="189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ВОЩ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2987640" y="6165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e7f00"/>
                </a:solidFill>
                <a:latin typeface="Arial"/>
              </a:rPr>
              <a:t>Проверьте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8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956720" y="5907240"/>
            <a:ext cx="934920" cy="950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9" dur="indefinite" restart="never" nodeType="tmRoot">
          <p:childTnLst>
            <p:par>
              <p:cTn id="50" nodeType="interactiveSeq" fill="hold">
                <p:childTnLst>
                  <p:par>
                    <p:cTn id="51" fill="hold"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56" nodeType="interactiveSeq" fill="hold">
                <p:childTnLst>
                  <p:par>
                    <p:cTn id="57" fill="hold"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62" nodeType="interactiveSeq" fill="hold">
                <p:childTnLst>
                  <p:par>
                    <p:cTn id="63" fill="hold"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5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68" nodeType="interactiveSeq" fill="hold">
                <p:childTnLst>
                  <p:par>
                    <p:cTn id="69" fill="hold"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4" nodeType="interactiveSeq" fill="hold">
                <p:childTnLst>
                  <p:par>
                    <p:cTn id="75" fill="hold"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875640" y="1484280"/>
            <a:ext cx="974520" cy="2347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1828800" cy="17794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"/>
          <p:cNvPicPr/>
          <p:nvPr/>
        </p:nvPicPr>
        <p:blipFill>
          <a:blip r:embed="rId4"/>
          <a:stretch/>
        </p:blipFill>
        <p:spPr>
          <a:xfrm>
            <a:off x="5219640" y="4653000"/>
            <a:ext cx="1656000" cy="1198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"/>
          <p:cNvPicPr/>
          <p:nvPr/>
        </p:nvPicPr>
        <p:blipFill>
          <a:blip r:embed="rId5"/>
          <a:stretch/>
        </p:blipFill>
        <p:spPr>
          <a:xfrm>
            <a:off x="3995640" y="1484280"/>
            <a:ext cx="1524240" cy="164304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2987640" y="189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ВОЩ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2987640" y="6165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e7f00"/>
                </a:solidFill>
                <a:latin typeface="Arial"/>
              </a:rPr>
              <a:t>Проверьте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8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956720" y="5907240"/>
            <a:ext cx="934920" cy="950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par>
              <p:cTn id="87" nodeType="interactiveSeq" fill="hold">
                <p:childTnLst>
                  <p:par>
                    <p:cTn id="88" fill="hold"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1" descr=""/>
          <p:cNvPicPr/>
          <p:nvPr/>
        </p:nvPicPr>
        <p:blipFill>
          <a:blip r:embed="rId1"/>
          <a:stretch/>
        </p:blipFill>
        <p:spPr>
          <a:xfrm>
            <a:off x="-6480" y="-189000"/>
            <a:ext cx="9272880" cy="21337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2"/>
          <p:cNvSpPr/>
          <p:nvPr/>
        </p:nvSpPr>
        <p:spPr>
          <a:xfrm>
            <a:off x="0" y="191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няется когда нужно передвигать объекты расположенные на слайд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2"/>
          <a:stretch/>
        </p:blipFill>
        <p:spPr>
          <a:xfrm>
            <a:off x="5403960" y="2865600"/>
            <a:ext cx="1923840" cy="28857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4"/>
          <p:cNvSpPr/>
          <p:nvPr/>
        </p:nvSpPr>
        <p:spPr>
          <a:xfrm>
            <a:off x="0" y="64882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bfbfbf"/>
                </a:solidFill>
                <a:latin typeface="Arial"/>
              </a:rPr>
              <a:t>Макрос создан программистом Хансом Хофманом (Герма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1363680" y="92232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"/>
          <p:cNvPicPr/>
          <p:nvPr/>
        </p:nvPicPr>
        <p:blipFill>
          <a:blip r:embed="rId2"/>
          <a:stretch/>
        </p:blipFill>
        <p:spPr>
          <a:xfrm>
            <a:off x="1273320" y="3489480"/>
            <a:ext cx="973080" cy="2347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"/>
          <p:cNvPicPr/>
          <p:nvPr/>
        </p:nvPicPr>
        <p:blipFill>
          <a:blip r:embed="rId3"/>
          <a:stretch/>
        </p:blipFill>
        <p:spPr>
          <a:xfrm>
            <a:off x="949320" y="2322360"/>
            <a:ext cx="1828800" cy="1779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"/>
          <p:cNvPicPr/>
          <p:nvPr/>
        </p:nvPicPr>
        <p:blipFill>
          <a:blip r:embed="rId4"/>
          <a:stretch/>
        </p:blipFill>
        <p:spPr>
          <a:xfrm>
            <a:off x="6361200" y="2955960"/>
            <a:ext cx="1655640" cy="1198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"/>
          <p:cNvPicPr/>
          <p:nvPr/>
        </p:nvPicPr>
        <p:blipFill>
          <a:blip r:embed="rId5"/>
          <a:stretch/>
        </p:blipFill>
        <p:spPr>
          <a:xfrm>
            <a:off x="6610320" y="1155600"/>
            <a:ext cx="1523880" cy="164304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6"/>
          <p:cNvSpPr/>
          <p:nvPr/>
        </p:nvSpPr>
        <p:spPr>
          <a:xfrm>
            <a:off x="395280" y="333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ВОЩ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7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956720" y="5907240"/>
            <a:ext cx="934920" cy="95076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8"/>
          <p:cNvSpPr/>
          <p:nvPr/>
        </p:nvSpPr>
        <p:spPr>
          <a:xfrm>
            <a:off x="5292720" y="333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ФРУК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"/>
          <p:cNvSpPr/>
          <p:nvPr/>
        </p:nvSpPr>
        <p:spPr>
          <a:xfrm>
            <a:off x="3635280" y="476280"/>
            <a:ext cx="1584360" cy="136836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411280" y="3068640"/>
            <a:ext cx="1514520" cy="122400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5148360" y="3068640"/>
            <a:ext cx="1511280" cy="122400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3780000" y="549360"/>
            <a:ext cx="129528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 flipH="1">
            <a:off x="3166920" y="1844640"/>
            <a:ext cx="1262160" cy="1224000"/>
          </a:xfrm>
          <a:prstGeom prst="line">
            <a:avLst/>
          </a:prstGeom>
          <a:ln cap="sq"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6"/>
          <p:cNvSpPr/>
          <p:nvPr/>
        </p:nvSpPr>
        <p:spPr>
          <a:xfrm>
            <a:off x="4427640" y="1844640"/>
            <a:ext cx="1476360" cy="1224000"/>
          </a:xfrm>
          <a:prstGeom prst="line">
            <a:avLst/>
          </a:prstGeom>
          <a:ln cap="sq"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Picture 7" descr=""/>
          <p:cNvPicPr/>
          <p:nvPr/>
        </p:nvPicPr>
        <p:blipFill>
          <a:blip r:embed="rId1"/>
          <a:stretch/>
        </p:blipFill>
        <p:spPr>
          <a:xfrm>
            <a:off x="396720" y="5010120"/>
            <a:ext cx="8423280" cy="15192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8"/>
          <p:cNvSpPr/>
          <p:nvPr/>
        </p:nvSpPr>
        <p:spPr>
          <a:xfrm>
            <a:off x="6372360" y="522936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2871720" y="52135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1619280" y="522936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3995640" y="522936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468360" y="522936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5148360" y="522936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7596360" y="522936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15">
            <a:hlinkClick r:id="" action="ppaction://hlinkshowjump?jump=nextslide"/>
          </p:cNvPr>
          <p:cNvSpPr/>
          <p:nvPr/>
        </p:nvSpPr>
        <p:spPr>
          <a:xfrm>
            <a:off x="8567640" y="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1547640" y="1628640"/>
          <a:ext cx="5654880" cy="40640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3280"/>
                <a:gridCol w="1130400"/>
                <a:gridCol w="1130400"/>
              </a:tblGrid>
              <a:tr h="65268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112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3" name="AutoShape 103"/>
          <p:cNvSpPr/>
          <p:nvPr/>
        </p:nvSpPr>
        <p:spPr>
          <a:xfrm>
            <a:off x="1836720" y="1700280"/>
            <a:ext cx="647640" cy="43164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104"/>
          <p:cNvSpPr/>
          <p:nvPr/>
        </p:nvSpPr>
        <p:spPr>
          <a:xfrm>
            <a:off x="4068720" y="1773360"/>
            <a:ext cx="719280" cy="35856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105"/>
          <p:cNvSpPr/>
          <p:nvPr/>
        </p:nvSpPr>
        <p:spPr>
          <a:xfrm>
            <a:off x="1836720" y="3789360"/>
            <a:ext cx="719280" cy="35892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06"/>
          <p:cNvSpPr/>
          <p:nvPr/>
        </p:nvSpPr>
        <p:spPr>
          <a:xfrm>
            <a:off x="6229440" y="4508640"/>
            <a:ext cx="718920" cy="36036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07"/>
          <p:cNvSpPr/>
          <p:nvPr/>
        </p:nvSpPr>
        <p:spPr>
          <a:xfrm>
            <a:off x="5148360" y="2421000"/>
            <a:ext cx="720720" cy="36036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08"/>
          <p:cNvSpPr/>
          <p:nvPr/>
        </p:nvSpPr>
        <p:spPr>
          <a:xfrm>
            <a:off x="2916360" y="5157720"/>
            <a:ext cx="720720" cy="35892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109"/>
          <p:cNvSpPr/>
          <p:nvPr/>
        </p:nvSpPr>
        <p:spPr>
          <a:xfrm>
            <a:off x="2987640" y="3068640"/>
            <a:ext cx="649440" cy="43164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110"/>
          <p:cNvSpPr/>
          <p:nvPr/>
        </p:nvSpPr>
        <p:spPr>
          <a:xfrm>
            <a:off x="4140360" y="4437000"/>
            <a:ext cx="647640" cy="4320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111"/>
          <p:cNvSpPr/>
          <p:nvPr/>
        </p:nvSpPr>
        <p:spPr>
          <a:xfrm>
            <a:off x="5292720" y="5084640"/>
            <a:ext cx="647640" cy="4320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12"/>
          <p:cNvSpPr/>
          <p:nvPr/>
        </p:nvSpPr>
        <p:spPr>
          <a:xfrm>
            <a:off x="2844720" y="1773360"/>
            <a:ext cx="792360" cy="358560"/>
          </a:xfrm>
          <a:prstGeom prst="ellipse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Oval 113"/>
          <p:cNvSpPr/>
          <p:nvPr/>
        </p:nvSpPr>
        <p:spPr>
          <a:xfrm>
            <a:off x="6286680" y="2438280"/>
            <a:ext cx="792000" cy="360360"/>
          </a:xfrm>
          <a:prstGeom prst="ellipse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Oval 114"/>
          <p:cNvSpPr/>
          <p:nvPr/>
        </p:nvSpPr>
        <p:spPr>
          <a:xfrm>
            <a:off x="3995640" y="3139920"/>
            <a:ext cx="792360" cy="360360"/>
          </a:xfrm>
          <a:prstGeom prst="ellipse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Oval 115"/>
          <p:cNvSpPr/>
          <p:nvPr/>
        </p:nvSpPr>
        <p:spPr>
          <a:xfrm>
            <a:off x="1763640" y="4508640"/>
            <a:ext cx="792360" cy="360360"/>
          </a:xfrm>
          <a:prstGeom prst="ellipse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116"/>
          <p:cNvSpPr/>
          <p:nvPr/>
        </p:nvSpPr>
        <p:spPr>
          <a:xfrm>
            <a:off x="5292720" y="1700280"/>
            <a:ext cx="503280" cy="431640"/>
          </a:xfrm>
          <a:prstGeom prst="flowChartConnector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117"/>
          <p:cNvSpPr/>
          <p:nvPr/>
        </p:nvSpPr>
        <p:spPr>
          <a:xfrm>
            <a:off x="2987640" y="2421000"/>
            <a:ext cx="504720" cy="431640"/>
          </a:xfrm>
          <a:prstGeom prst="flowChartConnector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118"/>
          <p:cNvSpPr/>
          <p:nvPr/>
        </p:nvSpPr>
        <p:spPr>
          <a:xfrm>
            <a:off x="5292720" y="3789360"/>
            <a:ext cx="503280" cy="431640"/>
          </a:xfrm>
          <a:prstGeom prst="flowChartConnector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119"/>
          <p:cNvSpPr/>
          <p:nvPr/>
        </p:nvSpPr>
        <p:spPr>
          <a:xfrm>
            <a:off x="6300720" y="5157720"/>
            <a:ext cx="503280" cy="432000"/>
          </a:xfrm>
          <a:prstGeom prst="flowChartConnector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20"/>
          <p:cNvSpPr/>
          <p:nvPr/>
        </p:nvSpPr>
        <p:spPr>
          <a:xfrm>
            <a:off x="6372360" y="1773360"/>
            <a:ext cx="504720" cy="43164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21"/>
          <p:cNvSpPr/>
          <p:nvPr/>
        </p:nvSpPr>
        <p:spPr>
          <a:xfrm>
            <a:off x="1979640" y="2421000"/>
            <a:ext cx="504720" cy="43164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122"/>
          <p:cNvSpPr/>
          <p:nvPr/>
        </p:nvSpPr>
        <p:spPr>
          <a:xfrm>
            <a:off x="4140360" y="3789360"/>
            <a:ext cx="504720" cy="43164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123"/>
          <p:cNvSpPr/>
          <p:nvPr/>
        </p:nvSpPr>
        <p:spPr>
          <a:xfrm>
            <a:off x="3060720" y="4437000"/>
            <a:ext cx="503280" cy="43200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124"/>
          <p:cNvSpPr/>
          <p:nvPr/>
        </p:nvSpPr>
        <p:spPr>
          <a:xfrm>
            <a:off x="1908000" y="3068640"/>
            <a:ext cx="505080" cy="431640"/>
          </a:xfrm>
          <a:prstGeom prst="flowChartConnector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25"/>
          <p:cNvSpPr/>
          <p:nvPr/>
        </p:nvSpPr>
        <p:spPr>
          <a:xfrm>
            <a:off x="5292720" y="3068640"/>
            <a:ext cx="503280" cy="431640"/>
          </a:xfrm>
          <a:prstGeom prst="rect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126"/>
          <p:cNvSpPr/>
          <p:nvPr/>
        </p:nvSpPr>
        <p:spPr>
          <a:xfrm>
            <a:off x="6300720" y="3789360"/>
            <a:ext cx="647640" cy="43164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127"/>
          <p:cNvSpPr/>
          <p:nvPr/>
        </p:nvSpPr>
        <p:spPr>
          <a:xfrm>
            <a:off x="3995640" y="5157720"/>
            <a:ext cx="792360" cy="358920"/>
          </a:xfrm>
          <a:prstGeom prst="ellipse">
            <a:avLst/>
          </a:prstGeom>
          <a:solidFill>
            <a:srgbClr val="0033cc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128"/>
          <p:cNvSpPr/>
          <p:nvPr/>
        </p:nvSpPr>
        <p:spPr>
          <a:xfrm>
            <a:off x="1432080" y="6278400"/>
            <a:ext cx="792000" cy="3589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29"/>
          <p:cNvSpPr/>
          <p:nvPr/>
        </p:nvSpPr>
        <p:spPr>
          <a:xfrm>
            <a:off x="5219640" y="6308640"/>
            <a:ext cx="719280" cy="35892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130"/>
          <p:cNvSpPr/>
          <p:nvPr/>
        </p:nvSpPr>
        <p:spPr>
          <a:xfrm>
            <a:off x="4140360" y="6237360"/>
            <a:ext cx="502920" cy="431640"/>
          </a:xfrm>
          <a:prstGeom prst="flowChartConnector">
            <a:avLst/>
          </a:prstGeom>
          <a:solidFill>
            <a:srgbClr val="ff0000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31"/>
          <p:cNvSpPr/>
          <p:nvPr/>
        </p:nvSpPr>
        <p:spPr>
          <a:xfrm>
            <a:off x="6443640" y="6165720"/>
            <a:ext cx="504720" cy="43200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132"/>
          <p:cNvSpPr/>
          <p:nvPr/>
        </p:nvSpPr>
        <p:spPr>
          <a:xfrm>
            <a:off x="2843280" y="6237360"/>
            <a:ext cx="647640" cy="431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sq"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133">
            <a:hlinkClick r:id="" action="ppaction://hlinkshowjump?jump=nextslide"/>
          </p:cNvPr>
          <p:cNvSpPr/>
          <p:nvPr/>
        </p:nvSpPr>
        <p:spPr>
          <a:xfrm>
            <a:off x="8567640" y="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34"/>
          <p:cNvSpPr/>
          <p:nvPr/>
        </p:nvSpPr>
        <p:spPr>
          <a:xfrm>
            <a:off x="1835280" y="333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Расставь фигу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"/>
          <p:cNvSpPr/>
          <p:nvPr/>
        </p:nvSpPr>
        <p:spPr>
          <a:xfrm>
            <a:off x="250920" y="1844640"/>
            <a:ext cx="828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(стационарный или ноутбу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медийный прое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D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грыва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виз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нитоф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аппа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ка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-6480" y="36360"/>
            <a:ext cx="9156960" cy="2365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1"/>
          <p:cNvSpPr/>
          <p:nvPr/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Рекоменд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При работе с триггерами и макросом Drag and Drop  чтобы при случайном щелчке мимо во время игры не происходила непредусмотренная смена слайдов необходимо отменить смену слайдов по щелчк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После того как  дети (или  Вы) поработали  с презентацией  использующую макрос, не сохраняйте  изменения (иначе  сохранится  с   переставленными  объектам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Не  забывайте  указывать  чей  макрос  используется  (для  соблюдения  закона  об  авторском  прав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no Pro Smb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627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46080" y="1125360"/>
            <a:ext cx="9051840" cy="4967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0" y="2276640"/>
            <a:ext cx="4381560" cy="41241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2"/>
          <a:stretch/>
        </p:blipFill>
        <p:spPr>
          <a:xfrm>
            <a:off x="5438880" y="2371680"/>
            <a:ext cx="3705120" cy="44863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3"/>
          <a:stretch/>
        </p:blipFill>
        <p:spPr>
          <a:xfrm>
            <a:off x="-6480" y="-146160"/>
            <a:ext cx="9156960" cy="3090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0" y="549360"/>
            <a:ext cx="914400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использова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леш-технологий</a:t>
            </a:r>
            <a:br>
              <a:rPr sz="4400"/>
            </a:br>
            <a:r>
              <a:rPr b="0" lang="ru-RU" sz="4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Раскраск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1" descr=""/>
          <p:cNvPicPr/>
          <p:nvPr/>
        </p:nvPicPr>
        <p:blipFill>
          <a:blip r:embed="rId1"/>
          <a:stretch/>
        </p:blipFill>
        <p:spPr>
          <a:xfrm>
            <a:off x="396720" y="1285920"/>
            <a:ext cx="879660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"/>
          <p:cNvSpPr/>
          <p:nvPr/>
        </p:nvSpPr>
        <p:spPr>
          <a:xfrm>
            <a:off x="1042920" y="1862280"/>
            <a:ext cx="712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Анимация в презентаци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абота с триггера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оздание презентации с встроенным макросом DragAndDrop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-6480" y="-133200"/>
            <a:ext cx="9279000" cy="1706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12128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2"/>
          <p:cNvSpPr/>
          <p:nvPr/>
        </p:nvSpPr>
        <p:spPr>
          <a:xfrm>
            <a:off x="179280" y="136224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 смене слай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объектов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ход (появление объект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ыделение (привлечение внимания к объекту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ыход (исчезновение со слайд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еремещение (движение объекта в заданном направлени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2"/>
          <p:cNvGrpSpPr/>
          <p:nvPr/>
        </p:nvGrpSpPr>
        <p:grpSpPr>
          <a:xfrm>
            <a:off x="5003640" y="4037040"/>
            <a:ext cx="2087640" cy="2819520"/>
            <a:chOff x="5003640" y="4037040"/>
            <a:chExt cx="2087640" cy="2819520"/>
          </a:xfrm>
        </p:grpSpPr>
        <p:pic>
          <p:nvPicPr>
            <p:cNvPr id="482" name="Picture 3" descr=""/>
            <p:cNvPicPr/>
            <p:nvPr/>
          </p:nvPicPr>
          <p:blipFill>
            <a:blip r:embed="rId2"/>
            <a:stretch/>
          </p:blipFill>
          <p:spPr>
            <a:xfrm>
              <a:off x="5003640" y="4037040"/>
              <a:ext cx="2087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" descr=""/>
            <p:cNvPicPr/>
            <p:nvPr/>
          </p:nvPicPr>
          <p:blipFill>
            <a:blip r:embed="rId3"/>
            <a:stretch/>
          </p:blipFill>
          <p:spPr>
            <a:xfrm>
              <a:off x="5394240" y="4840200"/>
              <a:ext cx="1309680" cy="183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4" name="Picture 5" descr=""/>
          <p:cNvPicPr/>
          <p:nvPr/>
        </p:nvPicPr>
        <p:blipFill>
          <a:blip r:embed="rId4"/>
          <a:stretch/>
        </p:blipFill>
        <p:spPr>
          <a:xfrm>
            <a:off x="2050920" y="3971880"/>
            <a:ext cx="192420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Елена</cp:lastModifiedBy>
  <dcterms:modified xsi:type="dcterms:W3CDTF">2019-11-04T10:02:25Z</dcterms:modified>
  <cp:revision>141</cp:revision>
  <dc:subject/>
  <dc:title>Слайд 1</dc:title>
</cp:coreProperties>
</file>