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5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11.jpeg" ContentType="image/jpeg"/>
  <Override PartName="/ppt/media/image40.png" ContentType="image/png"/>
  <Override PartName="/ppt/media/image9.jpeg" ContentType="image/jpeg"/>
  <Override PartName="/ppt/media/image33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5.jpeg" ContentType="image/jpeg"/>
  <Override PartName="/ppt/media/image28.png" ContentType="image/png"/>
  <Override PartName="/ppt/media/image3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566-7EF5-493E-8EF7-AA63C357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8FA-9E65-4ABE-A003-7E9FF617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4CA-587F-4276-B693-A6737674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46D-DD21-46CE-9D68-9D95AAF0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18FA-A057-4363-94E4-8AA5B0BE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4287-499C-4B2F-971A-FB43DF37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9E7C-A669-4F00-9206-6F30F1D9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BADF-76DA-420F-BD1F-6F9F2681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767B-3F52-4609-A0A9-85ABA66C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CD22-403A-49B8-823B-5A1E2F95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D9BF-B839-4376-83D4-3BAF3081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3D2-DF0A-4D41-9473-9DFF0D5E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9998-EC61-44FD-BB66-A7AA6B4D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E574-76EE-4F07-BD9D-2566F073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649C-4D65-4654-91B6-F5209BAA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B920-2F8D-4E57-B89C-8E4C4A55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7B89-CF52-4060-9FC1-E1ECB369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A635-A930-4BAD-8AEF-7848BA16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344F-7FCA-49E6-8188-AAE79C4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0B51-CF68-4CF1-8DC3-F7D79AB5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363C-8487-4601-ACF2-36AD6A0E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0143-573B-4B6D-9C1C-92F99AC5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175-4E81-46EF-B856-E8E4BECC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3795-270A-4085-920F-0356775C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1F9C-5BC4-481C-B0C9-E503942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19DFB-965F-47DA-A3F1-2F5EC741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E0BE-7401-4EC4-B012-91A5ED70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24FC-F7CF-4332-8616-347C871A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4A84-BD8B-4018-9A64-168BB067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89B3-B934-417F-B607-03CE646C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4D89-3B80-4A0B-841B-DEFF6EA9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7B3A-6FE2-4F35-AD8C-70A5B0F6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01053-CDE5-4DDF-BE9B-FFECC644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CFD-725E-4EBC-B038-5EE74B3E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5D36-E8AC-440A-A6BB-60495297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6A45-329B-4C85-B0E4-FCD11CAA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88A9A-D758-483D-AF30-B81600DD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3A848-093F-4654-80FA-D1CEF9B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FA67-ECDC-47BD-B3EE-070C1F6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8B39-50AA-4924-9969-9405F3C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88C0-742F-454E-9867-A1AED3AD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9605-9A19-4E26-B908-5F808C01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05A8-A004-43B6-AB7F-78CC09FE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E6474-D60C-4467-BF1F-E6F79C12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33F-D1B9-4C9D-B921-71788693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76FFD-97F5-4186-8907-7D3C699F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6F2F-818E-4953-9210-598DD2FF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A45E4-10F9-46E7-A9AD-39A1E3F6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C449F-6995-4575-ABFF-235D9A33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1B18D-4ADD-4CF5-8ECE-94DB298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20C8-5035-4630-A633-493DB84B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38A31-6220-4344-8C7D-617369B0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9A985-BBED-4B63-8A4A-F76A3BF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D6A5D-E0C5-446E-9E7C-96CDA95A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0F309-5DAA-4ADC-B081-3F39953B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933-7AAF-474E-89AE-A4459856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29083-733C-4CB8-86BC-BA7E7077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35D89-11B5-4604-9578-BF847C5B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B9248-6D96-4CEE-853A-D49964C5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55E4E-F8DD-422F-ABEB-85FE309F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01FD5-611A-4158-ACC9-02D0F5E2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BE0A-0CFE-4799-9D59-12185AAA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09E11-5E5D-4EB6-A756-7627E217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5F745-07B1-44BB-ACCF-7AC77798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96260-2FAB-4C4C-A924-56E9B0AA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A4AE-0473-4CA1-88F0-5C41B023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C96-A9CA-425E-A337-F249C18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9D96B-A835-4EAF-A98E-9BA9F6F6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F8C24-5162-40C9-94A6-DF382F27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76970-98EF-442C-999C-233C63B1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0940-B907-4575-ACF2-938D4D5F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CB763-D6DA-40AA-B559-DDC6AE44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D39DA-781F-4609-9CD6-9070D284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72F3C-0EF8-4F72-8ACF-06979DC8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C32F8-4CB0-4C72-8680-771F9223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549F2-E817-4506-90D6-9C9D131C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21FE7-453D-4BAA-887B-0FE7142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BF9-7BD9-4623-B4E9-C37C37A2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5E396-7859-4A3D-AD9B-EFE74E7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7638C-FB41-4D25-A5E5-DE0DB713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15A89-775E-415C-A0C7-4134C3F1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BC77A-05F2-4DCE-B0BE-B65E7148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FBC44-854C-4890-AD6E-A6CCB07E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D47-3669-45E8-8178-2C6EB29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ABC-CB49-416E-9B16-FC972751FD8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3A0B-BB69-43C0-81E2-47ED58AEE296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9C56-71BB-4174-A730-E75902BF739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D4B6-B61C-4DF2-9728-BE158D332F4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8D0D-F545-4CE3-A5DE-CC18EF0899A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F48B-B628-4C2A-8EAE-1B6FF1DB5591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DF4C-7C32-4661-B5A8-62D31037AD5D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hyperlink" Target="http://4diva.ru/images/stories/160511/1_2.jpg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ediasubs.ru/group/uploads/vo/vosstanovlenie-i-sohranenie-zdorovya/image2/tN2MwOS00.gif" TargetMode="External"/><Relationship Id="rId2" Type="http://schemas.openxmlformats.org/officeDocument/2006/relationships/image" Target="../media/image32.png"/><Relationship Id="rId3" Type="http://schemas.openxmlformats.org/officeDocument/2006/relationships/hyperlink" Target="http://thecareerist.typepad.com/.a/6a0120a9220c59970b0162fbe9d52f970d-400wi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96560" cy="1504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306360" y="1501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88c"/>
                </a:solidFill>
                <a:latin typeface="Century Gothic"/>
              </a:rPr>
              <a:t>Проект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88c"/>
                </a:solidFill>
                <a:latin typeface="Century Gothic"/>
              </a:rPr>
              <a:t>Высокие каблуки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88c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388c"/>
                </a:solidFill>
                <a:latin typeface="Century Gothic"/>
              </a:rPr>
              <a:t>красиво или вредно?»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ыполнила ученица 8 класс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аранова Анастаси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Руководитель учитель хими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и биологии Баранова В.А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2 017 год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7" descr=""/>
          <p:cNvPicPr/>
          <p:nvPr/>
        </p:nvPicPr>
        <p:blipFill>
          <a:blip r:embed="rId1"/>
          <a:stretch/>
        </p:blipFill>
        <p:spPr>
          <a:xfrm>
            <a:off x="407880" y="73080"/>
            <a:ext cx="8418600" cy="159696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5" descr="C:\Users\Лер04еК\Desktop\проект леры болговой\маркиза ПОМПАДУР.jpg"/>
          <p:cNvPicPr/>
          <p:nvPr/>
        </p:nvPicPr>
        <p:blipFill>
          <a:blip r:embed="rId2"/>
          <a:stretch/>
        </p:blipFill>
        <p:spPr>
          <a:xfrm>
            <a:off x="2935440" y="1882800"/>
            <a:ext cx="3273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57120" y="928800"/>
            <a:ext cx="375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1950 году итальянский модельер Сальваторе Феррагамо изобрел знаменитую шпильк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Рисунок 26" descr="C:\Users\Лер04еК\Desktop\проект леры болговой\каблук 2.jpeg"/>
          <p:cNvPicPr/>
          <p:nvPr/>
        </p:nvPicPr>
        <p:blipFill>
          <a:blip r:embed="rId1"/>
          <a:stretch/>
        </p:blipFill>
        <p:spPr>
          <a:xfrm>
            <a:off x="3786120" y="0"/>
            <a:ext cx="3071880" cy="38577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27" descr="C:\Users\Лер04еК\Desktop\проект леры болговой\каблук 3.jpg"/>
          <p:cNvPicPr/>
          <p:nvPr/>
        </p:nvPicPr>
        <p:blipFill>
          <a:blip r:embed="rId2"/>
          <a:stretch/>
        </p:blipFill>
        <p:spPr>
          <a:xfrm>
            <a:off x="6072120" y="2714760"/>
            <a:ext cx="2786040" cy="3786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Картинка 49 из 16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3520" y="3840120"/>
            <a:ext cx="22431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На  каблуках девушка  становится выш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бувь на каблуках придает фигуре более уверенный и открытый вид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Правильно подобранная форма колодки туфель на каблуках визуально удлиняет ног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Чем выше каблук, тем короче шаги, что придает походке больше женственности, "летящий, парящий« вид, грациозность и таинственность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Содержимое 4" descr="zhenskii_delovoi_kostum_84"/>
          <p:cNvPicPr/>
          <p:nvPr/>
        </p:nvPicPr>
        <p:blipFill>
          <a:blip r:embed="rId2"/>
          <a:stretch/>
        </p:blipFill>
        <p:spPr>
          <a:xfrm>
            <a:off x="4968720" y="1722600"/>
            <a:ext cx="339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390600" y="122400"/>
            <a:ext cx="8491320" cy="15476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Укрепляет икроножные мышцы. Ходить в такой обуви не более 2-3 часов в день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пасает от плоскостопия каблук не более 5 см высотой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Содержимое 4" descr="887910-1"/>
          <p:cNvPicPr/>
          <p:nvPr/>
        </p:nvPicPr>
        <p:blipFill>
          <a:blip r:embed="rId2"/>
          <a:stretch/>
        </p:blipFill>
        <p:spPr>
          <a:xfrm>
            <a:off x="4867200" y="2652840"/>
            <a:ext cx="3600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3"/>
          <p:cNvSpPr/>
          <p:nvPr/>
        </p:nvSpPr>
        <p:spPr>
          <a:xfrm>
            <a:off x="581040" y="357120"/>
            <a:ext cx="1808280" cy="764280"/>
          </a:xfrm>
          <a:prstGeom prst="rect">
            <a:avLst/>
          </a:prstGeom>
          <a:solidFill>
            <a:srgbClr val="ffd7e8"/>
          </a:solidFill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-4 с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3079440" y="214200"/>
            <a:ext cx="5793480" cy="1068840"/>
          </a:xfrm>
          <a:prstGeom prst="rect">
            <a:avLst/>
          </a:prstGeom>
          <a:solidFill>
            <a:srgbClr val="ffd7e8"/>
          </a:solidFill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мерное распред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рузки на стоп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Стрелка вправо 5"/>
          <p:cNvSpPr/>
          <p:nvPr/>
        </p:nvSpPr>
        <p:spPr>
          <a:xfrm>
            <a:off x="2357280" y="64296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438120" y="1714680"/>
            <a:ext cx="1808280" cy="764280"/>
          </a:xfrm>
          <a:prstGeom prst="rect">
            <a:avLst/>
          </a:prstGeom>
          <a:solidFill>
            <a:srgbClr val="ffd7e8"/>
          </a:solidFill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-5 с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Стрелка вправо 7"/>
          <p:cNvSpPr/>
          <p:nvPr/>
        </p:nvSpPr>
        <p:spPr>
          <a:xfrm>
            <a:off x="2286000" y="192888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8"/>
          <p:cNvSpPr/>
          <p:nvPr/>
        </p:nvSpPr>
        <p:spPr>
          <a:xfrm>
            <a:off x="3071880" y="1643040"/>
            <a:ext cx="5786280" cy="1068840"/>
          </a:xfrm>
          <a:prstGeom prst="rect">
            <a:avLst/>
          </a:prstGeom>
          <a:solidFill>
            <a:srgbClr val="ffd7e8"/>
          </a:solidFill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нагрузки на стопу на 2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225360" y="2928960"/>
            <a:ext cx="2119320" cy="764280"/>
          </a:xfrm>
          <a:prstGeom prst="rect">
            <a:avLst/>
          </a:prstGeom>
          <a:solidFill>
            <a:srgbClr val="ffd7e8"/>
          </a:solidFill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-10 с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Стрелка вправо 10"/>
          <p:cNvSpPr/>
          <p:nvPr/>
        </p:nvSpPr>
        <p:spPr>
          <a:xfrm>
            <a:off x="2357280" y="321480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1"/>
          <p:cNvSpPr/>
          <p:nvPr/>
        </p:nvSpPr>
        <p:spPr>
          <a:xfrm>
            <a:off x="3071880" y="2857680"/>
            <a:ext cx="5786280" cy="1068840"/>
          </a:xfrm>
          <a:prstGeom prst="rect">
            <a:avLst/>
          </a:prstGeom>
          <a:solidFill>
            <a:srgbClr val="ffd7e8"/>
          </a:solidFill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нагрузки на стопу на 7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5" descr="Картинка 38 из 16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2640" y="4206960"/>
            <a:ext cx="3011760" cy="229068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7">
            <a:hlinkClick r:id="rId3"/>
          </p:cNvPr>
          <p:cNvSpPr/>
          <p:nvPr/>
        </p:nvSpPr>
        <p:spPr>
          <a:xfrm>
            <a:off x="155520" y="-1828800"/>
            <a:ext cx="253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500040" y="128592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мещение центра тяжести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ерегрузка передней части стоп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еренапряжение мышц.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равм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Рисунок 11" descr="http://st1.diets.ru/data/cache/2013feb/05/12/1237914_63571-700x500.jpg"/>
          <p:cNvPicPr/>
          <p:nvPr/>
        </p:nvPicPr>
        <p:blipFill>
          <a:blip r:embed="rId2"/>
          <a:stretch/>
        </p:blipFill>
        <p:spPr>
          <a:xfrm>
            <a:off x="571680" y="3714840"/>
            <a:ext cx="2612880" cy="20890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2" descr="http://systawy.ru/images/6/deformacija-stopy-20_2_1.jpg"/>
          <p:cNvPicPr/>
          <p:nvPr/>
        </p:nvPicPr>
        <p:blipFill>
          <a:blip r:embed="rId3"/>
          <a:stretch/>
        </p:blipFill>
        <p:spPr>
          <a:xfrm>
            <a:off x="3714840" y="378612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3" descr="http://www.pufnoktalari.net/wp-content/uploads/2016/03/ayak-burkulmasina-ne-iyi-gelir1.jpg"/>
          <p:cNvPicPr/>
          <p:nvPr/>
        </p:nvPicPr>
        <p:blipFill>
          <a:blip r:embed="rId4"/>
          <a:stretch/>
        </p:blipFill>
        <p:spPr>
          <a:xfrm>
            <a:off x="6500880" y="3786120"/>
            <a:ext cx="23572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892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3" descr="Туфли балетки"/>
          <p:cNvPicPr/>
          <p:nvPr/>
        </p:nvPicPr>
        <p:blipFill>
          <a:blip r:embed="rId2"/>
          <a:stretch/>
        </p:blipFill>
        <p:spPr>
          <a:xfrm>
            <a:off x="457200" y="24717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ышцы, сухожилия, вены и суставы испытывают тройную нагрузку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едствием постоянного хождения в такой обуви становятся судороги, боли в мышцах и пояснице, искривление стопы, проблемы с коленя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420840" y="433440"/>
            <a:ext cx="8302320" cy="1474560"/>
          </a:xfrm>
          <a:prstGeom prst="rect">
            <a:avLst/>
          </a:prstGeom>
          <a:ln w="0">
            <a:noFill/>
          </a:ln>
        </p:spPr>
      </p:pic>
      <p:pic>
        <p:nvPicPr>
          <p:cNvPr id="368" name="Диаграмма 3" descr=""/>
          <p:cNvPicPr/>
          <p:nvPr/>
        </p:nvPicPr>
        <p:blipFill>
          <a:blip r:embed="rId2"/>
          <a:stretch/>
        </p:blipFill>
        <p:spPr>
          <a:xfrm>
            <a:off x="1785960" y="1785960"/>
            <a:ext cx="5486400" cy="32004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1"/>
          <p:cNvSpPr/>
          <p:nvPr/>
        </p:nvSpPr>
        <p:spPr>
          <a:xfrm rot="19087800">
            <a:off x="1685520" y="5208120"/>
            <a:ext cx="1033560" cy="307080"/>
          </a:xfrm>
          <a:prstGeom prst="rect">
            <a:avLst/>
          </a:prstGeom>
          <a:solidFill>
            <a:srgbClr val="ffd7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5 клас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2"/>
          <p:cNvSpPr/>
          <p:nvPr/>
        </p:nvSpPr>
        <p:spPr>
          <a:xfrm rot="19053600">
            <a:off x="2545920" y="5221440"/>
            <a:ext cx="986040" cy="307080"/>
          </a:xfrm>
          <a:prstGeom prst="rect">
            <a:avLst/>
          </a:prstGeom>
          <a:solidFill>
            <a:srgbClr val="ffd7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6 клас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13"/>
          <p:cNvSpPr/>
          <p:nvPr/>
        </p:nvSpPr>
        <p:spPr>
          <a:xfrm rot="18973800">
            <a:off x="3411000" y="5264280"/>
            <a:ext cx="887760" cy="307080"/>
          </a:xfrm>
          <a:prstGeom prst="rect">
            <a:avLst/>
          </a:prstGeom>
          <a:solidFill>
            <a:srgbClr val="ffd7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7 клас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14"/>
          <p:cNvSpPr/>
          <p:nvPr/>
        </p:nvSpPr>
        <p:spPr>
          <a:xfrm rot="18718200">
            <a:off x="4246920" y="5293800"/>
            <a:ext cx="925200" cy="307080"/>
          </a:xfrm>
          <a:prstGeom prst="rect">
            <a:avLst/>
          </a:prstGeom>
          <a:solidFill>
            <a:srgbClr val="ffd7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8 клас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15"/>
          <p:cNvSpPr/>
          <p:nvPr/>
        </p:nvSpPr>
        <p:spPr>
          <a:xfrm rot="18764400">
            <a:off x="5043240" y="5284440"/>
            <a:ext cx="974520" cy="307080"/>
          </a:xfrm>
          <a:prstGeom prst="rect">
            <a:avLst/>
          </a:prstGeom>
          <a:solidFill>
            <a:srgbClr val="ffd7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9 клас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16"/>
          <p:cNvSpPr/>
          <p:nvPr/>
        </p:nvSpPr>
        <p:spPr>
          <a:xfrm rot="18735000">
            <a:off x="5869080" y="5342760"/>
            <a:ext cx="1062000" cy="307080"/>
          </a:xfrm>
          <a:prstGeom prst="rect">
            <a:avLst/>
          </a:prstGeom>
          <a:solidFill>
            <a:srgbClr val="ffd7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11 клас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аблук – это красиво (87%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Долгое ношение обуви на каблуке приводит к болям в ногах, спине и общей усталости (43%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едпочитают балетки (13%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 последствиях  ношения обуви на высоком каблуке задумываются только 7% девочек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7143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Каблуки подросткам можно носить, когда уже сформировался скелет стопы, это 14-15 лет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До 18 лет не стоит ходить на "шпильках", так как скелет еще не сформировался и рост организма не завершилс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Балетки, которые сейчас очень популярны, вообще без каблука. Их тоже нельзя назвать здоровой обувью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Оптимальная высота каблука 4-5 с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и покупке обуви подбирайте модели, имеющие удобную колодку и подходящий размер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Каблуки как элемент повседневной обуви учащихся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Содержимое 4" descr="http://news.vitebsk.cc/wp-content/uploads/2012/07/miss-belarus-2012-vitebsk-04.jpg"/>
          <p:cNvPicPr/>
          <p:nvPr/>
        </p:nvPicPr>
        <p:blipFill>
          <a:blip r:embed="rId2"/>
          <a:stretch/>
        </p:blipFill>
        <p:spPr>
          <a:xfrm>
            <a:off x="4286160" y="2000160"/>
            <a:ext cx="40388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07640" y="1500120"/>
            <a:ext cx="86216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 algn="just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зучена история появления и развития каблука обуви у разных народов мир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 algn="just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яснен вред и польза высоких каблуков обуви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 algn="just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змерена  высота каблука обуви у учащихся 5-11 классов. Проведенное исследование позволяет сделать вывод о том, что чем старше возраст школьниц, тем выше высота каблу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 algn="just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аны советы юным модницам о том, как сберечь здоровье и отдать дань современным представлениям о красоте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 algn="just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зготовлены и распространены буклеты «Советы юным ножкам» среди учениц 5-11 классов нашей школы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ортон Камилла. Как ходить на высоких каблуках. М.: Издательство Эксмо, 2006 г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ерсесов Я. Н. Они определяли моду. Издательство АСТ, Астрель, 2005 г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сине О. Иллюстрированный атлас истории моды. М.:"Эксмо", 2008 , 304 с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нтернет -ресурсы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www.allshoes.ru/ - Сайт  «Все про обувь»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www.historyfootwear.ru/  - Сайт «История обуви»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www. bezvreda.com – Сайт «Мир без вреда. Формирование здорового образа жизни»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www.megamedportal.ru – Сайт «Большой медицинский портал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3" descr="http://images.myshared.ru/28/1303893/slide_36.jpg"/>
          <p:cNvPicPr/>
          <p:nvPr/>
        </p:nvPicPr>
        <p:blipFill>
          <a:blip r:embed="rId1"/>
          <a:stretch/>
        </p:blipFill>
        <p:spPr>
          <a:xfrm>
            <a:off x="1571760" y="1071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02680" cy="1407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Чем старше ученицы школы, тем выше высота каблуков их обуви. Возможно, что  девочки не знают о последствиях ношения высоких каблуков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ыявление   зависимости  между высотой каблука и возрастом девочек нашей школы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зучение влияние высоты каблуков обуви на здоровье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6840" y="1285920"/>
            <a:ext cx="82580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зучить историю появления и развития каблука обуви у разных народов мир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змерить высоту каблука у учениц 5-11 классо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ыяснить вред и пользу высоких и низких каблуков обув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оставить памятку «Советы для юных ножек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571760"/>
            <a:ext cx="3614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явились они у египтян. Носили их не фараоны, а простые землепашц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Рисунок 1" descr="C:\Users\Лер04еК\Desktop\проект леры болговой\картики обуви(\10.jpg"/>
          <p:cNvPicPr/>
          <p:nvPr/>
        </p:nvPicPr>
        <p:blipFill>
          <a:blip r:embed="rId2"/>
          <a:stretch/>
        </p:blipFill>
        <p:spPr>
          <a:xfrm>
            <a:off x="4000680" y="1785960"/>
            <a:ext cx="2474640" cy="15001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2" descr="C:\Users\Лер04еК\Desktop\проект леры болговой\картики обуви(\33-.jpg"/>
          <p:cNvPicPr/>
          <p:nvPr/>
        </p:nvPicPr>
        <p:blipFill>
          <a:blip r:embed="rId3"/>
          <a:stretch/>
        </p:blipFill>
        <p:spPr>
          <a:xfrm>
            <a:off x="6572160" y="1785960"/>
            <a:ext cx="2224080" cy="150012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3" descr="C:\Users\Лер04еК\Desktop\проект леры болговой\египетская обувь фараона.jpg"/>
          <p:cNvPicPr/>
          <p:nvPr/>
        </p:nvPicPr>
        <p:blipFill>
          <a:blip r:embed="rId4"/>
          <a:stretch/>
        </p:blipFill>
        <p:spPr>
          <a:xfrm>
            <a:off x="4857840" y="3786120"/>
            <a:ext cx="3103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214200" y="571680"/>
            <a:ext cx="478656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турны Древней Греции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ккури – в Японии обувь на подставке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Рисунок 6" descr="C:\Users\Лер04еК\Desktop\проект леры болговой\котурны.jpg"/>
          <p:cNvPicPr/>
          <p:nvPr/>
        </p:nvPicPr>
        <p:blipFill>
          <a:blip r:embed="rId1"/>
          <a:stretch/>
        </p:blipFill>
        <p:spPr>
          <a:xfrm>
            <a:off x="5214960" y="357120"/>
            <a:ext cx="3551040" cy="17859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8" descr="C:\Users\Лер04еК\Desktop\проект леры болговой\Поккури Япония 19 век.jpg"/>
          <p:cNvPicPr/>
          <p:nvPr/>
        </p:nvPicPr>
        <p:blipFill>
          <a:blip r:embed="rId2"/>
          <a:stretch/>
        </p:blipFill>
        <p:spPr>
          <a:xfrm>
            <a:off x="5786280" y="2500200"/>
            <a:ext cx="2714760" cy="18925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1" descr="C:\Users\Лер04еК\Desktop\проект леры болговой\картики обуви(\geta.jpg"/>
          <p:cNvPicPr/>
          <p:nvPr/>
        </p:nvPicPr>
        <p:blipFill>
          <a:blip r:embed="rId3"/>
          <a:stretch/>
        </p:blipFill>
        <p:spPr>
          <a:xfrm>
            <a:off x="5786280" y="4786200"/>
            <a:ext cx="27194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13840" y="642960"/>
            <a:ext cx="8472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15-16 веке в Европе было принято подчеркивать свое возвышение над действительностью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Рисунок 16" descr="C:\Users\Лер04еК\Desktop\проект леры болговой\pink_chopine_t.jpg"/>
          <p:cNvPicPr/>
          <p:nvPr/>
        </p:nvPicPr>
        <p:blipFill>
          <a:blip r:embed="rId1"/>
          <a:stretch/>
        </p:blipFill>
        <p:spPr>
          <a:xfrm>
            <a:off x="357120" y="3357720"/>
            <a:ext cx="1571760" cy="236196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7" descr="C:\Users\Лер04еК\Desktop\проект леры болговой\bluechop.JPG"/>
          <p:cNvPicPr/>
          <p:nvPr/>
        </p:nvPicPr>
        <p:blipFill>
          <a:blip r:embed="rId2"/>
          <a:stretch/>
        </p:blipFill>
        <p:spPr>
          <a:xfrm>
            <a:off x="2071800" y="2714760"/>
            <a:ext cx="1857240" cy="150480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8" descr="C:\Users\Лер04еК\Desktop\проект леры болговой\is.jpeg"/>
          <p:cNvPicPr/>
          <p:nvPr/>
        </p:nvPicPr>
        <p:blipFill>
          <a:blip r:embed="rId3"/>
          <a:stretch/>
        </p:blipFill>
        <p:spPr>
          <a:xfrm>
            <a:off x="2143080" y="4500720"/>
            <a:ext cx="1857600" cy="15048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21" descr="C:\Users\Лер04еК\Desktop\проект леры болговой\1625 г Рыцарь в доспехах и модно одетый горожанин.jpg"/>
          <p:cNvPicPr/>
          <p:nvPr/>
        </p:nvPicPr>
        <p:blipFill>
          <a:blip r:embed="rId4"/>
          <a:stretch/>
        </p:blipFill>
        <p:spPr>
          <a:xfrm>
            <a:off x="6572160" y="2500200"/>
            <a:ext cx="2305080" cy="285768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20" descr="C:\Users\Лер04еК\Desktop\проект леры болговой\1725 богатые дворяне в модных туалетах.jpg"/>
          <p:cNvPicPr/>
          <p:nvPr/>
        </p:nvPicPr>
        <p:blipFill>
          <a:blip r:embed="rId5"/>
          <a:stretch/>
        </p:blipFill>
        <p:spPr>
          <a:xfrm>
            <a:off x="4143240" y="2500200"/>
            <a:ext cx="22338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9" descr=""/>
          <p:cNvPicPr/>
          <p:nvPr/>
        </p:nvPicPr>
        <p:blipFill>
          <a:blip r:embed="rId1"/>
          <a:stretch/>
        </p:blipFill>
        <p:spPr>
          <a:xfrm>
            <a:off x="341280" y="30240"/>
            <a:ext cx="8553600" cy="1639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2" descr="C:\Users\Лер04еК\Desktop\проект леры болговой\ектерина медичи.jpg"/>
          <p:cNvPicPr/>
          <p:nvPr/>
        </p:nvPicPr>
        <p:blipFill>
          <a:blip r:embed="rId3"/>
          <a:stretch/>
        </p:blipFill>
        <p:spPr>
          <a:xfrm>
            <a:off x="785880" y="1714680"/>
            <a:ext cx="3071880" cy="4643280"/>
          </a:xfrm>
          <a:prstGeom prst="rect">
            <a:avLst/>
          </a:prstGeom>
          <a:ln w="0">
            <a:noFill/>
          </a:ln>
        </p:spPr>
      </p:pic>
      <p:sp>
        <p:nvSpPr>
          <p:cNvPr id="330" name="Содержимое 2"/>
          <p:cNvSpPr/>
          <p:nvPr/>
        </p:nvSpPr>
        <p:spPr>
          <a:xfrm>
            <a:off x="5214960" y="4286160"/>
            <a:ext cx="2928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Содержимое 2"/>
          <p:cNvSpPr/>
          <p:nvPr/>
        </p:nvSpPr>
        <p:spPr>
          <a:xfrm>
            <a:off x="5214960" y="4286160"/>
            <a:ext cx="2928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Содержимое 2"/>
          <p:cNvSpPr/>
          <p:nvPr/>
        </p:nvSpPr>
        <p:spPr>
          <a:xfrm>
            <a:off x="214200" y="4071960"/>
            <a:ext cx="4071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Содержимое 2"/>
          <p:cNvSpPr/>
          <p:nvPr/>
        </p:nvSpPr>
        <p:spPr>
          <a:xfrm>
            <a:off x="0" y="4143240"/>
            <a:ext cx="4572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Содержимое 2"/>
          <p:cNvSpPr/>
          <p:nvPr/>
        </p:nvSpPr>
        <p:spPr>
          <a:xfrm>
            <a:off x="4572000" y="4071960"/>
            <a:ext cx="4929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Содержимое 13" descr="http://ladynataly.ru/wp-content/uploads/2017/04/2345678-640x330.jpg"/>
          <p:cNvPicPr/>
          <p:nvPr/>
        </p:nvPicPr>
        <p:blipFill>
          <a:blip r:embed="rId4"/>
          <a:stretch/>
        </p:blipFill>
        <p:spPr>
          <a:xfrm>
            <a:off x="4648320" y="1928880"/>
            <a:ext cx="4138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02:57Z</dcterms:created>
  <dc:creator>Директор</dc:creator>
  <dc:description/>
  <dc:language>en-US</dc:language>
  <cp:lastModifiedBy>Admin</cp:lastModifiedBy>
  <dcterms:modified xsi:type="dcterms:W3CDTF">2017-04-23T12:17:05Z</dcterms:modified>
  <cp:revision>88</cp:revision>
  <dc:subject/>
  <dc:title>Изучение высоты каблука обуви  учениц МАОУ «Гимназия № 4» и ее влияние на здоровье детей </dc:title>
</cp:coreProperties>
</file>