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90360" y="754200"/>
            <a:ext cx="6615360" cy="37209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49480" cy="4953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46240" y="0"/>
            <a:ext cx="2949480" cy="4953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9429840"/>
            <a:ext cx="2949480" cy="49536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6240" y="9429840"/>
            <a:ext cx="2949480" cy="495360"/>
          </a:xfrm>
          <a:prstGeom prst="rect">
            <a:avLst/>
          </a:prstGeom>
          <a:noFill/>
          <a:ln w="0">
            <a:noFill/>
          </a:ln>
        </p:spPr>
        <p:txBody>
          <a:bodyPr lIns="0" rIns="0" tIns="0" bIns="0" anchor="b">
            <a:noAutofit/>
          </a:bodyPr>
          <a:lstStyle>
            <a:lvl1pPr indent="0" algn="r">
              <a:lnSpc>
                <a:spcPct val="93000"/>
              </a:lnSpc>
              <a:buNone/>
              <a:tabLst>
                <a:tab algn="l" pos="0"/>
                <a:tab algn="l" pos="417600"/>
                <a:tab algn="l" pos="836640"/>
                <a:tab algn="l" pos="1255680"/>
                <a:tab algn="l" pos="1674720"/>
                <a:tab algn="l" pos="2093760"/>
                <a:tab algn="l" pos="2513160"/>
                <a:tab algn="l" pos="2932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300" spc="-1" strike="noStrike">
                <a:solidFill>
                  <a:srgbClr val="000000"/>
                </a:solidFill>
                <a:latin typeface="Times New Roman"/>
                <a:ea typeface="DejaVu Sans"/>
              </a:defRPr>
            </a:lvl1pPr>
          </a:lstStyle>
          <a:p>
            <a:pPr indent="0" algn="r">
              <a:lnSpc>
                <a:spcPct val="93000"/>
              </a:lnSpc>
              <a:buNone/>
              <a:tabLst>
                <a:tab algn="l" pos="0"/>
                <a:tab algn="l" pos="417600"/>
                <a:tab algn="l" pos="836640"/>
                <a:tab algn="l" pos="1255680"/>
                <a:tab algn="l" pos="1674720"/>
                <a:tab algn="l" pos="2093760"/>
                <a:tab algn="l" pos="2513160"/>
                <a:tab algn="l" pos="2932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A0E832-A770-4083-9EE3-5ED905C5F27B}"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17600"/>
                <a:tab algn="l" pos="836640"/>
                <a:tab algn="l" pos="1255680"/>
                <a:tab algn="l" pos="1674720"/>
                <a:tab algn="l" pos="2093760"/>
                <a:tab algn="l" pos="2513160"/>
                <a:tab algn="l" pos="2932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3F5965-91F0-43A0-8276-9F88D27FB1EC}" type="slidenum">
              <a:rPr b="0" lang="en-US" sz="1300" spc="-1" strike="noStrike">
                <a:solidFill>
                  <a:srgbClr val="000000"/>
                </a:solidFill>
                <a:latin typeface="Times New Roman"/>
                <a:ea typeface="AR PL SungtiL GB"/>
              </a:rPr>
              <a:t>&lt;number&gt;</a:t>
            </a:fld>
            <a:endParaRPr b="0" lang="en-US" sz="1300" spc="-1" strike="noStrike">
              <a:solidFill>
                <a:srgbClr val="000000"/>
              </a:solidFill>
              <a:latin typeface="Arial"/>
            </a:endParaRPr>
          </a:p>
        </p:txBody>
      </p:sp>
      <p:sp>
        <p:nvSpPr>
          <p:cNvPr id="61" name="PlaceHolder 1"/>
          <p:cNvSpPr>
            <a:spLocks noGrp="1"/>
          </p:cNvSpPr>
          <p:nvPr>
            <p:ph type="sldImg"/>
          </p:nvPr>
        </p:nvSpPr>
        <p:spPr>
          <a:xfrm>
            <a:off x="90360" y="754200"/>
            <a:ext cx="6616800" cy="3722400"/>
          </a:xfrm>
          <a:prstGeom prst="rect">
            <a:avLst/>
          </a:prstGeom>
          <a:ln w="0">
            <a:noFill/>
          </a:ln>
        </p:spPr>
      </p:sp>
      <p:sp>
        <p:nvSpPr>
          <p:cNvPr id="62"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17600"/>
                <a:tab algn="l" pos="836640"/>
                <a:tab algn="l" pos="1255680"/>
                <a:tab algn="l" pos="1674720"/>
                <a:tab algn="l" pos="2093760"/>
                <a:tab algn="l" pos="2513160"/>
                <a:tab algn="l" pos="2932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C6F625-FF2A-4A3F-BAE2-154AFE6AA90D}" type="slidenum">
              <a:rPr b="0" lang="en-US" sz="1300" spc="-1" strike="noStrike">
                <a:solidFill>
                  <a:srgbClr val="000000"/>
                </a:solidFill>
                <a:latin typeface="Times New Roman"/>
                <a:ea typeface="AR PL SungtiL GB"/>
              </a:rPr>
              <a:t>&lt;number&gt;</a:t>
            </a:fld>
            <a:endParaRPr b="0" lang="en-US" sz="1300" spc="-1" strike="noStrike">
              <a:solidFill>
                <a:srgbClr val="000000"/>
              </a:solidFill>
              <a:latin typeface="Arial"/>
            </a:endParaRPr>
          </a:p>
        </p:txBody>
      </p:sp>
      <p:sp>
        <p:nvSpPr>
          <p:cNvPr id="64" name="PlaceHolder 1"/>
          <p:cNvSpPr>
            <a:spLocks noGrp="1"/>
          </p:cNvSpPr>
          <p:nvPr>
            <p:ph type="sldImg"/>
          </p:nvPr>
        </p:nvSpPr>
        <p:spPr>
          <a:xfrm>
            <a:off x="90360" y="754200"/>
            <a:ext cx="6616800" cy="3722400"/>
          </a:xfrm>
          <a:prstGeom prst="rect">
            <a:avLst/>
          </a:prstGeom>
          <a:ln w="0">
            <a:noFill/>
          </a:ln>
        </p:spPr>
      </p:sp>
      <p:sp>
        <p:nvSpPr>
          <p:cNvPr id="65"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17600"/>
                <a:tab algn="l" pos="836640"/>
                <a:tab algn="l" pos="1255680"/>
                <a:tab algn="l" pos="1674720"/>
                <a:tab algn="l" pos="2093760"/>
                <a:tab algn="l" pos="2513160"/>
                <a:tab algn="l" pos="2932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FCEE85-2AB0-4CAD-A97A-31BE2EC02F0F}" type="slidenum">
              <a:rPr b="0" lang="en-US" sz="1300" spc="-1" strike="noStrike">
                <a:solidFill>
                  <a:srgbClr val="000000"/>
                </a:solidFill>
                <a:latin typeface="Times New Roman"/>
                <a:ea typeface="AR PL SungtiL GB"/>
              </a:rPr>
              <a:t>&lt;number&gt;</a:t>
            </a:fld>
            <a:endParaRPr b="0" lang="en-US" sz="1300" spc="-1" strike="noStrike">
              <a:solidFill>
                <a:srgbClr val="000000"/>
              </a:solidFill>
              <a:latin typeface="Arial"/>
            </a:endParaRPr>
          </a:p>
        </p:txBody>
      </p:sp>
      <p:sp>
        <p:nvSpPr>
          <p:cNvPr id="67" name="PlaceHolder 1"/>
          <p:cNvSpPr>
            <a:spLocks noGrp="1"/>
          </p:cNvSpPr>
          <p:nvPr>
            <p:ph type="sldImg"/>
          </p:nvPr>
        </p:nvSpPr>
        <p:spPr>
          <a:xfrm>
            <a:off x="90360" y="754200"/>
            <a:ext cx="6616800" cy="3722400"/>
          </a:xfrm>
          <a:prstGeom prst="rect">
            <a:avLst/>
          </a:prstGeom>
          <a:ln w="0">
            <a:noFill/>
          </a:ln>
        </p:spPr>
      </p:sp>
      <p:sp>
        <p:nvSpPr>
          <p:cNvPr id="68"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17600"/>
                <a:tab algn="l" pos="836640"/>
                <a:tab algn="l" pos="1255680"/>
                <a:tab algn="l" pos="1674720"/>
                <a:tab algn="l" pos="2093760"/>
                <a:tab algn="l" pos="2513160"/>
                <a:tab algn="l" pos="2932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705BB0-1950-4F8C-95C3-3E5DBC81F540}" type="slidenum">
              <a:rPr b="0" lang="en-US" sz="1300" spc="-1" strike="noStrike">
                <a:solidFill>
                  <a:srgbClr val="000000"/>
                </a:solidFill>
                <a:latin typeface="Times New Roman"/>
                <a:ea typeface="AR PL SungtiL GB"/>
              </a:rPr>
              <a:t>&lt;number&gt;</a:t>
            </a:fld>
            <a:endParaRPr b="0" lang="en-US" sz="1300" spc="-1" strike="noStrike">
              <a:solidFill>
                <a:srgbClr val="000000"/>
              </a:solidFill>
              <a:latin typeface="Arial"/>
            </a:endParaRPr>
          </a:p>
        </p:txBody>
      </p:sp>
      <p:sp>
        <p:nvSpPr>
          <p:cNvPr id="70" name="PlaceHolder 1"/>
          <p:cNvSpPr>
            <a:spLocks noGrp="1"/>
          </p:cNvSpPr>
          <p:nvPr>
            <p:ph type="sldImg"/>
          </p:nvPr>
        </p:nvSpPr>
        <p:spPr>
          <a:xfrm>
            <a:off x="90360" y="754200"/>
            <a:ext cx="6616800" cy="3722400"/>
          </a:xfrm>
          <a:prstGeom prst="rect">
            <a:avLst/>
          </a:prstGeom>
          <a:ln w="0">
            <a:noFill/>
          </a:ln>
        </p:spPr>
      </p:sp>
      <p:sp>
        <p:nvSpPr>
          <p:cNvPr id="71"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17600"/>
                <a:tab algn="l" pos="836640"/>
                <a:tab algn="l" pos="1255680"/>
                <a:tab algn="l" pos="1674720"/>
                <a:tab algn="l" pos="2093760"/>
                <a:tab algn="l" pos="2513160"/>
                <a:tab algn="l" pos="2932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9BE51E-2EFA-4248-88E9-A318DF4DB70B}" type="slidenum">
              <a:rPr b="0" lang="en-US" sz="1300" spc="-1" strike="noStrike">
                <a:solidFill>
                  <a:srgbClr val="000000"/>
                </a:solidFill>
                <a:latin typeface="Times New Roman"/>
                <a:ea typeface="AR PL SungtiL GB"/>
              </a:rPr>
              <a:t>&lt;number&gt;</a:t>
            </a:fld>
            <a:endParaRPr b="0" lang="en-US" sz="1300" spc="-1" strike="noStrike">
              <a:solidFill>
                <a:srgbClr val="000000"/>
              </a:solidFill>
              <a:latin typeface="Arial"/>
            </a:endParaRPr>
          </a:p>
        </p:txBody>
      </p:sp>
      <p:sp>
        <p:nvSpPr>
          <p:cNvPr id="73" name="PlaceHolder 1"/>
          <p:cNvSpPr>
            <a:spLocks noGrp="1"/>
          </p:cNvSpPr>
          <p:nvPr>
            <p:ph type="sldImg"/>
          </p:nvPr>
        </p:nvSpPr>
        <p:spPr>
          <a:xfrm>
            <a:off x="90360" y="754200"/>
            <a:ext cx="6616800" cy="3722400"/>
          </a:xfrm>
          <a:prstGeom prst="rect">
            <a:avLst/>
          </a:prstGeom>
          <a:ln w="0">
            <a:noFill/>
          </a:ln>
        </p:spPr>
      </p:sp>
      <p:sp>
        <p:nvSpPr>
          <p:cNvPr id="74"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17600"/>
                <a:tab algn="l" pos="836640"/>
                <a:tab algn="l" pos="1255680"/>
                <a:tab algn="l" pos="1674720"/>
                <a:tab algn="l" pos="2093760"/>
                <a:tab algn="l" pos="2513160"/>
                <a:tab algn="l" pos="2932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C17D68-C5CD-4070-BB0F-7F953CD65C22}" type="slidenum">
              <a:rPr b="0" lang="en-US" sz="1300" spc="-1" strike="noStrike">
                <a:solidFill>
                  <a:srgbClr val="000000"/>
                </a:solidFill>
                <a:latin typeface="Times New Roman"/>
                <a:ea typeface="AR PL SungtiL GB"/>
              </a:rPr>
              <a:t>&lt;number&gt;</a:t>
            </a:fld>
            <a:endParaRPr b="0" lang="en-US" sz="1300" spc="-1" strike="noStrike">
              <a:solidFill>
                <a:srgbClr val="000000"/>
              </a:solidFill>
              <a:latin typeface="Arial"/>
            </a:endParaRPr>
          </a:p>
        </p:txBody>
      </p:sp>
      <p:sp>
        <p:nvSpPr>
          <p:cNvPr id="76" name="PlaceHolder 1"/>
          <p:cNvSpPr>
            <a:spLocks noGrp="1"/>
          </p:cNvSpPr>
          <p:nvPr>
            <p:ph type="sldImg"/>
          </p:nvPr>
        </p:nvSpPr>
        <p:spPr>
          <a:xfrm>
            <a:off x="90360" y="754200"/>
            <a:ext cx="6616800" cy="3722400"/>
          </a:xfrm>
          <a:prstGeom prst="rect">
            <a:avLst/>
          </a:prstGeom>
          <a:ln w="0">
            <a:noFill/>
          </a:ln>
        </p:spPr>
      </p:sp>
      <p:sp>
        <p:nvSpPr>
          <p:cNvPr id="77"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17600"/>
                <a:tab algn="l" pos="836640"/>
                <a:tab algn="l" pos="1255680"/>
                <a:tab algn="l" pos="1674720"/>
                <a:tab algn="l" pos="2093760"/>
                <a:tab algn="l" pos="2513160"/>
                <a:tab algn="l" pos="2932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CF1E36-4043-41AB-973C-358958D000B3}" type="slidenum">
              <a:rPr b="0" lang="en-US" sz="1300" spc="-1" strike="noStrike">
                <a:solidFill>
                  <a:srgbClr val="000000"/>
                </a:solidFill>
                <a:latin typeface="Times New Roman"/>
                <a:ea typeface="AR PL SungtiL GB"/>
              </a:rPr>
              <a:t>&lt;number&gt;</a:t>
            </a:fld>
            <a:endParaRPr b="0" lang="en-US" sz="1300" spc="-1" strike="noStrike">
              <a:solidFill>
                <a:srgbClr val="000000"/>
              </a:solidFill>
              <a:latin typeface="Arial"/>
            </a:endParaRPr>
          </a:p>
        </p:txBody>
      </p:sp>
      <p:sp>
        <p:nvSpPr>
          <p:cNvPr id="79" name="PlaceHolder 1"/>
          <p:cNvSpPr>
            <a:spLocks noGrp="1"/>
          </p:cNvSpPr>
          <p:nvPr>
            <p:ph type="sldImg"/>
          </p:nvPr>
        </p:nvSpPr>
        <p:spPr>
          <a:xfrm>
            <a:off x="90360" y="754200"/>
            <a:ext cx="6616800" cy="3722400"/>
          </a:xfrm>
          <a:prstGeom prst="rect">
            <a:avLst/>
          </a:prstGeom>
          <a:ln w="0">
            <a:noFill/>
          </a:ln>
        </p:spPr>
      </p:sp>
      <p:sp>
        <p:nvSpPr>
          <p:cNvPr id="80"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24616-176A-4A49-A58F-DE480A5FC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A9255-EC96-42D3-ABE7-FF6A2AA93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49BBB-9D6D-4BF7-A65F-94F7DC813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D8674-38A7-4705-AF21-7334AC906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7DEDE-C707-443A-8460-EB3139A0B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8F9DD-6882-4957-8B41-068CC16C9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9598C-873D-4838-8768-8FCF0D850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3D586-218C-4F47-B96F-79198A3D1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0C498-D5F0-4E8D-BECC-52B54AFD9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27536-6E82-4EC8-BA9A-D10766BB0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48D7-5483-42C4-9BBD-9D6870038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CACB-6505-445A-BD08-86F8FAFB1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Arial"/>
              </a:rPr>
              <a:t>8/17/18</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DE4C1-1692-4610-BEC2-1BD1859057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81000" y="0"/>
            <a:ext cx="12192120" cy="6858000"/>
          </a:xfrm>
          <a:prstGeom prst="rect">
            <a:avLst/>
          </a:prstGeom>
          <a:ln w="0">
            <a:noFill/>
          </a:ln>
        </p:spPr>
      </p:pic>
      <p:sp>
        <p:nvSpPr>
          <p:cNvPr id="49" name="PlaceHolder 1"/>
          <p:cNvSpPr>
            <a:spLocks noGrp="1"/>
          </p:cNvSpPr>
          <p:nvPr>
            <p:ph type="title"/>
          </p:nvPr>
        </p:nvSpPr>
        <p:spPr>
          <a:xfrm>
            <a:off x="1636560" y="2276280"/>
            <a:ext cx="8755200" cy="16491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4000"/>
            </a:br>
            <a:r>
              <a:rPr b="1" lang="ru-RU" sz="2800" spc="-1" strike="noStrike">
                <a:solidFill>
                  <a:srgbClr val="002060"/>
                </a:solidFill>
                <a:latin typeface="Times New Roman"/>
              </a:rPr>
              <a:t>Сценарий открытого урока литературы </a:t>
            </a:r>
            <a:br>
              <a:rPr sz="2800"/>
            </a:br>
            <a:r>
              <a:rPr b="1" lang="ru-RU" sz="2800" spc="-1" strike="noStrike">
                <a:solidFill>
                  <a:srgbClr val="002060"/>
                </a:solidFill>
                <a:latin typeface="Times New Roman"/>
              </a:rPr>
              <a:t>в 6  классе</a:t>
            </a:r>
            <a:br>
              <a:rPr sz="2800"/>
            </a:br>
            <a:r>
              <a:rPr b="1" lang="ru-RU" sz="2800" spc="-1" strike="noStrike">
                <a:solidFill>
                  <a:srgbClr val="002060"/>
                </a:solidFill>
                <a:latin typeface="Times New Roman"/>
              </a:rPr>
              <a:t>учитель русского и литературы </a:t>
            </a:r>
            <a:br>
              <a:rPr sz="2800"/>
            </a:br>
            <a:r>
              <a:rPr b="1" lang="ru-RU" sz="2800" spc="-1" strike="noStrike">
                <a:solidFill>
                  <a:srgbClr val="002060"/>
                </a:solidFill>
                <a:latin typeface="Times New Roman"/>
              </a:rPr>
              <a:t>Козловская И.Р.</a:t>
            </a:r>
            <a:br>
              <a:rPr sz="3600"/>
            </a:br>
            <a:endParaRPr b="0" lang="en-US" sz="2800" spc="-1" strike="noStrike">
              <a:solidFill>
                <a:srgbClr val="000000"/>
              </a:solidFill>
              <a:latin typeface="Calibri Light"/>
            </a:endParaRPr>
          </a:p>
        </p:txBody>
      </p:sp>
      <p:sp>
        <p:nvSpPr>
          <p:cNvPr id="50" name="Rectangle 7"/>
          <p:cNvSpPr/>
          <p:nvPr/>
        </p:nvSpPr>
        <p:spPr>
          <a:xfrm>
            <a:off x="2951280" y="6186600"/>
            <a:ext cx="609588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1800" spc="-1" strike="noStrike">
                <a:solidFill>
                  <a:srgbClr val="000000"/>
                </a:solidFill>
                <a:latin typeface="Times New Roman"/>
              </a:rPr>
              <a:t>декабрь</a:t>
            </a:r>
            <a:r>
              <a:rPr b="1" lang="en-US" sz="1800" spc="-1" strike="noStrike">
                <a:solidFill>
                  <a:srgbClr val="000000"/>
                </a:solidFill>
                <a:latin typeface="Times New Roman"/>
              </a:rPr>
              <a:t> 201</a:t>
            </a:r>
            <a:r>
              <a:rPr b="1" lang="ru-RU" sz="1800" spc="-1" strike="noStrike">
                <a:solidFill>
                  <a:srgbClr val="000000"/>
                </a:solidFill>
                <a:latin typeface="Times New Roman"/>
              </a:rPr>
              <a:t>9</a:t>
            </a:r>
            <a:r>
              <a:rPr b="1" lang="en-US" sz="1800" spc="-1" strike="noStrike">
                <a:solidFill>
                  <a:srgbClr val="000000"/>
                </a:solidFill>
                <a:latin typeface="Times New Roman"/>
              </a:rPr>
              <a:t> г.</a:t>
            </a:r>
            <a:endParaRPr b="0" lang="en-US" sz="1800" spc="-1" strike="noStrike">
              <a:solidFill>
                <a:srgbClr val="000000"/>
              </a:solidFill>
              <a:latin typeface="Arial"/>
            </a:endParaRPr>
          </a:p>
        </p:txBody>
      </p:sp>
      <p:graphicFrame>
        <p:nvGraphicFramePr>
          <p:cNvPr id="51" name=""/>
          <p:cNvGraphicFramePr/>
          <p:nvPr/>
        </p:nvGraphicFramePr>
        <p:xfrm>
          <a:off x="7175520" y="4484520"/>
          <a:ext cx="4632480" cy="2094120"/>
        </p:xfrm>
        <a:graphic>
          <a:graphicData uri="http://schemas.openxmlformats.org/drawingml/2006/table">
            <a:tbl>
              <a:tblPr/>
              <a:tblGrid>
                <a:gridCol w="249120"/>
                <a:gridCol w="4383360"/>
              </a:tblGrid>
              <a:tr h="2094120">
                <a:tc>
                  <a:txBody>
                    <a:bodyPr tIns="6336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tIns="6336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1"/>
          <p:cNvSpPr/>
          <p:nvPr/>
        </p:nvSpPr>
        <p:spPr>
          <a:xfrm>
            <a:off x="982800" y="692280"/>
            <a:ext cx="10368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203864"/>
                </a:solidFill>
                <a:latin typeface="Arial"/>
              </a:rPr>
              <a:t>ВСТУПИТЕЛЬНОЕ СЛОВО, ОБРАЩЕННОЕ К ДЕТЯМ</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Arial"/>
              </a:rPr>
              <a:t>Ребята, сегодня нам предоставлена такая возможность провести урок литературы в не совсем привычной вам обстановке в присутствии моих коллег, гостей нашей школы, которых я прошу поприветствовать. Присаживайтесь!</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Arial"/>
              </a:rPr>
              <a:t>Понимаю, как вам не терпится узнать, что же вас ждёт сегодня на уроке, так как мой замысел до этой минуты вам был совершенно неизвестен. Очень надеюсь, что наша совместная деятельность подарит вам радость открытий, новые знания и принесёт удовлетворение от работы.</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1"/>
          <p:cNvSpPr/>
          <p:nvPr/>
        </p:nvSpPr>
        <p:spPr>
          <a:xfrm>
            <a:off x="982800" y="476280"/>
            <a:ext cx="914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203864"/>
                </a:solidFill>
                <a:latin typeface="Arial"/>
              </a:rPr>
              <a:t>ЗАДАНИЯ ДЛЯ ГРУП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Arial"/>
              </a:rPr>
              <a:t>Группа №1 – Что обозначает слово дорога? (работа со словарями)</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Arial"/>
              </a:rPr>
              <a:t>Группа № 2 – Подбор синонимов к слову дорога. (обсуждение в группе)</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Arial"/>
              </a:rPr>
              <a:t>Группа № 3 – На каких произведениях художников изображены дороги? Изобразить дороги на рисунках.</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Arial"/>
              </a:rPr>
              <a:t>Группа № 4 – В каких литературных произведениях используется идея дороги – пути?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839880" y="549360"/>
            <a:ext cx="103662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203864"/>
                </a:solidFill>
                <a:latin typeface="Arial"/>
              </a:rPr>
              <a:t>ОБСУЖДЕНИЕ ГРУППОВЫХ РЕЗУЛЬТАТОВ И ФОРМИРОВАНИЕ ПРОБЛЕМЫ</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203864"/>
                </a:solidFill>
                <a:latin typeface="Arial"/>
              </a:rPr>
              <a:t>Мотив дороги </a:t>
            </a:r>
            <a:r>
              <a:rPr b="0" lang="ru-RU" sz="2800" spc="-1" strike="noStrike">
                <a:solidFill>
                  <a:srgbClr val="000000"/>
                </a:solidFill>
                <a:latin typeface="Arial"/>
              </a:rPr>
              <a:t>весьма часто встречается в художественных произведениях.  Сегодня он будет основным в произведении, знакомство с которым у вас будет впереди. Но вернёмся ещё раз к теме: «дорога-путь-движение –открытия» звучит позитивно, но меня настораживают слова «никуда не ведёт». А вас? Не кроется ли здесь какая-то проблема? Какие вопросы возникают у вас в процессе обдумывания этого предложения? Значит,  проблема есть. Я бы сформулировала её так: стоит ли идти по дороге, которая никуда не ведё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407880" y="549360"/>
            <a:ext cx="11520720" cy="594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203864"/>
                </a:solidFill>
                <a:latin typeface="Arial"/>
              </a:rPr>
              <a:t>ГРУППОВОЕ ИССЛЕДОВАНИЕ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Раз есть проблема, мы можем выдвинуть гипотезы, чтобы в ходе исследования или подтвердить их, или опровергнуть! Напомню, при формулировании гипотезы предложение должно начинаться с союза «Если…, т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203864"/>
                </a:solidFill>
                <a:latin typeface="Arial"/>
              </a:rPr>
              <a:t>Итак,  ваши варианты.</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1. Если есть дороги, которые никуда не ведут, то надо знать, чем они опасны.</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2. Если…. , то стоит ли о них вообще говорить.</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3. Если … , то есть те, по которым можно и нужно идти.)</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203864"/>
                </a:solidFill>
                <a:latin typeface="Arial"/>
              </a:rPr>
              <a:t>Есть проблема, есть гипотезы, пора приступить к исследованию. Попробуем нарисовать дорогу,  ведущую в никуда.</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192240" y="189000"/>
            <a:ext cx="11880720" cy="65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203864"/>
                </a:solidFill>
                <a:latin typeface="Arial"/>
              </a:rPr>
              <a:t>УРОК – МОДЕЛИРОВАНИЕ ПО СКАЗКЕ Д. РОДАРИ «ДОРОГА, КОТОРАЯ НИКУДА НЕ</a:t>
            </a:r>
            <a:r>
              <a:rPr b="0" lang="ru-RU" sz="2400" spc="-1" strike="noStrike">
                <a:solidFill>
                  <a:srgbClr val="203864"/>
                </a:solidFill>
                <a:latin typeface="Arial"/>
              </a:rPr>
              <a:t> </a:t>
            </a:r>
            <a:r>
              <a:rPr b="1" lang="ru-RU" sz="2400" spc="-1" strike="noStrike">
                <a:solidFill>
                  <a:srgbClr val="203864"/>
                </a:solidFill>
                <a:latin typeface="Arial"/>
              </a:rPr>
              <a:t>ВЕЛА»</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   </a:t>
            </a:r>
            <a:r>
              <a:rPr b="0" lang="ru-RU" sz="2400" spc="-1" strike="noStrike">
                <a:solidFill>
                  <a:srgbClr val="000000"/>
                </a:solidFill>
                <a:latin typeface="Arial"/>
              </a:rPr>
              <a:t>В 5 классе одним из эффективных методов является моделирование художественного мира произведения. Все образы – персонажи, образы – события, образы – картины, образы – детали представляют отдельные подсистемы, которые в конечном счёте организуют авторскую модель художественного мира.</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  </a:t>
            </a:r>
            <a:r>
              <a:rPr b="0" lang="ru-RU" sz="2400" spc="-1" strike="noStrike">
                <a:solidFill>
                  <a:srgbClr val="000000"/>
                </a:solidFill>
                <a:latin typeface="Arial"/>
              </a:rPr>
              <a:t>В качестве характеристик художественного мира выступают пространственно – временные параметры (хронотоп) и субъективная организация самой ткани произведения.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 </a:t>
            </a:r>
            <a:r>
              <a:rPr b="0" lang="ru-RU" sz="2400" spc="-1" strike="noStrike">
                <a:solidFill>
                  <a:srgbClr val="000000"/>
                </a:solidFill>
                <a:latin typeface="Arial"/>
              </a:rPr>
              <a:t>Сначала учащимся предлагается с помощью красок отобразить увиденный ими в тексте мир. Затем моделирование предполагает схематическое изображение мира произведения с помощью символов. Самым сложным оказывается выделение  отличительных черт художественного мира писателя и отражение их в целостной модели.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 </a:t>
            </a:r>
            <a:r>
              <a:rPr b="0" lang="ru-RU" sz="2400" spc="-1" strike="noStrike">
                <a:solidFill>
                  <a:srgbClr val="000000"/>
                </a:solidFill>
                <a:latin typeface="Arial"/>
              </a:rPr>
              <a:t>Такой метод позволяет увидеть особенность мира художественной литературы  и её связь с миром реальности.   (сравнение и обсуждение рисунков)</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1"/>
          <p:cNvSpPr/>
          <p:nvPr/>
        </p:nvSpPr>
        <p:spPr>
          <a:xfrm>
            <a:off x="623880" y="404640"/>
            <a:ext cx="11017080" cy="637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203864"/>
                </a:solidFill>
                <a:latin typeface="Arial"/>
              </a:rPr>
              <a:t>РАБОТА С ТЕКСТОМ</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Прошу на листах  нарисовать дорогу в никуда. Сравниваем несколько рисунков и отвечаем на вопрос: чем они похожи. (На рисунках они обрываются, нет конечной цели…).</a:t>
            </a:r>
            <a:endParaRPr b="0" lang="en-US" sz="24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2. Предлагаю послушать сказку Д.Родари  и по желанию дополнить   свои рисунки (появляются дороги, ведущие домой, в город, дорога в никуда дополняется пейзажными деталями).</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3. Нарисуйте, чем закончилась дорога в никуда для Мартино.  Как вы думаете почему?</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4.Могло ли   описанное Д. Родари произойти в реальной жизни? Находим детали реальной жизни и вымысла. Обращаемся к определению хронотопа в произведении  ( Время и пространство в сказке реальное, не вымышленное).</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Дата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Прямоугольник 4"/>
          <p:cNvSpPr/>
          <p:nvPr/>
        </p:nvSpPr>
        <p:spPr>
          <a:xfrm>
            <a:off x="911160" y="765000"/>
            <a:ext cx="10153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203864"/>
                </a:solidFill>
                <a:latin typeface="Arial"/>
              </a:rPr>
              <a:t>РАБОТА С ТЕКСТОМ</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5. Выделение сказочных элементов в сюжете, в персонажах. 1) Образ дороги – традиционный в фольклоре.  2) Испытание героя (здесь: трудности дороги). 3) Награждение героя.  Каких ещё вы знаете героев сказок ,  получивших награждение? За что  получают они награду?</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6. Размышления – выводы. Что, по-вашему,  хотел сказать писатель своим юным читателям?  (Есть смысл дать краткую справку о самом писателе, трудностях его жизни и решении, принятом им , чтобы выбраться из нужды и помочь семье).</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Arial"/>
              </a:rPr>
              <a:t>7. Творческая работа по группам (советы тем, кто не боится «неизведанных доро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05T05:18:33Z</dcterms:created>
  <dc:creator>Наташа</dc:creator>
  <dc:description/>
  <dc:language>en-US</dc:language>
  <cp:lastModifiedBy>Козловская Инэсса Романовна</cp:lastModifiedBy>
  <cp:lastPrinted>2018-12-20T14:43:35Z</cp:lastPrinted>
  <dcterms:modified xsi:type="dcterms:W3CDTF">2020-08-21T10:20:10Z</dcterms:modified>
  <cp:revision>181</cp:revision>
  <dc:subject/>
  <dc:title>Мероприятия Фон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Широкоэкранный</vt:lpwstr>
  </property>
  <property fmtid="{D5CDD505-2E9C-101B-9397-08002B2CF9AE}" pid="8" name="ScaleCrop">
    <vt:bool>0</vt:bool>
  </property>
  <property fmtid="{D5CDD505-2E9C-101B-9397-08002B2CF9AE}" pid="9" name="ShareDoc">
    <vt:bool>0</vt:bool>
  </property>
  <property fmtid="{D5CDD505-2E9C-101B-9397-08002B2CF9AE}" pid="10" name="Slides">
    <vt:r8>43</vt:r8>
  </property>
</Properties>
</file>