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49B-2D10-4DD7-8153-470CF101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EFD-A2C1-4C55-B93C-99EE1074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840-529C-4A7C-B903-B1DBEB4A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F43-1BE3-4C21-AE41-2E96EE13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EE0-EA48-46DF-87FF-3CC42BC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4F5-F4D3-4126-8226-79F20264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300-A0A2-47A6-809A-48B45BC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E16-1922-44C7-A348-A78A0D05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234-676B-464C-BB11-C7C810D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2B8-017F-4CF0-8C74-E388ACF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F69-F56A-4254-A54A-FC0AE43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336-8588-4B59-A3BB-5E9B8BB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A166-4EBA-4E02-8A06-3CFACDD42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1560" y="220680"/>
            <a:ext cx="8543880" cy="531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Удивительные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  факты  о животных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16160" y="5537160"/>
            <a:ext cx="68580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втор: Богоявленская Галин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У ДО ЦВР «Глор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.Ярослав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421000" y="1328760"/>
            <a:ext cx="46497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5600" y="463500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амая маленькая птичка – колибри, она в длину меньше 5 см.                    Колибри такие ловкие, что могут летать спиной вперё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2075040" y="1071720"/>
            <a:ext cx="534024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3160" y="4319280"/>
            <a:ext cx="879768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юющаяся индийская кобра способна плюнуть ядом точно                 в глаз жертвы на расстояние                    2,4 мет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1619280" y="985680"/>
            <a:ext cx="5905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льфины спят с одним открытым глазо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424160" y="1147680"/>
            <a:ext cx="6295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5600" y="482400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окодилы любят глотать камни – от этого у них и пищеварение лучше, и нырять они могут глуб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1380960" y="1014480"/>
            <a:ext cx="63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ворождённый слонёнок весит около 100 килограмм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2141640" y="1203480"/>
            <a:ext cx="4860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ворожденный кенгуренок может уместится в чайной лож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2259000" y="1687680"/>
            <a:ext cx="5138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5600" y="4398840"/>
            <a:ext cx="879804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олубые киты – самые шумные животные в мире. Их мелодичное пение может оглушить человека.                      Без вреда для слуха человек может выдержать                      85 децибелов, голубые киты поют на 188 децибелов и их можно услышать за 800 километр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345960" y="1325520"/>
            <a:ext cx="86011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600" y="5864400"/>
            <a:ext cx="87980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олубые киты – самые крупные животные на Земле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рдце кита бъется только 9 раз в минуту.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1098720" y="1117440"/>
            <a:ext cx="741672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5391000"/>
            <a:ext cx="87980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упнейшие хищники в мире – белые медве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1182600" y="1162080"/>
            <a:ext cx="63532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4508280"/>
            <a:ext cx="879804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сли начнут драться лев и белый медведь, то победи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белый медвед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345960" y="1422360"/>
            <a:ext cx="4100760" cy="2747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4446720" y="1430280"/>
            <a:ext cx="4381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5280" y="364680"/>
            <a:ext cx="817560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В настоящее время  учёным извест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9 000 видов млекопитающих и птиц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24 500 видов рыб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8 000 видов пресмыкающихся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5 000 земноводных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1 100 000 видов членистоноги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5600" y="4446720"/>
            <a:ext cx="8798040" cy="13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ператорские пингвины могут нырять на глубину до 500 метров и способны задерживать дыхание на 18 мину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1865160" y="1150920"/>
            <a:ext cx="49834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5600" y="48398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ингвин  единственная птица, которая может плавать, но не может летать. Пингвины  могут подпрыгивать на высоту более 1, 5 мет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496880" y="1090440"/>
            <a:ext cx="57578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5600" y="507312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Щупальца гигантской арктической медузы  могут достигать в длину 36 мет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1"/>
          <a:stretch/>
        </p:blipFill>
        <p:spPr>
          <a:xfrm>
            <a:off x="2554200" y="1058760"/>
            <a:ext cx="38181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динственная собака, у которой язык не розовый – чау-ча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2216160" y="1062000"/>
            <a:ext cx="5057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ва может поворачивать голову    на 360 граду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2320920" y="1235160"/>
            <a:ext cx="450216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477648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ое сильное животное на Земле – жук-носорог. Он может поднять груз в 850 раз тяжелее себ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2206800" y="1392120"/>
            <a:ext cx="507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2333520"/>
            <a:ext cx="7886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 Black"/>
              </a:rPr>
              <a:t>Берегите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5600" y="3215880"/>
            <a:ext cx="87980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 Black"/>
              </a:rPr>
              <a:t>животных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1440" y="-28440"/>
            <a:ext cx="81536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Calibri"/>
              </a:rPr>
              <a:t>Животные — удивительные создания и наши лучшие  друзья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Calibri"/>
              </a:rPr>
              <a:t>Много ли вы знаете о братьях своих меньших?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 среднем курица откладывает 190 яиц в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2238480" y="1325520"/>
            <a:ext cx="4824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ерблюд может обходиться без воды две не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1919160" y="1127160"/>
            <a:ext cx="530568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ираф может обходиться без воды дольше, чем 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644480" y="1295280"/>
            <a:ext cx="58550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сы могут обходиться без воды дольше все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2505240" y="1254240"/>
            <a:ext cx="447984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280" y="373644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ые быстрые сухопутные насекомые – таракан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ни могут бежать со скорость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,5 километров в ча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743200" y="1058760"/>
            <a:ext cx="36576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Знаете ли вы, что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5600" y="5108040"/>
            <a:ext cx="87980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Бабочки пробуют пищу на вкус лап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1571760" y="1147680"/>
            <a:ext cx="6348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2T11:21:40Z</dcterms:created>
  <dc:creator>ГАЛЕНЬКА</dc:creator>
  <dc:description/>
  <dc:language>en-US</dc:language>
  <cp:lastModifiedBy>лариса</cp:lastModifiedBy>
  <dcterms:modified xsi:type="dcterms:W3CDTF">2020-01-14T16:38:24Z</dcterms:modified>
  <cp:revision>34</cp:revision>
  <dc:subject/>
  <dc:title>Презентация PowerPoint</dc:title>
</cp:coreProperties>
</file>